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29F2-1CE9-412D-BAEA-3A9B84D5852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1BE1-D00A-4DA6-A0F9-CA452AE7627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F4E2-2B56-4AFF-8DF8-C1A77879EC0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09D0-1BEB-4223-8D8C-6EF07E3E235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145A-1F53-4849-8F2A-5C11C615523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7012-FD5E-46BC-8DC1-D408D4148AB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5FE5-C9AE-45A8-A7B7-7A5B585163D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9FEC-4313-4BB4-B50D-031FDD97E3D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8FAC-4CB6-432C-BD36-1A11C3FD760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188D-9C67-4BB5-9ACC-ECC6E41176D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C297-78D8-4D9C-BACB-1576BE6C143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7734-8079-46D2-A882-4104F51E45D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70DF-47D4-4481-8982-CD974E2783C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75D0-4728-48A5-A06D-D2AA7E1B3CE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C808-48D4-48D0-9745-EF48DDDE3EC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BF6A-9DDA-42C3-B0D8-C4D9DDA1DFC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9EB3-CA20-4FBC-8D1A-F6C4D4B7C4F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6777-6D8D-4559-B93B-6F1457F762F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1978-97BC-4668-94C8-48E41D5EF34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6DD4-4DC5-4375-A7BD-4E65C80589F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B82D-2AAB-4B83-9F2B-D1C859ACBE9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0FC3F-5C21-4DF9-B977-992AF12D4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017B2-B65E-4D1C-8903-0648A558A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4285AF-5282-475E-804B-4B9E479B87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22C9D7-D821-44E2-8089-DAEDB28277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2F7F69-440D-4918-8C7A-6133B374C9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D77260-49B5-45F5-BCD8-F003E6D6DB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F4705D-6132-4AE9-8911-1A4846019A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999BC6-8F27-4D6C-82BD-DF17545467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4E37BA-087F-4D9F-AE1F-093065F18F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29ED12-B2BD-42A5-9ACD-D5B1136E24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A79D77-A1AD-411D-B66C-A0EC4D5B72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E8E436-36B9-47D8-BD03-21B3C957A6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3868F-0CA1-4EBF-B73C-EAAF8A36C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718B7A-2DBB-4377-8F06-3DA7B3BA0A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F65176-D71F-4BA7-84A8-DB450A4CA2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34CAB9-BB2E-4308-B2F6-0A6A72388C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442597-6D55-41F0-9176-C69A577B68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D74943-080D-4FD8-AA3D-EEE6A844EC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F21123-D051-4887-8EC2-6A554FD92C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49FE28-81DE-4952-B5EE-6F515D2455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6BCCB6-4648-4593-9254-356BDB189F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084F8B-83D9-4B6C-8F46-DDF7E9BCB9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D4BC03-19DA-4BEB-A831-F03F36441E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A1ADF-E36D-47D4-B376-BEB8AD3FE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3052E0-D733-4D35-BC39-B185DCF1DE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BF80880-DCCE-4ABD-9E12-777772F6A7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13F554-B02D-4ED9-84BD-E69A0A2D90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99408F-BC97-46E2-8BE7-E24C63CC57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F7440F-CE60-44B3-A5B1-F57EB8516B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82FD09-6F14-43F6-AF80-17C7C7F93B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CB9E68-D454-4FF2-AEA9-087B80DA38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AD8322-A20D-4A14-93FE-515D058C3D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B3E577-7099-4EBB-9E3E-DE5EA6E27D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346A82-700E-4E73-95D7-B0C2C792E1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26B4E-58E6-49B8-8976-25F77D454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6C2226-9B7F-4C58-AE2D-0AD317FCBF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11E01C3-5B69-4E8C-93CA-40EDD7EABE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8ED983-527D-4168-9693-D569B449D8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09472D-0EBD-49B3-910A-1B0967EDFB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4A16B6-A601-4854-BE4C-690E102CB4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107AE4-E413-4F02-9FE1-AC7FBB9BA3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5F3F9F-B86C-45BD-B155-5C19E67625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E26FD0-7AEB-4385-9EBE-1126B1B9D6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7E5C02-048B-4D85-88FC-EB19AAFC8F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C1F1BE-1936-4486-94C8-794B8BAA57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1B864-FED0-4896-99A4-9975ED487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62E99D-D2ED-4825-9637-8A12B3827A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648AE4-DC19-466F-8B9B-C2D8F87205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566734-E462-45F1-BBAE-D3DD7A05CF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5CE8E2-ECCE-4DB2-8B4C-87A20E91095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5638ED9-01C0-439D-AF1A-993A3417FB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9FA3218-0EB3-4D49-97D1-E5B11C65342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355412-A71F-4A9D-8050-7DF7697EDAC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1FB483-0021-4267-B472-A6AB155306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E96F439-A399-441D-9120-09B082B5BD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DB9177-444E-4B97-BDFC-4C3981864A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37692-D682-429C-8E18-5363F56C3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8A531C-A9B0-4B3C-BF5D-1D9B6F7B2E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BA6131-1077-47DB-922E-6D1D0D61D3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58AFD9-42B9-4206-9DD0-96CEF60619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F22EBA-6EF0-4F25-BEDB-B363ED4AF3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3A55F9-D4B3-467F-8103-33017A59A1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EC9C24-8F2A-4E81-AA81-707899CA3D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7D7BDD1-7249-4D55-9748-E9A5C895F38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7479E6E-5ED3-4B06-BD3F-2876E4DE6F1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BCDA2A-3399-4528-9604-CF1398E834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A95630-0C9A-4E25-B90D-AD77AA1B38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E2919-7C40-44D5-83DA-77FEC7A7F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2EE0D02-C709-4DB0-A18D-9D5DD6348D9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5915D9-8470-4B67-8E8F-264AABCA40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E65B5F-6C52-422D-AF2F-16FE8EFD89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E9F340-1BC9-48AB-8A94-94218DFFDE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C78776-20EE-483E-95F9-CB96C5F1BC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CCEAD2-3649-4D98-8F02-E31376AD7D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9EC22C-DDD6-46F8-BAF5-2C38BC3F52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F125F02-1E9B-4C59-B55F-FCEB7D7D422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A1946F8-798B-48D5-9476-44D892A9DCE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F3A6F-6224-4FFD-A51A-20BADDD84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64281-36B1-4751-BC09-BDA5830E8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85838-80DB-4D3A-8C72-E03F4FA7D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01AC7-0A85-4979-B5F7-2FB4ED7B2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2CF73-4605-406F-8CDC-60F6CA742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191EB-BDE2-4A2F-9B81-02B6A0FF9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33BA8-5E0B-4E62-80B0-8E411A80F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FC544-AEC1-45C5-8BF8-293F56E6F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C6070-33D8-456F-8770-3425B2442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353F6D-7CAB-4DFD-A316-79E3FB1C31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34F70-D240-424B-AEB9-7BD9E4775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44CC0E-55EC-468D-8682-2E1ACEB038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20543F-9139-44EB-A721-9159351A9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2064DE-EA9A-4A75-BD73-5DC788E46A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80289-366C-4337-9713-A92FCAE0A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0B0104-BAA3-41EC-BEE4-8C36115164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A811BE-674E-436A-A905-F8892D937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2341B-CC4B-4640-A47E-0EF1FA523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DEB23-D05C-4E42-A66B-063D2F986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A1708E-E455-4665-BB37-8D6295C9DF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0FDBDC-7AE9-4B6A-AB94-CAAACFA7EC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13550C-D677-41B1-931D-6B7D79981D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EDD02A-3020-4BA1-A072-554986DCC8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6EA043-BF7E-461A-A3BC-B8184D939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D86AF4-7635-4E4E-9FC1-3C58A8BF3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7774E-FE4D-40E6-B354-CC0D5224C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03B167-AE56-4689-B2D7-1204FB1003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C7F45-361F-4451-8BDE-EDD57AB3B4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FE2BDC-6CBA-4557-B129-468701AA9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596E6-7A09-46E2-ABE8-6B67BAECC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828C6-E60A-4A50-9F55-E6712B225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B8CFC-F806-4288-AC82-282A44435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C73321-1B55-4C6F-BF7B-F652E52EDF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E4B23C-EFEE-4730-BE45-156A762D65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C7391F-272E-436C-83E7-2470816B50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D16AC2-E574-4250-A824-9B35B09F59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C75C8-2658-450B-86E7-74A5E5E38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089DCF-8CE2-4548-9D2E-E28C579D1F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03E522-4415-4C6F-96E7-30416A4D18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9B970A-6084-4375-9A7D-121A52E213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BE176-08EB-4251-96DF-1D6CE8DBA4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345CFB-928D-4B43-8BC0-430FCACFFA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33F3F-1342-4164-BE49-E7378A220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931D6-F862-4AC8-8E0D-103113B2AB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674084-58A9-4C03-8F59-F6BC9B5E6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C206A2-F990-4A26-929F-D70ACA9CD3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CD126B-13D7-4EAC-83A1-A79FAADCDB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3A454-FE7E-4513-8D1C-37A99D17F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2648C6-9F66-40E7-9828-051944D11D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F0D5F0-E619-43DB-9D74-A979698892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BE3588-A27E-40AF-AB7A-6774FC619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9C84EA-DBAE-4F29-9BC6-331CA93CC2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DD8764-5B32-422C-B9E3-222F1D9DEC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4C4B32-0C22-4339-AB48-75353377B1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8A430E-2C07-4C72-939B-28E2C95691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96029-F02B-461B-8A61-B7141556B0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572AA2-E5C3-4B66-B4FF-70CFA1CEA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5A97F-00B2-42EC-9F4C-13D1BE159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E5820-DDD7-4B40-81CE-FA78145E8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326D0-E5AA-41F3-8AE1-48DE9B2868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E0227F-2EF0-4D22-8C9C-0A4D6C1C5E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BAF331-5341-4858-B679-EC27757B5B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160D6A-0EF3-4212-AB19-9F0982FB01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A7CA7-15D3-4CE4-94A8-06D8768638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223686-77C9-4FF9-98A0-1301A7BC64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F4026A-C39E-45DA-A11E-624F5515D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C500B2-025A-4187-B7B1-D5AD2BE72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0A4ED5-0ED6-47B3-AC4D-EAE2C5BA62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78990-9071-42AC-B6B9-BAA84BF51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0B8D5-4172-4B45-A2B0-F90D35B47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E4205-52F4-499C-B064-9B0D9CA81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5C04CA-0CEE-44D7-8365-C4B46A3B28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83FEE0-5B09-42DE-8888-06DB2780CF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EA9699-0ABC-42BC-B100-6A78C6260B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18129D-BD3C-4EC1-A675-B67D16BA85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C8424D-3FEE-439B-A9B4-3C68FCD184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9390A3-76A9-4777-A360-704255ED36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2C3F71-4DC4-4866-B838-9951C77153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539D54-35FC-4858-91B2-0BC43F4CE3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D856F2-40A5-435D-8805-8FC6F0293D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89699-B6A6-4F9C-85D3-52F6F1B80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A8F071-7776-434E-8F07-55BF50159A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4189F-E19E-49B7-A13B-F8143F3AD7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D429B-7243-49FB-8B73-825AD3F59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F69827-632B-48FC-B3B4-B513F9F4DC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503441-A9B3-4C9D-B2BC-63D9B9171B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D9514F-D963-40DD-A673-91FC1296C8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1826E6-2FAE-4142-B8D4-8F10E87989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C1034B-9D9A-4E47-983D-353CED0806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E0E8F4-6119-4966-B7B5-57EA82696F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0F5D1D-22F7-4FAF-B511-B0184B2096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7102-5413-46A0-BA8A-80837F888D1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C516-2D43-4BF3-8865-1887B5D363E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A750-6BE6-4CC4-8DCF-64ECE88FAC2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D617-A809-43CC-A18A-4676064CB07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583D-55A5-466C-8ADC-8234997F727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01F0-72A9-45C3-B6C8-6CC8D3A9431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188E-321F-488D-A2A4-9A73D4AFCAC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B8D3-B446-4EA5-8C2F-4DE6D0A5389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EA00-C2FA-464E-A2ED-CB878EE863E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9E7C-6521-4A77-8555-9B275239536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4F40-9B7B-4344-98BA-6289E7F4F12D}"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BA99-FEB0-4592-A2C6-04E15E34D593}"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A83C-9D68-4570-877A-B4C71053D12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A5A7-C621-45C4-B17A-CFB143C3E66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BBEC-0AC6-4C8E-9461-2D821E095105}"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8D64-A7CE-48ED-9428-BB03DC8B71B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CBD5-75B2-45C7-9AC2-5615EEC3A04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51DD-E8A8-435C-A703-D8269AFA5E6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C390-0676-488E-B045-85E86DB7DC6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0F2F-4837-4309-A9BD-99D58FD7FE7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6880-0A8A-4786-8286-EA4B9049613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BBFE-A603-413C-98DE-7C122414B1A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21A1-87DD-4283-AA3E-90C848414DF1}"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7AAC-2FEC-4421-A3F4-761B8B7AA89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E541-FA66-4DAE-9E72-62E96F2E76D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6948-5275-4886-AFB7-B232B972AFD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168A-610D-490D-9600-B7E59D33231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DD18-65D2-49B5-AFA1-F497FA5DFE8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59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647"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649"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1"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3"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6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6"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57"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658"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9"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60"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661"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2"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0">
                                            <p:txEl>
                                              <p:pRg st="0" end="0"/>
                                            </p:txEl>
                                          </p:spTgt>
                                        </p:tgtEl>
                                        <p:attrNameLst>
                                          <p:attrName>style.visibility</p:attrName>
                                        </p:attrNameLst>
                                      </p:cBhvr>
                                      <p:to>
                                        <p:strVal val="visible"/>
                                      </p:to>
                                    </p:set>
                                    <p:anim calcmode="lin" valueType="num">
                                      <p:cBhvr additive="base">
                                        <p:cTn id="7"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0">
                                            <p:txEl>
                                              <p:pRg st="2" end="2"/>
                                            </p:txEl>
                                          </p:spTgt>
                                        </p:tgtEl>
                                        <p:attrNameLst>
                                          <p:attrName>style.visibility</p:attrName>
                                        </p:attrNameLst>
                                      </p:cBhvr>
                                      <p:to>
                                        <p:strVal val="visible"/>
                                      </p:to>
                                    </p:set>
                                    <p:anim calcmode="lin" valueType="num">
                                      <p:cBhvr additive="base">
                                        <p:cTn id="1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0">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661"/>
                                        </p:tgtEl>
                                        <p:attrNameLst>
                                          <p:attrName>style.visibility</p:attrName>
                                        </p:attrNameLst>
                                      </p:cBhvr>
                                      <p:to>
                                        <p:strVal val="visible"/>
                                      </p:to>
                                    </p:set>
                                    <p:anim calcmode="lin" valueType="num">
                                      <p:cBhvr additive="base">
                                        <p:cTn id="17" dur="500" fill="hold"/>
                                        <p:tgtEl>
                                          <p:spTgt spid="661"/>
                                        </p:tgtEl>
                                        <p:attrNameLst>
                                          <p:attrName>ppt_x</p:attrName>
                                        </p:attrNameLst>
                                      </p:cBhvr>
                                      <p:tavLst>
                                        <p:tav tm="0">
                                          <p:val>
                                            <p:strVal val="#ppt_x"/>
                                          </p:val>
                                        </p:tav>
                                        <p:tav tm="100000">
                                          <p:val>
                                            <p:strVal val="#ppt_x"/>
                                          </p:val>
                                        </p:tav>
                                      </p:tavLst>
                                    </p:anim>
                                    <p:anim calcmode="lin" valueType="num">
                                      <p:cBhvr additive="base">
                                        <p:cTn id="18"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60">
                                            <p:txEl>
                                              <p:pRg st="4" end="4"/>
                                            </p:txEl>
                                          </p:spTgt>
                                        </p:tgtEl>
                                        <p:attrNameLst>
                                          <p:attrName>style.visibility</p:attrName>
                                        </p:attrNameLst>
                                      </p:cBhvr>
                                      <p:to>
                                        <p:strVal val="visible"/>
                                      </p:to>
                                    </p:set>
                                    <p:anim calcmode="lin" valueType="num">
                                      <p:cBhvr additive="base">
                                        <p:cTn id="23"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60">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62"/>
                                        </p:tgtEl>
                                        <p:attrNameLst>
                                          <p:attrName>style.visibility</p:attrName>
                                        </p:attrNameLst>
                                      </p:cBhvr>
                                      <p:to>
                                        <p:strVal val="visible"/>
                                      </p:to>
                                    </p:set>
                                    <p:anim calcmode="lin" valueType="num">
                                      <p:cBhvr additive="base">
                                        <p:cTn id="27" dur="500" fill="hold"/>
                                        <p:tgtEl>
                                          <p:spTgt spid="662"/>
                                        </p:tgtEl>
                                        <p:attrNameLst>
                                          <p:attrName>ppt_x</p:attrName>
                                        </p:attrNameLst>
                                      </p:cBhvr>
                                      <p:tavLst>
                                        <p:tav tm="0">
                                          <p:val>
                                            <p:strVal val="#ppt_x"/>
                                          </p:val>
                                        </p:tav>
                                        <p:tav tm="100000">
                                          <p:val>
                                            <p:strVal val="#ppt_x"/>
                                          </p:val>
                                        </p:tav>
                                      </p:tavLst>
                                    </p:anim>
                                    <p:anim calcmode="lin" valueType="num">
                                      <p:cBhvr additive="base">
                                        <p:cTn id="28"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60">
                                            <p:txEl>
                                              <p:pRg st="6" end="6"/>
                                            </p:txEl>
                                          </p:spTgt>
                                        </p:tgtEl>
                                        <p:attrNameLst>
                                          <p:attrName>style.visibility</p:attrName>
                                        </p:attrNameLst>
                                      </p:cBhvr>
                                      <p:to>
                                        <p:strVal val="visible"/>
                                      </p:to>
                                    </p:set>
                                    <p:anim calcmode="lin" valueType="num">
                                      <p:cBhvr additive="base">
                                        <p:cTn id="33"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60">
                                            <p:txEl>
                                              <p:pRg st="6" end="6"/>
                                            </p:txEl>
                                          </p:spTgt>
                                        </p:tgtEl>
                                        <p:attrNameLst>
                                          <p:attrName>style.visibility</p:attrName>
                                        </p:attrNameLst>
                                      </p:cBhvr>
                                      <p:to>
                                        <p:strVal val="visible"/>
                                      </p:to>
                                    </p:set>
                                    <p:anim calcmode="lin" valueType="num">
                                      <p:cBhvr additive="base">
                                        <p:cTn id="39"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66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0000"/>
                </a:solidFill>
                <a:latin typeface="Arial"/>
              </a:rPr>
              <a:t>Entonces operacionalizar es..</a:t>
            </a:r>
            <a:endParaRPr b="0" lang="en-US" sz="4200" spc="-1" strike="noStrike">
              <a:solidFill>
                <a:srgbClr val="000000"/>
              </a:solidFill>
              <a:latin typeface="Arial"/>
            </a:endParaRPr>
          </a:p>
        </p:txBody>
      </p:sp>
      <p:sp>
        <p:nvSpPr>
          <p:cNvPr id="668" name=""/>
          <p:cNvSpPr txBox="1"/>
          <p:nvPr/>
        </p:nvSpPr>
        <p:spPr>
          <a:xfrm>
            <a:off x="394920" y="1905120"/>
            <a:ext cx="849780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eracionalizar es definir las variables para que sean medibles y manejables, significa definir operativamente.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investigador necesita traducir los conceptos (dimensiones) a hechos observables para lograr su medición u observacio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finiciones señalan las operaciones que se tienen que realizar para medir la variable, de forma tal, que sean susceptibles de observación y cuantificac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emás la operacionalizacion permite “transparentar” la manera en que están entiendo los tem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ás ejemplos</a:t>
            </a:r>
            <a:endParaRPr b="0" lang="en-US" sz="4200" spc="-1" strike="noStrike">
              <a:solidFill>
                <a:srgbClr val="000000"/>
              </a:solidFill>
              <a:latin typeface="Arial"/>
            </a:endParaRPr>
          </a:p>
        </p:txBody>
      </p:sp>
      <p:sp>
        <p:nvSpPr>
          <p:cNvPr id="67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1" name=""/>
          <p:cNvGraphicFramePr/>
          <p:nvPr/>
        </p:nvGraphicFramePr>
        <p:xfrm>
          <a:off x="250920" y="692280"/>
          <a:ext cx="8712000" cy="5573520"/>
        </p:xfrm>
        <a:graphic>
          <a:graphicData uri="http://schemas.openxmlformats.org/drawingml/2006/table">
            <a:tbl>
              <a:tblPr/>
              <a:tblGrid>
                <a:gridCol w="1743120"/>
                <a:gridCol w="1741320"/>
                <a:gridCol w="1743120"/>
                <a:gridCol w="1743120"/>
                <a:gridCol w="174132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operacion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nstitucionalidad</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quellos aspectos formales o informales que contribuyen a que existan límites y regla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Reglas institucionales</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rácticas comune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 la normativa vigen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ón de la normativ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dentificación de reglas básicas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Percepción de reglas en la institución</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acciones o actitudes sobre el tema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riterios subyacentes de la acción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2" name=""/>
          <p:cNvGraphicFramePr/>
          <p:nvPr/>
        </p:nvGraphicFramePr>
        <p:xfrm>
          <a:off x="250920" y="692280"/>
          <a:ext cx="8569080" cy="5573520"/>
        </p:xfrm>
        <a:graphic>
          <a:graphicData uri="http://schemas.openxmlformats.org/drawingml/2006/table">
            <a:tbl>
              <a:tblPr/>
              <a:tblGrid>
                <a:gridCol w="2141280"/>
                <a:gridCol w="2143440"/>
                <a:gridCol w="2141280"/>
                <a:gridCol w="214308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Mayor o menor posibilidad de tomar contacto co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geogràf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cultural</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conòm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Tiempo medido en horas y minutos que una persona se demora en trasladars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l sistema de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sobre la atencion en el sistem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on sobre la posibilidad de tomar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uànto dinero gasta para recibir el servicio</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a:t>
            </a:r>
            <a:endParaRPr b="0" lang="en-US" sz="4200" spc="-1" strike="noStrike">
              <a:solidFill>
                <a:srgbClr val="000000"/>
              </a:solidFill>
              <a:latin typeface="Arial"/>
            </a:endParaRPr>
          </a:p>
        </p:txBody>
      </p:sp>
      <p:sp>
        <p:nvSpPr>
          <p:cNvPr id="674" name=""/>
          <p:cNvSpPr txBox="1"/>
          <p:nvPr/>
        </p:nvSpPr>
        <p:spPr>
          <a:xfrm>
            <a:off x="179280" y="1904760"/>
            <a:ext cx="8964720" cy="46926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s momentos previos a la implementación: </a:t>
            </a:r>
            <a:r>
              <a:rPr b="0" lang="es-ES" sz="1400" spc="-1" strike="noStrike">
                <a:solidFill>
                  <a:srgbClr val="000000"/>
                </a:solidFill>
                <a:latin typeface="Arial"/>
              </a:rPr>
              <a:t>con enfoque hacia el interior de las instituciones para conocer si hubo una preparación que permitiera una mejor implementación de la política de transparencia y acceso a la información previo al 20 de abril de 2009. A través de la entrevista se indagó si había preocupación por la nueva política; la conformación de grupos de trabajo; el tipo de capacitación hacia los funcionarios y la dirección del cambio.</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stión documental: </a:t>
            </a:r>
            <a:r>
              <a:rPr b="0" lang="es-ES" sz="1400" spc="-1" strike="noStrike">
                <a:solidFill>
                  <a:srgbClr val="000000"/>
                </a:solidFill>
                <a:latin typeface="Arial"/>
              </a:rPr>
              <a:t>para conocer si existían políticas orientadas hacia la organización de datos, archivos, clasificación y digitalización de la información pública y coordinación con el Archivo Nacional, que tuvieran formatos adecuados para responder a las consultas recibidas.</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que facilitan y/o dificultan la aplicación de la Ley: </a:t>
            </a:r>
            <a:r>
              <a:rPr b="0" lang="es-ES" sz="1400" spc="-1" strike="noStrike">
                <a:solidFill>
                  <a:srgbClr val="000000"/>
                </a:solidFill>
                <a:latin typeface="Arial"/>
              </a:rPr>
              <a:t>todos aquellos elementos relativos a Procesos organizacionales, tecnológicos, de recursos humanos y económicos que facilitaron o dificultaron la aplicación de la Ley 20.285.</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legales:</a:t>
            </a:r>
            <a:r>
              <a:rPr b="0" lang="es-ES" sz="1400" spc="-1" strike="noStrike">
                <a:solidFill>
                  <a:srgbClr val="000000"/>
                </a:solidFill>
                <a:latin typeface="Arial"/>
              </a:rPr>
              <a:t> los vacíos y/o falta de precisión tanto de la Ley 20.285 como de su Reglamento que afecten una clara orientación de los proceso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cepciones:</a:t>
            </a:r>
            <a:r>
              <a:rPr b="0" lang="es-ES" sz="1400" spc="-1" strike="noStrike">
                <a:solidFill>
                  <a:srgbClr val="000000"/>
                </a:solidFill>
                <a:latin typeface="Arial"/>
              </a:rPr>
              <a:t> aquellas percepciones al interior de las dependencias del Gobierno Central sobre los factores que se requieren para una mejor aplicación de la LAIP; los temores de los funcionarios públicos con la vigencia de esta nueva Ley.</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ltura Organizacional:</a:t>
            </a:r>
            <a:r>
              <a:rPr b="0" lang="es-ES" sz="1400" spc="-1" strike="noStrike">
                <a:solidFill>
                  <a:srgbClr val="000000"/>
                </a:solidFill>
                <a:latin typeface="Arial"/>
              </a:rPr>
              <a:t> las prácticas habituales de los funcionarios públicos, y la necesidad de cambios que conlleva la aplicación de las nuevas normativa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 2</a:t>
            </a:r>
            <a:endParaRPr b="0" lang="en-US" sz="4200" spc="-1" strike="noStrike">
              <a:solidFill>
                <a:srgbClr val="000000"/>
              </a:solidFill>
              <a:latin typeface="Arial"/>
            </a:endParaRPr>
          </a:p>
        </p:txBody>
      </p:sp>
      <p:pic>
        <p:nvPicPr>
          <p:cNvPr id="676" name="3 Marcador de contenido" descr=""/>
          <p:cNvPicPr/>
          <p:nvPr/>
        </p:nvPicPr>
        <p:blipFill>
          <a:blip r:embed="rId1"/>
          <a:stretch/>
        </p:blipFill>
        <p:spPr>
          <a:xfrm>
            <a:off x="450720" y="1047600"/>
            <a:ext cx="8272440" cy="508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26028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 3</a:t>
            </a:r>
            <a:endParaRPr b="0" lang="en-US" sz="4200" spc="-1" strike="noStrike">
              <a:solidFill>
                <a:srgbClr val="000000"/>
              </a:solidFill>
              <a:latin typeface="Arial"/>
            </a:endParaRPr>
          </a:p>
        </p:txBody>
      </p:sp>
      <p:graphicFrame>
        <p:nvGraphicFramePr>
          <p:cNvPr id="678" name=""/>
          <p:cNvGraphicFramePr/>
          <p:nvPr/>
        </p:nvGraphicFramePr>
        <p:xfrm>
          <a:off x="2195640" y="1268280"/>
          <a:ext cx="6694200" cy="5589720"/>
        </p:xfrm>
        <a:graphic>
          <a:graphicData uri="http://schemas.openxmlformats.org/drawingml/2006/table">
            <a:tbl>
              <a:tblPr/>
              <a:tblGrid>
                <a:gridCol w="2278080"/>
                <a:gridCol w="2278080"/>
                <a:gridCol w="2138040"/>
              </a:tblGrid>
              <a:tr h="2178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DIMENSIÓN</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SUBDIMENS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NDICADOR</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193320">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ncipales TPL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E-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79600">
                <a:tc rowSpan="10">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US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Temas generales sobre Uso de TPL </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elementos que inciden en el uso (espontáne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59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orizar factores que inciden en el us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11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Variables que inciden en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1 (Características propias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2 (Benefic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3 (Beneficiar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80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4 (Otros aspect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736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roblemas y trabas para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trab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ecnologí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0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Sociedad</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636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MPLEMENTACIÓN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uesta en marcha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Característic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73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Rol de los actore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Roles desarrollado y cuál debiera ser a futuro (Gobierno, ciudadanía, empresa privad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isión futur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ariables clave para el futur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936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Necesidad de investigac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3280" y="5467320"/>
            <a:ext cx="81835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800" spc="-1" strike="noStrike">
              <a:solidFill>
                <a:srgbClr val="9fdddd"/>
              </a:solidFill>
              <a:latin typeface="Arial"/>
            </a:endParaRPr>
          </a:p>
        </p:txBody>
      </p:sp>
      <p:pic>
        <p:nvPicPr>
          <p:cNvPr id="680" name="3 Marcador de contenido" descr=""/>
          <p:cNvPicPr/>
          <p:nvPr/>
        </p:nvPicPr>
        <p:blipFill>
          <a:blip r:embed="rId1"/>
          <a:stretch/>
        </p:blipFill>
        <p:spPr>
          <a:xfrm>
            <a:off x="407880" y="566640"/>
            <a:ext cx="8223480" cy="6010200"/>
          </a:xfrm>
          <a:prstGeom prst="rect">
            <a:avLst/>
          </a:prstGeom>
          <a:ln w="0">
            <a:noFill/>
          </a:ln>
        </p:spPr>
      </p:pic>
      <p:sp>
        <p:nvSpPr>
          <p:cNvPr id="681" name="4 Rectángulo"/>
          <p:cNvSpPr/>
          <p:nvPr/>
        </p:nvSpPr>
        <p:spPr>
          <a:xfrm>
            <a:off x="3571920" y="4000680"/>
            <a:ext cx="457200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682" name="8 Grupo"/>
          <p:cNvGrpSpPr/>
          <p:nvPr/>
        </p:nvGrpSpPr>
        <p:grpSpPr>
          <a:xfrm>
            <a:off x="3357720" y="4071960"/>
            <a:ext cx="5260680" cy="428760"/>
            <a:chOff x="3357720" y="4071960"/>
            <a:chExt cx="5260680" cy="428760"/>
          </a:xfrm>
        </p:grpSpPr>
        <p:sp>
          <p:nvSpPr>
            <p:cNvPr id="683" name="9 Redondear rectángulo de esquina del mismo lado"/>
            <p:cNvSpPr/>
            <p:nvPr/>
          </p:nvSpPr>
          <p:spPr>
            <a:xfrm rot="5400000">
              <a:off x="5765040" y="1664280"/>
              <a:ext cx="400320" cy="5214960"/>
            </a:xfrm>
            <a:custGeom>
              <a:avLst/>
              <a:gdLst>
                <a:gd name="textAreaLeft" fmla="*/ 19440 w 400320"/>
                <a:gd name="textAreaRight" fmla="*/ 380880 w 400320"/>
                <a:gd name="textAreaTop" fmla="*/ 45360 h 5214960"/>
                <a:gd name="textAreaBottom" fmla="*/ 5215320 h 5214960"/>
              </a:gdLst>
              <a:ahLst/>
              <a:rect l="textAreaLeft" t="textAreaTop" r="textAreaRight" b="textAreaBottom"/>
              <a:pathLst>
                <a:path w="939992" h="5237045">
                  <a:moveTo>
                    <a:pt x="156668" y="0"/>
                  </a:moveTo>
                  <a:lnTo>
                    <a:pt x="783324" y="0"/>
                  </a:lnTo>
                  <a:lnTo>
                    <a:pt x="783324" y="0"/>
                  </a:lnTo>
                  <a:arcTo wR="156668" hR="156668" stAng="-5400000" swAng="5400000"/>
                  <a:lnTo>
                    <a:pt x="939992" y="5237045"/>
                  </a:lnTo>
                  <a:lnTo>
                    <a:pt x="0" y="5237045"/>
                  </a:lnTo>
                  <a:lnTo>
                    <a:pt x="0" y="156668"/>
                  </a:lnTo>
                  <a:lnTo>
                    <a:pt x="0" y="156668"/>
                  </a:lnTo>
                  <a:arcTo wR="156668" hR="156668"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4" name="Redondear rectángulo de esquina del mismo lado 4"/>
            <p:cNvSpPr/>
            <p:nvPr/>
          </p:nvSpPr>
          <p:spPr>
            <a:xfrm>
              <a:off x="3429000" y="4071960"/>
              <a:ext cx="5189400" cy="42876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ipos, Satisfacción.</a:t>
              </a:r>
              <a:endParaRPr b="0" lang="en-US" sz="1600" spc="-1" strike="noStrike">
                <a:solidFill>
                  <a:srgbClr val="336666"/>
                </a:solidFill>
                <a:latin typeface="Arial"/>
              </a:endParaRPr>
            </a:p>
          </p:txBody>
        </p:sp>
      </p:grpSp>
      <p:grpSp>
        <p:nvGrpSpPr>
          <p:cNvPr id="685" name="11 Grupo"/>
          <p:cNvGrpSpPr/>
          <p:nvPr/>
        </p:nvGrpSpPr>
        <p:grpSpPr>
          <a:xfrm>
            <a:off x="3357720" y="5286240"/>
            <a:ext cx="5402160" cy="606600"/>
            <a:chOff x="3357720" y="5286240"/>
            <a:chExt cx="5402160" cy="606600"/>
          </a:xfrm>
        </p:grpSpPr>
        <p:sp>
          <p:nvSpPr>
            <p:cNvPr id="686" name="12 Redondear rectángulo de esquina del mismo lado"/>
            <p:cNvSpPr/>
            <p:nvPr/>
          </p:nvSpPr>
          <p:spPr>
            <a:xfrm rot="5400000">
              <a:off x="5731560" y="2983320"/>
              <a:ext cx="535320" cy="5283360"/>
            </a:xfrm>
            <a:custGeom>
              <a:avLst/>
              <a:gdLst>
                <a:gd name="textAreaLeft" fmla="*/ 25920 w 535320"/>
                <a:gd name="textAreaRight" fmla="*/ 509400 w 535320"/>
                <a:gd name="textAreaTop" fmla="*/ 27360 h 5283360"/>
                <a:gd name="textAreaBottom" fmla="*/ 5283720 h 5283360"/>
              </a:gdLst>
              <a:ahLst/>
              <a:rect l="textAreaLeft" t="textAreaTop" r="textAreaRight" b="textAreaBottom"/>
              <a:pathLst>
                <a:path w="535672" h="5028374">
                  <a:moveTo>
                    <a:pt x="89280" y="0"/>
                  </a:moveTo>
                  <a:lnTo>
                    <a:pt x="446392" y="0"/>
                  </a:lnTo>
                  <a:lnTo>
                    <a:pt x="446392" y="0"/>
                  </a:lnTo>
                  <a:arcTo wR="89280" hR="89280" stAng="-5400000" swAng="5400000"/>
                  <a:lnTo>
                    <a:pt x="535672" y="5028374"/>
                  </a:lnTo>
                  <a:lnTo>
                    <a:pt x="0" y="5028374"/>
                  </a:lnTo>
                  <a:lnTo>
                    <a:pt x="0" y="89280"/>
                  </a:lnTo>
                  <a:lnTo>
                    <a:pt x="0" y="89280"/>
                  </a:lnTo>
                  <a:arcTo wR="89280" hR="89280"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7" name="Redondear rectángulo de esquina del mismo lado 4"/>
            <p:cNvSpPr/>
            <p:nvPr/>
          </p:nvSpPr>
          <p:spPr>
            <a:xfrm>
              <a:off x="3429000" y="5286240"/>
              <a:ext cx="5330880" cy="58140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ransparencia Gestión Interna y Autoridades.   </a:t>
              </a:r>
              <a:endParaRPr b="0" lang="en-US" sz="1600" spc="-1" strike="noStrike">
                <a:solidFill>
                  <a:srgbClr val="336666"/>
                </a:solidFill>
                <a:latin typeface="Arial"/>
              </a:endParaRPr>
            </a:p>
          </p:txBody>
        </p:sp>
      </p:grpSp>
      <p:grpSp>
        <p:nvGrpSpPr>
          <p:cNvPr id="688" name="14 Grupo"/>
          <p:cNvGrpSpPr/>
          <p:nvPr/>
        </p:nvGrpSpPr>
        <p:grpSpPr>
          <a:xfrm>
            <a:off x="3357360" y="4572000"/>
            <a:ext cx="5357880" cy="571680"/>
            <a:chOff x="3357360" y="4572000"/>
            <a:chExt cx="5357880" cy="571680"/>
          </a:xfrm>
        </p:grpSpPr>
        <p:sp>
          <p:nvSpPr>
            <p:cNvPr id="689" name="15 Redondear rectángulo de esquina del mismo lado"/>
            <p:cNvSpPr/>
            <p:nvPr/>
          </p:nvSpPr>
          <p:spPr>
            <a:xfrm rot="5400000">
              <a:off x="5690880" y="2304720"/>
              <a:ext cx="505080" cy="5172120"/>
            </a:xfrm>
            <a:custGeom>
              <a:avLst/>
              <a:gdLst>
                <a:gd name="textAreaLeft" fmla="*/ 24480 w 505080"/>
                <a:gd name="textAreaRight" fmla="*/ 480600 w 505080"/>
                <a:gd name="textAreaTop" fmla="*/ 26280 h 5172120"/>
                <a:gd name="textAreaBottom" fmla="*/ 5172480 h 5172120"/>
              </a:gdLst>
              <a:ahLst/>
              <a:rect l="textAreaLeft" t="textAreaTop" r="textAreaRight" b="textAreaBottom"/>
              <a:pathLst>
                <a:path w="536361" h="5097941">
                  <a:moveTo>
                    <a:pt x="89395" y="0"/>
                  </a:moveTo>
                  <a:lnTo>
                    <a:pt x="446966" y="0"/>
                  </a:lnTo>
                  <a:lnTo>
                    <a:pt x="446966" y="0"/>
                  </a:lnTo>
                  <a:arcTo wR="89395" hR="89395" stAng="-5400000" swAng="5400000"/>
                  <a:lnTo>
                    <a:pt x="536361" y="5097941"/>
                  </a:lnTo>
                  <a:lnTo>
                    <a:pt x="0" y="5097941"/>
                  </a:lnTo>
                  <a:lnTo>
                    <a:pt x="0" y="89395"/>
                  </a:lnTo>
                  <a:lnTo>
                    <a:pt x="0" y="89395"/>
                  </a:lnTo>
                  <a:arcTo wR="89395" hR="89395"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0" name="Redondear rectángulo de esquina del mismo lado 4"/>
            <p:cNvSpPr/>
            <p:nvPr/>
          </p:nvSpPr>
          <p:spPr>
            <a:xfrm>
              <a:off x="3429000" y="4572000"/>
              <a:ext cx="5286240" cy="54648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Población Objetivo, Derechos,  Institucionalidad </a:t>
              </a:r>
              <a:endParaRPr b="0" lang="en-US" sz="1600" spc="-1" strike="noStrike">
                <a:solidFill>
                  <a:srgbClr val="336666"/>
                </a:solidFill>
                <a:latin typeface="Arial"/>
              </a:endParaRPr>
            </a:p>
          </p:txBody>
        </p:sp>
      </p:grpSp>
      <p:sp>
        <p:nvSpPr>
          <p:cNvPr id="691" name="1 Título"/>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6666"/>
                </a:solidFill>
                <a:latin typeface="Arial"/>
              </a:rPr>
              <a:t>Ejemplo 4</a:t>
            </a:r>
            <a:endParaRPr b="0" lang="en-US" sz="4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596"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99" name="Group 3"/>
          <p:cNvGrpSpPr/>
          <p:nvPr/>
        </p:nvGrpSpPr>
        <p:grpSpPr>
          <a:xfrm>
            <a:off x="735120" y="1292400"/>
            <a:ext cx="8229600" cy="4914720"/>
            <a:chOff x="735120" y="1292400"/>
            <a:chExt cx="8229600" cy="4914720"/>
          </a:xfrm>
        </p:grpSpPr>
        <p:sp>
          <p:nvSpPr>
            <p:cNvPr id="600"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1"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602"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603"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604"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605"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606"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607"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608"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609"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610"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611"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612"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613"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614"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615"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616"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617"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618"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619"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620"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621"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2"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3"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4"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5"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6"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7"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8"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9"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0"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1"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2"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3"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4"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635"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38"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63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 abiert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641"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1-05-13T14:03:24Z</dcterms:modified>
  <cp:revision>73</cp:revision>
  <dc:subject/>
  <dc:title>TALLER INTRODUCTORIO  ESTUDIOS DE CASO</dc:title>
</cp:coreProperties>
</file>