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AF55-E841-4353-A5A8-23392245DC9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211D-3774-4793-993D-5F277F502F5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3FFC-C46D-4145-AD7F-F7652DF5835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DBAB-D88A-48B1-A61A-7DAA38F99D5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1581-63F1-43A1-8D1B-312C26FDE77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9ADC-12B1-4AC3-869E-F8DACC3C088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97CF-A2B6-4478-9B96-5A3F78B8CEC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37C1-EEB8-4A04-92FA-71EF90DC224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DF6F-D32D-4C61-8BCE-3CE67B6A364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4CBD-25FC-4742-941F-63FED64C172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26F5-5107-4CF8-89BE-59D66BAC7CC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B747-FB74-4DF7-A412-903B4ED7BA9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E7C6-1AC6-453A-B9D2-E60F3FC660C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8F84-2FF9-4099-B5BA-2AA60C1264E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19CD-DE9B-4B9C-98D9-0BE1D5D769E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9052-6431-422C-816C-41544B64FBB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2237-B044-4618-9B92-AD863681DD9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DFA0-BA41-4854-A8C8-1001326BE8A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1CF3-8204-45C4-92F3-26C0B39D245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61E3-EE6D-47D9-B86B-7B09B84359E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EE6C-464B-4814-B592-F21F23DBA88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67985-996F-4F2D-87CC-B018B1C78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D042C-2156-41D2-9A05-F713268A6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C2B566-35A0-4FE4-95C5-F895CB20C3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7CDDB1-B665-4C8F-BA79-B65CA23E3F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B2D9FC-541A-4BC8-A86C-B2E2CFFAF8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CDAA9A-30ED-4402-95BD-A6FFF218F8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260761-BFC7-4697-B497-ABB555298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B908B-C74B-48D4-9A87-A8EDF9ED80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F3A6FD-46E8-46E9-BB39-DFBB732663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E858DE-14C3-4CF8-9EDC-C293D5FD40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DC374A-4478-4AB0-9628-4F0E28E333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E8FFDB-6C89-4023-A1AA-FDA3946636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46A7D-200E-4CCF-BC7B-B966DEDC2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9EB28F-EC25-4A3D-BA61-8D145BC07C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E8ACDF-FC36-4873-BCFA-D01D1A47D9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E4584D-8CE5-4F92-AAE6-BA45EB5628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B4E907-0B36-494B-A896-5B1651D81C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E67565-3D37-462B-88ED-3F31B99FA7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EBAA61-B650-4B0A-A3CA-D1DEDC1869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CCE506-8C12-4C08-A627-BF535B3192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E59993-81C9-4EBE-B23F-A7C33658DB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F31653-5CBE-4A26-BF42-081987EF4B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2064E4-6214-4B4D-A486-FDC6348E3C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D1182-66CD-42C8-8286-294577FDE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D5D5709-1751-4C10-88B1-B0EF765523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EF84B8-E504-4B04-A150-746356AA57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E1FBFB-2096-48DA-8BB9-7F4437B4B2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E99010-FB0B-4938-9EE3-AE99AF52A8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F890FB-D2DA-4B48-A1B8-B981F63841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3E4435-EE77-4912-97A8-0B12D68CA9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96F5D1-767E-442D-AAF7-F76FA438AC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DCC193-97AD-4126-9749-47C442C2A1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C6182C-B06E-4901-AC73-82D59BE835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D02D40-F671-4EEE-BA7D-CFDC0A3486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74390-1558-4B35-A43D-B0B1610EF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EE4C40-8F3E-4117-850F-9A5B2E5443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DE293C-03F7-41C6-80F6-9680C9ADC9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497176-43DF-408B-BCE2-32B740BC9C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80FE19-4C89-4F25-A11A-CD71477F7A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06D4A8-8E99-41DE-8C8B-95621C3135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F29941-924A-4B04-8362-C1D5B7FB3E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F5EB2E-2C7C-4413-9923-C39862E1E2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F90BA1-B3CB-4DB7-AF83-CC10E565D5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1504EC-D05F-47EA-97D8-5EAD271B5D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6F6042-03B3-4C92-9DD9-1E7787168A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4D9C3-6386-4137-9C54-AE7FCA2DD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8734EB-60FE-421F-807E-9597839BB7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9C7E47-49EF-47A1-8DCE-599A6EBE6D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297E29-19B8-4802-9007-A881F74E85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4F48DC-DB1F-4969-9288-94BB2D9401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1C2C15-215F-44C2-88AF-C5D7E7A3B0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2A4B0B4-371A-45D9-8132-F8ACAF51E5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DE350C-F2A9-40D6-8FB8-3C432C9EFB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819833-4D9D-4007-9228-DB8902DBB1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D14EBC-AD69-44AB-A42C-5656013437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0EFA8C-2A96-47F8-88A0-C2587D81E6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7DADB-8FC6-42DC-837D-108B7FEDC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EDFCA1-9472-4E6A-BB20-2FB2835077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0420ED-076B-41B7-A34B-D84F84273D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86ED26-F8CD-4ECB-9CB1-52AFF1AA3D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713009-1E2D-4518-AD5B-3CF0756B12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E10081-53E6-4F3C-9FB6-D3B85F6A07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4877F74-D4AF-47DE-948C-DFCB54B2D81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E6686D-1023-4CB6-99C7-5FEE323C3E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1A3CE38-7C31-4C67-BCBB-3389CEBC7D8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E372D4-7FE0-4853-B6CC-1BA02F3D5B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48BC46-7B0A-4D9A-8F97-78083EC5B2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1E892-FD96-49DA-96E2-107556DAB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CD8CA07-67D1-445F-895A-79BB6C2464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2EF5083-EA78-4758-9131-E4DB991E34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33F8DFD-19F4-4B22-8AFE-B548AE75D2D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B0ED4D-A96B-44F9-B031-68C10598C6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ACE930-B2B7-46D5-914C-E0137C1B56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8DC38F-CA06-4A96-B490-D7E58FC13A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29D0FE-2541-4CE8-9F40-875AD025D8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D4E0E55-CB71-45DB-B41B-FCDC3834645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695BF0E-B545-4F72-92F9-69FF7E1F529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D4297-F65C-451A-8FE0-3EB053117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D7BA6-4F82-44CE-9A53-ACE051650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0C81D-0439-4266-82C3-2330DB8D0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1EAE6-2E9B-4C32-91F3-5DE0F674B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181BA-E88D-41BC-8CD5-850052D57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2845F-C47F-4E10-B685-B0C7B0215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1AB6F-5045-4553-88A4-EA4F70513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17A5E-FCE2-4DD9-B06C-D27FDF3CD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9603D-93C8-42C1-82C7-3D43A9167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349708-471A-4FB0-BC73-95278A051B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8C148-D527-4520-8CF9-514CB9FAE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A393D-BA97-4ECC-88F9-EE6D51CDD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5CA06-E839-460B-89B8-0712F75D6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215A1-C84B-4A27-AE3C-C71F3710A6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704EE-D52F-4F70-8CC4-02FDEE516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CE935-CA04-4295-89D7-E44A9E450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62098-A15D-4D3F-90A6-F7092E9A7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8CFE5-F7E5-4352-8E40-375440694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232DE-3AA6-4FC8-9DE9-5B9E75B1C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CEB58-9D8B-4821-B72D-FA48C5C6E1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9417CE-FD8A-46AD-9FCC-61EE818060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E4FB2-9562-41F3-9253-5B620303A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EB8ADA-C50C-48D1-907F-863FAE271B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5CFC0-FF15-43AB-8712-16F7FA3D1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EC118-F6D3-4894-A7AE-CEC7D12DE0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F767F-01AC-46A6-8C32-3607439DF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C63C17-189A-4AA6-9286-A2A154914C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273FE0-EC96-4FDE-A641-63BF96C9D5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FAB6C-029D-4AE6-8860-BDFCA9643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1FD14-9E90-4B8B-881F-4A69DF043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53D69-1468-446A-867E-D3AF3AB6B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643CA-9995-4CDB-BCC3-D8E69B389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F8029-3576-49C7-9EF6-0BE0C9B937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AA9B88-8D57-4422-9977-9B93C8E59B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2331C1-B5E5-438E-9892-5AB8C8676A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D63D1F-3CB8-46A7-AFC1-7EAFF4DBFE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DAD2C-5BB3-4FC4-BF34-03B496B95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D82EB-9D3B-4F9E-8DD3-4C49751B1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1A6838-B60D-4EDE-9993-849C1AEEFF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257D6-4E3F-4E0B-80B7-B8EE189B9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4BDEB-E967-4F41-BE27-AA124FAE95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FAF1D-2097-4E05-BAB9-9BBB71D7B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DA5E0-E654-4904-917E-5B64236EEB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F2640-D452-46BB-95F6-C9822B2D2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F7719-BB11-4728-B884-A0B5B1082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6CE90-52D9-45C4-87E8-4772F2B4D1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1F4FC0-B852-4DA8-9D6F-78497F79FE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1005B-D89B-4718-A9D4-176739B2C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F8DFB5-9A9C-464D-B1DB-A75BDFDE05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C00AB1-74C3-4881-B2EE-13C7A0DD68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6BD84-4F40-402F-9FD8-CA2451D88D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675B06-D6CB-4120-817A-C7DB4B4547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35D50-B445-4998-A919-DADA44D5F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803F4-0CDE-4EAF-B764-65FF6F8448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D7947-5FB4-41AD-8D75-740F75A905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0CEF2-A925-4F44-BD66-6E6E92BE2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735B1-FAEA-4AD2-9522-1EBD461554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903165-1029-4011-832E-279C651B4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46B8-D96D-4783-9749-3F97618F9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E3DF7-0018-4CCA-AB7A-1EA3ED58FC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723DB6-9C0E-452C-8B89-AE69476FAF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ADB901-6488-43EA-B8B9-D111CD4327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C46A1C-B4BD-4A31-8DD6-CC23EE7F18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420087-F176-4895-9739-DE7E1B0A7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1251AC-742D-48EA-9C08-F3D6C5C76C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94DD00-5B02-430F-B221-169906CD01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E6FD7A-51CC-40BF-92D7-E7FC33E11E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08EE7F-9015-4AAA-AE72-7B04CADDB9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06FFE-90F6-4F52-8BD9-FD9A3BA3E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0D2DD-7F75-4B95-9103-27F635E10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DB0E9-4068-471B-B10F-4FEFBF6C6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1254E-7A59-4F49-9040-C7406B12D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8B1C89-9E50-4DD0-9CC9-CE809CE10C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6D7C22-0DBD-494E-AC7B-BAECC052DE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F7B512-FD7D-4D47-A0F8-69001A5E5B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2B8D7B-A78C-4E9B-BC59-009B9F513E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E5E545-CB83-408A-8831-FB402F8684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5C77DA-9B9F-4FA2-A388-CE2B298B78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875951-09BA-462B-A4EA-7C4ADAB1CB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5FDD54-C2F4-4F70-A124-E230F7FAB0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E4C3-0DF3-406B-8BDC-C3FAA179D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74A8A-CB3E-4562-8B07-ECAF0B7F6F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9A4AC-ED72-42AF-A27A-266828A64A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EA2560-9E62-48EF-B5D7-3144E83F1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20B3E-0FFE-499F-9EE7-E5A5BD0DD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E7525B-BA4B-4057-A14B-03639D60B6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4BB1C7-A827-477C-8DA8-45DD2EE9C5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CD7291-AFE4-491B-A112-1393B2622C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D3BCAE-AF5C-4CB4-A83E-79A030BD58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0ECEFD-E9E1-4A3D-9A4C-97B00C6560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6C339B-F2F8-435A-A590-B870DEFAA2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8142-802E-4C27-8A6C-1B1C3DC14AF2}"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B4F8-EF7D-4F07-AD82-9A97171CFCE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445F-EBFD-454A-9024-990E770D1927}"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4EB6-9937-4417-AFEF-0C4AA7CD802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2ABB-0BA7-484B-B4FC-C3798400E40E}"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1CE9-1A13-46F3-9470-770A06ED125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07D8-1D50-42F0-94B0-792CEBE26A1D}"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5712-AF0F-45AA-BE88-0409E57D6BF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BDFF-C303-498A-91AD-8ABED6806C04}"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894E-303F-42F0-8EA6-A8F555D1D71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EAF4-4267-472E-B2BE-03721FCA4C47}" type="datetime">
              <a:rPr b="0" lang="es-ES" sz="1000" spc="-1" strike="noStrike">
                <a:solidFill>
                  <a:srgbClr val="336666"/>
                </a:solidFill>
                <a:latin typeface="Times New Roman"/>
              </a:rPr>
              <a:t>29/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5DF5-5C05-48B9-A389-74DD1D2FACD6}"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D84F-4745-4C83-BD97-494689A6500F}"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5946-9967-4AF6-9604-CF3F3323630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65B6-8FE0-4091-81CB-05391629D355}"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2E61-8559-4921-B98F-8DB51122750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C905-CD41-418C-903D-345DA9091322}"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4C0D-3898-4A42-BABF-95C853ABEE3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4E24-31DF-466B-9D76-3AF1C68E8D53}"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3ACC-96C5-401B-A4F8-F7748B92C0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73A1-F929-4762-B963-CCF07240FA34}"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1D2F-33AB-4A28-8EE7-73863AC65DA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03DB-C65F-4DE7-9A79-80F77221517D}"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DB70-03D8-4B74-963B-26067EE75D9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7521-83D5-4C83-A2FB-A7D985FEF0AD}"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504C-C907-4349-A739-E789C564486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4C4D-13B0-4CD0-9B32-D69901B6EE5E}"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E1D4-1437-466F-B713-3E925DED4F2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59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647"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649"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1"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3"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6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6"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57"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658"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9"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60"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661"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2"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0">
                                            <p:txEl>
                                              <p:pRg st="0" end="0"/>
                                            </p:txEl>
                                          </p:spTgt>
                                        </p:tgtEl>
                                        <p:attrNameLst>
                                          <p:attrName>style.visibility</p:attrName>
                                        </p:attrNameLst>
                                      </p:cBhvr>
                                      <p:to>
                                        <p:strVal val="visible"/>
                                      </p:to>
                                    </p:set>
                                    <p:anim calcmode="lin" valueType="num">
                                      <p:cBhvr additive="base">
                                        <p:cTn id="7"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0">
                                            <p:txEl>
                                              <p:pRg st="2" end="2"/>
                                            </p:txEl>
                                          </p:spTgt>
                                        </p:tgtEl>
                                        <p:attrNameLst>
                                          <p:attrName>style.visibility</p:attrName>
                                        </p:attrNameLst>
                                      </p:cBhvr>
                                      <p:to>
                                        <p:strVal val="visible"/>
                                      </p:to>
                                    </p:set>
                                    <p:anim calcmode="lin" valueType="num">
                                      <p:cBhvr additive="base">
                                        <p:cTn id="1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0">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61"/>
                                        </p:tgtEl>
                                        <p:attrNameLst>
                                          <p:attrName>style.visibility</p:attrName>
                                        </p:attrNameLst>
                                      </p:cBhvr>
                                      <p:to>
                                        <p:strVal val="visible"/>
                                      </p:to>
                                    </p:set>
                                    <p:anim calcmode="lin" valueType="num">
                                      <p:cBhvr additive="base">
                                        <p:cTn id="17" dur="500" fill="hold"/>
                                        <p:tgtEl>
                                          <p:spTgt spid="661"/>
                                        </p:tgtEl>
                                        <p:attrNameLst>
                                          <p:attrName>ppt_x</p:attrName>
                                        </p:attrNameLst>
                                      </p:cBhvr>
                                      <p:tavLst>
                                        <p:tav tm="0">
                                          <p:val>
                                            <p:strVal val="#ppt_x"/>
                                          </p:val>
                                        </p:tav>
                                        <p:tav tm="100000">
                                          <p:val>
                                            <p:strVal val="#ppt_x"/>
                                          </p:val>
                                        </p:tav>
                                      </p:tavLst>
                                    </p:anim>
                                    <p:anim calcmode="lin" valueType="num">
                                      <p:cBhvr additive="base">
                                        <p:cTn id="18"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60">
                                            <p:txEl>
                                              <p:pRg st="4" end="4"/>
                                            </p:txEl>
                                          </p:spTgt>
                                        </p:tgtEl>
                                        <p:attrNameLst>
                                          <p:attrName>style.visibility</p:attrName>
                                        </p:attrNameLst>
                                      </p:cBhvr>
                                      <p:to>
                                        <p:strVal val="visible"/>
                                      </p:to>
                                    </p:set>
                                    <p:anim calcmode="lin" valueType="num">
                                      <p:cBhvr additive="base">
                                        <p:cTn id="23"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6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62"/>
                                        </p:tgtEl>
                                        <p:attrNameLst>
                                          <p:attrName>style.visibility</p:attrName>
                                        </p:attrNameLst>
                                      </p:cBhvr>
                                      <p:to>
                                        <p:strVal val="visible"/>
                                      </p:to>
                                    </p:set>
                                    <p:anim calcmode="lin" valueType="num">
                                      <p:cBhvr additive="base">
                                        <p:cTn id="27" dur="500" fill="hold"/>
                                        <p:tgtEl>
                                          <p:spTgt spid="662"/>
                                        </p:tgtEl>
                                        <p:attrNameLst>
                                          <p:attrName>ppt_x</p:attrName>
                                        </p:attrNameLst>
                                      </p:cBhvr>
                                      <p:tavLst>
                                        <p:tav tm="0">
                                          <p:val>
                                            <p:strVal val="#ppt_x"/>
                                          </p:val>
                                        </p:tav>
                                        <p:tav tm="100000">
                                          <p:val>
                                            <p:strVal val="#ppt_x"/>
                                          </p:val>
                                        </p:tav>
                                      </p:tavLst>
                                    </p:anim>
                                    <p:anim calcmode="lin" valueType="num">
                                      <p:cBhvr additive="base">
                                        <p:cTn id="28"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60">
                                            <p:txEl>
                                              <p:pRg st="6" end="6"/>
                                            </p:txEl>
                                          </p:spTgt>
                                        </p:tgtEl>
                                        <p:attrNameLst>
                                          <p:attrName>style.visibility</p:attrName>
                                        </p:attrNameLst>
                                      </p:cBhvr>
                                      <p:to>
                                        <p:strVal val="visible"/>
                                      </p:to>
                                    </p:set>
                                    <p:anim calcmode="lin" valueType="num">
                                      <p:cBhvr additive="base">
                                        <p:cTn id="33"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60">
                                            <p:txEl>
                                              <p:pRg st="6" end="6"/>
                                            </p:txEl>
                                          </p:spTgt>
                                        </p:tgtEl>
                                        <p:attrNameLst>
                                          <p:attrName>style.visibility</p:attrName>
                                        </p:attrNameLst>
                                      </p:cBhvr>
                                      <p:to>
                                        <p:strVal val="visible"/>
                                      </p:to>
                                    </p:set>
                                    <p:anim calcmode="lin" valueType="num">
                                      <p:cBhvr additive="base">
                                        <p:cTn id="39"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66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0000"/>
                </a:solidFill>
                <a:latin typeface="Arial"/>
              </a:rPr>
              <a:t>Entonces operacionalizar es..</a:t>
            </a:r>
            <a:endParaRPr b="0" lang="en-US" sz="4200" spc="-1" strike="noStrike">
              <a:solidFill>
                <a:srgbClr val="000000"/>
              </a:solidFill>
              <a:latin typeface="Arial"/>
            </a:endParaRPr>
          </a:p>
        </p:txBody>
      </p:sp>
      <p:sp>
        <p:nvSpPr>
          <p:cNvPr id="668" name=""/>
          <p:cNvSpPr txBox="1"/>
          <p:nvPr/>
        </p:nvSpPr>
        <p:spPr>
          <a:xfrm>
            <a:off x="394920" y="1905120"/>
            <a:ext cx="84978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eracionalizar es definir las variables para que sean medibles y manejables, significa definir operativamente.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investigador necesita traducir los conceptos (dimensiones) a hechos observables para lograr su medición u observacio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finiciones señalan las operaciones que se tienen que realizar para medir la variable, de forma tal, que sean susceptibles de observación y cuantificac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la operacionalizacion permite “transparentar” la manera en que están entiendo los tem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ás ejemplos</a:t>
            </a:r>
            <a:endParaRPr b="0" lang="en-US" sz="4200" spc="-1" strike="noStrike">
              <a:solidFill>
                <a:srgbClr val="000000"/>
              </a:solidFill>
              <a:latin typeface="Arial"/>
            </a:endParaRPr>
          </a:p>
        </p:txBody>
      </p:sp>
      <p:sp>
        <p:nvSpPr>
          <p:cNvPr id="67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1" name=""/>
          <p:cNvGraphicFramePr/>
          <p:nvPr/>
        </p:nvGraphicFramePr>
        <p:xfrm>
          <a:off x="250920" y="692280"/>
          <a:ext cx="8712000" cy="5573520"/>
        </p:xfrm>
        <a:graphic>
          <a:graphicData uri="http://schemas.openxmlformats.org/drawingml/2006/table">
            <a:tbl>
              <a:tblPr/>
              <a:tblGrid>
                <a:gridCol w="1743120"/>
                <a:gridCol w="1741320"/>
                <a:gridCol w="1743120"/>
                <a:gridCol w="1743120"/>
                <a:gridCol w="174132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operacion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nstitucionalidad</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quellos aspectos formales o informales que contribuyen a que existan límites y regla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Reglas institucionales</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ácticas comune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 la normativa vigen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ón de la normativ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dentificación de reglas básicas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Percepción de reglas en la institución</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acciones o actitudes sobre el tema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riterios subyacentes de la acción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2" name=""/>
          <p:cNvGraphicFramePr/>
          <p:nvPr/>
        </p:nvGraphicFramePr>
        <p:xfrm>
          <a:off x="250920" y="692280"/>
          <a:ext cx="8569080" cy="5573520"/>
        </p:xfrm>
        <a:graphic>
          <a:graphicData uri="http://schemas.openxmlformats.org/drawingml/2006/table">
            <a:tbl>
              <a:tblPr/>
              <a:tblGrid>
                <a:gridCol w="2141280"/>
                <a:gridCol w="2143440"/>
                <a:gridCol w="2141280"/>
                <a:gridCol w="214308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Mayor o menor posibilidad de tomar contacto co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geogràf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cultural</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conòm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Tiempo medido en horas y minutos que una persona se demora en trasladars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l sistema de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sobre la atencion en el sistem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on sobre la posibilidad de tomar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uànto dinero gasta para recibir el servicio</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a:t>
            </a:r>
            <a:endParaRPr b="0" lang="en-US" sz="4200" spc="-1" strike="noStrike">
              <a:solidFill>
                <a:srgbClr val="000000"/>
              </a:solidFill>
              <a:latin typeface="Arial"/>
            </a:endParaRPr>
          </a:p>
        </p:txBody>
      </p:sp>
      <p:sp>
        <p:nvSpPr>
          <p:cNvPr id="674" name=""/>
          <p:cNvSpPr txBox="1"/>
          <p:nvPr/>
        </p:nvSpPr>
        <p:spPr>
          <a:xfrm>
            <a:off x="179280" y="1904760"/>
            <a:ext cx="8964720" cy="46926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momentos previos a la implementación: </a:t>
            </a:r>
            <a:r>
              <a:rPr b="0" lang="es-ES" sz="1400" spc="-1" strike="noStrike">
                <a:solidFill>
                  <a:srgbClr val="000000"/>
                </a:solidFill>
                <a:latin typeface="Arial"/>
              </a:rPr>
              <a:t>con enfoque hacia el interior de las instituciones para conocer si hubo una preparación que permitiera una mejor implementación de la política de transparencia y acceso a la información previo al 20 de abril de 2009. A través de la entrevista se indagó si había preocupación por la nueva política; la conformación de grupos de trabajo; el tipo de capacitación hacia los funcionarios y la dirección del cambio.</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stión documental: </a:t>
            </a:r>
            <a:r>
              <a:rPr b="0" lang="es-ES" sz="1400" spc="-1" strike="noStrike">
                <a:solidFill>
                  <a:srgbClr val="000000"/>
                </a:solidFill>
                <a:latin typeface="Arial"/>
              </a:rPr>
              <a:t>para conocer si existían políticas orientadas hacia la organización de datos, archivos, clasificación y digitalización de la información pública y coordinación con el Archivo Nacional, que tuvieran formatos adecuados para responder a las consultas recibidas.</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que facilitan y/o dificultan la aplicación de la Ley: </a:t>
            </a:r>
            <a:r>
              <a:rPr b="0" lang="es-ES" sz="1400" spc="-1" strike="noStrike">
                <a:solidFill>
                  <a:srgbClr val="000000"/>
                </a:solidFill>
                <a:latin typeface="Arial"/>
              </a:rPr>
              <a:t>todos aquellos elementos relativos a Procesos organizacionales, tecnológicos, de recursos humanos y económicos que facilitaron o dificultaron la aplicación de la Ley 20.285.</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legales:</a:t>
            </a:r>
            <a:r>
              <a:rPr b="0" lang="es-ES" sz="1400" spc="-1" strike="noStrike">
                <a:solidFill>
                  <a:srgbClr val="000000"/>
                </a:solidFill>
                <a:latin typeface="Arial"/>
              </a:rPr>
              <a:t> los vacíos y/o falta de precisión tanto de la Ley 20.285 como de su Reglamento que afecten una clara orientación de los proceso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cepciones:</a:t>
            </a:r>
            <a:r>
              <a:rPr b="0" lang="es-ES" sz="1400" spc="-1" strike="noStrike">
                <a:solidFill>
                  <a:srgbClr val="000000"/>
                </a:solidFill>
                <a:latin typeface="Arial"/>
              </a:rPr>
              <a:t> aquellas percepciones al interior de las dependencias del Gobierno Central sobre los factores que se requieren para una mejor aplicación de la LAIP; los temores de los funcionarios públicos con la vigencia de esta nueva Ley.</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ltura Organizacional:</a:t>
            </a:r>
            <a:r>
              <a:rPr b="0" lang="es-ES" sz="1400" spc="-1" strike="noStrike">
                <a:solidFill>
                  <a:srgbClr val="000000"/>
                </a:solidFill>
                <a:latin typeface="Arial"/>
              </a:rPr>
              <a:t> las prácticas habituales de los funcionarios públicos, y la necesidad de cambios que conlleva la aplicación de las nuevas normativa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 2</a:t>
            </a:r>
            <a:endParaRPr b="0" lang="en-US" sz="4200" spc="-1" strike="noStrike">
              <a:solidFill>
                <a:srgbClr val="000000"/>
              </a:solidFill>
              <a:latin typeface="Arial"/>
            </a:endParaRPr>
          </a:p>
        </p:txBody>
      </p:sp>
      <p:pic>
        <p:nvPicPr>
          <p:cNvPr id="676" name="3 Marcador de contenido" descr=""/>
          <p:cNvPicPr/>
          <p:nvPr/>
        </p:nvPicPr>
        <p:blipFill>
          <a:blip r:embed="rId1"/>
          <a:stretch/>
        </p:blipFill>
        <p:spPr>
          <a:xfrm>
            <a:off x="450720" y="1047600"/>
            <a:ext cx="8272440" cy="508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26028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 3</a:t>
            </a:r>
            <a:endParaRPr b="0" lang="en-US" sz="4200" spc="-1" strike="noStrike">
              <a:solidFill>
                <a:srgbClr val="000000"/>
              </a:solidFill>
              <a:latin typeface="Arial"/>
            </a:endParaRPr>
          </a:p>
        </p:txBody>
      </p:sp>
      <p:graphicFrame>
        <p:nvGraphicFramePr>
          <p:cNvPr id="678" name=""/>
          <p:cNvGraphicFramePr/>
          <p:nvPr/>
        </p:nvGraphicFramePr>
        <p:xfrm>
          <a:off x="2195640" y="1268280"/>
          <a:ext cx="6694200" cy="5589720"/>
        </p:xfrm>
        <a:graphic>
          <a:graphicData uri="http://schemas.openxmlformats.org/drawingml/2006/table">
            <a:tbl>
              <a:tblPr/>
              <a:tblGrid>
                <a:gridCol w="2278080"/>
                <a:gridCol w="2278080"/>
                <a:gridCol w="2138040"/>
              </a:tblGrid>
              <a:tr h="2178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DIMENSIÓN</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SUBDIMENS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NDICADOR</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3320">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ncipales TPL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E-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79600">
                <a:tc rowSpan="10">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US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Temas generales sobre Uso de TPL </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elementos que inciden en el uso (espontáne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59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orizar factores que inciden en el us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11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Variables que inciden en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1 (Características propias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2 (Benefic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3 (Beneficiar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80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4 (Otros aspect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736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roblemas y trabas para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trab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ecnologí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0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Sociedad</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636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MPLEMENTACIÓN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uesta en marcha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Característic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73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Rol de los actore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Roles desarrollado y cuál debiera ser a futuro (Gobierno, ciudadanía, empresa privad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isión futur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ariables clave para el futur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936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Necesidad de investigac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3280" y="5467320"/>
            <a:ext cx="81835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800" spc="-1" strike="noStrike">
              <a:solidFill>
                <a:srgbClr val="9fdddd"/>
              </a:solidFill>
              <a:latin typeface="Arial"/>
            </a:endParaRPr>
          </a:p>
        </p:txBody>
      </p:sp>
      <p:pic>
        <p:nvPicPr>
          <p:cNvPr id="680" name="3 Marcador de contenido" descr=""/>
          <p:cNvPicPr/>
          <p:nvPr/>
        </p:nvPicPr>
        <p:blipFill>
          <a:blip r:embed="rId1"/>
          <a:stretch/>
        </p:blipFill>
        <p:spPr>
          <a:xfrm>
            <a:off x="407880" y="566640"/>
            <a:ext cx="8223480" cy="6010200"/>
          </a:xfrm>
          <a:prstGeom prst="rect">
            <a:avLst/>
          </a:prstGeom>
          <a:ln w="0">
            <a:noFill/>
          </a:ln>
        </p:spPr>
      </p:pic>
      <p:sp>
        <p:nvSpPr>
          <p:cNvPr id="681" name="4 Rectángulo"/>
          <p:cNvSpPr/>
          <p:nvPr/>
        </p:nvSpPr>
        <p:spPr>
          <a:xfrm>
            <a:off x="3571920" y="4000680"/>
            <a:ext cx="45720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682" name="8 Grupo"/>
          <p:cNvGrpSpPr/>
          <p:nvPr/>
        </p:nvGrpSpPr>
        <p:grpSpPr>
          <a:xfrm>
            <a:off x="3357720" y="4071960"/>
            <a:ext cx="5260680" cy="428760"/>
            <a:chOff x="3357720" y="4071960"/>
            <a:chExt cx="5260680" cy="428760"/>
          </a:xfrm>
        </p:grpSpPr>
        <p:sp>
          <p:nvSpPr>
            <p:cNvPr id="683" name="9 Redondear rectángulo de esquina del mismo lado"/>
            <p:cNvSpPr/>
            <p:nvPr/>
          </p:nvSpPr>
          <p:spPr>
            <a:xfrm rot="5400000">
              <a:off x="5765040" y="1664280"/>
              <a:ext cx="400320" cy="5214960"/>
            </a:xfrm>
            <a:custGeom>
              <a:avLst/>
              <a:gdLst>
                <a:gd name="textAreaLeft" fmla="*/ 19440 w 400320"/>
                <a:gd name="textAreaRight" fmla="*/ 380880 w 400320"/>
                <a:gd name="textAreaTop" fmla="*/ 45360 h 5214960"/>
                <a:gd name="textAreaBottom" fmla="*/ 5215320 h 5214960"/>
              </a:gdLst>
              <a:ahLst/>
              <a:rect l="textAreaLeft" t="textAreaTop" r="textAreaRight" b="textAreaBottom"/>
              <a:pathLst>
                <a:path w="939992" h="5237045">
                  <a:moveTo>
                    <a:pt x="156668" y="0"/>
                  </a:moveTo>
                  <a:lnTo>
                    <a:pt x="783324" y="0"/>
                  </a:lnTo>
                  <a:lnTo>
                    <a:pt x="783324" y="0"/>
                  </a:lnTo>
                  <a:arcTo wR="156668" hR="156668" stAng="-5400000" swAng="5400000"/>
                  <a:lnTo>
                    <a:pt x="939992" y="5237045"/>
                  </a:lnTo>
                  <a:lnTo>
                    <a:pt x="0" y="5237045"/>
                  </a:lnTo>
                  <a:lnTo>
                    <a:pt x="0" y="156668"/>
                  </a:lnTo>
                  <a:lnTo>
                    <a:pt x="0" y="156668"/>
                  </a:lnTo>
                  <a:arcTo wR="156668" hR="156668"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4" name="Redondear rectángulo de esquina del mismo lado 4"/>
            <p:cNvSpPr/>
            <p:nvPr/>
          </p:nvSpPr>
          <p:spPr>
            <a:xfrm>
              <a:off x="3429000" y="4071960"/>
              <a:ext cx="5189400" cy="42876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ipos, Satisfacción.</a:t>
              </a:r>
              <a:endParaRPr b="0" lang="en-US" sz="1600" spc="-1" strike="noStrike">
                <a:solidFill>
                  <a:srgbClr val="336666"/>
                </a:solidFill>
                <a:latin typeface="Arial"/>
              </a:endParaRPr>
            </a:p>
          </p:txBody>
        </p:sp>
      </p:grpSp>
      <p:grpSp>
        <p:nvGrpSpPr>
          <p:cNvPr id="685" name="11 Grupo"/>
          <p:cNvGrpSpPr/>
          <p:nvPr/>
        </p:nvGrpSpPr>
        <p:grpSpPr>
          <a:xfrm>
            <a:off x="3357720" y="5286240"/>
            <a:ext cx="5402160" cy="606600"/>
            <a:chOff x="3357720" y="5286240"/>
            <a:chExt cx="5402160" cy="606600"/>
          </a:xfrm>
        </p:grpSpPr>
        <p:sp>
          <p:nvSpPr>
            <p:cNvPr id="686" name="12 Redondear rectángulo de esquina del mismo lado"/>
            <p:cNvSpPr/>
            <p:nvPr/>
          </p:nvSpPr>
          <p:spPr>
            <a:xfrm rot="5400000">
              <a:off x="5731560" y="2983320"/>
              <a:ext cx="535320" cy="5283360"/>
            </a:xfrm>
            <a:custGeom>
              <a:avLst/>
              <a:gdLst>
                <a:gd name="textAreaLeft" fmla="*/ 25920 w 535320"/>
                <a:gd name="textAreaRight" fmla="*/ 509400 w 535320"/>
                <a:gd name="textAreaTop" fmla="*/ 27360 h 5283360"/>
                <a:gd name="textAreaBottom" fmla="*/ 5283720 h 5283360"/>
              </a:gdLst>
              <a:ahLst/>
              <a:rect l="textAreaLeft" t="textAreaTop" r="textAreaRight" b="textAreaBottom"/>
              <a:pathLst>
                <a:path w="535672" h="5028374">
                  <a:moveTo>
                    <a:pt x="89280" y="0"/>
                  </a:moveTo>
                  <a:lnTo>
                    <a:pt x="446392" y="0"/>
                  </a:lnTo>
                  <a:lnTo>
                    <a:pt x="446392" y="0"/>
                  </a:lnTo>
                  <a:arcTo wR="89280" hR="89280" stAng="-5400000" swAng="5400000"/>
                  <a:lnTo>
                    <a:pt x="535672" y="5028374"/>
                  </a:lnTo>
                  <a:lnTo>
                    <a:pt x="0" y="5028374"/>
                  </a:lnTo>
                  <a:lnTo>
                    <a:pt x="0" y="89280"/>
                  </a:lnTo>
                  <a:lnTo>
                    <a:pt x="0" y="89280"/>
                  </a:lnTo>
                  <a:arcTo wR="89280" hR="89280"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7" name="Redondear rectángulo de esquina del mismo lado 4"/>
            <p:cNvSpPr/>
            <p:nvPr/>
          </p:nvSpPr>
          <p:spPr>
            <a:xfrm>
              <a:off x="3429000" y="5286240"/>
              <a:ext cx="5330880" cy="58140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ransparencia Gestión Interna y Autoridades.   </a:t>
              </a:r>
              <a:endParaRPr b="0" lang="en-US" sz="1600" spc="-1" strike="noStrike">
                <a:solidFill>
                  <a:srgbClr val="336666"/>
                </a:solidFill>
                <a:latin typeface="Arial"/>
              </a:endParaRPr>
            </a:p>
          </p:txBody>
        </p:sp>
      </p:grpSp>
      <p:grpSp>
        <p:nvGrpSpPr>
          <p:cNvPr id="688" name="14 Grupo"/>
          <p:cNvGrpSpPr/>
          <p:nvPr/>
        </p:nvGrpSpPr>
        <p:grpSpPr>
          <a:xfrm>
            <a:off x="3357360" y="4572000"/>
            <a:ext cx="5357880" cy="571680"/>
            <a:chOff x="3357360" y="4572000"/>
            <a:chExt cx="5357880" cy="571680"/>
          </a:xfrm>
        </p:grpSpPr>
        <p:sp>
          <p:nvSpPr>
            <p:cNvPr id="689" name="15 Redondear rectángulo de esquina del mismo lado"/>
            <p:cNvSpPr/>
            <p:nvPr/>
          </p:nvSpPr>
          <p:spPr>
            <a:xfrm rot="5400000">
              <a:off x="5690880" y="2304720"/>
              <a:ext cx="505080" cy="5172120"/>
            </a:xfrm>
            <a:custGeom>
              <a:avLst/>
              <a:gdLst>
                <a:gd name="textAreaLeft" fmla="*/ 24480 w 505080"/>
                <a:gd name="textAreaRight" fmla="*/ 480600 w 505080"/>
                <a:gd name="textAreaTop" fmla="*/ 26280 h 5172120"/>
                <a:gd name="textAreaBottom" fmla="*/ 5172480 h 5172120"/>
              </a:gdLst>
              <a:ahLst/>
              <a:rect l="textAreaLeft" t="textAreaTop" r="textAreaRight" b="textAreaBottom"/>
              <a:pathLst>
                <a:path w="536361" h="5097941">
                  <a:moveTo>
                    <a:pt x="89395" y="0"/>
                  </a:moveTo>
                  <a:lnTo>
                    <a:pt x="446966" y="0"/>
                  </a:lnTo>
                  <a:lnTo>
                    <a:pt x="446966" y="0"/>
                  </a:lnTo>
                  <a:arcTo wR="89395" hR="89395" stAng="-5400000" swAng="5400000"/>
                  <a:lnTo>
                    <a:pt x="536361" y="5097941"/>
                  </a:lnTo>
                  <a:lnTo>
                    <a:pt x="0" y="5097941"/>
                  </a:lnTo>
                  <a:lnTo>
                    <a:pt x="0" y="89395"/>
                  </a:lnTo>
                  <a:lnTo>
                    <a:pt x="0" y="89395"/>
                  </a:lnTo>
                  <a:arcTo wR="89395" hR="89395"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0" name="Redondear rectángulo de esquina del mismo lado 4"/>
            <p:cNvSpPr/>
            <p:nvPr/>
          </p:nvSpPr>
          <p:spPr>
            <a:xfrm>
              <a:off x="3429000" y="4572000"/>
              <a:ext cx="5286240" cy="54648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Población Objetivo, Derechos,  Institucionalidad </a:t>
              </a:r>
              <a:endParaRPr b="0" lang="en-US" sz="1600" spc="-1" strike="noStrike">
                <a:solidFill>
                  <a:srgbClr val="336666"/>
                </a:solidFill>
                <a:latin typeface="Arial"/>
              </a:endParaRPr>
            </a:p>
          </p:txBody>
        </p:sp>
      </p:grpSp>
      <p:sp>
        <p:nvSpPr>
          <p:cNvPr id="691"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6666"/>
                </a:solidFill>
                <a:latin typeface="Arial"/>
              </a:rPr>
              <a:t>Ejemplo 4</a:t>
            </a:r>
            <a:endParaRPr b="0" lang="en-US" sz="4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596"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99" name="Group 3"/>
          <p:cNvGrpSpPr/>
          <p:nvPr/>
        </p:nvGrpSpPr>
        <p:grpSpPr>
          <a:xfrm>
            <a:off x="735120" y="1292400"/>
            <a:ext cx="8229600" cy="4914720"/>
            <a:chOff x="735120" y="1292400"/>
            <a:chExt cx="8229600" cy="4914720"/>
          </a:xfrm>
        </p:grpSpPr>
        <p:sp>
          <p:nvSpPr>
            <p:cNvPr id="600"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1"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602"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603"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604"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605"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606"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607"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608"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609"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610"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611"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612"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613"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614"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615"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616"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617"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618"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619"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620"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621"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2"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3"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4"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5"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6"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7"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8"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9"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0"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1"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2"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4"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635"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8"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63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 abiert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641"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5-13T14:03:24Z</dcterms:modified>
  <cp:revision>73</cp:revision>
  <dc:subject/>
  <dc:title>TALLER INTRODUCTORIO  ESTUDIOS DE CASO</dc:title>
</cp:coreProperties>
</file>