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4"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7"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8"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9EDB0-23F8-4DD0-BAC7-64942CB7F5D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2D333-CE06-4D1C-B0A8-9F37041F706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424D-8715-4AA0-BBFE-D3D253A4B2A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89B1E-5B0C-4468-ABF9-9EFAA83866D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18991-6B11-4213-B4FB-62BB4C145DB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8C63-DC83-4C86-9B49-C107E2D2F97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4DA6A-A602-4536-82A0-406F5F5CAA4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8C163-41D4-47BF-B7E0-F70A57CFFA7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67ED-9EFD-4F49-9A96-400E8D3118C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E7B7-810B-4A3D-8C5F-9FF6553069C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27973-0FEB-451C-B094-22FE1360D41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413C0-30CF-4C97-A668-FDA95D9796D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0021-B879-480A-BB6B-3A6A4731B0B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37BD-349B-4C1F-AEBD-F04305FCFA0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FBC8F-AFE3-47A3-9569-A902A043D01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904B1-F9DA-4E77-AF76-1AFE18D33F3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3350-D9CD-4503-ADD2-BFC46C5C196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DE24-A0C4-445B-BE39-03DDF982F2D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202E8-3B6A-43CA-B94A-AFC75E7B54A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65C84-F999-45B2-BD8B-79F70EF9003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BA3C1-DD5A-4676-AD31-2BDEDFB3D25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6EC7C-C13D-4659-8B56-6B842DCD4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419DE-E43B-43C0-AA1A-96EBA352F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C62146-DFEA-4757-A8DB-0B215F49A9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6F3EA3-C7F9-4738-A0D7-2E00138760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05BC07-C090-4972-B25E-5D66F4297D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67CEC9-F1D3-4E3E-BDB0-5BD0B30842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D97235-C986-4691-876C-32D1432C8C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C8BC54-4F7E-4A54-ADC4-C5A94B4B56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80D23A-E1DB-46D4-B93C-D6A0738CEB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7FC974-B1C0-4F3C-AE8A-0B1518715D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0C9896-7980-4F80-ABA1-AB60013D2A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444E7EF-1B3E-42D1-A15A-19BF55CC94E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15F81-3CFF-4243-BFE6-84A769B89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31BC9C-EC94-4FF1-8517-E9707D754B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BC535B-35B5-4E63-8C36-F3473A86F8C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8A463C-8EAE-42DC-BEBB-3B8F538DD38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4BD8C5-73FB-4B7A-9222-ACF328C4FF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924033-9EE4-4F04-A027-2C2899596C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E98C88-DCBA-4D19-87FA-76CA9593E1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3EE71A-9E32-4789-BB78-FA45B950FE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CE1E26-EFAF-4807-B8F7-428AAA96E2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33A823-C3CF-46D5-9F37-9805D13A3D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64D7D23-5CF6-4546-9010-BB90D7A2A6F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BF645-1C45-4BC6-9044-E45B60BEF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D62FA37-BB32-4F46-A484-F3773F9B7CE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1289201-2A6C-4F2E-BEBE-4FD003E7E1D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A981CA-E742-47EC-BA39-4ACBAF96DD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C56973-E619-4F0E-B63D-6FC656AB16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D7B100-B9B0-4AFA-9F79-53932F4C0A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2CEA06-A61C-4CE4-8CEE-57DAF5A11E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C4E5B9-12B4-4B05-BB5C-850E9BD9E3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90DA5E-A2A1-4ADC-95AA-084BD1B4C2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00E9E8-A2EB-4944-B665-87F5BEA1F9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4A565D-8CCA-4BC6-A4A4-0E476AEB3F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21A0A9-CE01-4EBF-B003-EDC3E05C56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1B3204-E771-410C-894D-9277AA157F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7571A85-B0E6-49EC-83F7-E8F9D70CFAF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466F3BD-ED3E-496F-B6C8-CE4C5ED113D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9A28D15-113A-4FBB-A04A-AFB4738C445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ED6DC3-0C51-48B3-B41D-35917085B4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89D86F-5C4E-4BDD-B6B6-F1E7B539E4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D0B708-3AF0-47A3-BECF-648F99AAE7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EBB20A-2E97-4C68-9AC7-D84D60A95F6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3B46F2D-68F9-4AFE-A8FF-E47F0B55504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374DB6-B7AD-4AA8-AD85-5F90FFFA2D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9FE6D-CF45-406B-8367-8990B147D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E84700-72D3-4C6D-A5AD-B66BD96265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0A7457-7021-4A76-B072-492BB28E2C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7FA14B6-F79D-4729-987E-ED232D457B7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27ADCD4-3E87-445D-8578-D326E366303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715E34C-6365-491C-B376-522AB0F5B3F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7C97BD1-CC4E-43BC-A3CE-ADF5CA9CCA9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8A08883-1CD8-40FA-B708-48AF95C5A88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E4F05D7-173F-4F29-9FB3-4F1CF4B912B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5BEB647-6CC1-4E9C-A4F0-7C3CB238CB1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EE8A5AA-A086-4E28-B19F-89C003B6481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F9BCE-88AE-43D8-8842-09B8CE746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A37C157-458C-4354-85B7-CD8341CACBF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809508-57EE-40CA-8F18-CDCF5533045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2ED1E6-6A7F-49FA-967C-7B410F7007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9215FE9-B4C3-4E88-8C0E-A54E263E6CC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4AB6B92-C6A3-4E28-83C7-DF2914D1F56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57A70DD-C2C9-4AD7-92E5-DFCE0E45E8D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7592BB5-ABC2-425D-87B1-6FDFA13AE8E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D9A8F19-DC4D-4520-A028-BA79E025AC7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732CA7F-5B79-47CA-8B9A-F8B44AB8FA6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47D7B37-C458-40A9-A676-E0803528BF7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2D0E0-9519-4F82-84C1-59D702B4B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9BB9B40-FA82-4401-9500-E718792D6F7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0E8FC9F-C6E2-4A0C-80A2-255BE3B3D6E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3399449-8F85-4603-90CA-CFC6E74210B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B6209C4-25BE-401E-8371-595640D055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E67C908-3E2A-4C98-BB15-E520BA5D52B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E355E47-6715-4939-99E8-205838A0489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DDB3681-4995-4177-9301-B734DCA90DA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00A7E09-4A75-40CA-B3FA-BFB9C4F8B0D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3F3B6AE-C2F2-4B7A-B2B0-B2081A9A79E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794FE-4F84-4860-A6D0-DB53A8E69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B73F6-6367-46A1-9E4B-A82F6DCF0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10D61-1C41-4AF5-991B-3960B77FD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1035C-D8E9-441A-9953-7110E0A72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3401D-8FF1-47C4-99E7-0E60D750A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BE74B-74AA-40AE-89AE-76547F2F3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95EBC-1E7A-4C61-9FF2-CA6ACDBC0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AF17B7-13B0-421B-800E-32F268B7C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16A782-9F50-451F-9FE2-D427CD29CC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6E7FDA-14CD-4D36-981B-5429716CFD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D134F8-84F9-490C-AF4F-21A5128EC9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C38E4B-F090-4F0B-8EA2-810AC81F20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792572-4451-4AA4-A9BC-D17AFF0FCF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840FC0-105A-4942-ADF6-1AA13D122A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46F21-FEBA-441C-835B-9CBBE6EE0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8B797A-BB1E-4CB0-8D44-DE0AB81185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044C39-A20E-4F5C-BCB2-2EBD11F7E5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56E24F-9F7B-4F01-A9AD-A3830C0275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BF00CA-E004-4848-AE8E-E43A3F2D8B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74D11E-40F3-4CEC-9FB7-42BD19B9CF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9C3450-070C-49BB-AF9B-4DE4BE4A59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9875FE-3945-4142-8037-08C486CCAA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2264BC-53BB-4E9A-AD88-15F7667551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C0B09B-F73A-428D-B97F-990E2EABB2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303741-CDEA-44DF-AEAA-6617503B58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36521-DB7B-4600-BCE6-DE6674DB0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DBD35D-9C5D-4A32-A876-9ECB4E1DE6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3F8F87-E028-4168-887C-42550EF3E1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14E54B-C694-460B-A256-E78B303D8F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B097A1-696E-4E67-8F49-9DFA65F456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56D707-DCDA-44DD-8997-E78D6BD5CD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B83B1C-73E6-4F85-9ACE-0B874CF005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019172-BFAA-4D09-85B0-14AF874B3D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1C458C-8B03-4991-966E-2CB30BF54D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1F3ED6-F952-4E15-A695-C8B6912E4A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F32744-1928-48F9-9C61-5BC2407ED1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22C07-880A-425A-A5CC-1D8B5CC35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9F775A-E21B-4F5D-891A-75E86BD5B0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41D27E-4CB8-433E-B382-5C25307230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D58648-229C-41D1-AA85-3CB3B3752E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A02E54-2D07-4511-A5F5-01B28EA475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94A628-C586-4254-AAE2-F413609D6B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0797E0-D88C-4F86-AAEA-4EA61DCC0E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E85D55-B696-456B-BD08-F2AF77F341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DE5C54-1FE9-48FC-8B10-2D6658674C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9491E7-0533-4361-AD4E-8DFB7C0784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30C216-B2A6-47A0-A0BC-702F618185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BE90B-D7D9-4BFE-957D-5D30007A7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710D2B-D1EE-42DC-AB11-2D30830F9F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08F9BE-AA42-4577-8BF7-7018C47B80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7B0FA6-8144-49B1-AE95-46D346D286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331182-207A-4309-86E4-CE17A0D2C6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A724E9-CBFA-4F07-8BD5-E944FBA472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C79B12-5FDE-481E-82D8-99AE3520C3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D71071-C58D-4A2A-B342-C3294C643D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CCEBC5-3D69-4AEF-B8A1-6B22382034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C057E6-92D0-44F8-90F8-5AFA5C8A46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CAE55A-D5A2-48DA-8B8A-973824E26F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DAAC6-82FF-4BC8-979C-CE45579A7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C5F7A7-7A58-429B-BCDF-4C2A4828ED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1736B7-C378-45F5-8BC9-9903AD18E7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55772B-B95F-454A-8F95-C3D3BA287F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4830A2-33AC-41A0-9052-BB6FF02979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ED4F55-F2E0-4825-89F0-397024EE39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03FECD-53FA-45F0-8EDE-D768EE0D45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ADC843-FDF0-401B-9425-A49F1DDA27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558D23-0BE3-41B0-98EF-B955E40AFD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B09EF7-98D1-424A-94D3-58D370C5FD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52EE25-4AD3-4653-B8C8-3D3BC64CDE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D60AA-A675-4849-9080-C5BA8D111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A33229-33FE-4C8F-B38C-5B389F9668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D495F0-D6D8-426D-A91B-5AD0B3F349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BEEA48-0D62-4027-82BE-8EB70D1A15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555AB5-F84D-432B-9A0B-B900CCB935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CE2DB2-C3FA-4E18-99CB-5D5E1A5C1F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A717CC-112F-4AB2-AC34-0B25FCE7D2C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02C1EC-C77B-4F2D-9D60-DE20F8F5A3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2AE392-3183-4B84-86AF-35177B17FB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342E3F-D477-4238-8109-753D273CBE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642914-5B8F-449B-BA7C-96BCF6A2FE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53277-178F-454A-9E28-2CA64EFFD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C07589-ED80-4A72-8D8C-7954D9CA5E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4957A1-2F00-452E-97C8-6E99871F76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8F280A-78C3-44AD-A6B8-B5627B9BC5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15F292-E6A5-4B6F-8442-7DBC8D942E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B00578-0064-43A0-8D16-95A794ED1E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507867-1279-43D4-8119-46D6D6414D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A1B5A9-9B07-42AE-A3D8-3EC682FE1A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C095E3-BEA3-46E9-93A8-5B731F902D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F3FD4F-F725-4666-99B9-A82498C48F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54ECA2-5C70-4487-B85B-0CF2E1899E7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E4BF8-59A1-4317-AB08-CFDCFFDD78C0}"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CDB7-0B14-4388-AA9C-A94DD95A165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55E28-D365-4C94-A571-D49B081B6E10}"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7A7B-3820-4D05-81CA-57331D2477C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F260-0190-43E2-89EB-01373D99F01B}"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9C1C6-3FCC-40D6-A1C2-6C270816043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63E8A-C075-4583-997F-CE290508733D}"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7B87-E6B7-42A8-833F-E0D7D7E52DB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C1F64-25DB-46B3-9B5C-2CE0BFA3D3DE}"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503" name="PlaceHolder 4"/>
          <p:cNvSpPr>
            <a:spLocks noGrp="1"/>
          </p:cNvSpPr>
          <p:nvPr>
            <p:ph type="ftr" idx="3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7C770-D37E-4671-B103-6DCD4900C45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4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43" name="PlaceHolder 3"/>
          <p:cNvSpPr>
            <a:spLocks noGrp="1"/>
          </p:cNvSpPr>
          <p:nvPr>
            <p:ph type="dt" idx="4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B8A30-A63C-4CA1-8EE6-B8B63655430E}" type="datetime">
              <a:rPr b="0" lang="es-ES" sz="1000" spc="-1" strike="noStrike">
                <a:solidFill>
                  <a:srgbClr val="336666"/>
                </a:solidFill>
                <a:latin typeface="Times New Roman"/>
              </a:rPr>
              <a:t>28/07/26</a:t>
            </a:fld>
            <a:endParaRPr b="0" lang="en-US" sz="1000" spc="-1" strike="noStrike">
              <a:solidFill>
                <a:srgbClr val="000000"/>
              </a:solidFill>
              <a:latin typeface="Times New Roman"/>
            </a:endParaRPr>
          </a:p>
        </p:txBody>
      </p:sp>
      <p:sp>
        <p:nvSpPr>
          <p:cNvPr id="544" name="PlaceHolder 4"/>
          <p:cNvSpPr>
            <a:spLocks noGrp="1"/>
          </p:cNvSpPr>
          <p:nvPr>
            <p:ph type="ftr" idx="4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5" name="PlaceHolder 5"/>
          <p:cNvSpPr>
            <a:spLocks noGrp="1"/>
          </p:cNvSpPr>
          <p:nvPr>
            <p:ph type="sldNum" idx="4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053FE-2B41-4A75-83EA-E14CF5555681}"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CE70-3E83-43AE-83DF-6CFA03C5373A}"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A52D5-83B9-4B42-988A-023C29292C1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5A74-D719-4162-92E2-5E8C36D56C2D}"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0DF3D-FEA1-49C4-8EE9-9A969A33A64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1B7E-D948-4C3C-BC48-E594F404316F}"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09716-321D-41C6-837A-ECD5343474D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16009-7054-41DA-A573-54A0F071EBE0}"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D98BE-6B0F-4BC6-B15C-4759183023C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0F6B-E049-4DC5-9CB4-D54B3BF6C493}"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7F258-B397-4C91-826F-33A6B374812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6A66-81BD-4A3D-AF72-29C5049471BC}"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17D2F-9B89-4856-9271-983D5BEDE9C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F951A-CA15-4716-B7D8-CFED174F9715}"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CDDCD-6131-4782-9EC9-1602E0A313C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d6">
            <a:alpha val="49000"/>
          </a:srgbClr>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BD4CA-E3E4-4F6B-BF46-D036AB31296B}"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71495-FADB-4806-84D7-26AD0B05B33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Arial"/>
              </a:rPr>
              <a:t>TALLER DE </a:t>
            </a:r>
            <a:br>
              <a:rPr sz="4800"/>
            </a:br>
            <a:r>
              <a:rPr b="0" lang="es-CL" sz="4800" spc="-1" strike="noStrike">
                <a:solidFill>
                  <a:srgbClr val="336666"/>
                </a:solidFill>
                <a:latin typeface="Arial"/>
              </a:rPr>
              <a:t>ESTUDIOS DE CASO</a:t>
            </a:r>
            <a:endParaRPr b="0" lang="en-US" sz="4800" spc="-1" strike="noStrike">
              <a:solidFill>
                <a:srgbClr val="000000"/>
              </a:solidFill>
              <a:latin typeface="Arial"/>
            </a:endParaRPr>
          </a:p>
        </p:txBody>
      </p:sp>
      <p:sp>
        <p:nvSpPr>
          <p:cNvPr id="590"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64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 una base de 36 establecimientos de la región metropolitana (27 municipales y 9 particulares subvencionados) que presentaban diferencias significativas tanto en la prueba SIMCE de lenguaje como de matemáticas del año 2002, se escogieron de manera aleatoria 10 de ellos (5 municipales y 5 particulares subvencionados) para realizar el trabajo cualitativo con el fin de conocer, a partir de la descripción de sus realidades y la percepción de los propios actores, cuáles son las características de sus establecimientos y los elementos que contribuirían a explicar las diferencias estadísticas observadas en la etapa previa</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imensiones de análisis</a:t>
            </a:r>
            <a:endParaRPr b="0" lang="en-US" sz="4200" spc="-1" strike="noStrike">
              <a:solidFill>
                <a:srgbClr val="000000"/>
              </a:solidFill>
              <a:latin typeface="Arial"/>
            </a:endParaRPr>
          </a:p>
        </p:txBody>
      </p:sp>
      <p:sp>
        <p:nvSpPr>
          <p:cNvPr id="647"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texto social y territorial de las escuela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estión escolar</a:t>
            </a:r>
            <a:br>
              <a:rPr sz="2100"/>
            </a:br>
            <a:r>
              <a:rPr b="0" lang="es-CL" sz="2100" spc="-1" strike="noStrike">
                <a:solidFill>
                  <a:srgbClr val="000000"/>
                </a:solidFill>
                <a:latin typeface="Arial"/>
              </a:rPr>
              <a:t>programas e iniciativas que se llevan a cabo en la escuela</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lación con otros actor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de la realidad de otros establecimient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diciones de trabajo de los docent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sobre los resultad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sión de los aprendizaj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nálisis de los temas de equida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strumento (entrevistas semi-estructuradas)</a:t>
            </a:r>
            <a:endParaRPr b="0" lang="en-US" sz="4200" spc="-1" strike="noStrike">
              <a:solidFill>
                <a:srgbClr val="000000"/>
              </a:solidFill>
              <a:latin typeface="Arial"/>
            </a:endParaRPr>
          </a:p>
        </p:txBody>
      </p:sp>
      <p:sp>
        <p:nvSpPr>
          <p:cNvPr id="649"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o resultado de la revisión bibliográfica y de documentación asociada al tema, se han definido las dimensiones claves para indagar en este estudio. Cada una de estas dimensiones se desglosa en una serie de preguntas para cada uno de los actores que participan de la inda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pueden ser distintas dependiendo de los entrevistados, aunque su aporte apuntará a recabar información sobre las mismas dimensiones del estudi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son “el gatillazo” o puntapié inicial que permite iniciar la conversación con los entrevistad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651"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ntroducir el tema, relevancia y usos de la entrevista</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mportancia del fraseo en las preguntas (evitar el sesg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ubrir las distintas aristas que tiene la dimensión de análisi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ructurar el instrumento desde lo más general a lo más específic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empre dejar espacio para comentarios finales una vez que se han realizado todas las preguntas, puede sorprender que a veces en ese espacio surgen los mayores aportes para la investi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importante estar abierto a nuevas temáticas que surjan durante cada una de las entrevistas, incluso pueden dar origen a nuevas dimensiones o subdimensiones del tem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653"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xplicitar claramente cuál es el objetivo del estudio y qué es lo que se espera del entrevistado, así como a qué otros actores se está entrevistan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segurar confidencialidad y en este caso enfatizar el objetivo académic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rabar para poder atender de mejor manera la entrevista y asegurar una mejor atención al entrevista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caso que no se pueda grabar, tomar buenos apuntes y transcribirlos lo más pronto posible</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valuar en la aplicación del instrumento la pertinencia de realizar la pregunta de la pauta siendo que ésta puede haber sido ya contestada por el entrevistad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ar conscientes de que los entrevistados son todos distintos, aportarán distintas cosas y por lo tanto se requieren estrategias distintas para cada uno de ello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rocesamiento de la información</a:t>
            </a:r>
            <a:endParaRPr b="0" lang="en-US" sz="4200" spc="-1" strike="noStrike">
              <a:solidFill>
                <a:srgbClr val="000000"/>
              </a:solidFill>
              <a:latin typeface="Arial"/>
            </a:endParaRPr>
          </a:p>
        </p:txBody>
      </p:sp>
      <p:sp>
        <p:nvSpPr>
          <p:cNvPr id="65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nscripción fidedigna de las entrevistas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56" name=""/>
          <p:cNvGraphicFramePr/>
          <p:nvPr/>
        </p:nvGraphicFramePr>
        <p:xfrm>
          <a:off x="468360" y="620640"/>
          <a:ext cx="7994520" cy="251640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1</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2</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3</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4</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n</a:t>
                      </a:r>
                      <a:endParaRPr b="0" lang="en-US" sz="14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487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1</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76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2</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03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3</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20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n</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657" name="Rectangle 57"/>
          <p:cNvSpPr/>
          <p:nvPr/>
        </p:nvSpPr>
        <p:spPr>
          <a:xfrm>
            <a:off x="468360" y="3429000"/>
            <a:ext cx="8066160" cy="252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dimensiones de análisis se transforman en una estructura para el vaciado de la matriz de contenido (o sában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estar abierto a constatar la existencia de más dimensiones de análisis que no hayan estado inicialmente contempladas en la pauta de entrevist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aboración de subdimensiones o sub temas que permitan ir ordenando mejor la informac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ntener información respecto del entrevistado en el registro</a:t>
            </a:r>
            <a:endParaRPr b="0" lang="en-US" sz="2000" spc="-1" strike="noStrike">
              <a:solidFill>
                <a:srgbClr val="336666"/>
              </a:solidFill>
              <a:latin typeface="Arial"/>
            </a:endParaRPr>
          </a:p>
        </p:txBody>
      </p:sp>
      <p:sp>
        <p:nvSpPr>
          <p:cNvPr id="658" name="Text Box 58"/>
          <p:cNvSpPr/>
          <p:nvPr/>
        </p:nvSpPr>
        <p:spPr>
          <a:xfrm>
            <a:off x="395280" y="6237360"/>
            <a:ext cx="799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Estrategias que permiten ir construyendo una matriz de análisi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59" name=""/>
          <p:cNvGraphicFramePr/>
          <p:nvPr/>
        </p:nvGraphicFramePr>
        <p:xfrm>
          <a:off x="468360" y="333360"/>
          <a:ext cx="7994520" cy="361332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1</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2</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3</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4</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n</a:t>
                      </a:r>
                      <a:endParaRPr b="0" lang="en-US" sz="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011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2</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3}</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4…….</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 los mismos problemas de los de acá tienen mejores resultados, o sea es una cuestión dura reconocerla, pero existe, o sea falta algo, yo creo que a nosotros nos falta algo, o sea nos falta mayor compromiso de parte de los profesores, mayor compromiso y ser más sistemático en las cosas que hacemos" (Particular Subvencionado)</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Nosotros todas las semanas tenemos taller de reflexión, todos los martes desde las cuatro hasta las seis ahí nos organizamos todos se puede trabajar por ciclo todo por sub ciclo, entonces ahí nos colocamos de acuerdo y vemos todo, nosotros tenemos buena comunicación entre nosotros"(Municipal)</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01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2</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9223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3</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49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n</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660" name="Rectangle 69"/>
          <p:cNvSpPr/>
          <p:nvPr/>
        </p:nvSpPr>
        <p:spPr>
          <a:xfrm>
            <a:off x="468360" y="4148280"/>
            <a:ext cx="806616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1 – Generar el cuerpo de datos- entrevistas, documentos, etc.</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2- Vaciado a la matriz por caso</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3 – Análisis por dimensión, subdimens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4 - Redacción del informe</a:t>
            </a:r>
            <a:endParaRPr b="0" lang="en-US" sz="2000" spc="-1" strike="noStrike">
              <a:solidFill>
                <a:srgbClr val="336666"/>
              </a:solidFill>
              <a:latin typeface="Arial"/>
            </a:endParaRPr>
          </a:p>
        </p:txBody>
      </p:sp>
      <p:sp>
        <p:nvSpPr>
          <p:cNvPr id="661" name="Rectangle 70"/>
          <p:cNvSpPr/>
          <p:nvPr/>
        </p:nvSpPr>
        <p:spPr>
          <a:xfrm>
            <a:off x="1908000" y="476280"/>
            <a:ext cx="935280" cy="3240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2" name="Rectangle 71"/>
          <p:cNvSpPr/>
          <p:nvPr/>
        </p:nvSpPr>
        <p:spPr>
          <a:xfrm>
            <a:off x="684360" y="1125360"/>
            <a:ext cx="7488000" cy="43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60">
                                            <p:txEl>
                                              <p:pRg st="0" end="0"/>
                                            </p:txEl>
                                          </p:spTgt>
                                        </p:tgtEl>
                                        <p:attrNameLst>
                                          <p:attrName>style.visibility</p:attrName>
                                        </p:attrNameLst>
                                      </p:cBhvr>
                                      <p:to>
                                        <p:strVal val="visible"/>
                                      </p:to>
                                    </p:set>
                                    <p:anim calcmode="lin" valueType="num">
                                      <p:cBhvr additive="base">
                                        <p:cTn id="7" dur="500" fill="hold"/>
                                        <p:tgtEl>
                                          <p:spTgt spid="66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60">
                                            <p:txEl>
                                              <p:pRg st="2" end="2"/>
                                            </p:txEl>
                                          </p:spTgt>
                                        </p:tgtEl>
                                        <p:attrNameLst>
                                          <p:attrName>style.visibility</p:attrName>
                                        </p:attrNameLst>
                                      </p:cBhvr>
                                      <p:to>
                                        <p:strVal val="visible"/>
                                      </p:to>
                                    </p:set>
                                    <p:anim calcmode="lin" valueType="num">
                                      <p:cBhvr additive="base">
                                        <p:cTn id="13" dur="500" fill="hold"/>
                                        <p:tgtEl>
                                          <p:spTgt spid="66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60">
                                            <p:txEl>
                                              <p:pRg st="2" end="2"/>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661"/>
                                        </p:tgtEl>
                                        <p:attrNameLst>
                                          <p:attrName>style.visibility</p:attrName>
                                        </p:attrNameLst>
                                      </p:cBhvr>
                                      <p:to>
                                        <p:strVal val="visible"/>
                                      </p:to>
                                    </p:set>
                                    <p:anim calcmode="lin" valueType="num">
                                      <p:cBhvr additive="base">
                                        <p:cTn id="17" dur="500" fill="hold"/>
                                        <p:tgtEl>
                                          <p:spTgt spid="661"/>
                                        </p:tgtEl>
                                        <p:attrNameLst>
                                          <p:attrName>ppt_x</p:attrName>
                                        </p:attrNameLst>
                                      </p:cBhvr>
                                      <p:tavLst>
                                        <p:tav tm="0">
                                          <p:val>
                                            <p:strVal val="#ppt_x"/>
                                          </p:val>
                                        </p:tav>
                                        <p:tav tm="100000">
                                          <p:val>
                                            <p:strVal val="#ppt_x"/>
                                          </p:val>
                                        </p:tav>
                                      </p:tavLst>
                                    </p:anim>
                                    <p:anim calcmode="lin" valueType="num">
                                      <p:cBhvr additive="base">
                                        <p:cTn id="18" dur="500" fill="hold"/>
                                        <p:tgtEl>
                                          <p:spTgt spid="661"/>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660">
                                            <p:txEl>
                                              <p:pRg st="4" end="4"/>
                                            </p:txEl>
                                          </p:spTgt>
                                        </p:tgtEl>
                                        <p:attrNameLst>
                                          <p:attrName>style.visibility</p:attrName>
                                        </p:attrNameLst>
                                      </p:cBhvr>
                                      <p:to>
                                        <p:strVal val="visible"/>
                                      </p:to>
                                    </p:set>
                                    <p:anim calcmode="lin" valueType="num">
                                      <p:cBhvr additive="base">
                                        <p:cTn id="23" dur="500" fill="hold"/>
                                        <p:tgtEl>
                                          <p:spTgt spid="660">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660">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662"/>
                                        </p:tgtEl>
                                        <p:attrNameLst>
                                          <p:attrName>style.visibility</p:attrName>
                                        </p:attrNameLst>
                                      </p:cBhvr>
                                      <p:to>
                                        <p:strVal val="visible"/>
                                      </p:to>
                                    </p:set>
                                    <p:anim calcmode="lin" valueType="num">
                                      <p:cBhvr additive="base">
                                        <p:cTn id="27" dur="500" fill="hold"/>
                                        <p:tgtEl>
                                          <p:spTgt spid="662"/>
                                        </p:tgtEl>
                                        <p:attrNameLst>
                                          <p:attrName>ppt_x</p:attrName>
                                        </p:attrNameLst>
                                      </p:cBhvr>
                                      <p:tavLst>
                                        <p:tav tm="0">
                                          <p:val>
                                            <p:strVal val="#ppt_x"/>
                                          </p:val>
                                        </p:tav>
                                        <p:tav tm="100000">
                                          <p:val>
                                            <p:strVal val="#ppt_x"/>
                                          </p:val>
                                        </p:tav>
                                      </p:tavLst>
                                    </p:anim>
                                    <p:anim calcmode="lin" valueType="num">
                                      <p:cBhvr additive="base">
                                        <p:cTn id="28" dur="500" fill="hold"/>
                                        <p:tgtEl>
                                          <p:spTgt spid="662"/>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60">
                                            <p:txEl>
                                              <p:pRg st="6" end="6"/>
                                            </p:txEl>
                                          </p:spTgt>
                                        </p:tgtEl>
                                        <p:attrNameLst>
                                          <p:attrName>style.visibility</p:attrName>
                                        </p:attrNameLst>
                                      </p:cBhvr>
                                      <p:to>
                                        <p:strVal val="visible"/>
                                      </p:to>
                                    </p:set>
                                    <p:anim calcmode="lin" valueType="num">
                                      <p:cBhvr additive="base">
                                        <p:cTn id="33" dur="500" fill="hold"/>
                                        <p:tgtEl>
                                          <p:spTgt spid="660">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60">
                                            <p:txEl>
                                              <p:pRg st="6" end="6"/>
                                            </p:txEl>
                                          </p:spTgt>
                                        </p:tgtEl>
                                        <p:attrNameLst>
                                          <p:attrName>style.visibility</p:attrName>
                                        </p:attrNameLst>
                                      </p:cBhvr>
                                      <p:to>
                                        <p:strVal val="visible"/>
                                      </p:to>
                                    </p:set>
                                    <p:anim calcmode="lin" valueType="num">
                                      <p:cBhvr additive="base">
                                        <p:cTn id="39" dur="500" fill="hold"/>
                                        <p:tgtEl>
                                          <p:spTgt spid="660">
                                            <p:txEl>
                                              <p:pRg st="6" end="6"/>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66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peracionalización de variables</a:t>
            </a:r>
            <a:endParaRPr b="0" lang="en-US" sz="4200" spc="-1" strike="noStrike">
              <a:solidFill>
                <a:srgbClr val="000000"/>
              </a:solidFill>
              <a:latin typeface="Arial"/>
            </a:endParaRPr>
          </a:p>
        </p:txBody>
      </p:sp>
      <p:sp>
        <p:nvSpPr>
          <p:cNvPr id="664"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Narrow"/>
              </a:rPr>
              <a:t>Dimensiones e indicadores:</a:t>
            </a:r>
            <a:endParaRPr b="0" lang="en-US" sz="4200" spc="-1" strike="noStrike">
              <a:solidFill>
                <a:srgbClr val="000000"/>
              </a:solidFill>
              <a:latin typeface="Arial"/>
            </a:endParaRPr>
          </a:p>
        </p:txBody>
      </p:sp>
      <p:sp>
        <p:nvSpPr>
          <p:cNvPr id="66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Una dimensión es un elemento integrante de una variable compleja, que resulta de un análisis o descomposi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Narrow"/>
              </a:rPr>
              <a:t>"Un indicador es un indicio, señal o unidad de medida que permite estudiar o cuantificar una variable o sus dimension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 de esta sesión</a:t>
            </a:r>
            <a:endParaRPr b="0" lang="en-US" sz="4200" spc="-1" strike="noStrike">
              <a:solidFill>
                <a:srgbClr val="000000"/>
              </a:solidFill>
              <a:latin typeface="Arial"/>
            </a:endParaRPr>
          </a:p>
        </p:txBody>
      </p:sp>
      <p:sp>
        <p:nvSpPr>
          <p:cNvPr id="592"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ntregar algunos lineamientos para realizar análisis de contenido para los estudios de caso</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Recordar algunos elementos básicos de la operacionalización de las variable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jercicio práctico de operacionalización de variable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3" name="Line 4"/>
          <p:cNvSpPr/>
          <p:nvPr/>
        </p:nvSpPr>
        <p:spPr>
          <a:xfrm>
            <a:off x="1547640" y="558972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4" name="Line 5"/>
          <p:cNvSpPr/>
          <p:nvPr/>
        </p:nvSpPr>
        <p:spPr>
          <a:xfrm>
            <a:off x="1547640" y="580536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0000"/>
                </a:solidFill>
                <a:latin typeface="Arial"/>
              </a:rPr>
              <a:t>Entonces operacionalizar es..</a:t>
            </a:r>
            <a:endParaRPr b="0" lang="en-US" sz="4200" spc="-1" strike="noStrike">
              <a:solidFill>
                <a:srgbClr val="000000"/>
              </a:solidFill>
              <a:latin typeface="Arial"/>
            </a:endParaRPr>
          </a:p>
        </p:txBody>
      </p:sp>
      <p:sp>
        <p:nvSpPr>
          <p:cNvPr id="668" name=""/>
          <p:cNvSpPr txBox="1"/>
          <p:nvPr/>
        </p:nvSpPr>
        <p:spPr>
          <a:xfrm>
            <a:off x="394920" y="1905120"/>
            <a:ext cx="849780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peracionalizar es definir las variables para que sean medibles y manejables, significa definir operativamente.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investigador necesita traducir los conceptos (dimensiones) a hechos observables para lograr su medición u observacion.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definiciones señalan las operaciones que se tienen que realizar para medir la variable, de forma tal, que sean susceptibles de observación y cuantificación.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demás la operacionalizacion permite “transparentar” la manera en que están entiendo los tema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Más ejemplos</a:t>
            </a:r>
            <a:endParaRPr b="0" lang="en-US" sz="4200" spc="-1" strike="noStrike">
              <a:solidFill>
                <a:srgbClr val="000000"/>
              </a:solidFill>
              <a:latin typeface="Arial"/>
            </a:endParaRPr>
          </a:p>
        </p:txBody>
      </p:sp>
      <p:sp>
        <p:nvSpPr>
          <p:cNvPr id="670"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71" name=""/>
          <p:cNvGraphicFramePr/>
          <p:nvPr/>
        </p:nvGraphicFramePr>
        <p:xfrm>
          <a:off x="250920" y="692280"/>
          <a:ext cx="8712000" cy="5573520"/>
        </p:xfrm>
        <a:graphic>
          <a:graphicData uri="http://schemas.openxmlformats.org/drawingml/2006/table">
            <a:tbl>
              <a:tblPr/>
              <a:tblGrid>
                <a:gridCol w="1743120"/>
                <a:gridCol w="1741320"/>
                <a:gridCol w="1743120"/>
                <a:gridCol w="1743120"/>
                <a:gridCol w="1741320"/>
              </a:tblGrid>
              <a:tr h="1336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finición conceptual de la 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finición operacional de la 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Variables </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dicadores</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r>
              <a:tr h="423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Institucionalidad</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quellos aspectos formales o informales que contribuyen a que existan límites y reglas de acc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Normativa vigente</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Normativa vigente</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Reglas institucionales</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Prácticas comunes de acc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onocimiento de la normativa vigent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Percepción de la normativa</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Identificación de reglas básicas </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 </a:t>
                      </a:r>
                      <a:r>
                        <a:rPr b="0" lang="es-ES" sz="1600" spc="-1" strike="noStrike">
                          <a:solidFill>
                            <a:srgbClr val="336666"/>
                          </a:solidFill>
                          <a:latin typeface="Arial"/>
                        </a:rPr>
                        <a:t>Percepción de reglas en la institución</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 </a:t>
                      </a:r>
                      <a:r>
                        <a:rPr b="0" lang="es-ES" sz="1600" spc="-1" strike="noStrike">
                          <a:solidFill>
                            <a:srgbClr val="336666"/>
                          </a:solidFill>
                          <a:latin typeface="Arial"/>
                        </a:rPr>
                        <a:t>acciones o actitudes sobre el tema </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riterios subyacentes de la acción </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72" name=""/>
          <p:cNvGraphicFramePr/>
          <p:nvPr/>
        </p:nvGraphicFramePr>
        <p:xfrm>
          <a:off x="250920" y="692280"/>
          <a:ext cx="8569080" cy="5573520"/>
        </p:xfrm>
        <a:graphic>
          <a:graphicData uri="http://schemas.openxmlformats.org/drawingml/2006/table">
            <a:tbl>
              <a:tblPr/>
              <a:tblGrid>
                <a:gridCol w="2141280"/>
                <a:gridCol w="2143440"/>
                <a:gridCol w="2141280"/>
                <a:gridCol w="2143080"/>
              </a:tblGrid>
              <a:tr h="1336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finición conceptual de la dimensión</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Variables </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dicadores</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cc"/>
                    </a:solidFill>
                  </a:tcPr>
                </a:tc>
              </a:tr>
              <a:tr h="4236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en los servicios de transporte</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Mayor o menor posibilidad de tomar contacto con los servicios de transporte</a:t>
                      </a: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geogràfica</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cultural</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Accesibilidad econòmica</a:t>
                      </a: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c>
                  <a:txBody>
                    <a:bodyPr lIns="90000" rIns="90000" tIns="46800" bIns="46800" anchor="t">
                      <a:noAutofit/>
                    </a:bodyPr>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Tiempo medido en horas y minutos que una persona se demora en trasladars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onocimiento del sistema de transport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onocimiento sobre la atencion en el sistema</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Percepcion sobre la posibilidad de tomar transporte</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Cuànto dinero gasta para recibir el servicio</a:t>
                      </a:r>
                      <a:endParaRPr b="0" lang="en-US" sz="1600" spc="-1" strike="noStrike">
                        <a:solidFill>
                          <a:srgbClr val="336666"/>
                        </a:solidFill>
                        <a:latin typeface="Arial"/>
                      </a:endParaRPr>
                    </a:p>
                    <a:p>
                      <a:pPr>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cec"/>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Ejemplo</a:t>
            </a:r>
            <a:endParaRPr b="0" lang="en-US" sz="4200" spc="-1" strike="noStrike">
              <a:solidFill>
                <a:srgbClr val="000000"/>
              </a:solidFill>
              <a:latin typeface="Arial"/>
            </a:endParaRPr>
          </a:p>
        </p:txBody>
      </p:sp>
      <p:sp>
        <p:nvSpPr>
          <p:cNvPr id="674" name=""/>
          <p:cNvSpPr txBox="1"/>
          <p:nvPr/>
        </p:nvSpPr>
        <p:spPr>
          <a:xfrm>
            <a:off x="179280" y="1904760"/>
            <a:ext cx="8964720" cy="4692600"/>
          </a:xfrm>
          <a:prstGeom prst="rect">
            <a:avLst/>
          </a:prstGeom>
          <a:noFill/>
          <a:ln w="0">
            <a:noFill/>
          </a:ln>
        </p:spPr>
        <p:txBody>
          <a:bodyPr anchor="t">
            <a:normAutofit/>
          </a:bodyPr>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os momentos previos a la implementación: </a:t>
            </a:r>
            <a:r>
              <a:rPr b="0" lang="es-ES" sz="1400" spc="-1" strike="noStrike">
                <a:solidFill>
                  <a:srgbClr val="000000"/>
                </a:solidFill>
                <a:latin typeface="Arial"/>
              </a:rPr>
              <a:t>con enfoque hacia el interior de las instituciones para conocer si hubo una preparación que permitiera una mejor implementación de la política de transparencia y acceso a la información previo al 20 de abril de 2009. A través de la entrevista se indagó si había preocupación por la nueva política; la conformación de grupos de trabajo; el tipo de capacitación hacia los funcionarios y la dirección del cambio.</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estión documental: </a:t>
            </a:r>
            <a:r>
              <a:rPr b="0" lang="es-ES" sz="1400" spc="-1" strike="noStrike">
                <a:solidFill>
                  <a:srgbClr val="000000"/>
                </a:solidFill>
                <a:latin typeface="Arial"/>
              </a:rPr>
              <a:t>para conocer si existían políticas orientadas hacia la organización de datos, archivos, clasificación y digitalización de la información pública y coordinación con el Archivo Nacional, que tuvieran formatos adecuados para responder a las consultas recibidas.</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pectos que facilitan y/o dificultan la aplicación de la Ley: </a:t>
            </a:r>
            <a:r>
              <a:rPr b="0" lang="es-ES" sz="1400" spc="-1" strike="noStrike">
                <a:solidFill>
                  <a:srgbClr val="000000"/>
                </a:solidFill>
                <a:latin typeface="Arial"/>
              </a:rPr>
              <a:t>todos aquellos elementos relativos a Procesos organizacionales, tecnológicos, de recursos humanos y económicos que facilitaron o dificultaron la aplicación de la Ley 20.285.</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pectos legales:</a:t>
            </a:r>
            <a:r>
              <a:rPr b="0" lang="es-ES" sz="1400" spc="-1" strike="noStrike">
                <a:solidFill>
                  <a:srgbClr val="000000"/>
                </a:solidFill>
                <a:latin typeface="Arial"/>
              </a:rPr>
              <a:t> los vacíos y/o falta de precisión tanto de la Ley 20.285 como de su Reglamento que afecten una clara orientación de los procesos de transparencia y acceso a la información.</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cepciones:</a:t>
            </a:r>
            <a:r>
              <a:rPr b="0" lang="es-ES" sz="1400" spc="-1" strike="noStrike">
                <a:solidFill>
                  <a:srgbClr val="000000"/>
                </a:solidFill>
                <a:latin typeface="Arial"/>
              </a:rPr>
              <a:t> aquellas percepciones al interior de las dependencias del Gobierno Central sobre los factores que se requieren para una mejor aplicación de la LAIP; los temores de los funcionarios públicos con la vigencia de esta nueva Ley.</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ltura Organizacional:</a:t>
            </a:r>
            <a:r>
              <a:rPr b="0" lang="es-ES" sz="1400" spc="-1" strike="noStrike">
                <a:solidFill>
                  <a:srgbClr val="000000"/>
                </a:solidFill>
                <a:latin typeface="Arial"/>
              </a:rPr>
              <a:t> las prácticas habituales de los funcionarios públicos, y la necesidad de cambios que conlleva la aplicación de las nuevas normativas de transparencia y acceso a la información.</a:t>
            </a:r>
            <a:endParaRPr b="0" lang="en-US" sz="1400" spc="-1" strike="noStrike">
              <a:solidFill>
                <a:srgbClr val="000000"/>
              </a:solidFill>
              <a:latin typeface="Arial"/>
            </a:endParaRPr>
          </a:p>
          <a:p>
            <a:pPr marL="343080" indent="-34308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Ejemplo 2</a:t>
            </a:r>
            <a:endParaRPr b="0" lang="en-US" sz="4200" spc="-1" strike="noStrike">
              <a:solidFill>
                <a:srgbClr val="000000"/>
              </a:solidFill>
              <a:latin typeface="Arial"/>
            </a:endParaRPr>
          </a:p>
        </p:txBody>
      </p:sp>
      <p:pic>
        <p:nvPicPr>
          <p:cNvPr id="676" name="3 Marcador de contenido" descr=""/>
          <p:cNvPicPr/>
          <p:nvPr/>
        </p:nvPicPr>
        <p:blipFill>
          <a:blip r:embed="rId1"/>
          <a:stretch/>
        </p:blipFill>
        <p:spPr>
          <a:xfrm>
            <a:off x="450720" y="1047600"/>
            <a:ext cx="8272440" cy="5085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60" y="260280"/>
            <a:ext cx="701028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jemplo 3</a:t>
            </a:r>
            <a:endParaRPr b="0" lang="en-US" sz="4200" spc="-1" strike="noStrike">
              <a:solidFill>
                <a:srgbClr val="000000"/>
              </a:solidFill>
              <a:latin typeface="Arial"/>
            </a:endParaRPr>
          </a:p>
        </p:txBody>
      </p:sp>
      <p:graphicFrame>
        <p:nvGraphicFramePr>
          <p:cNvPr id="678" name=""/>
          <p:cNvGraphicFramePr/>
          <p:nvPr/>
        </p:nvGraphicFramePr>
        <p:xfrm>
          <a:off x="2195640" y="1268280"/>
          <a:ext cx="6694200" cy="5589720"/>
        </p:xfrm>
        <a:graphic>
          <a:graphicData uri="http://schemas.openxmlformats.org/drawingml/2006/table">
            <a:tbl>
              <a:tblPr/>
              <a:tblGrid>
                <a:gridCol w="2278080"/>
                <a:gridCol w="2278080"/>
                <a:gridCol w="2138040"/>
              </a:tblGrid>
              <a:tr h="21780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DIMENSIÓN</a:t>
                      </a:r>
                      <a:endParaRPr b="0" lang="en-US" sz="1000" spc="-1" strike="noStrike">
                        <a:solidFill>
                          <a:srgbClr val="336666"/>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SUBDIMENSIÓN</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INDICADOR</a:t>
                      </a:r>
                      <a:endParaRPr b="0" lang="en-US" sz="1000" spc="-1" strike="noStrike">
                        <a:solidFill>
                          <a:srgbClr val="336666"/>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193320">
                <a:tc rowSpan="3">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ERCEPCIÓN GENERAL SOBRE ESTADO DEL ARTE</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3">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ercepción general sobre estado del arte</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048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rincipales TPL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174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E-gobiern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579600">
                <a:tc rowSpan="10">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USO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Temas generales sobre Uso de TPL </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ercepción general de elementos que inciden en el uso (espontáne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8592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riorizar factores que inciden en el us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1112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rowSpan="4">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Variables que inciden en el uso de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1 (Características propias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8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2 (Beneficio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4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3 (Beneficiario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1780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Ámbito 4 (Otros aspecto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8736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rowSpan="4">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roblemas y trabas para el uso de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Percepción General de trab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4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Gobiern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048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tecnología</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02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Sociedad</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306360">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IMPLEMENTACIÓN DE LOS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Puesta en marcha de los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Característic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77328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Rol de los actore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Roles desarrollado y cuál debiera ser a futuro (Gobierno, ciudadanía, empresa privada)</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04840">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FUTURO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Futuro del TPL</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Visión futura</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17440">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Variables clave para el futuro</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19368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OTROS TEM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Times New Roman"/>
                        </a:rPr>
                        <a:t>Otros temas</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ea typeface="Times New Roman"/>
                        </a:rPr>
                        <a:t>Necesidad de investigación</a:t>
                      </a:r>
                      <a:endParaRPr b="0" lang="en-US" sz="1000" spc="-1" strike="noStrike">
                        <a:solidFill>
                          <a:srgbClr val="336666"/>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3280" y="5467320"/>
            <a:ext cx="818352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800" spc="-1" strike="noStrike">
              <a:solidFill>
                <a:srgbClr val="9fdddd"/>
              </a:solidFill>
              <a:latin typeface="Arial"/>
            </a:endParaRPr>
          </a:p>
        </p:txBody>
      </p:sp>
      <p:pic>
        <p:nvPicPr>
          <p:cNvPr id="680" name="3 Marcador de contenido" descr=""/>
          <p:cNvPicPr/>
          <p:nvPr/>
        </p:nvPicPr>
        <p:blipFill>
          <a:blip r:embed="rId1"/>
          <a:stretch/>
        </p:blipFill>
        <p:spPr>
          <a:xfrm>
            <a:off x="407880" y="566640"/>
            <a:ext cx="8223480" cy="6010200"/>
          </a:xfrm>
          <a:prstGeom prst="rect">
            <a:avLst/>
          </a:prstGeom>
          <a:ln w="0">
            <a:noFill/>
          </a:ln>
        </p:spPr>
      </p:pic>
      <p:sp>
        <p:nvSpPr>
          <p:cNvPr id="681" name="4 Rectángulo"/>
          <p:cNvSpPr/>
          <p:nvPr/>
        </p:nvSpPr>
        <p:spPr>
          <a:xfrm>
            <a:off x="3571920" y="4000680"/>
            <a:ext cx="457200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682" name="8 Grupo"/>
          <p:cNvGrpSpPr/>
          <p:nvPr/>
        </p:nvGrpSpPr>
        <p:grpSpPr>
          <a:xfrm>
            <a:off x="3357720" y="4071960"/>
            <a:ext cx="5260680" cy="428760"/>
            <a:chOff x="3357720" y="4071960"/>
            <a:chExt cx="5260680" cy="428760"/>
          </a:xfrm>
        </p:grpSpPr>
        <p:sp>
          <p:nvSpPr>
            <p:cNvPr id="683" name="9 Redondear rectángulo de esquina del mismo lado"/>
            <p:cNvSpPr/>
            <p:nvPr/>
          </p:nvSpPr>
          <p:spPr>
            <a:xfrm rot="5400000">
              <a:off x="5765040" y="1664280"/>
              <a:ext cx="400320" cy="5214960"/>
            </a:xfrm>
            <a:custGeom>
              <a:avLst/>
              <a:gdLst>
                <a:gd name="textAreaLeft" fmla="*/ 19440 w 400320"/>
                <a:gd name="textAreaRight" fmla="*/ 380880 w 400320"/>
                <a:gd name="textAreaTop" fmla="*/ 45360 h 5214960"/>
                <a:gd name="textAreaBottom" fmla="*/ 5215320 h 5214960"/>
              </a:gdLst>
              <a:ahLst/>
              <a:rect l="textAreaLeft" t="textAreaTop" r="textAreaRight" b="textAreaBottom"/>
              <a:pathLst>
                <a:path w="939992" h="5237045">
                  <a:moveTo>
                    <a:pt x="156668" y="0"/>
                  </a:moveTo>
                  <a:lnTo>
                    <a:pt x="783324" y="0"/>
                  </a:lnTo>
                  <a:lnTo>
                    <a:pt x="783324" y="0"/>
                  </a:lnTo>
                  <a:arcTo wR="156668" hR="156668" stAng="-5400000" swAng="5400000"/>
                  <a:lnTo>
                    <a:pt x="939992" y="5237045"/>
                  </a:lnTo>
                  <a:lnTo>
                    <a:pt x="0" y="5237045"/>
                  </a:lnTo>
                  <a:lnTo>
                    <a:pt x="0" y="156668"/>
                  </a:lnTo>
                  <a:lnTo>
                    <a:pt x="0" y="156668"/>
                  </a:lnTo>
                  <a:arcTo wR="156668" hR="156668" stAng="10800000" swAng="5400000"/>
                  <a:close/>
                </a:path>
              </a:pathLst>
            </a:custGeom>
            <a:solidFill>
              <a:srgbClr val="deecec">
                <a:alpha val="90000"/>
              </a:srgbClr>
            </a:solidFill>
            <a:ln w="25560">
              <a:solidFill>
                <a:srgbClr val="deecec">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84" name="Redondear rectángulo de esquina del mismo lado 4"/>
            <p:cNvSpPr/>
            <p:nvPr/>
          </p:nvSpPr>
          <p:spPr>
            <a:xfrm>
              <a:off x="3429000" y="4071960"/>
              <a:ext cx="5189400" cy="428760"/>
            </a:xfrm>
            <a:prstGeom prst="rect">
              <a:avLst/>
            </a:prstGeom>
            <a:noFill/>
            <a:ln w="0">
              <a:noFill/>
            </a:ln>
          </p:spPr>
          <p:style>
            <a:lnRef idx="0"/>
            <a:fillRef idx="0"/>
            <a:effectRef idx="0"/>
            <a:fontRef idx="minor"/>
          </p:style>
          <p:txBody>
            <a:bodyPr lIns="60840" rIns="60840" tIns="30600" bIns="30600" anchor="ctr">
              <a:noAutofit/>
            </a:bodyPr>
            <a:p>
              <a:pPr lvl="1" marL="171360" indent="-171360">
                <a:lnSpc>
                  <a:spcPct val="90000"/>
                </a:lnSpc>
                <a:spcAft>
                  <a:spcPts val="300"/>
                </a:spcAft>
                <a:buClr>
                  <a:srgbClr val="336666"/>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1600" spc="-1" strike="noStrike">
                  <a:solidFill>
                    <a:srgbClr val="336666"/>
                  </a:solidFill>
                  <a:latin typeface="Arial"/>
                </a:rPr>
                <a:t>Tipos, Satisfacción.</a:t>
              </a:r>
              <a:endParaRPr b="0" lang="en-US" sz="1600" spc="-1" strike="noStrike">
                <a:solidFill>
                  <a:srgbClr val="336666"/>
                </a:solidFill>
                <a:latin typeface="Arial"/>
              </a:endParaRPr>
            </a:p>
          </p:txBody>
        </p:sp>
      </p:grpSp>
      <p:grpSp>
        <p:nvGrpSpPr>
          <p:cNvPr id="685" name="11 Grupo"/>
          <p:cNvGrpSpPr/>
          <p:nvPr/>
        </p:nvGrpSpPr>
        <p:grpSpPr>
          <a:xfrm>
            <a:off x="3357720" y="5286240"/>
            <a:ext cx="5402160" cy="606600"/>
            <a:chOff x="3357720" y="5286240"/>
            <a:chExt cx="5402160" cy="606600"/>
          </a:xfrm>
        </p:grpSpPr>
        <p:sp>
          <p:nvSpPr>
            <p:cNvPr id="686" name="12 Redondear rectángulo de esquina del mismo lado"/>
            <p:cNvSpPr/>
            <p:nvPr/>
          </p:nvSpPr>
          <p:spPr>
            <a:xfrm rot="5400000">
              <a:off x="5731560" y="2983320"/>
              <a:ext cx="535320" cy="5283360"/>
            </a:xfrm>
            <a:custGeom>
              <a:avLst/>
              <a:gdLst>
                <a:gd name="textAreaLeft" fmla="*/ 25920 w 535320"/>
                <a:gd name="textAreaRight" fmla="*/ 509400 w 535320"/>
                <a:gd name="textAreaTop" fmla="*/ 27360 h 5283360"/>
                <a:gd name="textAreaBottom" fmla="*/ 5283720 h 5283360"/>
              </a:gdLst>
              <a:ahLst/>
              <a:rect l="textAreaLeft" t="textAreaTop" r="textAreaRight" b="textAreaBottom"/>
              <a:pathLst>
                <a:path w="535672" h="5028374">
                  <a:moveTo>
                    <a:pt x="89280" y="0"/>
                  </a:moveTo>
                  <a:lnTo>
                    <a:pt x="446392" y="0"/>
                  </a:lnTo>
                  <a:lnTo>
                    <a:pt x="446392" y="0"/>
                  </a:lnTo>
                  <a:arcTo wR="89280" hR="89280" stAng="-5400000" swAng="5400000"/>
                  <a:lnTo>
                    <a:pt x="535672" y="5028374"/>
                  </a:lnTo>
                  <a:lnTo>
                    <a:pt x="0" y="5028374"/>
                  </a:lnTo>
                  <a:lnTo>
                    <a:pt x="0" y="89280"/>
                  </a:lnTo>
                  <a:lnTo>
                    <a:pt x="0" y="89280"/>
                  </a:lnTo>
                  <a:arcTo wR="89280" hR="89280" stAng="10800000" swAng="5400000"/>
                  <a:close/>
                </a:path>
              </a:pathLst>
            </a:custGeom>
            <a:solidFill>
              <a:srgbClr val="deecec">
                <a:alpha val="90000"/>
              </a:srgbClr>
            </a:solidFill>
            <a:ln w="25560">
              <a:solidFill>
                <a:srgbClr val="deecec">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87" name="Redondear rectángulo de esquina del mismo lado 4"/>
            <p:cNvSpPr/>
            <p:nvPr/>
          </p:nvSpPr>
          <p:spPr>
            <a:xfrm>
              <a:off x="3429000" y="5286240"/>
              <a:ext cx="5330880" cy="581400"/>
            </a:xfrm>
            <a:prstGeom prst="rect">
              <a:avLst/>
            </a:prstGeom>
            <a:noFill/>
            <a:ln w="0">
              <a:noFill/>
            </a:ln>
          </p:spPr>
          <p:style>
            <a:lnRef idx="0"/>
            <a:fillRef idx="0"/>
            <a:effectRef idx="0"/>
            <a:fontRef idx="minor"/>
          </p:style>
          <p:txBody>
            <a:bodyPr lIns="60840" rIns="60840" tIns="30600" bIns="30600" anchor="ctr">
              <a:noAutofit/>
            </a:bodyPr>
            <a:p>
              <a:pPr lvl="1" marL="171360" indent="-171360">
                <a:lnSpc>
                  <a:spcPct val="90000"/>
                </a:lnSpc>
                <a:spcAft>
                  <a:spcPts val="300"/>
                </a:spcAft>
                <a:buClr>
                  <a:srgbClr val="336666"/>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1600" spc="-1" strike="noStrike">
                  <a:solidFill>
                    <a:srgbClr val="336666"/>
                  </a:solidFill>
                  <a:latin typeface="Arial"/>
                </a:rPr>
                <a:t>Transparencia Gestión Interna y Autoridades.   </a:t>
              </a:r>
              <a:endParaRPr b="0" lang="en-US" sz="1600" spc="-1" strike="noStrike">
                <a:solidFill>
                  <a:srgbClr val="336666"/>
                </a:solidFill>
                <a:latin typeface="Arial"/>
              </a:endParaRPr>
            </a:p>
          </p:txBody>
        </p:sp>
      </p:grpSp>
      <p:grpSp>
        <p:nvGrpSpPr>
          <p:cNvPr id="688" name="14 Grupo"/>
          <p:cNvGrpSpPr/>
          <p:nvPr/>
        </p:nvGrpSpPr>
        <p:grpSpPr>
          <a:xfrm>
            <a:off x="3357360" y="4572000"/>
            <a:ext cx="5357880" cy="571680"/>
            <a:chOff x="3357360" y="4572000"/>
            <a:chExt cx="5357880" cy="571680"/>
          </a:xfrm>
        </p:grpSpPr>
        <p:sp>
          <p:nvSpPr>
            <p:cNvPr id="689" name="15 Redondear rectángulo de esquina del mismo lado"/>
            <p:cNvSpPr/>
            <p:nvPr/>
          </p:nvSpPr>
          <p:spPr>
            <a:xfrm rot="5400000">
              <a:off x="5690880" y="2304720"/>
              <a:ext cx="505080" cy="5172120"/>
            </a:xfrm>
            <a:custGeom>
              <a:avLst/>
              <a:gdLst>
                <a:gd name="textAreaLeft" fmla="*/ 24480 w 505080"/>
                <a:gd name="textAreaRight" fmla="*/ 480600 w 505080"/>
                <a:gd name="textAreaTop" fmla="*/ 26280 h 5172120"/>
                <a:gd name="textAreaBottom" fmla="*/ 5172480 h 5172120"/>
              </a:gdLst>
              <a:ahLst/>
              <a:rect l="textAreaLeft" t="textAreaTop" r="textAreaRight" b="textAreaBottom"/>
              <a:pathLst>
                <a:path w="536361" h="5097941">
                  <a:moveTo>
                    <a:pt x="89395" y="0"/>
                  </a:moveTo>
                  <a:lnTo>
                    <a:pt x="446966" y="0"/>
                  </a:lnTo>
                  <a:lnTo>
                    <a:pt x="446966" y="0"/>
                  </a:lnTo>
                  <a:arcTo wR="89395" hR="89395" stAng="-5400000" swAng="5400000"/>
                  <a:lnTo>
                    <a:pt x="536361" y="5097941"/>
                  </a:lnTo>
                  <a:lnTo>
                    <a:pt x="0" y="5097941"/>
                  </a:lnTo>
                  <a:lnTo>
                    <a:pt x="0" y="89395"/>
                  </a:lnTo>
                  <a:lnTo>
                    <a:pt x="0" y="89395"/>
                  </a:lnTo>
                  <a:arcTo wR="89395" hR="89395" stAng="10800000" swAng="5400000"/>
                  <a:close/>
                </a:path>
              </a:pathLst>
            </a:custGeom>
            <a:solidFill>
              <a:srgbClr val="deecec">
                <a:alpha val="90000"/>
              </a:srgbClr>
            </a:solidFill>
            <a:ln w="25560">
              <a:solidFill>
                <a:srgbClr val="deecec">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90" name="Redondear rectángulo de esquina del mismo lado 4"/>
            <p:cNvSpPr/>
            <p:nvPr/>
          </p:nvSpPr>
          <p:spPr>
            <a:xfrm>
              <a:off x="3429000" y="4572000"/>
              <a:ext cx="5286240" cy="546480"/>
            </a:xfrm>
            <a:prstGeom prst="rect">
              <a:avLst/>
            </a:prstGeom>
            <a:noFill/>
            <a:ln w="0">
              <a:noFill/>
            </a:ln>
          </p:spPr>
          <p:style>
            <a:lnRef idx="0"/>
            <a:fillRef idx="0"/>
            <a:effectRef idx="0"/>
            <a:fontRef idx="minor"/>
          </p:style>
          <p:txBody>
            <a:bodyPr lIns="60840" rIns="60840" tIns="30600" bIns="30600" anchor="ctr">
              <a:noAutofit/>
            </a:bodyPr>
            <a:p>
              <a:pPr lvl="1" marL="171360" indent="-171360">
                <a:lnSpc>
                  <a:spcPct val="90000"/>
                </a:lnSpc>
                <a:spcAft>
                  <a:spcPts val="300"/>
                </a:spcAft>
                <a:buClr>
                  <a:srgbClr val="336666"/>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1600" spc="-1" strike="noStrike">
                  <a:solidFill>
                    <a:srgbClr val="336666"/>
                  </a:solidFill>
                  <a:latin typeface="Arial"/>
                </a:rPr>
                <a:t>Población Objetivo, Derechos,  Institucionalidad </a:t>
              </a:r>
              <a:endParaRPr b="0" lang="en-US" sz="1600" spc="-1" strike="noStrike">
                <a:solidFill>
                  <a:srgbClr val="336666"/>
                </a:solidFill>
                <a:latin typeface="Arial"/>
              </a:endParaRPr>
            </a:p>
          </p:txBody>
        </p:sp>
      </p:grpSp>
      <p:sp>
        <p:nvSpPr>
          <p:cNvPr id="691" name="1 Título"/>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6666"/>
                </a:solidFill>
                <a:latin typeface="Arial"/>
              </a:rPr>
              <a:t>Ejemplo 4</a:t>
            </a:r>
            <a:endParaRPr b="0" lang="en-US" sz="4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peracionalización de variables</a:t>
            </a:r>
            <a:endParaRPr b="0" lang="en-US" sz="4200" spc="-1" strike="noStrike">
              <a:solidFill>
                <a:srgbClr val="000000"/>
              </a:solidFill>
              <a:latin typeface="Arial"/>
            </a:endParaRPr>
          </a:p>
        </p:txBody>
      </p:sp>
      <p:sp>
        <p:nvSpPr>
          <p:cNvPr id="596"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p:nvPr>
        </p:nvSpPr>
        <p:spPr>
          <a:xfrm>
            <a:off x="1809360" y="260280"/>
            <a:ext cx="7010280" cy="2532240"/>
          </a:xfrm>
          <a:prstGeom prst="rect">
            <a:avLst/>
          </a:prstGeom>
          <a:solidFill>
            <a:srgbClr val="cccccc">
              <a:alpha val="60000"/>
            </a:srgbClr>
          </a:solid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La operacionalización "el proceso mediante el cual se transforma la Dimensión de conceptos abstractos a términos concretos, observables y medibles, es decir, variables e indicado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Rectangle 2"/>
          <p:cNvSpPr/>
          <p:nvPr/>
        </p:nvSpPr>
        <p:spPr>
          <a:xfrm>
            <a:off x="1884240" y="699480"/>
            <a:ext cx="6107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Tahoma"/>
                <a:ea typeface="Times New Roman"/>
              </a:rPr>
              <a:t>OPERACIONALIZACIÓN DE VARIABLES Y CONCEPTOS</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599" name="Group 3"/>
          <p:cNvGrpSpPr/>
          <p:nvPr/>
        </p:nvGrpSpPr>
        <p:grpSpPr>
          <a:xfrm>
            <a:off x="735120" y="1292400"/>
            <a:ext cx="8229600" cy="4914720"/>
            <a:chOff x="735120" y="1292400"/>
            <a:chExt cx="8229600" cy="4914720"/>
          </a:xfrm>
        </p:grpSpPr>
        <p:sp>
          <p:nvSpPr>
            <p:cNvPr id="600" name="AutoShape 4"/>
            <p:cNvSpPr/>
            <p:nvPr/>
          </p:nvSpPr>
          <p:spPr>
            <a:xfrm>
              <a:off x="735120" y="1292400"/>
              <a:ext cx="8229600" cy="491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01" name="Text Box 5"/>
            <p:cNvSpPr/>
            <p:nvPr/>
          </p:nvSpPr>
          <p:spPr>
            <a:xfrm>
              <a:off x="2906640" y="1406520"/>
              <a:ext cx="17143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ahoma"/>
                  <a:ea typeface="Times New Roman"/>
                </a:rPr>
                <a:t>DEPRIVACIÓN</a:t>
              </a:r>
              <a:endParaRPr b="0" lang="en-US" sz="1400" spc="-1" strike="noStrike">
                <a:solidFill>
                  <a:srgbClr val="336666"/>
                </a:solidFill>
                <a:latin typeface="Arial"/>
              </a:endParaRPr>
            </a:p>
          </p:txBody>
        </p:sp>
        <p:sp>
          <p:nvSpPr>
            <p:cNvPr id="602" name="Text Box 6"/>
            <p:cNvSpPr/>
            <p:nvPr/>
          </p:nvSpPr>
          <p:spPr>
            <a:xfrm>
              <a:off x="73512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ISICA</a:t>
              </a:r>
              <a:endParaRPr b="0" lang="en-US" sz="1200" spc="-1" strike="noStrike">
                <a:solidFill>
                  <a:srgbClr val="336666"/>
                </a:solidFill>
                <a:latin typeface="Arial"/>
              </a:endParaRPr>
            </a:p>
          </p:txBody>
        </p:sp>
        <p:sp>
          <p:nvSpPr>
            <p:cNvPr id="603" name="Text Box 7"/>
            <p:cNvSpPr/>
            <p:nvPr/>
          </p:nvSpPr>
          <p:spPr>
            <a:xfrm>
              <a:off x="1877760" y="1978200"/>
              <a:ext cx="12571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CONÓMICA</a:t>
              </a:r>
              <a:endParaRPr b="0" lang="en-US" sz="1200" spc="-1" strike="noStrike">
                <a:solidFill>
                  <a:srgbClr val="336666"/>
                </a:solidFill>
                <a:latin typeface="Arial"/>
              </a:endParaRPr>
            </a:p>
          </p:txBody>
        </p:sp>
        <p:sp>
          <p:nvSpPr>
            <p:cNvPr id="604" name="Text Box 8"/>
            <p:cNvSpPr/>
            <p:nvPr/>
          </p:nvSpPr>
          <p:spPr>
            <a:xfrm>
              <a:off x="324936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Verdana"/>
                  <a:ea typeface="Times New Roman"/>
                </a:rPr>
                <a:t>SOCIAL</a:t>
              </a:r>
              <a:endParaRPr b="0" lang="en-US" sz="1200" spc="-1" strike="noStrike">
                <a:solidFill>
                  <a:srgbClr val="336666"/>
                </a:solidFill>
                <a:latin typeface="Arial"/>
              </a:endParaRPr>
            </a:p>
          </p:txBody>
        </p:sp>
        <p:sp>
          <p:nvSpPr>
            <p:cNvPr id="605" name="Text Box 9"/>
            <p:cNvSpPr/>
            <p:nvPr/>
          </p:nvSpPr>
          <p:spPr>
            <a:xfrm>
              <a:off x="4392720" y="1978200"/>
              <a:ext cx="11426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OLÍTICA</a:t>
              </a:r>
              <a:endParaRPr b="0" lang="en-US" sz="1200" spc="-1" strike="noStrike">
                <a:solidFill>
                  <a:srgbClr val="336666"/>
                </a:solidFill>
                <a:latin typeface="Arial"/>
              </a:endParaRPr>
            </a:p>
          </p:txBody>
        </p:sp>
        <p:sp>
          <p:nvSpPr>
            <p:cNvPr id="606" name="Text Box 10"/>
            <p:cNvSpPr/>
            <p:nvPr/>
          </p:nvSpPr>
          <p:spPr>
            <a:xfrm>
              <a:off x="5649840" y="1978200"/>
              <a:ext cx="14857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SICOLÓGICA</a:t>
              </a:r>
              <a:endParaRPr b="0" lang="en-US" sz="1200" spc="-1" strike="noStrike">
                <a:solidFill>
                  <a:srgbClr val="336666"/>
                </a:solidFill>
                <a:latin typeface="Arial"/>
              </a:endParaRPr>
            </a:p>
          </p:txBody>
        </p:sp>
        <p:sp>
          <p:nvSpPr>
            <p:cNvPr id="607" name="Text Box 11"/>
            <p:cNvSpPr/>
            <p:nvPr/>
          </p:nvSpPr>
          <p:spPr>
            <a:xfrm>
              <a:off x="849240" y="2607480"/>
              <a:ext cx="2057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ISLAMIENTO SOCIAL</a:t>
              </a:r>
              <a:endParaRPr b="0" lang="en-US" sz="1200" spc="-1" strike="noStrike">
                <a:solidFill>
                  <a:srgbClr val="336666"/>
                </a:solidFill>
                <a:latin typeface="Arial"/>
              </a:endParaRPr>
            </a:p>
          </p:txBody>
        </p:sp>
        <p:sp>
          <p:nvSpPr>
            <p:cNvPr id="608" name="Text Box 12"/>
            <p:cNvSpPr/>
            <p:nvPr/>
          </p:nvSpPr>
          <p:spPr>
            <a:xfrm>
              <a:off x="3021120" y="2606760"/>
              <a:ext cx="1942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USENCIA ROLES SOCIALES VALORADOS</a:t>
              </a:r>
              <a:endParaRPr b="0" lang="en-US" sz="1200" spc="-1" strike="noStrike">
                <a:solidFill>
                  <a:srgbClr val="336666"/>
                </a:solidFill>
                <a:latin typeface="Arial"/>
              </a:endParaRPr>
            </a:p>
          </p:txBody>
        </p:sp>
        <p:sp>
          <p:nvSpPr>
            <p:cNvPr id="609" name="Text Box 13"/>
            <p:cNvSpPr/>
            <p:nvPr/>
          </p:nvSpPr>
          <p:spPr>
            <a:xfrm>
              <a:off x="5078520" y="2606760"/>
              <a:ext cx="20574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ALTA DE HABILIDADES SOCIALES</a:t>
              </a:r>
              <a:endParaRPr b="0" lang="en-US" sz="1200" spc="-1" strike="noStrike">
                <a:solidFill>
                  <a:srgbClr val="336666"/>
                </a:solidFill>
                <a:latin typeface="Arial"/>
              </a:endParaRPr>
            </a:p>
          </p:txBody>
        </p:sp>
        <p:sp>
          <p:nvSpPr>
            <p:cNvPr id="610" name="Text Box 14"/>
            <p:cNvSpPr/>
            <p:nvPr/>
          </p:nvSpPr>
          <p:spPr>
            <a:xfrm>
              <a:off x="963360" y="3497400"/>
              <a:ext cx="194292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EL AISLAMIENTO SOCIAL</a:t>
              </a:r>
              <a:endParaRPr b="0" lang="en-US" sz="1200" spc="-1" strike="noStrike">
                <a:solidFill>
                  <a:srgbClr val="336666"/>
                </a:solidFill>
                <a:latin typeface="Arial"/>
              </a:endParaRPr>
            </a:p>
          </p:txBody>
        </p:sp>
        <p:sp>
          <p:nvSpPr>
            <p:cNvPr id="611" name="Text Box 15"/>
            <p:cNvSpPr/>
            <p:nvPr/>
          </p:nvSpPr>
          <p:spPr>
            <a:xfrm>
              <a:off x="3021120" y="3497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AUSENCIA ROLES SOCIALES VALORADOS</a:t>
              </a:r>
              <a:endParaRPr b="0" lang="en-US" sz="1200" spc="-1" strike="noStrike">
                <a:solidFill>
                  <a:srgbClr val="336666"/>
                </a:solidFill>
                <a:latin typeface="Arial"/>
              </a:endParaRPr>
            </a:p>
          </p:txBody>
        </p:sp>
        <p:sp>
          <p:nvSpPr>
            <p:cNvPr id="612" name="Text Box 16"/>
            <p:cNvSpPr/>
            <p:nvPr/>
          </p:nvSpPr>
          <p:spPr>
            <a:xfrm>
              <a:off x="5078520" y="3497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FALTA DE HABILIDADES SOCIALES</a:t>
              </a:r>
              <a:endParaRPr b="0" lang="en-US" sz="1200" spc="-1" strike="noStrike">
                <a:solidFill>
                  <a:srgbClr val="336666"/>
                </a:solidFill>
                <a:latin typeface="Arial"/>
              </a:endParaRPr>
            </a:p>
          </p:txBody>
        </p:sp>
        <p:sp>
          <p:nvSpPr>
            <p:cNvPr id="613" name="Text Box 17"/>
            <p:cNvSpPr/>
            <p:nvPr/>
          </p:nvSpPr>
          <p:spPr>
            <a:xfrm>
              <a:off x="963360" y="4729320"/>
              <a:ext cx="1942920" cy="13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Cantidad amigo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Contacto con familia</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Participación en organizacione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4. Contacto c/vecinos</a:t>
              </a:r>
              <a:endParaRPr b="0" lang="en-US" sz="1200" spc="-1" strike="noStrike">
                <a:solidFill>
                  <a:srgbClr val="336666"/>
                </a:solidFill>
                <a:latin typeface="Arial"/>
              </a:endParaRPr>
            </a:p>
          </p:txBody>
        </p:sp>
        <p:sp>
          <p:nvSpPr>
            <p:cNvPr id="614" name="Text Box 18"/>
            <p:cNvSpPr/>
            <p:nvPr/>
          </p:nvSpPr>
          <p:spPr>
            <a:xfrm>
              <a:off x="3021120" y="4721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Sexo</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Ocupac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Estado civil</a:t>
              </a:r>
              <a:endParaRPr b="0" lang="en-US" sz="1200" spc="-1" strike="noStrike">
                <a:solidFill>
                  <a:srgbClr val="336666"/>
                </a:solidFill>
                <a:latin typeface="Arial"/>
              </a:endParaRPr>
            </a:p>
          </p:txBody>
        </p:sp>
        <p:sp>
          <p:nvSpPr>
            <p:cNvPr id="615" name="Text Box 19"/>
            <p:cNvSpPr/>
            <p:nvPr/>
          </p:nvSpPr>
          <p:spPr>
            <a:xfrm>
              <a:off x="5078520" y="4721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Escala de introversión/ extrovers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Escala de asertividad</a:t>
              </a:r>
              <a:endParaRPr b="0" lang="en-US" sz="1200" spc="-1" strike="noStrike">
                <a:solidFill>
                  <a:srgbClr val="336666"/>
                </a:solidFill>
                <a:latin typeface="Arial"/>
              </a:endParaRPr>
            </a:p>
          </p:txBody>
        </p:sp>
        <p:sp>
          <p:nvSpPr>
            <p:cNvPr id="616" name="Text Box 20"/>
            <p:cNvSpPr/>
            <p:nvPr/>
          </p:nvSpPr>
          <p:spPr>
            <a:xfrm>
              <a:off x="7364520" y="140652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CONCEPTO</a:t>
              </a:r>
              <a:endParaRPr b="0" lang="en-US" sz="1200" spc="-1" strike="noStrike">
                <a:solidFill>
                  <a:srgbClr val="336666"/>
                </a:solidFill>
                <a:latin typeface="Arial"/>
              </a:endParaRPr>
            </a:p>
          </p:txBody>
        </p:sp>
        <p:sp>
          <p:nvSpPr>
            <p:cNvPr id="617" name="Text Box 21"/>
            <p:cNvSpPr/>
            <p:nvPr/>
          </p:nvSpPr>
          <p:spPr>
            <a:xfrm>
              <a:off x="7364520" y="197820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IMENSIONES</a:t>
              </a:r>
              <a:endParaRPr b="0" lang="en-US" sz="1200" spc="-1" strike="noStrike">
                <a:solidFill>
                  <a:srgbClr val="336666"/>
                </a:solidFill>
                <a:latin typeface="Arial"/>
              </a:endParaRPr>
            </a:p>
          </p:txBody>
        </p:sp>
        <p:sp>
          <p:nvSpPr>
            <p:cNvPr id="618" name="Text Box 22"/>
            <p:cNvSpPr/>
            <p:nvPr/>
          </p:nvSpPr>
          <p:spPr>
            <a:xfrm>
              <a:off x="7364520" y="2549520"/>
              <a:ext cx="1371600" cy="91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SUB-DIMENSIONES</a:t>
              </a:r>
              <a:endParaRPr b="0" lang="en-US" sz="1200" spc="-1" strike="noStrike">
                <a:solidFill>
                  <a:srgbClr val="336666"/>
                </a:solidFill>
                <a:latin typeface="Arial"/>
              </a:endParaRPr>
            </a:p>
          </p:txBody>
        </p:sp>
        <p:sp>
          <p:nvSpPr>
            <p:cNvPr id="619" name="Text Box 23"/>
            <p:cNvSpPr/>
            <p:nvPr/>
          </p:nvSpPr>
          <p:spPr>
            <a:xfrm>
              <a:off x="7364520" y="3463920"/>
              <a:ext cx="1371600" cy="12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EFINICIONES OPERACIONALES</a:t>
              </a:r>
              <a:endParaRPr b="0" lang="en-US" sz="1200" spc="-1" strike="noStrike">
                <a:solidFill>
                  <a:srgbClr val="336666"/>
                </a:solidFill>
                <a:latin typeface="Arial"/>
              </a:endParaRPr>
            </a:p>
          </p:txBody>
        </p:sp>
        <p:sp>
          <p:nvSpPr>
            <p:cNvPr id="620" name="Text Box 24"/>
            <p:cNvSpPr/>
            <p:nvPr/>
          </p:nvSpPr>
          <p:spPr>
            <a:xfrm>
              <a:off x="7364520" y="4721400"/>
              <a:ext cx="1371600" cy="13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INDICADORES</a:t>
              </a:r>
              <a:endParaRPr b="0" lang="en-US" sz="1200" spc="-1" strike="noStrike">
                <a:solidFill>
                  <a:srgbClr val="336666"/>
                </a:solidFill>
                <a:latin typeface="Arial"/>
              </a:endParaRPr>
            </a:p>
          </p:txBody>
        </p:sp>
        <p:sp>
          <p:nvSpPr>
            <p:cNvPr id="621" name="Line 25"/>
            <p:cNvSpPr/>
            <p:nvPr/>
          </p:nvSpPr>
          <p:spPr>
            <a:xfrm flipH="1">
              <a:off x="1649160" y="1635120"/>
              <a:ext cx="102852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2" name="Line 26"/>
            <p:cNvSpPr/>
            <p:nvPr/>
          </p:nvSpPr>
          <p:spPr>
            <a:xfrm flipH="1">
              <a:off x="2563920" y="1749240"/>
              <a:ext cx="34272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3" name="Line 27"/>
            <p:cNvSpPr/>
            <p:nvPr/>
          </p:nvSpPr>
          <p:spPr>
            <a:xfrm>
              <a:off x="3706920" y="1635120"/>
              <a:ext cx="7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4" name="Line 28"/>
            <p:cNvSpPr/>
            <p:nvPr/>
          </p:nvSpPr>
          <p:spPr>
            <a:xfrm>
              <a:off x="4621320" y="1635120"/>
              <a:ext cx="5713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5" name="Line 29"/>
            <p:cNvSpPr/>
            <p:nvPr/>
          </p:nvSpPr>
          <p:spPr>
            <a:xfrm>
              <a:off x="4849920" y="1521000"/>
              <a:ext cx="9144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6" name="Line 30"/>
            <p:cNvSpPr/>
            <p:nvPr/>
          </p:nvSpPr>
          <p:spPr>
            <a:xfrm flipH="1">
              <a:off x="2792160" y="2320920"/>
              <a:ext cx="342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7" name="Line 31"/>
            <p:cNvSpPr/>
            <p:nvPr/>
          </p:nvSpPr>
          <p:spPr>
            <a:xfrm>
              <a:off x="3706920" y="22064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8" name="Line 32"/>
            <p:cNvSpPr/>
            <p:nvPr/>
          </p:nvSpPr>
          <p:spPr>
            <a:xfrm>
              <a:off x="4278240" y="2320920"/>
              <a:ext cx="799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29" name="Line 33"/>
            <p:cNvSpPr/>
            <p:nvPr/>
          </p:nvSpPr>
          <p:spPr>
            <a:xfrm>
              <a:off x="1877760" y="2892600"/>
              <a:ext cx="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0" name="Line 34"/>
            <p:cNvSpPr/>
            <p:nvPr/>
          </p:nvSpPr>
          <p:spPr>
            <a:xfrm>
              <a:off x="1877760" y="437832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1" name="Line 35"/>
            <p:cNvSpPr/>
            <p:nvPr/>
          </p:nvSpPr>
          <p:spPr>
            <a:xfrm>
              <a:off x="3706920" y="323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2" name="Line 36"/>
            <p:cNvSpPr/>
            <p:nvPr/>
          </p:nvSpPr>
          <p:spPr>
            <a:xfrm>
              <a:off x="5992920" y="31208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3" name="Line 37"/>
            <p:cNvSpPr/>
            <p:nvPr/>
          </p:nvSpPr>
          <p:spPr>
            <a:xfrm>
              <a:off x="370692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34" name="Line 38"/>
            <p:cNvSpPr/>
            <p:nvPr/>
          </p:nvSpPr>
          <p:spPr>
            <a:xfrm>
              <a:off x="587844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635" name="Rectangle 39"/>
          <p:cNvSpPr/>
          <p:nvPr/>
        </p:nvSpPr>
        <p:spPr>
          <a:xfrm>
            <a:off x="0" y="60246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Narrow"/>
              </a:rPr>
              <a:t>Dimensiones e indicadores:</a:t>
            </a:r>
            <a:endParaRPr b="0" lang="en-US" sz="4200" spc="-1" strike="noStrike">
              <a:solidFill>
                <a:srgbClr val="000000"/>
              </a:solidFill>
              <a:latin typeface="Arial"/>
            </a:endParaRPr>
          </a:p>
        </p:txBody>
      </p:sp>
      <p:sp>
        <p:nvSpPr>
          <p:cNvPr id="63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Una dimensión es un elemento integrante de una variable compleja, que resulta de un análisis o descomposi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Narrow"/>
              </a:rPr>
              <a:t>"Un indicador es un indicio, señal o unidad de medida que permite estudiar o cuantificar una variable o sus dimension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38" name=""/>
          <p:cNvGraphicFramePr/>
          <p:nvPr/>
        </p:nvGraphicFramePr>
        <p:xfrm>
          <a:off x="1509840" y="1824120"/>
          <a:ext cx="7022880" cy="5016240"/>
        </p:xfrm>
        <a:graphic>
          <a:graphicData uri="http://schemas.openxmlformats.org/drawingml/2006/table">
            <a:tbl>
              <a:tblPr/>
              <a:tblGrid>
                <a:gridCol w="1512720"/>
                <a:gridCol w="1938240"/>
                <a:gridCol w="3571920"/>
              </a:tblGrid>
              <a:tr h="5043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imens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derazgo Directiv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Variab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otiv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iderazg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dicador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Dirección del flujo de inform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ormas y vías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pertura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luidez.</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lima organizaciona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Valoración del desempeño docente.</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rabajo en camp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Particip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ogr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Uso de la generación del temor.</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ipos de liderazg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utoridad.</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ontro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etas instituciona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Interés por el personal.</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r>
            </a:tbl>
          </a:graphicData>
        </a:graphic>
      </p:graphicFrame>
      <p:sp>
        <p:nvSpPr>
          <p:cNvPr id="63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Un Ejercicio abierto</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Pasos en la operacionalización</a:t>
            </a:r>
            <a:br>
              <a:rPr sz="3600"/>
            </a:br>
            <a:r>
              <a:rPr b="0" lang="es-ES" sz="3600" spc="-1" strike="noStrike">
                <a:solidFill>
                  <a:srgbClr val="000000"/>
                </a:solidFill>
                <a:latin typeface="Arial"/>
              </a:rPr>
              <a:t>de las variables</a:t>
            </a:r>
            <a:endParaRPr b="0" lang="en-US" sz="3600" spc="-1" strike="noStrike">
              <a:solidFill>
                <a:srgbClr val="000000"/>
              </a:solidFill>
              <a:latin typeface="Arial"/>
            </a:endParaRPr>
          </a:p>
        </p:txBody>
      </p:sp>
      <p:sp>
        <p:nvSpPr>
          <p:cNvPr id="641"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enuncia o define la variable.</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deducen sus dimensiones o aspectos principales.</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buscan indicadores para cada dimensión.</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64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or qué en escuelas con alumnos de alta vulnerabilidad, controlando por un conjunto de variables, los establecimientos municipales tienen un mejor desempeño que sus similares particulares subvencionados sin financiamiento compartido? ¿Qué variables estarían explicando esa diferencia?</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e aplicó una entrevista en profundidad de corte semi estructurado a directores, jefe de la unidad técnica pedagógica, profesor de lenguaje y/o matemática de cada uno de los establecimientos, con el fin de obtener una visión que combinara la mirada de la dirección, la visión técnica y el trabajo en el aula directo con los niños así como la relación con los apoderados y la comunidad.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 Angelica Pavez</cp:lastModifiedBy>
  <dcterms:modified xsi:type="dcterms:W3CDTF">2011-05-13T14:03:24Z</dcterms:modified>
  <cp:revision>73</cp:revision>
  <dc:subject/>
  <dc:title>TALLER INTRODUCTORIO  ESTUDIOS DE CASO</dc:title>
</cp:coreProperties>
</file>