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031E-EFC0-4499-9380-C61BC9D39D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0317-ABB7-44B0-83EC-AA1E0FDBB5A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842C-AFC9-4B9A-8206-2CFA952B155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9841-1EC7-454B-B142-C3AFE12A64D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82D4-F9D6-4423-BE3E-7182EBF7458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6B08-A310-441C-97C8-893C120ABB6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48CD-94D5-4626-B729-8C5E93AC8A4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A7B4-04AE-4E98-BA68-B1685EBFCA4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CED4-A37F-433B-8864-3EB92154BE7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7B83-1D4E-4EDF-810C-6228E99093D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1A58-7BBF-412A-B009-03B1E5E699B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1A6B-9CD8-448E-8726-A1E301ABF50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E618-5D52-4700-836C-707C23CD9C7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3C63-4C4A-4F9D-8B59-0F1BAF7ED7A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70CA-B1F7-4095-A416-FB75A045CE2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225C-189E-47C3-9C9C-3DCD014A599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5C19-C939-4D8E-9E25-F77FEF3EEBC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3841-AF39-40F3-8588-4A2CF15F098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0076-6301-44B3-BCA1-46593CF00E7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5460-1313-4C16-9E9C-9766C80567F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0181-A8F2-4B17-8EAB-AE1794045B0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EA4BA-EA05-42C7-968F-B6BE9BB3C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EA159-45A3-4CD6-B307-98195747E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A46F52-B4B5-441A-84B7-DFE48604F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9450A1-D1E5-49FF-95CC-DAF93449B1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850E16-E093-4707-9766-50E346537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49069B-DAC8-4CC5-ADE4-D2B752512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A1E623-6A3A-4A9B-B4DB-C4DA79C74E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411F7-6227-49F3-A2BB-887E5F1DCC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59AF6-6FCF-4C85-B704-0EE253C58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B2525E-43D3-4693-8C91-27F0799F4F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74F11D-4C65-4457-A80E-410947CDC7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80C385-A855-4327-A35A-16A064A95D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2B2F1-24C0-42CD-A246-2F7A0627E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8BA76F-B5EF-4DA9-A459-642FD61116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A5E793-0BD4-4D4E-9A1C-8A5DFE42E3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5BC821-7758-4088-BE45-93924CF3EC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3D9055-F88C-477A-AC5A-C0E6CEBBBF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C66B71-A3AA-47CD-8A22-E4FD66619C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8909C1-5F0E-4ECC-BAE2-7592B615C7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F50D25-17EA-4DC3-B683-36EF6035C0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0BED84-A63F-40EF-98F3-1A347255C7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456AEA-ECA4-4AFC-9C0E-7469B46FF1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5FB1BE-7EEB-4A79-B955-D9CFA3B77C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0B487-5F94-4929-935F-C6663C51E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0CA9BE-8B34-4A7E-AD1E-ED78E4C573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28D20F-875D-4E37-B753-CB89EBEC21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49CF0D-7580-415E-9517-8B7D02910F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ACEBF2-0729-4822-86B6-41553AD951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C6CA29-BA7D-427A-8447-7FABC9243C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EBA721-9D65-4C18-8450-C5397610DF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6520B8-16CE-4497-B102-7F68D2234A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2EF78A-0C74-4AAD-A3F6-CA8F9AA43C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B1F1FE-E99C-4D24-BF97-90A98D01FD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4F8F76-D75C-472F-9376-F92EC362C5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FD05F-81D5-44F3-86C6-F69869E30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3C2CE4-D3A2-441A-A9A9-29836883CA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F9BF47-FCA6-4470-8209-A040EFC313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68BEE6-A534-492A-AE95-E4E29375D5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C8DD3D-AA6C-45E4-AE3D-6BBDBCAB4B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308DE9-D6C5-4DE0-BFB7-E1080CC30C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AD5527-9ECA-4312-A9D3-85A24F7139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61945D-A62C-4D57-B8D6-3DC738F3A1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BDA2E3-290D-4E70-B406-836B2157DA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F874D6-DDCE-4892-80A8-C2348A3C09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4FDDD3-3CEF-49E9-9027-9BCBEF690A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2D99C-BC2C-4001-83ED-E58F0435C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2B5094-E4A6-4AFA-9A1F-EB8690585B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ED6C88-67CF-438B-83C2-D33479B49B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FE42F1-1602-4FEC-A232-2537E7873A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FD62DE0-F505-4E6F-AA4A-CCA3FF0123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155893-621E-423C-A3A8-3398A50F15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BA3953-661C-4078-865B-ACB18907F6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5215AD-7789-4D3D-815C-650A0FCCBA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928799-4021-4C31-AD8A-1E9F8971E5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84B9A4-D7DF-44CE-B253-F6EFB631A3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210E13-A6C1-44D0-B1F9-C6409BF36C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FCDAD-3FC3-4EB6-BCA3-2B93AD106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C1D8DA-CFF1-4CC6-97DB-7D5EC4A79D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1660F5-E214-4C07-A9A5-DFBDD38A2E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39F8EE-C0C5-4DD5-B671-FC46613B1E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CBC248-BF52-4E72-8FA5-BB14D23A47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039E59-9221-4065-BC9D-E820B2751B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81D0BF-7427-413D-90DE-BD2902788B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581E27-07BC-438C-A4EA-5571D323EAD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86EFD9-B021-47B8-8B41-C0B8366EAB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B1209B-22BA-45C6-B8A1-D9D892D210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24A54C-1506-4A53-8052-91E0FDBC91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1582F-1D29-468A-BAF5-2527DC474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6D4B43-DED0-4D02-A376-150A5F8F0D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5F4144-B286-4524-9114-7F4AA40591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7563D1-1F80-49B3-A3D6-035435F41B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3AB193-F2B7-48D3-BE5E-A728456FD8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FC1085-A28A-4FA1-B0C3-8E33F70318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D21CF7-A38A-4744-B2FC-B3DF96B5C6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34FA29-3875-40F7-BBFB-C6AFB21C6F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E103FC-3AF4-42A4-863E-FEA045F8BC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D67D423-643A-479D-9830-8FCC517E77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B9747-19FB-4B65-90FE-BFFA2EC81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75922-9949-4180-B131-E1632F402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9CA9-5A2E-4F89-81B0-C98F8E42D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460F6-837D-477E-ADB3-CDEFFD3D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9F9FB-0502-4D25-BED6-BA5CB0828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55692-F91C-4159-8C65-C5D64D2E8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98CA4-58A5-4E26-8269-ACC25945C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2EE26-1862-499F-9B31-66D71DCEA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864B4-FF2E-4C35-9DA7-BED6E5CD7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EF343-C4D4-499F-8108-5ADD716D1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F5770-DF7F-4658-884F-6BB495FB6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00185-1A97-40A5-AA05-39413AF1C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ECF28-0463-4B0B-AD1F-1CE4AA47B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E8320-A6FB-46C8-AD49-926172A121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91AE6-A8A6-4E65-9415-3974B49A2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C0B9D-FA23-4ED5-9633-6435E4B38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402AE-BC89-4BC5-8AF7-AEC4C3D04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8304F-E59C-4294-A522-468CA2D14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FF105-321F-41EF-91DB-D506BEA69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9AA8F-E280-473A-95D9-5F137DC77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753C84-FDC7-49B9-B218-785417C0C6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0C666A-E029-41AF-BC05-A3C71BA37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9C880F-D169-40F9-8C95-368643194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13520-9CE3-40A9-AB2A-E0EAE4D0C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18EAF-6583-4B78-B286-9DAAA4AC6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BEAB2-066F-4C7F-BD24-24CCEF683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046304-C1B0-47C3-9BFD-6EA048B3B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A49AD-B1FE-40C6-9D64-6BE87046E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78915-D62C-4A7E-AD26-8275EF1B8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FB715-E709-4EDE-9275-408CAFE0A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5A93E-5C9C-47D7-80B7-A1596E089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455CA-8C0C-49CC-9F0E-764514886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779DC-96D2-4A2B-BE90-85F792676D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D81D41-9F9E-4867-9B7F-B357DCF2E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F62DE-F3AD-47C3-A35C-C489D280DF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6535D6-1770-44C4-9F40-8CEAE4ABF3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D2F2C-4EF1-436B-9CEE-4CC41F62A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BD8B1-74B3-40B5-80AB-C2F61C100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91E83-8A09-43C2-B5D6-299701B5F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6C791-BE7A-4090-95AA-460DADBE4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CBECD-D295-4C50-9B06-6ED213C38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25354E-34B5-401E-A40F-103AC592E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B9EC0-348E-4264-B9D2-6D5F85AC7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8FCAC-1B06-48D1-9508-E78B4EA84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70C9E-1120-42B4-830E-836FEFDF2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AFA3E-422B-4E0B-AB24-DE97B5E0E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1E128A-E02E-4E08-8C6B-4E99F837BB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F5618-0EAF-4705-B57D-95BD81E07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44B73A-6D78-49B6-8821-2606A0517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0068F1-28B4-4590-A47C-8297966B99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45984D-36E6-4789-936C-D72EC5889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5C73A-ABBC-4C6B-8198-42160E114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BE2A60-4677-4FA1-A730-A1A83CC08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5B3456-391F-4671-AFFF-0EAB07295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8AE32A-7C27-4F83-BA6E-D78F9A485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0BD8E-6878-4E4F-B55D-FF1ED095C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46F0C7-E41A-4133-81BB-15DB0527F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7DBD1-E03B-4396-88F4-EF7DBE06C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FB640-0DBC-4850-945F-8ECBBB5A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920D6-CB32-41E6-AB36-DD9102D76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8B2B11-FB26-4C65-BB67-B2EA67A66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D3D502-C718-4AE8-A03F-F476D82EDE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E76342-4E34-41CA-8485-62CC3A6962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DA8A0-829B-46C8-A7DB-64288AB38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8D24E0-4684-4052-896E-14D6FE337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05371-0449-43C3-B08E-800A0BE36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E7734-D33E-43EC-9DD5-672FBF378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6C96D-7C6E-490B-8E55-41C4F170CB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D1B33-F236-46B2-B5BE-2F267B800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BDC0-F6CC-4A99-85C9-B53A569A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0D294-32D9-4654-86F7-13DA5CBAB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8CB62-C2F0-4DDB-A9F9-63877F1B3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7BA30A-42C9-4038-8F7F-930C81FC3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D22436-F748-4872-A6E1-0082B03567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2B21C3-5D23-4EE3-8B28-D8BBB51E57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5AF991-A457-49C6-9F2B-2C6023CCC6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3E01C-54E5-42D3-968C-770E770FF4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06B7E-8F26-4998-952B-CF022F8279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4EEE9-92EA-465C-85EC-9236286C9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FCA06-D3EC-4873-96DC-2726CBD22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DB8D-07CD-41F3-8738-76AB93B9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E6C9BB-5D5B-4707-B2A7-BB7E48A19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18492-6B4D-4478-817F-D9793FF27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B7041-F02B-411B-8BEE-C669D64E5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7AE83-5990-480E-9837-C692CCA32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FE3373-DA2D-49F1-93E8-A16D63C70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6AB974-7466-4613-8BD8-62BB403DC6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38024B-500B-4C7F-8C40-29EFDD93E1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6C8083-DE60-4D16-86BB-666CD18597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B7E19F-0446-4225-A869-B48EF7D328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491D1C-2139-4BE8-991F-846499E531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704B-28AA-48AF-BD25-04096CD49CCE}"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C3FD-4C97-4738-8123-B7ADD3A78CD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5D49-80FB-42FF-97B9-9620E64B1197}"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E538-E086-40A0-806C-8330B122C0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D641-E066-405F-BDED-80DDDDB9E27E}"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E72A-3DFA-4E40-8F93-B984EA23EA3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9D97-52D2-4226-878A-BE6E77588EA2}"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EC23-D8C0-4231-B11A-D6376E1C4AD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2630-C440-4AF9-8125-53F504E406DB}"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3800-40FB-4C90-A62D-363AA085F4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BDB2-1F4C-40EC-936F-9325182951E0}" type="datetime">
              <a:rPr b="0" lang="es-ES" sz="1000" spc="-1" strike="noStrike">
                <a:solidFill>
                  <a:srgbClr val="336666"/>
                </a:solidFill>
                <a:latin typeface="Times New Roman"/>
              </a:rPr>
              <a:t>29/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FDB7-448C-41B7-8B16-E3B3CE72E8F4}"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8A49-7281-4AB5-895F-82C15E12BB5A}"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A711-BA52-4AB3-B323-D038DA2D6F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96A6-6A4F-428A-84D8-BFEBC0E8FC17}"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9B1F-2232-4346-B2D9-2372DD42AD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4B89-204F-421B-86FA-5EBDACD69143}"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6252-1964-4821-B284-4C17D708FA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C5DA-BDE5-4F43-BF5A-66E7FB960705}"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67D7-9C85-4F96-905F-0AF20D682DA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83C3-E455-4EFA-9762-F3B2BFC58113}"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E722-E1CB-4B07-8DDC-6AC7663E4C7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D4F3-A8BB-4D5E-9F3A-31B806ECEA87}"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3344-1D82-4E25-8298-2DF246D976F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CEED-CA3E-4FBE-B576-2202B20CC88F}"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F7C7-663E-4BD2-98B3-5377ACAF624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C67-E39B-4A8E-BE68-9D76F035FF5A}"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6889-F2AA-439B-A921-D5A3A555429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