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5B7D-807B-4AEB-8FBE-2DCDFF4246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734D-A43A-443E-B728-6A6DE95CAF7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7256-4FEA-4D33-8075-16A02208341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F74E-FF0C-4C96-A305-39A0052B113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477B-AC0F-45E1-88E7-5B60FED99FC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B6FB-D971-4376-BBA5-DF64DB02CDE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1AD2-DDB7-4AAE-9DD7-2ACD6F83453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5736-F69F-4C25-8C86-81723B64697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9EC9-AFDF-4041-B856-21FEC6C00C5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3AC9-C8B7-4253-8E77-2254A6C1B7C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BBFE-4311-4FD5-AE40-BE3F4CC2C90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8F1A-37DB-40EB-A0FC-E1CBAC44903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AF8B-FE22-4AA7-8109-EC27A4488A1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15DE-8354-4A09-90BE-169AF28202B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6D40-B8C1-4C96-947A-948779B7CCB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6AEF-F86E-46DA-B71B-7E2E17A04A4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03DE-8053-41A8-AAA7-73F96327122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24E9-0020-4335-9225-2621B65E8C3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042B-099E-4718-BC41-22AAF558246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FD5D-0EFA-4779-9F19-21239EC8CD5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2B35-24A9-4C51-A00A-BE180399C96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2B2DF-CDDA-4336-BA53-29351C86F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3F6D-CE6C-4516-9FE3-373FA88CC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DA0131-4FC2-42A0-9694-281E2BFFED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6838F-E315-4B6E-934E-0218A50068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5FBCAF-825B-4026-A09D-6280747281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F2B2E5-9761-45F8-B8B7-DFAA2AFBC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445F48-96FD-4086-B2FD-2294426259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CEAFA-EAE0-45D7-A961-B52059CE1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E09BDF-52EF-4895-8BA4-5DB105B090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0D05B3-E408-4194-82DD-9B934402B2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A01E37-BDCB-46CA-991D-5200A8473A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764448-C939-4517-B63B-BD061959B4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B7C46-C828-472A-86BF-7EC273191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DA2708-FAB6-4B36-9697-5FE7D80394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F71934-21BE-4B73-86A2-9C4C010F4E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93ABB2-93A3-4AD7-A45D-6DD365B31D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F2B277-B3F7-43C7-8341-49EC48450E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CB803D-C03C-4C4A-A1BD-3239F5CBE5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D537A0-B3FA-4745-A5BE-C40A3DDB43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60221-CEE3-416E-905F-40C75B1BF2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D91880-D040-4365-9093-5B920907BD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46C08E-C632-4F80-9229-9EAC76FE40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10E482-60EA-43E6-95F5-DC18E4E68B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170F0-8073-4A47-8946-501EF2542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71AA28-4629-408A-8062-EF72FD439E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147EF9-CA29-4EB0-BA17-AC101657EF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C78427-C4DC-42BA-B380-24EF429467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07D19C-3478-419A-9EE3-383F996720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52C0A3-2E2C-4501-9CF4-577A4CE5C1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995B45-AA01-4B11-BD56-69F3ED9D44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11EBA-EE2E-4EA1-B5BB-41ECFA301D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06B378-92CC-40B8-9293-14735C98B7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35D621-3F73-42D2-8450-0348B51112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2AB691-512F-4BFA-AE55-2A331201B4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1BC14-759C-45DA-8E3D-819CFC7D5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6744BA-9E47-4C04-A10D-6B9C763918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CEED6C-4CB0-45C2-B936-4DA8075E7E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7D18AE-4098-43F7-8A40-416068DDB6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03C1D8-C108-4BA2-B070-73EA33DC3C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E80E70-F2A3-4FC6-AD70-FF12C57B3A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6C29B2-B19B-47B3-83AA-E55050EF69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F26B73-D69F-4CE0-ACB1-341041E0C7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4DD9E4-9C1E-4D68-B4AE-91F5EB1445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D49087-12BF-4357-98CE-2AC73ABC0C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D0AF0F-F168-4317-8CF7-5FF674622A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EB4D5-288A-449F-95E1-E6254BCAC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6CB8E2-797F-487D-85A7-F1F5CCA766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247DE-30FB-4CB3-9128-E937434AB4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1FB32B-AD8A-4098-8B3F-BC4F7A0910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9F7F99-B9C2-4FF4-932E-7ACA82896AB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6FB521-BA0D-46AD-867C-FA44F52C4F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CDB1DF-8D92-4211-84EF-7A8BBF7E6C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6F384A-C7C7-498E-8636-82B20351A7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9FAE6E-0585-45AC-B303-DF991CA46E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F640E2-4A53-4DC6-AC7F-D5DB793BF2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8EB463-E573-4978-A7D1-69FAAE37B7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276A9-3AB4-43BE-9737-DFFAFEDA1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3B4BF5-1A68-4B20-89EA-02F415B69A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1983C1-DC0E-423D-A3C2-281493B0B6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277D7C-0615-4DD1-B851-892C33AE06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EC346F-05CE-47D6-A30C-6E00FC37F0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DF5F62-CA31-49B9-95C6-9ED3C8A697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A02A5FF-B568-4F9A-A2B7-6229E63982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CF81DE-3E99-4B4F-A5E3-CB24B516D3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C2F5F5-D170-4769-99E7-D082F4A2F73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4C5BD3-2727-4085-B4D4-69B1377D94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F0628D-A38A-4BE5-8949-A9113B39DB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043A3-23E2-445B-8606-A96BB5C58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A9B271-5E27-4853-81E9-DD934175A3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431431-E142-4018-9A5F-C827D74680D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3C72DD-7EC6-4408-9D60-BFCC7C2D43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0E67CC-7268-4D59-A154-3AC6FCAA7D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0827B8-A97A-4621-B4AD-8D06B92E1B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87BD99-19FE-4F8C-B78C-8EC390D90D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4167C7-8CC6-46C8-A6F4-96B22ACCAD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18DDFF5-4062-4609-BC19-5A9BF12A2B3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BA62F5-26F2-4796-B048-8FB3409230F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F4157-C53D-4ABF-9385-E45B6F374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FB2F5-2E96-44D9-A3B4-AC1E11CCF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E3C05-6319-43B2-838F-F3BDE5FC0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1B27-F92A-434B-BAA9-8234A5C8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9341-16C4-42FF-BA6C-15E6D9A08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D4344-DF71-4E45-B3B4-A8B855D0A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71C8A-EE77-4995-84DD-2A7573E88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97B57-05C5-4808-8FAE-1D1FFF738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3D88C-A21A-40B1-8000-02024F3AC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3B0A61-3355-4DE6-BAA8-311F38493E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00CE0-CF10-44E3-93FC-0F3CA2137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CEEC2-A3C4-4879-8D6E-17CE30672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852E8-26BB-470B-BE4A-B9DCE522A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03F48-401E-40E5-B106-427BA0C38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5CFF-CE20-4270-B630-B2E9F7C02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C9608-9542-44EC-B846-9A6F2989A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0F3BA-D20C-4C3C-A9CB-915F52A6C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3932B-B984-45E3-83D4-664180883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B0D3E-2029-4DA7-AC3B-7269CE482E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63359-5975-4228-80E0-B02BD9268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C549A-188B-4F1B-BDA8-B272F03526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D2E6E-924F-4218-BF7F-538BC1AA16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C94CA3-B2DC-4878-AF11-B3BE78D3BB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76364-F0E1-4D8C-9D9B-C69EA6C0D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E43FC-7D4C-4E13-BECB-383B2B157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69942-7227-478B-B6DB-BD23FF2A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90B17-0261-4836-B0FF-0B5440FB1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576D8-3912-4786-A42E-62D655370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3590D-1866-4B11-B7A1-0C2F5DC27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F9FA8-1A4C-4CCC-A18A-74124251A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F88DA-59AC-4D58-B694-4488D9CF2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2A384-AD2D-4A16-88F5-4C662006D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918E6D-600C-495C-A2C4-B116E84F51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CC9509-21F9-48B6-9B9E-B276B4332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557D45-07E4-42B1-9204-6D1878E6E5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AB284-630D-40EF-B531-8C8327D81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E6672-FAAB-4466-8C21-8FAA9D39C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05A0E-F616-45B2-B3BA-0EC0DA3C7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C735C-761C-4586-B648-96F7A07D07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016C78-943F-49EA-85D2-BDA88CBC8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0C849-6A7F-4087-A5AC-E2E32B7E9D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0F87F-386C-4BB1-B51B-9B4CE660B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A4F81-4BC3-453D-970F-81A864710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BF795-4820-4886-9F1C-0CF0BE56F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A7C42-F21D-408C-A7D6-8DFD2CCA3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E65EE-290A-43A6-AED2-DBC5A4639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89DF76-A2C6-41E6-B572-B02FC52ACC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C364-CFFD-412E-A865-582C9995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153CA4-BC7D-404B-8C5C-75E885A434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D6149-802D-4483-BA5F-6ED23E9B3F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272EFA-7760-4E89-8DDE-44D8C957D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8B378-BC29-4531-9705-EE02305F7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1AB571-7460-4CBA-B79E-40A94D4CFD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7F0EA-FD2D-4067-81F3-2536F132B7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21AD5-231D-47A4-84EE-B330FAD581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97CC0-82EF-416E-A4E4-1DE06AA9D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E89B3-C091-4729-90A9-C764CF060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D26F9-87C0-45E3-A432-CB0E8E4CD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31F7-BA6D-4027-8677-35FD8413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0D5D3-31EC-41BC-943F-593EC13D0C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522D2-2EB5-4CA3-BD94-C2FD367DB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7A27D8-6293-4181-9D5C-F5E19AA0E7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0A29C8-E1D9-4B5C-9782-2038012AB8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854BE6-492F-412F-9B41-6FF9A353C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4009C-4EEA-4F75-8E3A-42ECBB33E0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AC3F35-F2D0-4F51-9953-A825470C5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675AF-D09C-459E-9A5A-62ECA7F6E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20C20-B1DA-49DA-99CE-106CA9075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C2FED-306E-4CAD-B39D-04DF230499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37B9-4124-40A1-9889-3335CF0B7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20115-6616-49A7-922E-FE11EE163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3407C-F12C-40BB-BD17-62A3F235E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3CBA92-7385-4429-A99A-596C29051E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078153-84D8-4A76-9E4D-C77F0D72F4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B4CFE9-DC0E-4C92-9DB7-3B858ADCF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640003-3C6C-44B2-93A7-F503EAC2D6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A9D38D-61AF-4A88-84B2-9330BBA627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CD50B-7A89-4930-8B10-39F55BF73E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032274-4AA2-49E4-8751-DBBAA9712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7C1E6-F7CC-4C33-989B-AEB3ED9A29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A200-2F8D-412B-A2CC-9E7E5BBDB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9931BE-FAFB-4165-B630-83E5E2C70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27371E-7A3D-4665-AC02-3964587FD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B2914-D831-42BB-BB64-78AEEE0F3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59283-E1DC-4936-8BD9-3F173FAFF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24EC4-E6DE-49ED-91E7-B115045E0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FC4E77-C86E-4A5D-8F6D-CE52BD52A3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436FA8-8D98-49B7-859C-249D18E017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8CD91A-E591-453B-B41C-E783E53F7E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CD904B-94A4-49B9-98F4-9AD4B944E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CFF8A8-83E0-418E-96C9-7661019853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4333-6E0D-4BEA-94F5-1345BE1EC91C}"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8DCB-7EB0-4741-AFBE-61A383BB426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AEF6-555C-45B0-A2BA-9861E2A46C60}"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F80B-03A8-4E0E-BCC3-254D24C94B5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3D7C-CDFE-46B4-8A70-3DD7E1F8A64A}"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9901-6C0F-49F6-82A8-9E4F63A1BE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C86F-F2FF-4B97-8E47-0D775C3BA300}"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50D6-E911-409A-9A2F-09973CD840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654B-F680-4C8E-A2D3-EF6E5D9D6988}"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1982-211E-41E7-B83B-D8A3783179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2818-B86C-4047-9F1B-DFEE0A82EB9A}" type="datetime">
              <a:rPr b="0" lang="es-ES" sz="1000" spc="-1" strike="noStrike">
                <a:solidFill>
                  <a:srgbClr val="336666"/>
                </a:solidFill>
                <a:latin typeface="Times New Roman"/>
              </a:rPr>
              <a:t>29/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352E-D94C-46B2-A538-FA0B589925AD}"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E8AE-CEEC-485C-8583-52749CDF6308}"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98A6-1CB1-4CF8-8DCC-9995082B717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4AB6-19AB-481A-9F0B-F8B24816DDC7}"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C9B6-D031-40A9-82ED-7576C1BC06D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E129-19CA-4B4D-AD79-02B578583C25}"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601F-0552-4210-AE57-91981840BB8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9F90-4DF1-443A-A6CC-0728914CC4CB}"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06D6-5726-40CC-B9FE-B009FD56FA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22C7-6343-4658-AC56-44ABD4A43B3C}"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2590-371E-48CD-B258-1E5D3979401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6259-8DE2-4571-98BE-14280A6CBA56}"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AA1C-88EA-4173-9AF1-C2020BEEBD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4652-DDBF-4F19-B069-8643700EAEE6}"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D45C-63AC-45A5-A98D-F9C9561ED4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00F9-BD76-4156-8F87-BDB53EC54DEB}" type="datetime">
              <a:rPr b="0" lang="es-ES"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EF25-79C1-4510-B1B2-EE8A4115DD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