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C521-4F6B-4AF0-9906-33DA5DF220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D2B1-E060-4792-A0BE-83DBE0E41E7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BC274-16AB-4478-BDD4-93E2A990B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8A20E-00BA-4272-8812-72AFCDCC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795533-E8AF-4412-B2C2-3ED339EA68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682F5B-5EBC-43A2-A462-900B2416C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CC124B-B0ED-40D8-85CE-6F40E19BC4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75FDB-2A3E-4B56-B5DE-A3210D795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6FC559-E110-471B-80D4-BD857E731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F6521-F4B7-48F4-BAF0-92A4072BA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0784DE-FAB6-4CB8-AE63-DC1DFDB71E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10B061-1905-491F-833A-029F5DA565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7C0021-3487-4DB3-BF93-2A1194CCAD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A8D788-094C-460B-858E-5F87B5123D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72F3B-AF35-4AC7-BE79-659992CC4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5FE5A7-2A18-4AA1-976A-5B07DC63D1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C7C0B0-E6D5-4850-8520-AC1F22A8F9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4D0C87-FBFC-4C75-81CC-DF7FD81CD4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134A4A-1590-4FA1-AC55-0C85DA598B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A96C3F-1D69-4EB9-9F82-EBC5B020D4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2231F6-1E1B-47F6-9A59-8B2D6A4868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2F0C5C-E1B0-4E14-8561-50EE28A7FB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FCCB57-E959-49F3-B5CA-C8C33A0764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A1B1DC-F381-4243-BA45-6195B7D9D3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E1AB73-8C76-40B5-AE55-75F79C48E2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6C03A-C31A-4198-B11C-505D9BB71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C618DE-4574-4887-8FAA-293D3A9C71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11C5E0-58F0-4AA5-A05F-DFBFACD287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69DEEB-1FA4-4410-88D5-12457ED9D9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D00955-22FC-4E9D-9277-16AA5E775B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EEBC4B-ECB6-4359-B004-5E5A0FDA16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97FF3F-E528-43A1-A058-704B381FEF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AC11D6-0F73-4911-96E6-E9E842FBD9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E6D18F-2C65-4D40-98F7-DADC012DB4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3BE756-DA78-4373-BE9E-6A8629E448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3AE3AF-7375-4C92-9872-D5FD8CA5D7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329E5-FF0E-4C52-9FB3-BFCA6841B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1AF92E-E4EE-4712-8CCA-736C687987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F0A430-083A-4F44-85CA-390ECF5A66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888413-980C-49BD-BB34-1586ED961F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20000C-CADE-4132-BEDE-45B0037ACA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E831B6-2BA7-44E0-90AA-767F1E780A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E28B99-EB71-44C7-B0DA-0A5570B7B3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BC435F-BAC5-496F-8797-004332F6B5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C6711E-2D07-45F7-A667-C8929A048D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68E8CE-5CBD-464A-91E7-335D571925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ABD631-B3C3-4427-98B0-DA95DC894A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5A696-A218-4E37-9119-7464D93F1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D25502-033B-4292-A376-5D1FF818F5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8AA3B8-1722-4A0C-8472-5A49DEB25A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FFCFE1-512B-4D2D-A5F1-0B4D207A1C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BCF1D2-71AF-4A72-BA63-8771AF7023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0BC20E-3E35-4913-BC26-6E17FC69C7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190F1A-65BD-4614-96DD-7AF94A688C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B9C6D3-17A9-4F7E-B7FB-B70353D831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D8DD20-7E29-4222-874A-9B07CE34E3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092104-A849-4D43-8701-38E03E9366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61D0BA-3E3A-4BDD-BAC1-3B36119D1B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FA516-39B3-41B1-A553-05D5E461E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70CB29-BB93-4DBF-9E76-EF83B947B1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9C527F-DECD-4B10-A4A7-DEDA39BCD6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090AEF-E11A-4FCB-9870-C3B9A7DF83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28958A-D6DD-42C7-A0A6-91E8402E06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9A331B-9FFB-4513-B7E0-2C244BEFE1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9F17D0-70E3-416D-A7FB-0C426B6410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C84E04-359A-4D03-A971-7B7D74EC8DB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0B1A4-173D-4EC6-A59A-462C33696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5A49A-084C-4E4E-A406-07256B8C4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ED823-EEE3-4FF1-86DB-9DCF8AFFE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A9892-AEAF-40C0-B28D-72D46056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EA4FF-E61B-4769-87D4-96C5E761B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063A0-FC35-4EFC-B639-81D3F7955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49FD6-3C0F-4264-B002-F18DD62AB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0C777-F11F-4F71-BCE2-6FA670933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FCB13-2E6B-4E33-A0D6-080355154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D5AAB-8043-4855-8FEE-61D9BBF1C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77E257-AF96-4288-B469-02F6EA7047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F3A431-945E-4735-9367-B51ED798B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C24A0-A100-4934-B7C3-908316A19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E1059-A7C9-48B8-833A-082DB7778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50672-2E6E-46CA-AA0A-594D2E1BD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323D-AD40-40C9-BEFD-1CC5BE77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A3618-D003-462C-83EC-F1FF81685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5CE3D-A904-4420-A59B-9D1E6D7CD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67F26-2DFD-443A-9C41-C0E78C207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5416E-4DE2-4AD3-AD0C-9AB0DB650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CDDC00-90FF-47F8-9DEC-5826B2E4D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A77BF2-560A-4F71-A4A6-2A7761CA5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842DA0-D40A-44F6-8B55-45ACC272FE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6E77B1-B651-40BC-AED3-F9BB89E90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CE366-14D6-4D83-AD75-2AE079BE4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F2F5C-6A99-4C5C-BE08-D6ABC354A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CF4A-1366-40C5-95EF-6C56E1DFD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E2089-1302-43BB-B5EE-18314C851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D2F99-7FE9-40C5-A0EA-A394D0EE5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3F266-E45F-4EFB-A18F-08377D6BA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94487-B89F-4707-8254-C4DED59FF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F7578-6C93-45A8-838B-504E47F89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89A7F-699E-44B2-86B8-21E17EF59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DACFC-B0F5-4754-89CB-7F68B51E7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E8D66E-96A9-4AE6-9112-C7E7F0180E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BEE875-375F-4754-A7D6-C4A2CBF5F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F958A1-B3D1-4EB6-B557-6F8465023C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267B4-8C10-4E2A-9A8A-541CE66B6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103B1-58E5-455A-8464-766AA94938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80BB4-C5DD-49B6-8AE3-640901CE1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7B732-7631-4ACE-B12F-C984873EBF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95A81C-9D9E-4121-8FFE-A89B874B7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ED31B6-5FF0-442E-BC06-3B22AA4528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8FE80-97DC-4BA4-A5A1-CD917783D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916C6-7280-47D3-AFFD-F472F43FA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174DE-3B5A-49C7-ACFA-918A4BB70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649FF-9D45-47DE-AE0B-89E3BE55F3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B4CFAA-A7C9-4BF6-AB63-565E4E1BDD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3D24C-642F-496C-9B0D-E8536BC06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82B42C-411C-4633-9022-624855DCA8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7B5325-3675-4D3E-A329-04607AB779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D61824-08DC-40E2-AE44-25B8BA026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7FE93-A16F-44AD-A083-32BD22CEAF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7526EE-2B64-4084-81E3-E1633863E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03C2AC-79F3-46BD-A304-72B6949FF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5AA1B-0FE2-4BB1-84AD-F4DFF5B81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53216-4859-4A29-8D1F-3DFB030F6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9FA04F-B0FE-40B1-8B7B-31190EAB2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7257C-7F0D-4858-8EBD-3ABFAD90D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5DF5-F458-4AA3-87EF-1608008F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D98388-CEC3-4F14-AE41-76E4BB9AA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723BBA-9ECF-4E65-9D56-F926D296FF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5554EF-3B73-4EFD-8C56-825238278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571403-1511-422A-9003-60E681C128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6CD89-11EA-4D04-ADDB-D9B75E8A9B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5AEA0-FE2D-43ED-8A68-FE1EF633C3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AB0E7E-EB9C-4C91-870D-FACC2FD35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0FEA69-A467-415E-B9DF-F9532B831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90871F-C535-4F67-9F89-BE450C927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F92B1-4453-4EDB-9EC9-37EA173CE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95DE-B326-4FEB-AF50-55889422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F36FD-DCF6-45AD-99A1-03EEC12C9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2BD83-8B44-4A74-90B3-1ACFA7EC2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45FF0-3EF3-424C-A087-81915BFC8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6F50C5-2C4B-473A-9E26-EFA87E5BC7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2ACCDA-8B5C-4D2D-AEBB-C7F167F03C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D1BEB9-133C-47EF-8818-F82970ECA1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233D03-6B6C-408C-B356-9586BFC439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2B53A7-2A5F-4C0D-9F26-BC039C1ED1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C7EDC8-4399-4B04-A528-7F8B98F7DB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C14EAF-A130-4688-A815-43DBC5DB4C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649B-6121-46E6-A17A-701AA41F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DDEAA0-A2A6-474D-8513-875B7C0EC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B9ACE-7F99-4196-BEA5-B1B839B22E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5FA2C-4A22-407B-99EA-AF3D6B135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FEC8A-523E-4527-9EC5-003C91B3D5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41420-2B2F-4E76-BA4E-72F2A380D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817BEA-1708-4237-BEBD-01B8824A06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4E2045-B234-4FE7-8585-E9F282C29E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B965C8-940D-4EBA-A7F8-768FC2D19B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3A85C7-A05B-4052-86E0-63FD175A4E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8AF76-399B-479E-822A-72CA144466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2950-D627-432C-B942-7DE30DF0BE1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50C1-4E1C-47DB-A67F-1B112A092D0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54F2-63E8-4DF3-A535-A44C66C0123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E2EB-A4F2-45EC-A6FD-7E432CD08E8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FA3F-58D9-40BC-BD80-55FBEF221F4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08FC-CA53-4BC2-B256-8E60416431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10AF-7D60-4281-B429-371718CB836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B4F3-AEB6-41B0-88B8-3AA05CCC3B8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6F32-5579-4B77-9A1E-463AAC825A17}"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72CF-1E87-45A5-95C5-85CB932D2EE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4A8C-EDB9-43F9-92FB-6397199C116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14A4-2751-49DA-9A91-B1D6B52DA4B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ECCD-4AF9-40A2-A783-B446CF07A97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388B-0D86-4984-9544-52585577438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AAE9-F85C-4A2D-98F8-B7AF06FE926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C48A-DA81-43D6-AB2A-1516DE92CA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B1CD-3391-44C8-A741-7D92469B0DC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8842-2262-476D-8555-44E02E2C022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409F-6BD4-4717-82B5-7EB175C2EF2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C84A-D321-4863-B2AA-8A3FA532053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1583-E595-44D6-811F-1F331CE5088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82A4-BD40-43AB-AD1B-565B3899652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F991-08F1-4F12-9403-5DCA986121D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6079-AA2E-429C-AB5D-B9042BAC9C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B25F-F7C6-487C-8179-971DFA17953F}"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8A67-E5F4-4930-934A-002099DACA1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0000"/>
                </a:solidFill>
                <a:latin typeface="Arial"/>
              </a:rPr>
              <a:t>TALLER DE </a:t>
            </a:r>
            <a:br>
              <a:rPr sz="4800"/>
            </a:br>
            <a:r>
              <a:rPr b="0" lang="es-CL" sz="4800" spc="-1" strike="noStrike">
                <a:solidFill>
                  <a:srgbClr val="ff0000"/>
                </a:solidFill>
                <a:latin typeface="Arial"/>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7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por fijar fecha exact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SEPTIEMBRE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7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77"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p:txBody>
      </p:sp>
      <p:sp>
        <p:nvSpPr>
          <p:cNvPr id="578" name="AutoShape 4"/>
          <p:cNvSpPr/>
          <p:nvPr/>
        </p:nvSpPr>
        <p:spPr>
          <a:xfrm>
            <a:off x="571680" y="714240"/>
            <a:ext cx="576000" cy="505080"/>
          </a:xfrm>
          <a:prstGeom prst="rightArrow">
            <a:avLst>
              <a:gd name="adj1" fmla="val 50000"/>
              <a:gd name="adj2" fmla="val 2851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2"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4" name="Text Box 7"/>
          <p:cNvSpPr/>
          <p:nvPr/>
        </p:nvSpPr>
        <p:spPr>
          <a:xfrm>
            <a:off x="29210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lograrlo?</a:t>
            </a:r>
            <a:endParaRPr b="0" lang="en-US" sz="4200" spc="-1" strike="noStrike">
              <a:solidFill>
                <a:srgbClr val="000000"/>
              </a:solidFill>
              <a:latin typeface="Arial"/>
            </a:endParaRPr>
          </a:p>
        </p:txBody>
      </p:sp>
      <p:sp>
        <p:nvSpPr>
          <p:cNvPr id="586" name=""/>
          <p:cNvSpPr txBox="1"/>
          <p:nvPr/>
        </p:nvSpPr>
        <p:spPr>
          <a:xfrm>
            <a:off x="468000" y="1428840"/>
            <a:ext cx="8351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rsar con los profesores de comisión para ajuste del tema, revisión de los objetivos y bibliografía a trabajar para este primer inform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ugiere presentarle a los profesores de comisión un esquema para el primer informe (índice temático, esquema analítico, árbol, etc.) para recibir retroalimenta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un cronograma de trabaj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ategia de presentación del primer informe (generar introducción, por ejempl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meter los algunos errores conocidos (imagen “frankestiana”, falta de preparación, et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8"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0" name="Text Box 7"/>
          <p:cNvSpPr/>
          <p:nvPr/>
        </p:nvSpPr>
        <p:spPr>
          <a:xfrm>
            <a:off x="292896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592"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ólo por Internet, esa es una de las entradas, es necesario revisar otras fuent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85840" y="190440"/>
            <a:ext cx="885816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lgunas preguntas orientadoras</a:t>
            </a:r>
            <a:endParaRPr b="0" lang="en-US" sz="4200" spc="-1" strike="noStrike">
              <a:solidFill>
                <a:srgbClr val="000000"/>
              </a:solidFill>
              <a:latin typeface="Arial"/>
            </a:endParaRPr>
          </a:p>
        </p:txBody>
      </p:sp>
      <p:sp>
        <p:nvSpPr>
          <p:cNvPr id="594" name=""/>
          <p:cNvSpPr txBox="1"/>
          <p:nvPr/>
        </p:nvSpPr>
        <p:spPr>
          <a:xfrm>
            <a:off x="213840" y="1905120"/>
            <a:ext cx="8929800" cy="4114800"/>
          </a:xfrm>
          <a:prstGeom prst="rect">
            <a:avLst/>
          </a:prstGeom>
          <a:noFill/>
          <a:ln w="0">
            <a:noFill/>
          </a:ln>
        </p:spPr>
        <p:txBody>
          <a:bodyPr anchor="t">
            <a:normAutofit fontScale="99000"/>
          </a:bodyPr>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mprende el foco y relevancia d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objetivo que se ha planteado ayuda a responder a las interrogantes del estudi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clara?</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factible de realizar en los tiempos que tenemos?</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é se va a obtener con 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ugerencia de estructura de estudio de caso</a:t>
            </a:r>
            <a:endParaRPr b="0" lang="en-US" sz="4200" spc="-1" strike="noStrike">
              <a:solidFill>
                <a:srgbClr val="000000"/>
              </a:solidFill>
              <a:latin typeface="Arial"/>
            </a:endParaRPr>
          </a:p>
        </p:txBody>
      </p:sp>
      <p:sp>
        <p:nvSpPr>
          <p:cNvPr id="596" name=""/>
          <p:cNvSpPr txBox="1"/>
          <p:nvPr/>
        </p:nvSpPr>
        <p:spPr>
          <a:xfrm>
            <a:off x="250920" y="1699920"/>
            <a:ext cx="8283600" cy="482436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ción</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tecedentes generale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ustificación de la 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ivo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teamiento metodológico general</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ructura del documento</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itulo 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rco conceptual o antecedentes relevante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álisis del caso</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videncia (entrevistas, análisis de datos, modelo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lusiones y recomendaciones de polític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bliografí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exos</a:t>
            </a:r>
            <a:endParaRPr b="0" lang="en-US" sz="16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Objetivo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394920" y="1905120"/>
            <a:ext cx="8497800" cy="4114800"/>
          </a:xfrm>
          <a:prstGeom prst="rect">
            <a:avLst/>
          </a:prstGeom>
          <a:noFill/>
          <a:ln w="0">
            <a:noFill/>
          </a:ln>
        </p:spPr>
        <p:txBody>
          <a:bodyPr anchor="t">
            <a:normAutofit/>
          </a:bodyPr>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Plantear algunas orientaciones para la definición /ajuste de la metodología</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Analizar los criterios de configuración de comisiones de estudios de cas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Determinar cuál será el foco del primer informe de avance a entregar en el mes de juni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Intercambiar visiones y aproximaciones entre compañeros</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Text Box 2"/>
          <p:cNvSpPr/>
          <p:nvPr/>
        </p:nvSpPr>
        <p:spPr>
          <a:xfrm>
            <a:off x="755640" y="1700280"/>
            <a:ext cx="7765920" cy="43776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y el </a:t>
            </a:r>
            <a:r>
              <a:rPr b="0" lang="es-ES_tradnl" sz="2800" spc="-1" strike="noStrike">
                <a:solidFill>
                  <a:srgbClr val="ff0000"/>
                </a:solidFill>
                <a:latin typeface="Arial Narrow"/>
              </a:rPr>
              <a:t>enfoque</a:t>
            </a:r>
            <a:r>
              <a:rPr b="0" lang="es-ES_tradnl" sz="2800" spc="-1" strike="noStrike">
                <a:solidFill>
                  <a:srgbClr val="336666"/>
                </a:solidFill>
                <a:latin typeface="Arial Narrow"/>
              </a:rPr>
              <a:t> a partir del cual se desarrollará,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553"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4" name="Text Box 4"/>
          <p:cNvSpPr/>
          <p:nvPr/>
        </p:nvSpPr>
        <p:spPr>
          <a:xfrm>
            <a:off x="684360" y="404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53"/>
                                        </p:tgtEl>
                                        <p:attrNameLst>
                                          <p:attrName>style.visibility</p:attrName>
                                        </p:attrNameLst>
                                      </p:cBhvr>
                                      <p:to>
                                        <p:strVal val="visible"/>
                                      </p:to>
                                    </p:set>
                                    <p:anim calcmode="lin" valueType="num">
                                      <p:cBhvr additive="base">
                                        <p:cTn id="11" dur="500" fill="hold"/>
                                        <p:tgtEl>
                                          <p:spTgt spid="553"/>
                                        </p:tgtEl>
                                        <p:attrNameLst>
                                          <p:attrName>ppt_x</p:attrName>
                                        </p:attrNameLst>
                                      </p:cBhvr>
                                      <p:tavLst>
                                        <p:tav tm="0">
                                          <p:val>
                                            <p:strVal val="0-#ppt_w/2"/>
                                          </p:val>
                                        </p:tav>
                                        <p:tav tm="100000">
                                          <p:val>
                                            <p:strVal val="#ppt_x"/>
                                          </p:val>
                                        </p:tav>
                                      </p:tavLst>
                                    </p:anim>
                                    <p:anim calcmode="lin" valueType="num">
                                      <p:cBhvr additive="base">
                                        <p:cTn id="12"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52"/>
                                        </p:tgtEl>
                                        <p:attrNameLst>
                                          <p:attrName>style.visibility</p:attrName>
                                        </p:attrNameLst>
                                      </p:cBhvr>
                                      <p:to>
                                        <p:strVal val="visible"/>
                                      </p:to>
                                    </p:set>
                                    <p:anim calcmode="lin" valueType="num">
                                      <p:cBhvr additive="base">
                                        <p:cTn id="17" dur="500" fill="hold"/>
                                        <p:tgtEl>
                                          <p:spTgt spid="552"/>
                                        </p:tgtEl>
                                        <p:attrNameLst>
                                          <p:attrName>ppt_x</p:attrName>
                                        </p:attrNameLst>
                                      </p:cBhvr>
                                      <p:tavLst>
                                        <p:tav tm="0">
                                          <p:val>
                                            <p:strVal val="1+#ppt_w/2"/>
                                          </p:val>
                                        </p:tav>
                                        <p:tav tm="100000">
                                          <p:val>
                                            <p:strVal val="#ppt_x"/>
                                          </p:val>
                                        </p:tav>
                                      </p:tavLst>
                                    </p:anim>
                                    <p:anim calcmode="lin" valueType="num">
                                      <p:cBhvr additive="base">
                                        <p:cTn id="1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Text Box 2"/>
          <p:cNvSpPr/>
          <p:nvPr/>
        </p:nvSpPr>
        <p:spPr>
          <a:xfrm>
            <a:off x="755640" y="1268280"/>
            <a:ext cx="7765920" cy="15958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Se trata de los pasos a seguir en una investigación para llegar al logro de los objetivos.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La manera que se va a abordar y en qué secuencia</a:t>
            </a:r>
            <a:endParaRPr b="0" lang="en-US" sz="2800" spc="-1" strike="noStrike">
              <a:solidFill>
                <a:srgbClr val="336666"/>
              </a:solidFill>
              <a:latin typeface="Arial"/>
            </a:endParaRPr>
          </a:p>
        </p:txBody>
      </p:sp>
      <p:sp>
        <p:nvSpPr>
          <p:cNvPr id="556" name="Line 3"/>
          <p:cNvSpPr/>
          <p:nvPr/>
        </p:nvSpPr>
        <p:spPr>
          <a:xfrm>
            <a:off x="826920" y="666900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7" name="Text Box 4"/>
          <p:cNvSpPr/>
          <p:nvPr/>
        </p:nvSpPr>
        <p:spPr>
          <a:xfrm>
            <a:off x="684360" y="333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58" name="Text Box 5"/>
          <p:cNvSpPr/>
          <p:nvPr/>
        </p:nvSpPr>
        <p:spPr>
          <a:xfrm>
            <a:off x="755640" y="3013200"/>
            <a:ext cx="7765920" cy="30502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Implica tomar decisiones respecto del </a:t>
            </a:r>
            <a:r>
              <a:rPr b="0" lang="es-ES_tradnl" sz="2400" spc="-1" strike="noStrike">
                <a:solidFill>
                  <a:srgbClr val="ff0000"/>
                </a:solidFill>
                <a:latin typeface="Arial Narrow"/>
              </a:rPr>
              <a:t>“cómo”</a:t>
            </a:r>
            <a:r>
              <a:rPr b="0" lang="es-ES_tradnl" sz="2400" spc="-1" strike="noStrike">
                <a:solidFill>
                  <a:srgbClr val="336666"/>
                </a:solidFill>
                <a:latin typeface="Arial Narrow"/>
              </a:rPr>
              <a:t> se trabajará en la investigación</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fuentes de información voy a utilizar?</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instrumentos voy a utilizar para recogerla o procesarl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n qué secuenci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cómo voy a analizar la inform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56"/>
                                        </p:tgtEl>
                                        <p:attrNameLst>
                                          <p:attrName>style.visibility</p:attrName>
                                        </p:attrNameLst>
                                      </p:cBhvr>
                                      <p:to>
                                        <p:strVal val="visible"/>
                                      </p:to>
                                    </p:set>
                                    <p:anim calcmode="lin" valueType="num">
                                      <p:cBhvr additive="base">
                                        <p:cTn id="29" dur="500" fill="hold"/>
                                        <p:tgtEl>
                                          <p:spTgt spid="556"/>
                                        </p:tgtEl>
                                        <p:attrNameLst>
                                          <p:attrName>ppt_x</p:attrName>
                                        </p:attrNameLst>
                                      </p:cBhvr>
                                      <p:tavLst>
                                        <p:tav tm="0">
                                          <p:val>
                                            <p:strVal val="0-#ppt_w/2"/>
                                          </p:val>
                                        </p:tav>
                                        <p:tav tm="100000">
                                          <p:val>
                                            <p:strVal val="#ppt_x"/>
                                          </p:val>
                                        </p:tav>
                                      </p:tavLst>
                                    </p:anim>
                                    <p:anim calcmode="lin" valueType="num">
                                      <p:cBhvr additive="base">
                                        <p:cTn id="30"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5"/>
                                        </p:tgtEl>
                                        <p:attrNameLst>
                                          <p:attrName>style.visibility</p:attrName>
                                        </p:attrNameLst>
                                      </p:cBhvr>
                                      <p:to>
                                        <p:strVal val="visible"/>
                                      </p:to>
                                    </p:set>
                                    <p:anim calcmode="lin" valueType="num">
                                      <p:cBhvr additive="base">
                                        <p:cTn id="35" dur="500" fill="hold"/>
                                        <p:tgtEl>
                                          <p:spTgt spid="555"/>
                                        </p:tgtEl>
                                        <p:attrNameLst>
                                          <p:attrName>ppt_x</p:attrName>
                                        </p:attrNameLst>
                                      </p:cBhvr>
                                      <p:tavLst>
                                        <p:tav tm="0">
                                          <p:val>
                                            <p:strVal val="1+#ppt_w/2"/>
                                          </p:val>
                                        </p:tav>
                                        <p:tav tm="100000">
                                          <p:val>
                                            <p:strVal val="#ppt_x"/>
                                          </p:val>
                                        </p:tav>
                                      </p:tavLst>
                                    </p:anim>
                                    <p:anim calcmode="lin" valueType="num">
                                      <p:cBhvr additive="base">
                                        <p:cTn id="3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8"/>
                                        </p:tgtEl>
                                        <p:attrNameLst>
                                          <p:attrName>style.visibility</p:attrName>
                                        </p:attrNameLst>
                                      </p:cBhvr>
                                      <p:to>
                                        <p:strVal val="visible"/>
                                      </p:to>
                                    </p:set>
                                    <p:anim calcmode="lin" valueType="num">
                                      <p:cBhvr additive="base">
                                        <p:cTn id="41" dur="500" fill="hold"/>
                                        <p:tgtEl>
                                          <p:spTgt spid="558"/>
                                        </p:tgtEl>
                                        <p:attrNameLst>
                                          <p:attrName>ppt_x</p:attrName>
                                        </p:attrNameLst>
                                      </p:cBhvr>
                                      <p:tavLst>
                                        <p:tav tm="0">
                                          <p:val>
                                            <p:strVal val="1+#ppt_w/2"/>
                                          </p:val>
                                        </p:tav>
                                        <p:tav tm="100000">
                                          <p:val>
                                            <p:strVal val="#ppt_x"/>
                                          </p:val>
                                        </p:tav>
                                      </p:tavLst>
                                    </p:anim>
                                    <p:anim calcmode="lin" valueType="num">
                                      <p:cBhvr additive="base">
                                        <p:cTn id="42" dur="500" fill="hold"/>
                                        <p:tgtEl>
                                          <p:spTgt spid="5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Text Box 2"/>
          <p:cNvSpPr/>
          <p:nvPr/>
        </p:nvSpPr>
        <p:spPr>
          <a:xfrm>
            <a:off x="609480" y="1484280"/>
            <a:ext cx="7925040" cy="43380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a:t>
            </a:r>
            <a:r>
              <a:rPr b="0" lang="es-ES_tradnl" sz="2400" spc="-1" strike="noStrike">
                <a:solidFill>
                  <a:srgbClr val="ff0000"/>
                </a:solidFill>
                <a:latin typeface="Arial Narrow"/>
              </a:rPr>
              <a:t>instrumentos</a:t>
            </a:r>
            <a:r>
              <a:rPr b="0" lang="es-ES_tradnl" sz="2400" spc="-1" strike="noStrike">
                <a:solidFill>
                  <a:srgbClr val="336666"/>
                </a:solidFill>
                <a:latin typeface="Arial Narrow"/>
              </a:rPr>
              <a:t> o técnicas de recolección disponibles o construir uno. </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Definir la forma y el modo </a:t>
            </a:r>
            <a:r>
              <a:rPr b="0" lang="es-ES_tradnl" sz="2400" spc="-1" strike="noStrike">
                <a:solidFill>
                  <a:srgbClr val="ff0000"/>
                </a:solidFill>
                <a:latin typeface="Arial Narrow"/>
              </a:rPr>
              <a:t>cómo se va aplicar</a:t>
            </a:r>
            <a:r>
              <a:rPr b="0" lang="es-ES_tradnl" sz="2400" spc="-1" strike="noStrike">
                <a:solidFill>
                  <a:srgbClr val="336666"/>
                </a:solidFill>
                <a:latin typeface="Arial Narrow"/>
              </a:rPr>
              <a:t> los instrumentos o técnic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a:t>
            </a:r>
            <a:r>
              <a:rPr b="0" lang="es-ES_tradnl" sz="2400" spc="-1" strike="noStrike">
                <a:solidFill>
                  <a:srgbClr val="ff0000"/>
                </a:solidFill>
                <a:latin typeface="Arial Narrow"/>
              </a:rPr>
              <a:t>plan de análisis</a:t>
            </a:r>
            <a:r>
              <a:rPr b="0" lang="es-ES_tradnl" sz="2400" spc="-1" strike="noStrike">
                <a:solidFill>
                  <a:srgbClr val="336666"/>
                </a:solidFill>
                <a:latin typeface="Arial Narrow"/>
              </a:rPr>
              <a:t> para las mediciones o informaciones recopilad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60" name="Text Box 3"/>
          <p:cNvSpPr/>
          <p:nvPr/>
        </p:nvSpPr>
        <p:spPr>
          <a:xfrm>
            <a:off x="539640" y="476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61" name="Line 4"/>
          <p:cNvSpPr/>
          <p:nvPr/>
        </p:nvSpPr>
        <p:spPr>
          <a:xfrm>
            <a:off x="-108000" y="6381720"/>
            <a:ext cx="92520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9"/>
                                        </p:tgtEl>
                                        <p:attrNameLst>
                                          <p:attrName>style.visibility</p:attrName>
                                        </p:attrNameLst>
                                      </p:cBhvr>
                                      <p:to>
                                        <p:strVal val="visible"/>
                                      </p:to>
                                    </p:set>
                                    <p:anim calcmode="lin" valueType="num">
                                      <p:cBhvr additive="base">
                                        <p:cTn id="49" dur="500" fill="hold"/>
                                        <p:tgtEl>
                                          <p:spTgt spid="559"/>
                                        </p:tgtEl>
                                        <p:attrNameLst>
                                          <p:attrName>ppt_x</p:attrName>
                                        </p:attrNameLst>
                                      </p:cBhvr>
                                      <p:tavLst>
                                        <p:tav tm="0">
                                          <p:val>
                                            <p:strVal val="1+#ppt_w/2"/>
                                          </p:val>
                                        </p:tav>
                                        <p:tav tm="100000">
                                          <p:val>
                                            <p:strVal val="#ppt_x"/>
                                          </p:val>
                                        </p:tav>
                                      </p:tavLst>
                                    </p:anim>
                                    <p:anim calcmode="lin" valueType="num">
                                      <p:cBhvr additive="base">
                                        <p:cTn id="5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1"/>
                                        </p:tgtEl>
                                        <p:attrNameLst>
                                          <p:attrName>style.visibility</p:attrName>
                                        </p:attrNameLst>
                                      </p:cBhvr>
                                      <p:to>
                                        <p:strVal val="visible"/>
                                      </p:to>
                                    </p:set>
                                    <p:anim calcmode="lin" valueType="num">
                                      <p:cBhvr additive="base">
                                        <p:cTn id="59" dur="500" fill="hold"/>
                                        <p:tgtEl>
                                          <p:spTgt spid="561"/>
                                        </p:tgtEl>
                                        <p:attrNameLst>
                                          <p:attrName>ppt_x</p:attrName>
                                        </p:attrNameLst>
                                      </p:cBhvr>
                                      <p:tavLst>
                                        <p:tav tm="0">
                                          <p:val>
                                            <p:strVal val="0-#ppt_w/2"/>
                                          </p:val>
                                        </p:tav>
                                        <p:tav tm="100000">
                                          <p:val>
                                            <p:strVal val="#ppt_x"/>
                                          </p:val>
                                        </p:tav>
                                      </p:tavLst>
                                    </p:anim>
                                    <p:anim calcmode="lin" valueType="num">
                                      <p:cBhvr additive="base">
                                        <p:cTn id="60"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Temas de estudio de caso y Profesores de comisión</a:t>
            </a:r>
            <a:endParaRPr b="0" lang="en-US" sz="4800" spc="-1" strike="noStrike">
              <a:solidFill>
                <a:srgbClr val="000000"/>
              </a:solidFill>
              <a:latin typeface="Arial"/>
            </a:endParaRPr>
          </a:p>
        </p:txBody>
      </p:sp>
      <p:sp>
        <p:nvSpPr>
          <p:cNvPr id="563"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5" name="PlaceHolder 2"/>
          <p:cNvSpPr>
            <a:spLocks noGrp="1"/>
          </p:cNvSpPr>
          <p:nvPr>
            <p:ph/>
          </p:nvPr>
        </p:nvSpPr>
        <p:spPr>
          <a:xfrm>
            <a:off x="428760" y="1905120"/>
            <a:ext cx="810576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puestas de los alumnos y sus característica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tienen experiencia en guiar o apoyar estudios de cas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manejan específicamente el tema en cuest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isciplinario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e enfoques o postura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ecesidades o apoyos específicos del estudio de caso</a:t>
            </a:r>
            <a:endParaRPr b="0" lang="en-US" sz="2600" spc="-1" strike="noStrike">
              <a:solidFill>
                <a:srgbClr val="000000"/>
              </a:solidFill>
              <a:latin typeface="Arial"/>
            </a:endParaRPr>
          </a:p>
        </p:txBody>
      </p:sp>
      <p:pic>
        <p:nvPicPr>
          <p:cNvPr id="566" name="Picture 4" descr="j0331639"/>
          <p:cNvPicPr/>
          <p:nvPr/>
        </p:nvPicPr>
        <p:blipFill>
          <a:blip r:embed="rId1"/>
          <a:stretch/>
        </p:blipFill>
        <p:spPr>
          <a:xfrm>
            <a:off x="7610400" y="1071720"/>
            <a:ext cx="1533600" cy="1782720"/>
          </a:xfrm>
          <a:prstGeom prst="rect">
            <a:avLst/>
          </a:prstGeom>
          <a:ln w="0">
            <a:noFill/>
          </a:ln>
        </p:spPr>
      </p:pic>
      <p:sp>
        <p:nvSpPr>
          <p:cNvPr id="567" name="Line 5"/>
          <p:cNvSpPr/>
          <p:nvPr/>
        </p:nvSpPr>
        <p:spPr>
          <a:xfrm>
            <a:off x="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9" name="PlaceHolder 2"/>
          <p:cNvSpPr>
            <a:spLocks noGrp="1"/>
          </p:cNvSpPr>
          <p:nvPr>
            <p:ph/>
          </p:nvPr>
        </p:nvSpPr>
        <p:spPr>
          <a:xfrm>
            <a:off x="1523880" y="1905120"/>
            <a:ext cx="7010640" cy="1668240"/>
          </a:xfrm>
          <a:prstGeom prst="rect">
            <a:avLst/>
          </a:prstGeom>
          <a:noFill/>
          <a:ln w="0">
            <a:noFill/>
          </a:ln>
        </p:spPr>
        <p:txBody>
          <a:bodyPr anchor="t">
            <a:normAutofit fontScale="68000"/>
          </a:bodyPr>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es lo que esperamos del Guia?</a:t>
            </a: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odemos esperar de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qué momentos se definen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Line 4"/>
          <p:cNvSpPr/>
          <p:nvPr/>
        </p:nvSpPr>
        <p:spPr>
          <a:xfrm>
            <a:off x="3636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Y qué es lo que viene ahora?</a:t>
            </a:r>
            <a:endParaRPr b="0" lang="en-US" sz="5400" spc="-1" strike="noStrike">
              <a:solidFill>
                <a:srgbClr val="000000"/>
              </a:solidFill>
              <a:latin typeface="Arial"/>
            </a:endParaRPr>
          </a:p>
        </p:txBody>
      </p:sp>
      <p:sp>
        <p:nvSpPr>
          <p:cNvPr id="572"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9-23T04:03:48Z</dcterms:modified>
  <cp:revision>53</cp:revision>
  <dc:subject/>
  <dc:title>TALLER INTRODUCTORIO  ESTUDIOS DE CASO</dc:title>
</cp:coreProperties>
</file>