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8AE6-AAF8-497A-87EE-0151563CF9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1BA7-AE93-4FD3-8D0B-DCF7C0C807A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24485-B9B5-4B42-B5C5-B41D8FCC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9981-04D3-40D3-93F3-8C401D18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8C2E8-A936-4E8F-9A25-A38B2D0942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15DC5E-6CE6-4103-B183-38546E77F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ECE2C-FE2C-4881-9249-9A57844787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72A1F-0679-426F-B950-3F9109B81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66FDFB-E8E2-4F41-87BB-24DF0B212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827D5-382B-4698-AB42-06F0830C5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D48FC-7636-465D-98E5-60AB3F891D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9DB4E0-AC7B-4AD6-8172-744C61EF84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08AFE2-5383-49D5-B9DD-6A8137A29D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3CBACA-5EDD-4C8A-BAB9-D5E445EF8D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F896E-2AA0-4D05-9200-66F990CA8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1065F2-59FB-4ABD-964C-0ED0A79228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339365-AE7E-4D71-9835-B0C50523F9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3ABB40-F73C-4C55-AA0F-B966F9253F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B3E3C7-2F98-4BA1-AFA0-564FC194C1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33D0FA-D656-47BB-8B88-191799257B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2DD43-063F-40D9-AAE8-0ED8B58C89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EA6D2D-4BAB-459F-94D1-E9589FA78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68524-B603-4818-95B0-AB2577434E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E13FAE-CAD1-4910-8F7F-34A465AFB3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ADA4D1-2FC9-43AA-94FE-4E7A98218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6C542-2841-4BB2-96FA-2CDFD114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9FCF69-EB22-4607-B4AD-21EB12FC57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3AE728-6936-4A11-A0D1-A5B6456918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1FA541-76D3-475A-8CFA-B266E24E11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757C9D-CB88-4CD6-8E89-A3E7F0F45F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107A66-A874-4F0C-9CC0-133369BBA5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E673A0-42CC-49B9-914C-16932CCBF9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826B1F-55EB-40CD-9B19-0E37DA0A8F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DEDD8F-B49A-4C88-9234-E0DA8373D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DA66D0-45FB-42C0-AC52-8F983D9775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FE6E3D-7AAD-4798-AA13-31D3C883B6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21354-FB70-4412-8B99-B091BE1BD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E9E090-8989-4D39-9149-80BDE446A3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A5B063-A4BB-4C82-8078-F2C4CD63B9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664E36-2924-44C4-A32D-8BE7CFDD5D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672193-F5FC-4933-938B-90137DD5C5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A4C653-C808-415F-A003-1544A84F71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955AC2-931E-4FD4-85B4-FDB6FFEB16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0456FA-4721-40B8-99D2-F7ECD02B54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29F946-0AE8-4453-93A9-5D42DD9292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B25895-2920-4800-9626-3E72AE43E0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B9AB7C-BE48-4C0F-939F-A44D4745FA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9D6CF-B061-47DA-A3A9-E423C1E59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8B2EFE-5623-4072-9A26-673B3092B4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F21512-5EE8-4A35-8507-67FFB6092B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8D6CB-54DE-4E4E-BA7D-E64E1EF808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603580-DF50-4450-8230-5FB4FA3CA6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4EB2DA-803D-45BA-A128-4843312D39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395CC4-419E-402F-A45E-7694F6B3A8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E81820-CB0F-4672-B1F1-0BF2DDC9B0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EC52C-20E4-404D-BCF1-803F2149E3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A205C7-3D7E-4A17-983D-FA5415DBB8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9BEEC2-D023-4A65-B7A9-03609820B9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42DC-E0C0-49B6-BDEC-0179940B0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CEC71B-9001-4852-8B79-2A6581973F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8FB778-1543-4B32-B512-3A30FB7DD3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DEE5F5-5E89-4042-B09C-2EF7998EA3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B06A6D-7AE2-467C-82B0-C02C573BC3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2863F3-A1BF-46F1-9F99-B7C2721529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6EEB04-FA99-40E8-BF36-D93DB4C3DD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AF21F9-0B63-4B55-863C-E57928607F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B4988-A2A5-4AEC-B1F0-B8E9A5324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D6CDB-0298-47C2-95F5-1CC348EAA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39079-3179-48D7-A02B-A270E0AF7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E535-D204-4748-A4F7-AF13822A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327F4-0BFE-428A-851D-D1DCC6F85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0F66-5981-423E-A182-C1EB9D634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38105-624A-470D-9D98-54680902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C5EDF-F3C9-40CA-906A-FB7AFCD8F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57F71-2B90-4480-93A9-6FD14CB2B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354A-E9A1-4646-91EB-BDC061B07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8D7149-B430-4109-97AF-F62D55F8A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935DB-19A8-418B-ADE6-46D16F8A3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777D4-5B5B-490A-9EB6-9798122A7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564FA-DF22-4C0B-9B23-3C1C79BAC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28D21-007A-4E5F-8664-0E2A1C0C9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28F52-0190-4A71-A4A0-A9CE4412A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B3DF3-011A-4044-BD1F-E3E175645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723DE-4F97-43EC-B9BC-837139E00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14DC2-CEA5-44E0-BB1F-5DF25E345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7F2C8-21F8-4C9A-A344-037C03546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0016B-E11B-47DD-A39A-EE73AA5BC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1B58B-C0F8-4997-BF00-8766C551FD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BB299-DE66-4EF6-8CE2-415BADE52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AEC11-3EE4-490C-A2F3-385582552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14272-A194-4D7E-BE0C-4B6F0BD66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D3959-E62A-4217-BE89-D9495386A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EDC28-9CA4-4A5B-83AA-061016137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F913A-56F4-42D5-947A-79A99C738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782DF-D4CC-406D-A01F-8D1BA0475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C761E-B6D8-473D-88B7-5FB984841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343E8-4FA3-4C50-900C-082F39389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E72ED-5561-452A-A3C3-5EF9AE247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64F1E-E33A-4303-A6F5-08E0428DE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9EDBE-CF29-4545-83F9-F243F663A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6A202-32B2-435A-8B01-CB710DDE5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463D34-1614-4FF3-81B4-AADAB03B7E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AC9BB5-EE4E-4966-B929-1E7A34F0A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2560E-EF77-427C-A9A6-42494F71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7907F-92E9-4936-BA3B-9229EAEF4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2AB8E-5F14-4791-83F6-0BC8B5AE9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033BA-1232-4F2B-99F7-1D4944B82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C21A12-9C8D-47BE-95E6-038ED8A29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CD0FD-14E8-4F56-81B8-001D8EC77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7D6F3-528D-499D-9476-206784BA2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7C886-C4DE-481A-879B-7EFF8FB00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BFB0E-1E89-4A3F-8C4A-20769DA4B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47A3D-F716-4121-B0AA-8B3BA6352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D099E-F18A-4D8A-9278-AA055810F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1DFF-7649-4B2F-A82F-49DD981CE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F890B-E945-4C01-9AB3-AC5A42993F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409B9-4367-4151-A96D-3B695D5858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A32B2-B29C-4AC7-95A7-63882B67E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0B1A9-D909-4289-87E0-079F2E03B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BDC1E-0F42-4A03-99FE-6EECE592B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2629C-89FF-43E9-A7AE-9FE7BF9E7F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1152F-79C0-4E5F-926F-95BBC231C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41370-AE3C-44FB-B009-794FCCDF9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20B1E-8FE2-4BAA-BD02-E2EFDBBE0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696FF-678C-492E-8C86-BEF26F180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A932-E23D-4B4D-9EAE-9BC9AE47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ACFBF1-C82F-4368-9960-E524E74C58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D519A1-C9BA-4862-95C2-521A1741E8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2BF4E-19AC-4997-A2B5-BE505688FD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C80F01-67A6-40D9-A629-CE52ACA186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FAF4A-366D-489B-8A47-BA6BC7186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C1FA52-4206-4FF8-A44E-A3B8959A43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02865-C7F1-48A3-A0A3-BCAFC6E64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E7483-9F2C-413A-96DB-6732123A6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8AB6B-E8B3-4F85-B34D-30508295B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563DB-88F4-4701-8006-6D008D8A7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450A-9170-4A0C-965A-3D827D43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1026F-E766-474D-B4EE-66D31771B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0A032-C15F-4E81-BE0D-B713A769F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318C8B-E99F-4A0B-82CB-F2E3191A1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EB2262-F2FA-48E9-87FC-79794D5ACF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41E4CD-0459-40A4-A883-DEE8E397D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5287DB-E837-4CFE-A943-D3DA176729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6A022-163C-4B16-96AB-657A096BC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AEFCB-00C6-427E-84F8-05493BFFB5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21A19-91F5-4641-B955-97449C230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7CB2A-2D1E-4C41-BD86-3BBAF814B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EB12-C4D2-4345-BC30-C4825027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348E4E-B0CF-4604-9D78-F1361BA7F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9C056-0624-488F-BBE7-610BAC9BE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32DF9-3AC0-4A4C-8DAA-8D50DE84F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A5E26-FFE4-4C2D-868D-6A2F7F31D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5A8D94-0F5F-4AB3-A58E-C6D2C417BD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B135C9-1EF6-4EFA-AF7E-757C0D4166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576E5-B1E3-4EE0-AB16-A773660236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480361-2CB7-4DA7-9646-570BA980D7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5ACBC5-973B-4474-A5DC-9144812BB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49310-133D-4195-A58C-5035739619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71E5-E087-4B52-A4CC-71290EE4245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89EC-3837-4609-AA2D-A9D263E10F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2C38-4FA7-48A0-9743-464BE189ACC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0412-F01A-4D59-9DE7-393AF4C044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450F-7819-4530-A7BF-DCAAE3755F3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316-3C85-4CAC-B55E-11EEE63FB9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D04A-B693-4A79-AD7D-A3A963E1E73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4B1D-AFC8-49F6-9124-750F970008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737D-084B-4F29-98E7-4EC4F8F3E5E2}"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69E6-5C45-40C5-A82A-51515258F3F5}"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2D8A-8240-477F-94A0-35C5AB985E5F}"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F9DD-9417-43B8-8AAC-BC6EBF64953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1AAF-9AC2-433D-BED6-FCEF40135AF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71D1-3669-436D-950F-69FBFB0198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787F-0A68-49F8-BE3D-DB1EC848E2F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FDD5-86FB-4016-A254-EF21E4AE419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38B2-F9B6-492F-86EA-0547C28D0DC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EC37-9E96-460F-BB6B-D59E90C4FC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CD6B-9F15-46DB-A8F9-A047A2D1390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B59D-B7DC-4B61-837B-863DFBB8FE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B9D8-361A-4529-9AA4-AEFDBE1F580E}"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188E-CC66-4312-B152-768EC7405F2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A930-07C5-499A-B5E7-30C4603D852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3A3B-0340-49D9-AC3F-DB63F6FFBB1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9E56-2795-4838-B830-9FC603ABF74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75D8-FB21-4E69-9A67-4C330B3BFF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0000"/>
                </a:solidFill>
                <a:latin typeface="Arial"/>
              </a:rPr>
              <a:t>TALLER DE </a:t>
            </a:r>
            <a:br>
              <a:rPr sz="4800"/>
            </a:br>
            <a:r>
              <a:rPr b="0" lang="es-CL" sz="4800" spc="-1" strike="noStrike">
                <a:solidFill>
                  <a:srgbClr val="ff0000"/>
                </a:solidFill>
                <a:latin typeface="Arial"/>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por fijar fecha exact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SEPTIEMBRE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7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77"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p:txBody>
      </p:sp>
      <p:sp>
        <p:nvSpPr>
          <p:cNvPr id="578" name="AutoShape 4"/>
          <p:cNvSpPr/>
          <p:nvPr/>
        </p:nvSpPr>
        <p:spPr>
          <a:xfrm>
            <a:off x="571680" y="714240"/>
            <a:ext cx="576000" cy="505080"/>
          </a:xfrm>
          <a:prstGeom prst="rightArrow">
            <a:avLst>
              <a:gd name="adj1" fmla="val 50000"/>
              <a:gd name="adj2" fmla="val 2851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2"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Text Box 7"/>
          <p:cNvSpPr/>
          <p:nvPr/>
        </p:nvSpPr>
        <p:spPr>
          <a:xfrm>
            <a:off x="29210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lograrlo?</a:t>
            </a:r>
            <a:endParaRPr b="0" lang="en-US" sz="4200" spc="-1" strike="noStrike">
              <a:solidFill>
                <a:srgbClr val="000000"/>
              </a:solidFill>
              <a:latin typeface="Arial"/>
            </a:endParaRPr>
          </a:p>
        </p:txBody>
      </p:sp>
      <p:sp>
        <p:nvSpPr>
          <p:cNvPr id="586" name=""/>
          <p:cNvSpPr txBox="1"/>
          <p:nvPr/>
        </p:nvSpPr>
        <p:spPr>
          <a:xfrm>
            <a:off x="468000" y="1428840"/>
            <a:ext cx="8351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rsar con los profesores de comisión para ajuste del tema, revisión de los objetivos y bibliografía a trabajar para este primer inform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ugiere presentarle a los profesores de comisión un esquema para el primer informe (índice temático, esquema analítico, árbol, etc.) para recibir retroalimenta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un cronograma de trabaj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ategia de presentación del primer informe (generar introducción, por ejempl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meter los algunos errores conocidos (imagen “frankestiana”, falta de preparación,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8"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0" name="Text Box 7"/>
          <p:cNvSpPr/>
          <p:nvPr/>
        </p:nvSpPr>
        <p:spPr>
          <a:xfrm>
            <a:off x="292896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592"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ólo por Internet, esa es una de las entradas, es necesario revisar otras fuen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85840" y="190440"/>
            <a:ext cx="88581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lgunas preguntas orientadoras</a:t>
            </a:r>
            <a:endParaRPr b="0" lang="en-US" sz="4200" spc="-1" strike="noStrike">
              <a:solidFill>
                <a:srgbClr val="000000"/>
              </a:solidFill>
              <a:latin typeface="Arial"/>
            </a:endParaRPr>
          </a:p>
        </p:txBody>
      </p:sp>
      <p:sp>
        <p:nvSpPr>
          <p:cNvPr id="594" name=""/>
          <p:cNvSpPr txBox="1"/>
          <p:nvPr/>
        </p:nvSpPr>
        <p:spPr>
          <a:xfrm>
            <a:off x="213840" y="1905120"/>
            <a:ext cx="8929800" cy="4114800"/>
          </a:xfrm>
          <a:prstGeom prst="rect">
            <a:avLst/>
          </a:prstGeom>
          <a:noFill/>
          <a:ln w="0">
            <a:noFill/>
          </a:ln>
        </p:spPr>
        <p:txBody>
          <a:bodyPr anchor="t">
            <a:normAutofit fontScale="99000"/>
          </a:bodyPr>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mprende el foco y relevancia d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objetivo que se ha planteado ayuda a responder a las interrogantes del estudi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clara?</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factible de realizar en los tiempos que tenemos?</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é se va a obtener con 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ugerencia de estructura de estudio de caso</a:t>
            </a:r>
            <a:endParaRPr b="0" lang="en-US" sz="4200" spc="-1" strike="noStrike">
              <a:solidFill>
                <a:srgbClr val="000000"/>
              </a:solidFill>
              <a:latin typeface="Arial"/>
            </a:endParaRPr>
          </a:p>
        </p:txBody>
      </p:sp>
      <p:sp>
        <p:nvSpPr>
          <p:cNvPr id="596" name=""/>
          <p:cNvSpPr txBox="1"/>
          <p:nvPr/>
        </p:nvSpPr>
        <p:spPr>
          <a:xfrm>
            <a:off x="250920" y="1699920"/>
            <a:ext cx="8283600" cy="482436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ción</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tecedentes generale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stificación de la 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ivo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teamiento metodológico general</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ructura del documento</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itulo 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rco conceptual o antecedentes relevant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álisis del caso</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idencia (entrevistas, análisis de datos, modelo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lusiones y recomendaciones de polític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bliografí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exos</a:t>
            </a:r>
            <a:endParaRPr b="0"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Objetivo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Plantear algunas orientaciones para la definición /ajuste de la metodología</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Analizar los criterios de configuración de comisiones de estudios de cas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Determinar cuál será el foco del primer informe de avance a entregar en el mes de juni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Intercambiar visiones y aproximaciones entre compañero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Text Box 2"/>
          <p:cNvSpPr/>
          <p:nvPr/>
        </p:nvSpPr>
        <p:spPr>
          <a:xfrm>
            <a:off x="755640" y="1700280"/>
            <a:ext cx="7765920" cy="43776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y el </a:t>
            </a:r>
            <a:r>
              <a:rPr b="0" lang="es-ES_tradnl" sz="2800" spc="-1" strike="noStrike">
                <a:solidFill>
                  <a:srgbClr val="ff0000"/>
                </a:solidFill>
                <a:latin typeface="Arial Narrow"/>
              </a:rPr>
              <a:t>enfoque</a:t>
            </a:r>
            <a:r>
              <a:rPr b="0" lang="es-ES_tradnl" sz="2800" spc="-1" strike="noStrike">
                <a:solidFill>
                  <a:srgbClr val="336666"/>
                </a:solidFill>
                <a:latin typeface="Arial Narrow"/>
              </a:rPr>
              <a:t> a partir del cual se desarrollará,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553"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4" name="Text Box 4"/>
          <p:cNvSpPr/>
          <p:nvPr/>
        </p:nvSpPr>
        <p:spPr>
          <a:xfrm>
            <a:off x="684360" y="404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3"/>
                                        </p:tgtEl>
                                        <p:attrNameLst>
                                          <p:attrName>style.visibility</p:attrName>
                                        </p:attrNameLst>
                                      </p:cBhvr>
                                      <p:to>
                                        <p:strVal val="visible"/>
                                      </p:to>
                                    </p:set>
                                    <p:anim calcmode="lin" valueType="num">
                                      <p:cBhvr additive="base">
                                        <p:cTn id="11" dur="500" fill="hold"/>
                                        <p:tgtEl>
                                          <p:spTgt spid="553"/>
                                        </p:tgtEl>
                                        <p:attrNameLst>
                                          <p:attrName>ppt_x</p:attrName>
                                        </p:attrNameLst>
                                      </p:cBhvr>
                                      <p:tavLst>
                                        <p:tav tm="0">
                                          <p:val>
                                            <p:strVal val="0-#ppt_w/2"/>
                                          </p:val>
                                        </p:tav>
                                        <p:tav tm="100000">
                                          <p:val>
                                            <p:strVal val="#ppt_x"/>
                                          </p:val>
                                        </p:tav>
                                      </p:tavLst>
                                    </p:anim>
                                    <p:anim calcmode="lin" valueType="num">
                                      <p:cBhvr additive="base">
                                        <p:cTn id="1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52"/>
                                        </p:tgtEl>
                                        <p:attrNameLst>
                                          <p:attrName>style.visibility</p:attrName>
                                        </p:attrNameLst>
                                      </p:cBhvr>
                                      <p:to>
                                        <p:strVal val="visible"/>
                                      </p:to>
                                    </p:set>
                                    <p:anim calcmode="lin" valueType="num">
                                      <p:cBhvr additive="base">
                                        <p:cTn id="17" dur="500" fill="hold"/>
                                        <p:tgtEl>
                                          <p:spTgt spid="552"/>
                                        </p:tgtEl>
                                        <p:attrNameLst>
                                          <p:attrName>ppt_x</p:attrName>
                                        </p:attrNameLst>
                                      </p:cBhvr>
                                      <p:tavLst>
                                        <p:tav tm="0">
                                          <p:val>
                                            <p:strVal val="1+#ppt_w/2"/>
                                          </p:val>
                                        </p:tav>
                                        <p:tav tm="100000">
                                          <p:val>
                                            <p:strVal val="#ppt_x"/>
                                          </p:val>
                                        </p:tav>
                                      </p:tavLst>
                                    </p:anim>
                                    <p:anim calcmode="lin" valueType="num">
                                      <p:cBhvr additive="base">
                                        <p:cTn id="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2"/>
          <p:cNvSpPr/>
          <p:nvPr/>
        </p:nvSpPr>
        <p:spPr>
          <a:xfrm>
            <a:off x="755640" y="1268280"/>
            <a:ext cx="7765920" cy="15958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Se trata de los pasos a seguir en una investigación para llegar al logro de los objetivos.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La manera que se va a abordar y en qué secuencia</a:t>
            </a:r>
            <a:endParaRPr b="0" lang="en-US" sz="2800" spc="-1" strike="noStrike">
              <a:solidFill>
                <a:srgbClr val="336666"/>
              </a:solidFill>
              <a:latin typeface="Arial"/>
            </a:endParaRPr>
          </a:p>
        </p:txBody>
      </p:sp>
      <p:sp>
        <p:nvSpPr>
          <p:cNvPr id="556" name="Line 3"/>
          <p:cNvSpPr/>
          <p:nvPr/>
        </p:nvSpPr>
        <p:spPr>
          <a:xfrm>
            <a:off x="826920" y="666900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7" name="Text Box 4"/>
          <p:cNvSpPr/>
          <p:nvPr/>
        </p:nvSpPr>
        <p:spPr>
          <a:xfrm>
            <a:off x="684360" y="333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58" name="Text Box 5"/>
          <p:cNvSpPr/>
          <p:nvPr/>
        </p:nvSpPr>
        <p:spPr>
          <a:xfrm>
            <a:off x="755640" y="3013200"/>
            <a:ext cx="7765920" cy="30502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Implica tomar decisiones respecto del </a:t>
            </a:r>
            <a:r>
              <a:rPr b="0" lang="es-ES_tradnl" sz="2400" spc="-1" strike="noStrike">
                <a:solidFill>
                  <a:srgbClr val="ff0000"/>
                </a:solidFill>
                <a:latin typeface="Arial Narrow"/>
              </a:rPr>
              <a:t>“cómo”</a:t>
            </a:r>
            <a:r>
              <a:rPr b="0" lang="es-ES_tradnl" sz="2400" spc="-1" strike="noStrike">
                <a:solidFill>
                  <a:srgbClr val="336666"/>
                </a:solidFill>
                <a:latin typeface="Arial Narrow"/>
              </a:rPr>
              <a:t> se trabajará en la investigación</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fuentes de información voy a utilizar?</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instrumentos voy a utilizar para recogerla o procesarl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n qué secuenci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cómo voy a analizar la inform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56"/>
                                        </p:tgtEl>
                                        <p:attrNameLst>
                                          <p:attrName>style.visibility</p:attrName>
                                        </p:attrNameLst>
                                      </p:cBhvr>
                                      <p:to>
                                        <p:strVal val="visible"/>
                                      </p:to>
                                    </p:set>
                                    <p:anim calcmode="lin" valueType="num">
                                      <p:cBhvr additive="base">
                                        <p:cTn id="29" dur="500" fill="hold"/>
                                        <p:tgtEl>
                                          <p:spTgt spid="556"/>
                                        </p:tgtEl>
                                        <p:attrNameLst>
                                          <p:attrName>ppt_x</p:attrName>
                                        </p:attrNameLst>
                                      </p:cBhvr>
                                      <p:tavLst>
                                        <p:tav tm="0">
                                          <p:val>
                                            <p:strVal val="0-#ppt_w/2"/>
                                          </p:val>
                                        </p:tav>
                                        <p:tav tm="100000">
                                          <p:val>
                                            <p:strVal val="#ppt_x"/>
                                          </p:val>
                                        </p:tav>
                                      </p:tavLst>
                                    </p:anim>
                                    <p:anim calcmode="lin" valueType="num">
                                      <p:cBhvr additive="base">
                                        <p:cTn id="3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5"/>
                                        </p:tgtEl>
                                        <p:attrNameLst>
                                          <p:attrName>style.visibility</p:attrName>
                                        </p:attrNameLst>
                                      </p:cBhvr>
                                      <p:to>
                                        <p:strVal val="visible"/>
                                      </p:to>
                                    </p:set>
                                    <p:anim calcmode="lin" valueType="num">
                                      <p:cBhvr additive="base">
                                        <p:cTn id="35" dur="500" fill="hold"/>
                                        <p:tgtEl>
                                          <p:spTgt spid="555"/>
                                        </p:tgtEl>
                                        <p:attrNameLst>
                                          <p:attrName>ppt_x</p:attrName>
                                        </p:attrNameLst>
                                      </p:cBhvr>
                                      <p:tavLst>
                                        <p:tav tm="0">
                                          <p:val>
                                            <p:strVal val="1+#ppt_w/2"/>
                                          </p:val>
                                        </p:tav>
                                        <p:tav tm="100000">
                                          <p:val>
                                            <p:strVal val="#ppt_x"/>
                                          </p:val>
                                        </p:tav>
                                      </p:tavLst>
                                    </p:anim>
                                    <p:anim calcmode="lin" valueType="num">
                                      <p:cBhvr additive="base">
                                        <p:cTn id="3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8"/>
                                        </p:tgtEl>
                                        <p:attrNameLst>
                                          <p:attrName>style.visibility</p:attrName>
                                        </p:attrNameLst>
                                      </p:cBhvr>
                                      <p:to>
                                        <p:strVal val="visible"/>
                                      </p:to>
                                    </p:set>
                                    <p:anim calcmode="lin" valueType="num">
                                      <p:cBhvr additive="base">
                                        <p:cTn id="41" dur="500" fill="hold"/>
                                        <p:tgtEl>
                                          <p:spTgt spid="558"/>
                                        </p:tgtEl>
                                        <p:attrNameLst>
                                          <p:attrName>ppt_x</p:attrName>
                                        </p:attrNameLst>
                                      </p:cBhvr>
                                      <p:tavLst>
                                        <p:tav tm="0">
                                          <p:val>
                                            <p:strVal val="1+#ppt_w/2"/>
                                          </p:val>
                                        </p:tav>
                                        <p:tav tm="100000">
                                          <p:val>
                                            <p:strVal val="#ppt_x"/>
                                          </p:val>
                                        </p:tav>
                                      </p:tavLst>
                                    </p:anim>
                                    <p:anim calcmode="lin" valueType="num">
                                      <p:cBhvr additive="base">
                                        <p:cTn id="42"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609480" y="1484280"/>
            <a:ext cx="7925040" cy="43380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a:t>
            </a:r>
            <a:r>
              <a:rPr b="0" lang="es-ES_tradnl" sz="2400" spc="-1" strike="noStrike">
                <a:solidFill>
                  <a:srgbClr val="ff0000"/>
                </a:solidFill>
                <a:latin typeface="Arial Narrow"/>
              </a:rPr>
              <a:t>instrumentos</a:t>
            </a:r>
            <a:r>
              <a:rPr b="0" lang="es-ES_tradnl" sz="2400" spc="-1" strike="noStrike">
                <a:solidFill>
                  <a:srgbClr val="336666"/>
                </a:solidFill>
                <a:latin typeface="Arial Narrow"/>
              </a:rPr>
              <a:t> o técnicas de recolección disponibles o construir uno. </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Definir la forma y el modo </a:t>
            </a:r>
            <a:r>
              <a:rPr b="0" lang="es-ES_tradnl" sz="2400" spc="-1" strike="noStrike">
                <a:solidFill>
                  <a:srgbClr val="ff0000"/>
                </a:solidFill>
                <a:latin typeface="Arial Narrow"/>
              </a:rPr>
              <a:t>cómo se va aplicar</a:t>
            </a:r>
            <a:r>
              <a:rPr b="0" lang="es-ES_tradnl" sz="2400" spc="-1" strike="noStrike">
                <a:solidFill>
                  <a:srgbClr val="336666"/>
                </a:solidFill>
                <a:latin typeface="Arial Narrow"/>
              </a:rPr>
              <a:t> los instrumentos o técnic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a:t>
            </a:r>
            <a:r>
              <a:rPr b="0" lang="es-ES_tradnl" sz="2400" spc="-1" strike="noStrike">
                <a:solidFill>
                  <a:srgbClr val="ff0000"/>
                </a:solidFill>
                <a:latin typeface="Arial Narrow"/>
              </a:rPr>
              <a:t>plan de análisis</a:t>
            </a:r>
            <a:r>
              <a:rPr b="0" lang="es-ES_tradnl" sz="2400" spc="-1" strike="noStrike">
                <a:solidFill>
                  <a:srgbClr val="336666"/>
                </a:solidFill>
                <a:latin typeface="Arial Narrow"/>
              </a:rPr>
              <a:t> para las mediciones o informaciones recopilad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60" name="Text Box 3"/>
          <p:cNvSpPr/>
          <p:nvPr/>
        </p:nvSpPr>
        <p:spPr>
          <a:xfrm>
            <a:off x="539640" y="476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61" name="Line 4"/>
          <p:cNvSpPr/>
          <p:nvPr/>
        </p:nvSpPr>
        <p:spPr>
          <a:xfrm>
            <a:off x="-108000" y="6381720"/>
            <a:ext cx="92520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9"/>
                                        </p:tgtEl>
                                        <p:attrNameLst>
                                          <p:attrName>style.visibility</p:attrName>
                                        </p:attrNameLst>
                                      </p:cBhvr>
                                      <p:to>
                                        <p:strVal val="visible"/>
                                      </p:to>
                                    </p:set>
                                    <p:anim calcmode="lin" valueType="num">
                                      <p:cBhvr additive="base">
                                        <p:cTn id="49" dur="500" fill="hold"/>
                                        <p:tgtEl>
                                          <p:spTgt spid="559"/>
                                        </p:tgtEl>
                                        <p:attrNameLst>
                                          <p:attrName>ppt_x</p:attrName>
                                        </p:attrNameLst>
                                      </p:cBhvr>
                                      <p:tavLst>
                                        <p:tav tm="0">
                                          <p:val>
                                            <p:strVal val="1+#ppt_w/2"/>
                                          </p:val>
                                        </p:tav>
                                        <p:tav tm="100000">
                                          <p:val>
                                            <p:strVal val="#ppt_x"/>
                                          </p:val>
                                        </p:tav>
                                      </p:tavLst>
                                    </p:anim>
                                    <p:anim calcmode="lin" valueType="num">
                                      <p:cBhvr additive="base">
                                        <p:cTn id="5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1"/>
                                        </p:tgtEl>
                                        <p:attrNameLst>
                                          <p:attrName>style.visibility</p:attrName>
                                        </p:attrNameLst>
                                      </p:cBhvr>
                                      <p:to>
                                        <p:strVal val="visible"/>
                                      </p:to>
                                    </p:set>
                                    <p:anim calcmode="lin" valueType="num">
                                      <p:cBhvr additive="base">
                                        <p:cTn id="59" dur="500" fill="hold"/>
                                        <p:tgtEl>
                                          <p:spTgt spid="561"/>
                                        </p:tgtEl>
                                        <p:attrNameLst>
                                          <p:attrName>ppt_x</p:attrName>
                                        </p:attrNameLst>
                                      </p:cBhvr>
                                      <p:tavLst>
                                        <p:tav tm="0">
                                          <p:val>
                                            <p:strVal val="0-#ppt_w/2"/>
                                          </p:val>
                                        </p:tav>
                                        <p:tav tm="100000">
                                          <p:val>
                                            <p:strVal val="#ppt_x"/>
                                          </p:val>
                                        </p:tav>
                                      </p:tavLst>
                                    </p:anim>
                                    <p:anim calcmode="lin" valueType="num">
                                      <p:cBhvr additive="base">
                                        <p:cTn id="6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Temas de estudio de caso y Profesores de comisión</a:t>
            </a:r>
            <a:endParaRPr b="0" lang="en-US" sz="4800" spc="-1" strike="noStrike">
              <a:solidFill>
                <a:srgbClr val="000000"/>
              </a:solidFill>
              <a:latin typeface="Arial"/>
            </a:endParaRPr>
          </a:p>
        </p:txBody>
      </p:sp>
      <p:sp>
        <p:nvSpPr>
          <p:cNvPr id="563"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5" name="PlaceHolder 2"/>
          <p:cNvSpPr>
            <a:spLocks noGrp="1"/>
          </p:cNvSpPr>
          <p:nvPr>
            <p:ph/>
          </p:nvPr>
        </p:nvSpPr>
        <p:spPr>
          <a:xfrm>
            <a:off x="428760" y="1905120"/>
            <a:ext cx="810576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puestas de los alumnos y sus característica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tienen experiencia en guiar o apoyar estudios de cas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manejan específicamente el tema en cuest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isciplinario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e enfoques o postura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ecesidades o apoyos específicos del estudio de caso</a:t>
            </a:r>
            <a:endParaRPr b="0" lang="en-US" sz="2600" spc="-1" strike="noStrike">
              <a:solidFill>
                <a:srgbClr val="000000"/>
              </a:solidFill>
              <a:latin typeface="Arial"/>
            </a:endParaRPr>
          </a:p>
        </p:txBody>
      </p:sp>
      <p:pic>
        <p:nvPicPr>
          <p:cNvPr id="566" name="Picture 4" descr="j0331639"/>
          <p:cNvPicPr/>
          <p:nvPr/>
        </p:nvPicPr>
        <p:blipFill>
          <a:blip r:embed="rId1"/>
          <a:stretch/>
        </p:blipFill>
        <p:spPr>
          <a:xfrm>
            <a:off x="7610400" y="1071720"/>
            <a:ext cx="1533600" cy="1782720"/>
          </a:xfrm>
          <a:prstGeom prst="rect">
            <a:avLst/>
          </a:prstGeom>
          <a:ln w="0">
            <a:noFill/>
          </a:ln>
        </p:spPr>
      </p:pic>
      <p:sp>
        <p:nvSpPr>
          <p:cNvPr id="567" name="Line 5"/>
          <p:cNvSpPr/>
          <p:nvPr/>
        </p:nvSpPr>
        <p:spPr>
          <a:xfrm>
            <a:off x="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1668240"/>
          </a:xfrm>
          <a:prstGeom prst="rect">
            <a:avLst/>
          </a:prstGeom>
          <a:noFill/>
          <a:ln w="0">
            <a:noFill/>
          </a:ln>
        </p:spPr>
        <p:txBody>
          <a:bodyPr anchor="t">
            <a:normAutofit fontScale="68000"/>
          </a:bodyPr>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es lo que esperamos del Guia?</a:t>
            </a: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odemos esperar de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qué momentos se definen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Line 4"/>
          <p:cNvSpPr/>
          <p:nvPr/>
        </p:nvSpPr>
        <p:spPr>
          <a:xfrm>
            <a:off x="3636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Y qué es lo que viene ahora?</a:t>
            </a:r>
            <a:endParaRPr b="0" lang="en-US" sz="5400" spc="-1" strike="noStrike">
              <a:solidFill>
                <a:srgbClr val="000000"/>
              </a:solidFill>
              <a:latin typeface="Arial"/>
            </a:endParaRPr>
          </a:p>
        </p:txBody>
      </p:sp>
      <p:sp>
        <p:nvSpPr>
          <p:cNvPr id="572"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9-23T04:03:48Z</dcterms:modified>
  <cp:revision>53</cp:revision>
  <dc:subject/>
  <dc:title>TALLER INTRODUCTORIO  ESTUDIOS DE CASO</dc:title>
</cp:coreProperties>
</file>