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554A-DBFF-4A5F-8927-84C50A814EE5}"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ABE5-592A-4DAA-ADF5-97EC796BF981}"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DCD3-E8EC-405E-AEE6-2CDEB99C418C}"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E69A-2F8F-491F-B3F1-5ED5ACC94A6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CB06-06BC-4BCE-AEC2-24F1C0B3E3A5}"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1EB4-815F-41AE-B96B-0970C26671E1}"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761C-07A1-41CB-8563-EF5CAEA33DA7}"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03D1-63A3-4F68-BD1B-246606D62DF0}"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619B-9808-4902-BDB4-57605DE6177C}"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B94D-B165-4653-A896-1710B7C95565}"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E664F-E2A8-481E-8A4B-69E890EB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2182-652D-40E9-8E46-A4ED0AEF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CA3DDA-B181-4D05-8AD7-55D79E2C6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FA5A3-BE09-4CD1-8348-78FEAD748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F758D-9C87-45C0-AE7A-D863B399A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54021-7A4E-4B3B-BA65-B7C18069B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4486B-365D-4A7B-81FF-43F11DE3E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758E8-F143-447A-9738-D9CDE2A56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5DEF6F-DB85-4E76-BEB4-249B175725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D0426C-C73B-458E-BB37-F023C72D06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1E09D-0179-4E82-872D-0AD1C28D26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96AA41-1755-44BA-A8D2-F0B4D30B62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80C4F-B10C-4E3D-B6BD-7F38C7AF8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AADC42-1E78-4E64-8AE4-DAFA3FA93F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C1AF13-88CC-4913-9F37-B590E72698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CF0842-9A8F-468F-ABE2-ABF3C1CB54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4AFC3F-CF57-4391-A6D5-8EF9EBD1AA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F3C6C9-2406-42C5-B87D-C353FD0513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A26E92-1B52-4509-AA8F-F180DD0687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9AF59B-2DA2-4062-B0D4-64132661EE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67BD19-B52F-4C01-9569-89087E8B85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2220C6-AC6A-4C82-8190-34267CB4F9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F51E7A-1409-4CFE-8CE3-626759BD33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A9FE2-0633-48C1-A2C8-0F98F3CF8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07E073-6BC6-484A-9735-C8A30002BF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274661-DD57-4A62-9447-800F1981DC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F3FBF6-2D02-4166-9AF8-D0D2CF124C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23F18D-0068-458A-A9CC-ACAF48E3A8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9EFE72-908D-435B-92A1-CDF0DFA9EF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819D90-FCFC-48A8-B598-7B84E6D521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BEA79A-DFC4-441D-8661-CB61A389CA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B7A79-DA28-4CC8-B933-41CADD1FF5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3D7DCF-E738-4312-8BDB-268B04842D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FF98AB-CDC7-49E0-A0BF-504F01A91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1D275-DBC7-4724-A833-FE4519197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B2660-749F-4500-8C9D-20D2DD410E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55039C-37AA-4B0C-BE3D-8C0380F729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244B15-3973-4686-A573-A5BE0C9B1F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7A489B-4DBD-4F87-A710-4F7059844E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904E10-4DBA-47DA-B7CB-049213AEFD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DB9956-A558-43CD-91FB-3C022DA85E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275F30-60A3-439C-B7CD-3CD8124837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4AFDCA-421A-41E0-9819-B4A9556B12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0DC04D-7617-4627-9CD2-CD6AC6757B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51FB33-6B41-4CC7-BD56-F47726C74D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86CB-EDFC-4A02-B59A-0C0218A47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4F1DE8-0D79-4754-8714-59AAC3EFE6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170882-2184-4F1B-A4F8-56F06F7D66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1E77D3-F85F-47B5-BA37-7D062FB323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A850DE-231A-450B-98AD-D6BA3390ED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ACC6D3-A379-4A10-93B9-442C88311D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0AC5CAA-C891-4691-A0DA-B522C55891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00D41D-35C3-438F-BC1E-76BEF92A22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1143D3-76E1-43DF-B7C3-C9F39C2E91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4DB7C9-2E28-445A-A8D2-29B16A3277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7A4A3C-4EE6-4F55-BA18-F299C6E818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2BE32-D167-44D3-B86C-4800ECB8B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18D164-776A-4112-9A10-432F6D7695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CED66C-D6FE-4D3B-864D-3D610FE059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5E934F-AA27-45BC-A91A-A4CBC9A232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014158-2E6B-4765-8ACC-DDA68F2CB4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12458A-23FD-4E57-A93E-CBB2F88527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DC65617-51A9-4CCB-9478-BE79339D2E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8BCE9E-6763-4559-95CC-7E9236D2A6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4E4C03D-DAC0-497C-BD9E-B2DD66E844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411A21-F071-41CC-A838-6AD5F29D66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0505DF-F153-41F3-917C-1F95600623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DA3D4-B599-47F0-B2E2-4BBACF1F1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D64D58-31E8-427D-96BF-ADDACB0EC3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3A4F82-9475-4348-9F43-D60C7CE516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01B31E-7490-42CF-B766-0AD9D765B3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D276B4-9EEA-4122-B302-75FB78A520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EC56F8-78E5-4CEE-B908-538780CF3F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62D0A6-D3CD-4BAF-9BF3-0F30E0FE42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B48323-157A-48D4-9AEA-0ED131BF1E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DCFE7B8-97B3-4CD5-BDAF-AE54C83800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98A3D7-30E5-4393-85C4-F4BD03F0805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3A2733-B413-4E70-BF23-48454C5CA16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98088-0B8D-4865-8111-7CCD3A9E9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CA15D2-3AE3-44DE-8EB2-918F7C4BEF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B2AC86-49D7-499A-8058-B1EA5EE708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690300-FE16-4422-A202-4B77F7528C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08D461-7398-45EC-91F1-2A96D2D6C6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9EAAB6-C080-4F3E-83F7-FB71B6E015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6DDA4A-731E-4C93-BE63-A2BD8584F8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326659-E341-4A09-B41D-5663061D94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03E69B-4A63-43EA-9C4A-CC86D2BF8B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484820-553C-4A87-9F3A-EDC49FC6FB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DE9C09B-BD0E-4EAF-B146-5B7AB14A6B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71B30-B053-4985-8A6F-08CBEB6BF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23D25DA-EF5C-48DA-82DC-1DFA2342148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C20FB-64DD-4AEB-B28A-98447368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B781-44F9-4476-958C-798A3E20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ADB8C-A3B6-4CA5-A5AE-FC7E0D060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71FDC-A1A1-4BB5-AB28-701C669F1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E362-418A-40AC-B826-4C8989D5B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1FFC6-437F-4E50-B5BB-5F49DFF8D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999ED-F4C0-4543-9F8F-479241DA8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5EB9B-90CF-4766-812F-DDAB5A352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8C62B-6217-4688-88C1-32B481E34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52E24-6B0A-4AC2-8CA7-6963C4D59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D1C78-38CC-4BEF-B2AC-DF3F8CBEB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E5E6E-01D7-4FAF-B2F7-6D82CA369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B2C7-B13B-4966-8B3C-204E66E8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398C4-E342-4AAF-9DFE-D1BB72552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76F88-509A-4BF8-BA57-9CB42F07B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39CF7-E68B-452E-A2C2-9516A4FBA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10D0A-83A4-4322-A97B-F554384E7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CA56F-F2DE-4C85-9DD2-96FE49729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05F63-9AD9-4D30-839F-9C6F1B870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CD1225-6B81-483B-9D91-0C90B0447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2B0FC-A193-48E0-B96F-2AE71CBD8E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2E699-FF4C-4A0B-A902-CCE090AA1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27A90-9766-4A33-AD9A-66D05E0B0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9081A-7BAF-4FCA-B239-13B99AD4D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24A34-0B54-4862-A61B-E51B42500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42660-3F92-4465-B44C-738C2A8EA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20967-52D7-4797-8C65-6F563FD92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AC0C0-5E11-4B89-AAA4-B3093D7B1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074DF-2223-4137-97DB-94E59C53F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AB3FB-75A0-4350-A935-800E14943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4C856-DBF2-4A3F-BD82-808F564A6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B9EDA-E295-43A9-A97E-D9B85A523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889198-6A6D-48E7-A5C9-F5A65AD79A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DD8C7A-D68C-4522-B85E-EFFF62F120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87B2-E63F-4EAA-957D-7B593D85B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28C51-AF9B-404C-B5EC-05A0E8A11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F3AE1-8537-4FEF-AA2B-AF8232616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5A3C2-E587-408B-8187-4F22D7D30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C3E22-D490-43E0-AE33-6CAB4DA0A3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52815-2C3D-433C-BF41-9BBA38A2A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18CE9-A719-4A05-AAC3-2ED0E4C6F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DC285-8879-4698-9F3A-418F44276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E6B31-D221-402D-B02F-92161EFA0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C0E9B-4CAB-4924-B17D-B2C62F5CB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E0F17C-8CED-4160-B8C0-D54367D0D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A6D45-7DC2-4A92-AD02-EBFA44C2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86B4F0-410B-4B40-BF57-42DCD45F9C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C1B90-D7CE-4FFA-BC46-9578EEB22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890C0-B7CC-4461-A134-800155C86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DF911-3205-4E7E-88A8-0683AC06B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AF846-D5BF-47DC-9573-EC1F08853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8ABF6-1420-43A0-B8F1-E9A67DEC6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110C4-2563-4D18-8603-FDF699C09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4BCF0-07BB-44B6-8D5E-18B8AA170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929DD-7CBA-4BF7-B91A-2EAC20C88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85D57-6273-4009-A0CA-1E78E4AAD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A758-46B1-44AC-A85E-DD2A2F2C9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D705E-39B9-4922-B52F-5DD83DF1D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251C7-26A2-43E1-9F99-38E78881F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FC894B-E097-4AAE-92A6-396B08DDC4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51479-194C-4155-8ACC-51B330C229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04C74-D78B-4B39-8FCE-27AF34F47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A99D13-E50D-4122-BC2C-E5F730DAA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1B5B91-F91D-453D-92F0-C5BA697C2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70017-A0D3-45FA-A4F8-D54907D9C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747A3-FAEB-4055-BFB8-8479B58B4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9174B-A5AC-465A-B2EB-DB2F33D2D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5F52-7E5D-49E2-86CC-529AFF4D4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2D6F2-58D5-4326-A95C-652555338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A2F8E-60E8-4A00-AD9D-85EB0A157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8B0F9-74B6-4514-BBB3-4DDF0DB54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80821D-4D20-45AD-9CA0-9F7A42AD22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AA58D4-9C34-4C01-88E5-2F1D8CA8D1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57E39-84FE-403E-ABC1-F2721D5476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9787B9-1F91-40A7-B9C1-D735B9054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6FB27-0887-489A-9658-BB732C9D3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74444-F52B-478A-BFA7-23DE9F366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AD5F0-8BB8-416B-82B6-C09FAEC99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AF0E-76B7-4116-BE22-6538E62D5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30A6E-DE43-46E7-A879-149E57A842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87B4C-D931-4AD9-A45E-BE085293C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19D12-3801-4F4B-A2EF-B883981F1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2F032-ED69-4873-841C-C7C6AFD10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E013E-98FC-4474-9E3F-7FECD45C3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A64005-7797-4967-9733-80AF31193F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49B6FF-4BB5-4CB2-8A71-F9604D2BB4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5C6B9B-B636-4FEB-BB3D-FA219D228B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7D24E8-557F-4EF5-82CC-C218C0E25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DCB6C8-A4BA-49D2-B933-823E717BD5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924F-8033-4D72-B9E6-0966A661A40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876E-178E-4D5B-B2F9-5E2D9944FF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7B3A-C93C-4D82-B4EC-0DE27D0F44F0}"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253C-A7CE-4B91-B5F6-8120149FF40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6764-CA32-493A-8083-6FE7159A34A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616-E196-4393-92CA-06270FA8CE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4DA6-4EB9-4837-A085-F8CD3425C7B3}"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59F4-3B0B-4AFB-A479-B5B9B5A82A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F97C-B6A0-4501-8317-155CAC2018FB}"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FEAA-66DD-4109-A7EA-1D9FA1EAD3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8EE8-EE19-414E-A0DA-AF3F591C357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7041-7975-4656-8595-2FF4D2672D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6C77-8931-46DD-900D-71565EFDAE3C}" type="datetime">
              <a:rPr b="0" lang="es-ES" sz="1000" spc="-1" strike="noStrike">
                <a:solidFill>
                  <a:srgbClr val="336666"/>
                </a:solidFill>
                <a:latin typeface="Times New Roman"/>
              </a:rPr>
              <a:t>30/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9B17-CDCA-457B-9D47-7FFFAFAB11F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7DEE-E4C9-4860-AFE3-241E7DC8D5B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C36F-99AA-45BC-90E5-88033355C6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5AB3-D52D-47FE-8833-49120BF7618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3ECD-03D8-4D65-A4E5-A5AEA46B3A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9E13-0D8A-4749-9562-27C27F207C54}"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F954-5B11-46A1-949E-04565572848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564D-C8DF-462F-8691-9E3C2E96B0C2}"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8575-732D-4D2C-8BDC-693F966C17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F1A3-8F0C-411A-9035-9418BC3E2CC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2CAC-FA82-4AEF-8781-89743B41633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E5C8-87D0-499C-B534-FD1324031F6A}"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E3C1-947F-4922-BE0F-E19561A12E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20B3-9AC5-4CFC-93D2-2255C0EB6677}"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9839-1CA5-470D-B195-699897E125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E949-3207-4C8C-9FE4-67D319302C26}" type="datetime">
              <a:rPr b="0" lang="es-ES"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F50B-7F57-4197-8DCA-2EEF183C233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