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B7A4F92-DB4E-4349-9190-CCEDF91A1CF0}" type="datetime">
              <a:rPr b="0" lang="es-ES_tradn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E126708-C4BE-46C0-A588-25EB270A3A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F26E8-CC98-4F13-94D8-FDA35BCD6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0F0F4-2B6D-46F8-BE5D-BAB1D83F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C798-B771-4CCE-8C9D-42528FDCC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D999E-8CD0-48D8-B8B1-899B5B2E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D6D4-814A-489C-83B5-6463B8D57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3785F-04B9-4410-9D1C-8C3D4941C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BF943-E294-4660-9B8C-E768FF6A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548D-4F80-41F1-8733-0010CB8D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58A2-1C89-4C21-896A-EF0D890A4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F23C-2BEB-4AC2-83DF-EC36E987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8314-4CAD-42E7-A64B-6B52FC84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99EA-74A0-4835-8F6C-7120094EE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089F37C-C321-41E6-AA7B-BAFF68F1E0CD}" type="datetime">
              <a:rPr b="0" lang="es-ES_trad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429DDAB-CFD2-4172-A5F9-AF4B6D89AD3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6A0B3F8-2C53-40D4-8F34-ADFF3BD9F8B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DC8D039-CD81-4D9A-8775-4744822D42F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A8AA8C7-6E58-41F4-AE3C-6ABB77A9207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8AD81D0-2B0C-4325-A749-246A9627E29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A14D8CD-9595-4AE9-9FD1-B21A644C78E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41DC8CE-63FA-4069-988A-D9613F4BC3B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CDF39CE-780E-44A8-BB5A-D9B6D7F0CE1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0E05245-3EC9-4FD4-A03F-A5A1DAD1466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99C5890-B8BF-451B-B413-1BB9BC0829A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442A6AD-BC23-40C6-BC2F-B58264B5EB1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3B8A5B7-9B09-4753-99FE-D91A242DA6C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54CB8E7-3E99-48B6-BC53-76119051DC9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62BC618-ADE3-4BCD-97E8-589E14BBBD2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FF770CD-4C18-47B3-8106-CD22F1A2A8A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488406B-DAC1-4908-A3EA-BD2380C752E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