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8996363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37D3B631-30D1-4AC3-B87A-25EBFBF874F5}" type="datetime">
              <a:rPr b="0" lang="es-ES_tradnl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4680" y="685440"/>
            <a:ext cx="45086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AB653123-7E93-4A77-8191-AEBFF2A7FEC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ACA7F963-9EB2-4353-A841-DFEFC27135D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9436A47E-5B1A-4AD3-80C5-732EA0D3F32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0BE67790-3F59-46B6-BFD7-07068D6BEFC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7DFEF7A4-953B-445D-AFC2-A68D8749B59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0C3B6A71-780A-47D0-9A63-AF5EC74CD3C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C5C12E5C-77FB-4D52-972C-18568EA48F6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F838E55D-B7A6-43FA-A6CA-54638002CC9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4BD9945F-DE16-46B8-AEC1-1D6A76592B1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75007AD6-2C2F-4A9D-94E7-827CB85E9C0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A8A2-6D5B-4371-AECC-FABAB5E54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9280" y="395280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0EC6-2829-4302-8818-E12E6C96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972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7A4C-05FE-4157-AE09-66B2ACCD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668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928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668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F941-7C7E-44C8-9C5F-98292AB9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57C4-FE22-4F45-8771-1FEEDC01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1048-8F7B-41BA-AF4B-1BA768C5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08FC-BEB9-4A13-AEBE-D9031D0F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A128-B487-4987-94FB-A0C5BDCD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9280" y="274680"/>
            <a:ext cx="8099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0B87-ED45-4FEE-8B94-DC1C24C8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C191-BE39-4F31-9E95-1ECF090D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972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6C02-AB67-4736-B0D6-41B37C30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779C-C373-446C-B33B-9044BA07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928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33A2770B-EB75-4DAB-8D11-06F1030DD147}" type="datetime">
              <a:rPr b="0" lang="es-ES_tradnl" sz="1200" spc="-1" strike="noStrike">
                <a:solidFill>
                  <a:srgbClr val="898989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6338880"/>
            <a:ext cx="284796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563804FD-DECE-4686-88E9-E39D42BC484C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n 5" descr="1.jpg"/>
          <p:cNvPicPr/>
          <p:nvPr/>
        </p:nvPicPr>
        <p:blipFill>
          <a:blip r:embed="rId1"/>
          <a:stretch/>
        </p:blipFill>
        <p:spPr>
          <a:xfrm>
            <a:off x="-36360" y="0"/>
            <a:ext cx="9034200" cy="6867360"/>
          </a:xfrm>
          <a:prstGeom prst="rect">
            <a:avLst/>
          </a:prstGeom>
          <a:ln w="0">
            <a:noFill/>
          </a:ln>
        </p:spPr>
      </p:pic>
      <p:sp>
        <p:nvSpPr>
          <p:cNvPr id="49" name="CuadroTexto 3"/>
          <p:cNvSpPr/>
          <p:nvPr/>
        </p:nvSpPr>
        <p:spPr>
          <a:xfrm>
            <a:off x="106200" y="1955880"/>
            <a:ext cx="592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6000" spc="-1" strike="noStrike">
                <a:solidFill>
                  <a:srgbClr val="617a8a"/>
                </a:solidFill>
                <a:latin typeface="Arial"/>
              </a:rPr>
              <a:t>CARTE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CuadroTexto 3"/>
          <p:cNvSpPr/>
          <p:nvPr/>
        </p:nvSpPr>
        <p:spPr>
          <a:xfrm>
            <a:off x="974880" y="760320"/>
            <a:ext cx="7700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FISCALÍA NACIONAL ECONÓMICA Y EL COMBATE A LOS CARTE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onector recto 6"/>
          <p:cNvSpPr/>
          <p:nvPr/>
        </p:nvSpPr>
        <p:spPr>
          <a:xfrm>
            <a:off x="0" y="644364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738FA306-0D2F-428D-9D75-A55575240415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71680" y="148392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451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UNIDAD ESPECI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 profesionales e infraestructura dedicada exclusivamente al combate de los carteles, actualmente contamos con los más modernos recursos informáticos de pericia forense y de seguridad que permiten al mismo tiempo mejorar la eficiencia en la investigación y resguardar la integridad de las pruebas recab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70000"/>
              </a:lnSpc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articipación activa en los grupos especializados en el tema – International Competition Network, OECD, Forum Latino Americano, ot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9280" y="610920"/>
            <a:ext cx="8099280" cy="80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  <a:ea typeface="Arial"/>
              </a:rPr>
              <a:t>FISCALÍA NACIONAL ECONÓMICA Y EL COMBATE A LOS CARTELES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49280" y="876240"/>
            <a:ext cx="8099280" cy="546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just"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ACCIONES REPRES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iversas investigaciones iniciadas por oficio y por denuncias realiz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sarrollo de Métodos Cuantitativos diseñados específicamente para la      detección de carteles en licit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venio con otros órganos del Estado para la detección temprana de estos ilíci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nvestigaciones Reservadas: ES FUNDAMENTAL LA MANTENCIÓN DE LA CONFIDENCIALIDAD DE LAS INVESTIGACIONES DURANTE SUS PRIMERAS ETAPAS INVESTIGAT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ACCIONES PREVENTIV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ublicaciones de guías y documentos de trabaj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536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mpras Publicas y Libre Competenci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536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Guía de Asociaciones Gremial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A5F7B6DE-2944-411A-A23D-EEC8E2314A16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9280" y="610920"/>
            <a:ext cx="8099280" cy="80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  <a:ea typeface="Arial"/>
              </a:rPr>
              <a:t>FISCALÍA NACIONAL ECONÓMICA Y EL COMBATE A LOS CARTELES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49280" y="1116000"/>
            <a:ext cx="8099280" cy="45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just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articipación activa junto a los Seremi y otras autoridades regionales para difusión y educación de la legislación contingen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esencia constante en Congresos y Seminarios nacional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cuerdos de Cooperación con Agencias de Competencia Internacional – Esto es fundamental para la acción contra los carteles internacion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A7BC524F-0A87-4E4C-9157-B9D9768DF884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105840"/>
            <a:ext cx="8099280" cy="100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  <a:ea typeface="Arial"/>
              </a:rPr>
              <a:t>NUEVAS HERRAMIENTAS INVESTIGATIVAS Y DISUASIVAS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2 Marcador de contenido" descr=""/>
          <p:cNvPicPr/>
          <p:nvPr/>
        </p:nvPicPr>
        <p:blipFill>
          <a:blip r:embed="rId1"/>
          <a:stretch/>
        </p:blipFill>
        <p:spPr>
          <a:xfrm>
            <a:off x="426960" y="1109520"/>
            <a:ext cx="8163000" cy="3907080"/>
          </a:xfrm>
          <a:prstGeom prst="rect">
            <a:avLst/>
          </a:prstGeom>
          <a:ln w="0">
            <a:noFill/>
          </a:ln>
        </p:spPr>
      </p:pic>
      <p:sp>
        <p:nvSpPr>
          <p:cNvPr id="101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965DF3EE-E458-4E42-AE71-313FDE744E8A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2D202A77-A14E-4691-BE0C-F5E83E86DEDA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2 Rectángulo"/>
          <p:cNvSpPr/>
          <p:nvPr/>
        </p:nvSpPr>
        <p:spPr>
          <a:xfrm>
            <a:off x="2116080" y="2322360"/>
            <a:ext cx="959040" cy="308160"/>
          </a:xfrm>
          <a:prstGeom prst="rect">
            <a:avLst/>
          </a:prstGeom>
          <a:solidFill>
            <a:srgbClr val="c5c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720FF2B8-F754-4BF3-A090-78A64ACB334E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6 Diagrama" descr=""/>
          <p:cNvPicPr/>
          <p:nvPr/>
        </p:nvPicPr>
        <p:blipFill>
          <a:blip r:embed="rId1"/>
          <a:stretch/>
        </p:blipFill>
        <p:spPr>
          <a:xfrm>
            <a:off x="669960" y="1457280"/>
            <a:ext cx="7596000" cy="4930920"/>
          </a:xfrm>
          <a:prstGeom prst="rect">
            <a:avLst/>
          </a:prstGeom>
          <a:ln w="0">
            <a:noFill/>
          </a:ln>
        </p:spPr>
      </p:pic>
      <p:sp>
        <p:nvSpPr>
          <p:cNvPr id="110" name="7 CuadroTexto"/>
          <p:cNvSpPr/>
          <p:nvPr/>
        </p:nvSpPr>
        <p:spPr>
          <a:xfrm>
            <a:off x="498600" y="219240"/>
            <a:ext cx="793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800" spc="-1" strike="noStrike">
                <a:solidFill>
                  <a:srgbClr val="617a8a"/>
                </a:solidFill>
                <a:latin typeface="Arial"/>
              </a:rPr>
              <a:t>Métodos de Det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os métodos de detección de carteles, usando análisis económicos pueden ser agrupados 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CuadroTexto"/>
          <p:cNvSpPr/>
          <p:nvPr/>
        </p:nvSpPr>
        <p:spPr>
          <a:xfrm>
            <a:off x="2411280" y="34909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9 Rectángulo" descr=""/>
          <p:cNvPicPr/>
          <p:nvPr/>
        </p:nvPicPr>
        <p:blipFill>
          <a:blip r:embed="rId2"/>
          <a:stretch/>
        </p:blipFill>
        <p:spPr>
          <a:xfrm>
            <a:off x="5510160" y="2401920"/>
            <a:ext cx="1774800" cy="377640"/>
          </a:xfrm>
          <a:prstGeom prst="rect">
            <a:avLst/>
          </a:prstGeom>
          <a:ln w="0">
            <a:noFill/>
          </a:ln>
        </p:spPr>
      </p:pic>
      <p:sp>
        <p:nvSpPr>
          <p:cNvPr id="113" name="10 Rectángulo"/>
          <p:cNvSpPr/>
          <p:nvPr/>
        </p:nvSpPr>
        <p:spPr>
          <a:xfrm>
            <a:off x="2411280" y="2322360"/>
            <a:ext cx="287640" cy="308160"/>
          </a:xfrm>
          <a:prstGeom prst="rect">
            <a:avLst/>
          </a:prstGeom>
          <a:solidFill>
            <a:srgbClr val="c5c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3 Rectángulo"/>
          <p:cNvSpPr/>
          <p:nvPr/>
        </p:nvSpPr>
        <p:spPr>
          <a:xfrm>
            <a:off x="2411280" y="2630520"/>
            <a:ext cx="287640" cy="55440"/>
          </a:xfrm>
          <a:prstGeom prst="rect">
            <a:avLst/>
          </a:prstGeom>
          <a:solidFill>
            <a:srgbClr val="bec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11 Rectángulo" descr=""/>
          <p:cNvPicPr/>
          <p:nvPr/>
        </p:nvPicPr>
        <p:blipFill>
          <a:blip r:embed="rId3"/>
          <a:stretch/>
        </p:blipFill>
        <p:spPr>
          <a:xfrm>
            <a:off x="1633680" y="2462040"/>
            <a:ext cx="1815840" cy="3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1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BD91D251-62D2-47B0-A3E5-C2F11E5DDD99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uadroTexto 3"/>
          <p:cNvSpPr/>
          <p:nvPr/>
        </p:nvSpPr>
        <p:spPr>
          <a:xfrm>
            <a:off x="974880" y="20520"/>
            <a:ext cx="802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800" spc="-1" strike="noStrike">
                <a:solidFill>
                  <a:srgbClr val="617a8a"/>
                </a:solidFill>
                <a:latin typeface="Arial"/>
              </a:rPr>
              <a:t>Análisis Estruc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333F7ED0-9380-46DE-AF08-A27FF74915B9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6 CuadroTexto"/>
          <p:cNvSpPr/>
          <p:nvPr/>
        </p:nvSpPr>
        <p:spPr>
          <a:xfrm>
            <a:off x="974880" y="1258920"/>
            <a:ext cx="7340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44560" y="528480"/>
          <a:ext cx="7615080" cy="5810400"/>
        </p:xfrm>
        <a:graphic>
          <a:graphicData uri="http://schemas.openxmlformats.org/drawingml/2006/table">
            <a:tbl>
              <a:tblPr/>
              <a:tblGrid>
                <a:gridCol w="5095800"/>
                <a:gridCol w="1224000"/>
                <a:gridCol w="129528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C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acterís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C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ilita Colus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C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iculta Colus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ntración del Merc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 Homogén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reras a la Entr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arencia de Precios e Intercambio de Inform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os Niveles de Innov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etría en Cos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o Multimerc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a Elasticidad de la Dem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er Monopsón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es Estructurales entre Empre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erdos de Cooper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ncia de una Empresa Maveri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ociaciones Gremi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a Cre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ctuaciones de la Dem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</a:tbl>
          </a:graphicData>
        </a:graphic>
      </p:graphicFrame>
      <p:pic>
        <p:nvPicPr>
          <p:cNvPr id="123" name="9 Imagen" descr="click.png"/>
          <p:cNvPicPr/>
          <p:nvPr/>
        </p:nvPicPr>
        <p:blipFill>
          <a:blip r:embed="rId1"/>
          <a:stretch/>
        </p:blipFill>
        <p:spPr>
          <a:xfrm>
            <a:off x="6448320" y="1225440"/>
            <a:ext cx="211320" cy="211320"/>
          </a:xfrm>
          <a:prstGeom prst="rect">
            <a:avLst/>
          </a:prstGeom>
          <a:ln w="0">
            <a:noFill/>
          </a:ln>
        </p:spPr>
      </p:pic>
      <p:pic>
        <p:nvPicPr>
          <p:cNvPr id="124" name="10 Imagen" descr="click.png"/>
          <p:cNvPicPr/>
          <p:nvPr/>
        </p:nvPicPr>
        <p:blipFill>
          <a:blip r:embed="rId2"/>
          <a:stretch/>
        </p:blipFill>
        <p:spPr>
          <a:xfrm>
            <a:off x="6448320" y="1542960"/>
            <a:ext cx="211320" cy="211320"/>
          </a:xfrm>
          <a:prstGeom prst="rect">
            <a:avLst/>
          </a:prstGeom>
          <a:ln w="0">
            <a:noFill/>
          </a:ln>
        </p:spPr>
      </p:pic>
      <p:pic>
        <p:nvPicPr>
          <p:cNvPr id="125" name="11 Imagen" descr="click.png"/>
          <p:cNvPicPr/>
          <p:nvPr/>
        </p:nvPicPr>
        <p:blipFill>
          <a:blip r:embed="rId3"/>
          <a:stretch/>
        </p:blipFill>
        <p:spPr>
          <a:xfrm>
            <a:off x="6448320" y="195264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26" name="12 Imagen" descr="click.png"/>
          <p:cNvPicPr/>
          <p:nvPr/>
        </p:nvPicPr>
        <p:blipFill>
          <a:blip r:embed="rId4"/>
          <a:stretch/>
        </p:blipFill>
        <p:spPr>
          <a:xfrm>
            <a:off x="7812000" y="230508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27" name="13 Imagen" descr="click.png"/>
          <p:cNvPicPr/>
          <p:nvPr/>
        </p:nvPicPr>
        <p:blipFill>
          <a:blip r:embed="rId5"/>
          <a:stretch/>
        </p:blipFill>
        <p:spPr>
          <a:xfrm>
            <a:off x="6448320" y="26989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28" name="14 Imagen" descr="click.png"/>
          <p:cNvPicPr/>
          <p:nvPr/>
        </p:nvPicPr>
        <p:blipFill>
          <a:blip r:embed="rId6"/>
          <a:stretch/>
        </p:blipFill>
        <p:spPr>
          <a:xfrm>
            <a:off x="6448320" y="305928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29" name="15 Imagen" descr="click.png"/>
          <p:cNvPicPr/>
          <p:nvPr/>
        </p:nvPicPr>
        <p:blipFill>
          <a:blip r:embed="rId7"/>
          <a:stretch/>
        </p:blipFill>
        <p:spPr>
          <a:xfrm>
            <a:off x="6448320" y="341964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30" name="16 Imagen" descr="click.png"/>
          <p:cNvPicPr/>
          <p:nvPr/>
        </p:nvPicPr>
        <p:blipFill>
          <a:blip r:embed="rId8"/>
          <a:stretch/>
        </p:blipFill>
        <p:spPr>
          <a:xfrm>
            <a:off x="7812000" y="378000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31" name="17 Imagen" descr="click.png"/>
          <p:cNvPicPr/>
          <p:nvPr/>
        </p:nvPicPr>
        <p:blipFill>
          <a:blip r:embed="rId9"/>
          <a:stretch/>
        </p:blipFill>
        <p:spPr>
          <a:xfrm>
            <a:off x="6448320" y="414036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32" name="18 Imagen" descr="click.png"/>
          <p:cNvPicPr/>
          <p:nvPr/>
        </p:nvPicPr>
        <p:blipFill>
          <a:blip r:embed="rId10"/>
          <a:stretch/>
        </p:blipFill>
        <p:spPr>
          <a:xfrm>
            <a:off x="6496200" y="565164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33" name="19 Imagen" descr="click.png"/>
          <p:cNvPicPr/>
          <p:nvPr/>
        </p:nvPicPr>
        <p:blipFill>
          <a:blip r:embed="rId11"/>
          <a:stretch/>
        </p:blipFill>
        <p:spPr>
          <a:xfrm>
            <a:off x="6496200" y="529128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34" name="20 Imagen" descr="click.png"/>
          <p:cNvPicPr/>
          <p:nvPr/>
        </p:nvPicPr>
        <p:blipFill>
          <a:blip r:embed="rId12"/>
          <a:stretch/>
        </p:blipFill>
        <p:spPr>
          <a:xfrm>
            <a:off x="7812000" y="489744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35" name="21 Imagen" descr="click.png"/>
          <p:cNvPicPr/>
          <p:nvPr/>
        </p:nvPicPr>
        <p:blipFill>
          <a:blip r:embed="rId13"/>
          <a:stretch/>
        </p:blipFill>
        <p:spPr>
          <a:xfrm>
            <a:off x="6462720" y="4505400"/>
            <a:ext cx="210960" cy="210960"/>
          </a:xfrm>
          <a:prstGeom prst="rect">
            <a:avLst/>
          </a:prstGeom>
          <a:ln w="0">
            <a:noFill/>
          </a:ln>
        </p:spPr>
      </p:pic>
      <p:pic>
        <p:nvPicPr>
          <p:cNvPr id="136" name="22 Imagen" descr="click.png"/>
          <p:cNvPicPr/>
          <p:nvPr/>
        </p:nvPicPr>
        <p:blipFill>
          <a:blip r:embed="rId14"/>
          <a:stretch/>
        </p:blipFill>
        <p:spPr>
          <a:xfrm>
            <a:off x="7859880" y="5996160"/>
            <a:ext cx="210960" cy="210960"/>
          </a:xfrm>
          <a:prstGeom prst="rect">
            <a:avLst/>
          </a:prstGeom>
          <a:ln w="0">
            <a:noFill/>
          </a:ln>
        </p:spPr>
      </p:pic>
      <p:pic>
        <p:nvPicPr>
          <p:cNvPr id="137" name="9 Imagen" descr="click.png"/>
          <p:cNvPicPr/>
          <p:nvPr/>
        </p:nvPicPr>
        <p:blipFill>
          <a:blip r:embed="rId15"/>
          <a:stretch/>
        </p:blipFill>
        <p:spPr>
          <a:xfrm>
            <a:off x="6448320" y="826920"/>
            <a:ext cx="211320" cy="21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1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09543956-FA91-4307-A788-BAF9190A4CD9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1 Título"/>
          <p:cNvSpPr/>
          <p:nvPr/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3200" spc="-1" strike="noStrike">
                <a:solidFill>
                  <a:srgbClr val="617a8a"/>
                </a:solidFill>
                <a:latin typeface="Arial"/>
              </a:rPr>
              <a:t>Análisis condu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6FB3C585-630F-4342-9101-67433A738363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4 Imagen" descr="bigger profits.jpg"/>
          <p:cNvPicPr/>
          <p:nvPr/>
        </p:nvPicPr>
        <p:blipFill>
          <a:blip r:embed="rId1"/>
          <a:stretch/>
        </p:blipFill>
        <p:spPr>
          <a:xfrm>
            <a:off x="528480" y="2043000"/>
            <a:ext cx="1090800" cy="1090800"/>
          </a:xfrm>
          <a:prstGeom prst="rect">
            <a:avLst/>
          </a:prstGeom>
          <a:ln w="0">
            <a:noFill/>
          </a:ln>
        </p:spPr>
      </p:pic>
      <p:pic>
        <p:nvPicPr>
          <p:cNvPr id="142" name="5 Imagen" descr="financial_stability1.jpg"/>
          <p:cNvPicPr/>
          <p:nvPr/>
        </p:nvPicPr>
        <p:blipFill>
          <a:blip r:embed="rId2"/>
          <a:stretch/>
        </p:blipFill>
        <p:spPr>
          <a:xfrm>
            <a:off x="1978200" y="2341440"/>
            <a:ext cx="1306440" cy="682920"/>
          </a:xfrm>
          <a:prstGeom prst="rect">
            <a:avLst/>
          </a:prstGeom>
          <a:ln w="0">
            <a:noFill/>
          </a:ln>
        </p:spPr>
      </p:pic>
      <p:sp>
        <p:nvSpPr>
          <p:cNvPr id="143" name="6 CuadroTexto"/>
          <p:cNvSpPr/>
          <p:nvPr/>
        </p:nvSpPr>
        <p:spPr>
          <a:xfrm>
            <a:off x="395280" y="3267000"/>
            <a:ext cx="15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ás elev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7 CuadroTexto"/>
          <p:cNvSpPr/>
          <p:nvPr/>
        </p:nvSpPr>
        <p:spPr>
          <a:xfrm>
            <a:off x="1835280" y="326700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aja var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8 Imagen" descr="greedy CEOs.png"/>
          <p:cNvPicPr/>
          <p:nvPr/>
        </p:nvPicPr>
        <p:blipFill>
          <a:blip r:embed="rId3"/>
          <a:stretch/>
        </p:blipFill>
        <p:spPr>
          <a:xfrm>
            <a:off x="3851280" y="1792440"/>
            <a:ext cx="1636560" cy="1212840"/>
          </a:xfrm>
          <a:prstGeom prst="rect">
            <a:avLst/>
          </a:prstGeom>
          <a:ln w="0">
            <a:noFill/>
          </a:ln>
        </p:spPr>
      </p:pic>
      <p:sp>
        <p:nvSpPr>
          <p:cNvPr id="146" name="9 CuadroTexto"/>
          <p:cNvSpPr/>
          <p:nvPr/>
        </p:nvSpPr>
        <p:spPr>
          <a:xfrm>
            <a:off x="3284640" y="2806560"/>
            <a:ext cx="2448000" cy="82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doni MT Poster Compressed"/>
              </a:rPr>
              <a:t>     </a:t>
            </a:r>
            <a:r>
              <a:rPr b="0" lang="es-CL" sz="2400" spc="-1" strike="noStrike">
                <a:solidFill>
                  <a:srgbClr val="000000"/>
                </a:solidFill>
                <a:latin typeface="Bodoni MT Poster Compressed"/>
              </a:rPr>
              <a:t>¡¿</a:t>
            </a:r>
            <a:r>
              <a:rPr b="0" lang="es-CL" sz="1200" spc="-1" strike="noStrike">
                <a:solidFill>
                  <a:srgbClr val="000000"/>
                </a:solidFill>
                <a:latin typeface="Bodoni MT Poster Compressed"/>
              </a:rPr>
              <a:t>YQUIÉN DICE QUE TENGO QUE BAJAR LOS PRECIOS?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0 CuadroTexto"/>
          <p:cNvSpPr/>
          <p:nvPr/>
        </p:nvSpPr>
        <p:spPr>
          <a:xfrm>
            <a:off x="3284640" y="3267000"/>
            <a:ext cx="30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enor relación con co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F:\dollar.gif"/>
          <p:cNvPicPr/>
          <p:nvPr/>
        </p:nvPicPr>
        <p:blipFill>
          <a:blip r:embed="rId4"/>
          <a:stretch/>
        </p:blipFill>
        <p:spPr>
          <a:xfrm>
            <a:off x="7095960" y="2062080"/>
            <a:ext cx="508320" cy="962280"/>
          </a:xfrm>
          <a:prstGeom prst="rect">
            <a:avLst/>
          </a:prstGeom>
          <a:ln w="0">
            <a:noFill/>
          </a:ln>
        </p:spPr>
      </p:pic>
      <p:sp>
        <p:nvSpPr>
          <p:cNvPr id="149" name="12 CuadroTexto"/>
          <p:cNvSpPr/>
          <p:nvPr/>
        </p:nvSpPr>
        <p:spPr>
          <a:xfrm>
            <a:off x="6083280" y="326700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árgenes más elev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3 CuadroTexto"/>
          <p:cNvSpPr/>
          <p:nvPr/>
        </p:nvSpPr>
        <p:spPr>
          <a:xfrm>
            <a:off x="754200" y="125100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EC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CuadroTexto"/>
          <p:cNvSpPr/>
          <p:nvPr/>
        </p:nvSpPr>
        <p:spPr>
          <a:xfrm>
            <a:off x="698400" y="385128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NTIDAD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Rectángulo"/>
          <p:cNvSpPr/>
          <p:nvPr/>
        </p:nvSpPr>
        <p:spPr>
          <a:xfrm>
            <a:off x="754200" y="4394160"/>
            <a:ext cx="4498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2520" indent="4680">
              <a:lnSpc>
                <a:spcPct val="100000"/>
              </a:lnSpc>
              <a:tabLst>
                <a:tab algn="l" pos="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cipaciones de mercado altamente estables en el tiem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4680">
              <a:lnSpc>
                <a:spcPct val="100000"/>
              </a:lnSpc>
              <a:tabLst>
                <a:tab algn="l" pos="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4680">
              <a:lnSpc>
                <a:spcPct val="100000"/>
              </a:lnSpc>
              <a:tabLst>
                <a:tab algn="l" pos="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tación de las ofertas y de los ofer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Imagen 24" descr=""/>
          <p:cNvPicPr/>
          <p:nvPr/>
        </p:nvPicPr>
        <p:blipFill>
          <a:blip r:embed="rId5"/>
          <a:stretch/>
        </p:blipFill>
        <p:spPr>
          <a:xfrm>
            <a:off x="5724360" y="4059360"/>
            <a:ext cx="2926080" cy="1854000"/>
          </a:xfrm>
          <a:prstGeom prst="rect">
            <a:avLst/>
          </a:prstGeom>
          <a:ln w="0">
            <a:noFill/>
          </a:ln>
        </p:spPr>
      </p:pic>
      <p:sp>
        <p:nvSpPr>
          <p:cNvPr id="154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800" spc="-1" strike="noStrike">
                <a:solidFill>
                  <a:srgbClr val="617a8a"/>
                </a:solidFill>
                <a:latin typeface="Arial"/>
                <a:ea typeface="Arial"/>
              </a:rPr>
              <a:t>Uso de facultades duras para la recopilación de pruebas e indicios del actual coordina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oble tramitación: TDLC y Corte de Apela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lanificación diligencia: simultanea y sigilo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visión de antecedentes, entrevistas con autoridades, envíos de oficios, declaración de los investigados, declaración de ex-funcionarios, declaraciones de personas que pudiera presentar nuevos antecede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úsqueda de jurisprudencia interna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ifusión entre los investigados de los beneficios de la suscripción a la Delación Compens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T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C393E191-A21C-4564-976F-9E835F8DD8C2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CuadroTexto 3"/>
          <p:cNvSpPr/>
          <p:nvPr/>
        </p:nvSpPr>
        <p:spPr>
          <a:xfrm>
            <a:off x="974880" y="760320"/>
            <a:ext cx="7700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RESULTADOS POSIB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uadroTexto 3"/>
          <p:cNvSpPr/>
          <p:nvPr/>
        </p:nvSpPr>
        <p:spPr>
          <a:xfrm>
            <a:off x="652320" y="6440400"/>
            <a:ext cx="802332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A7154E7E-CA2D-41FB-8AF8-6DD4F04CAFDD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46040" y="1323720"/>
            <a:ext cx="8229600" cy="551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RCHIVO/ REQUERIMIENTO ANTE EL TDL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jemplo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ecumse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arma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Buses (Terminales y Curacav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SENTENCIA TDLC/C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adios, Sentencia N°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ransporte - varios por acuerdos de precio/reparto de mercado/ exclusión de competidores, Sentencias N°102, 94, 8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Oxigeno, Sentencia N°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sapre, Sentencia N°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lasma, Sentencia N°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sfalto, Sentencia N°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Imagen 5" descr="1.jpg"/>
          <p:cNvPicPr/>
          <p:nvPr/>
        </p:nvPicPr>
        <p:blipFill>
          <a:blip r:embed="rId1"/>
          <a:stretch/>
        </p:blipFill>
        <p:spPr>
          <a:xfrm>
            <a:off x="-36360" y="0"/>
            <a:ext cx="9034200" cy="6867360"/>
          </a:xfrm>
          <a:prstGeom prst="rect">
            <a:avLst/>
          </a:prstGeom>
          <a:ln w="0">
            <a:noFill/>
          </a:ln>
        </p:spPr>
      </p:pic>
      <p:sp>
        <p:nvSpPr>
          <p:cNvPr id="167" name="CuadroTexto 3"/>
          <p:cNvSpPr/>
          <p:nvPr/>
        </p:nvSpPr>
        <p:spPr>
          <a:xfrm>
            <a:off x="106200" y="1955880"/>
            <a:ext cx="592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6000" spc="-1" strike="noStrike">
                <a:solidFill>
                  <a:srgbClr val="617a8a"/>
                </a:solidFill>
                <a:latin typeface="Arial"/>
              </a:rPr>
              <a:t>CARTE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CuadroTexto 3"/>
          <p:cNvSpPr/>
          <p:nvPr/>
        </p:nvSpPr>
        <p:spPr>
          <a:xfrm>
            <a:off x="974880" y="466560"/>
            <a:ext cx="802296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000" spc="-1" strike="noStrike">
                <a:solidFill>
                  <a:srgbClr val="617a8a"/>
                </a:solidFill>
                <a:latin typeface="Arial"/>
                <a:ea typeface="Arial"/>
              </a:rPr>
              <a:t>CONTEN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Defin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Grave infracción a la libre compe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FNE y el combate a los cart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Nuevas Herramientas Investig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Nuevas Herramientas Disuas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Métodos de Det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F8A297CA-5BC1-4A39-AD55-1CD2E09B0EDA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uadroTexto 3"/>
          <p:cNvSpPr/>
          <p:nvPr/>
        </p:nvSpPr>
        <p:spPr>
          <a:xfrm>
            <a:off x="969840" y="6440400"/>
            <a:ext cx="802332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CuadroTexto 3"/>
          <p:cNvSpPr/>
          <p:nvPr/>
        </p:nvSpPr>
        <p:spPr>
          <a:xfrm>
            <a:off x="130320" y="3441600"/>
            <a:ext cx="630684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4000" spc="-1" strike="noStrike">
                <a:solidFill>
                  <a:srgbClr val="617a8a"/>
                </a:solidFill>
                <a:latin typeface="Arial"/>
              </a:rPr>
              <a:t>¿Qué son los acuerdos o carteles en materia de libre competencia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agen 4" descr="logo.jpg"/>
          <p:cNvPicPr/>
          <p:nvPr/>
        </p:nvPicPr>
        <p:blipFill>
          <a:blip r:embed="rId1"/>
          <a:stretch/>
        </p:blipFill>
        <p:spPr>
          <a:xfrm>
            <a:off x="6437160" y="1255680"/>
            <a:ext cx="2560680" cy="18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uadroTexto 3"/>
          <p:cNvSpPr/>
          <p:nvPr/>
        </p:nvSpPr>
        <p:spPr>
          <a:xfrm>
            <a:off x="847800" y="500040"/>
            <a:ext cx="7700760" cy="59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800" spc="-1" strike="noStrike">
                <a:solidFill>
                  <a:srgbClr val="617a8a"/>
                </a:solidFill>
                <a:latin typeface="Arial"/>
              </a:rPr>
              <a:t>DEFINI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RAE: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“Convenio entre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varias empresas similares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par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evitar la mutua competencia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y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regular la producción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venta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y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precio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en determinado campo industrial”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Coloma: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“La colusión puede definirse como una situación en la cual un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serie de empresas acuerdan no competir entre ellas con el objetivo de incrementar los beneficios conjuntos de todo el grupo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Art. 3 DL. 211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“…Se considerarán, entre otros, como hechos, actos o convenciones que impiden, restringen o entorpecen la libre competencia o que tienden a producir dichos efectos, los siguien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a) 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Los acuerdos expresos o tácitos entre competidores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, o las prácticas concertadas entre ellos, 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que les confieran poder de mercado 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y que consisten en 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fijar precios de venta, de compra u otras condiciones de comercialización, limitar la producción, asignarse zonas o cuotas de mercado, excluir competidores o afectar el resultado de procesos de licitación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”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E69C459D-D2B1-49FE-AAAF-C2CEF44B8AC1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04DABC22-0966-452D-BA93-2C9AAABB463E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uadroTexto 3"/>
          <p:cNvSpPr/>
          <p:nvPr/>
        </p:nvSpPr>
        <p:spPr>
          <a:xfrm>
            <a:off x="974880" y="192240"/>
            <a:ext cx="7196040" cy="64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POR LO TA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XISTENCIA DE UN ACUERDO– NO NECESARIAMENTE EXPR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ACUERDO TIENE QUE SER ENTRE COMPETI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IENE QUE CONFERIR PODER DE MERCADO A SUS PARTÍCI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Y  TIENE QUE TENER POR OBJETO (aptitud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jar precios de venta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de compr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jar otras condiciones de comercializació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ar la producció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ignarse zonas de mercad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ignarse cuotas de mercad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cluir competidores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ectar el resultado de procesos de licitación – “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d rigging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tabLst>
                <a:tab algn="l" pos="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CuadroTexto 3"/>
          <p:cNvSpPr/>
          <p:nvPr/>
        </p:nvSpPr>
        <p:spPr>
          <a:xfrm>
            <a:off x="974880" y="760320"/>
            <a:ext cx="77007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Afectar el resultado de procesos de licit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3FD5660D-6B50-4959-9869-32978C4FCD99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18960" y="1186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just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890640" y="1187280"/>
            <a:ext cx="72165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resión o limitación de propue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puestas de cober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tación del gan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contratación de un compet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9 Flecha abajo"/>
          <p:cNvSpPr/>
          <p:nvPr/>
        </p:nvSpPr>
        <p:spPr>
          <a:xfrm>
            <a:off x="3851280" y="3203640"/>
            <a:ext cx="1008000" cy="1224000"/>
          </a:xfrm>
          <a:prstGeom prst="down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5b7b90"/>
              </a:gs>
              <a:gs pos="100000">
                <a:srgbClr val="b8cddc"/>
              </a:gs>
            </a:gsLst>
            <a:lin ang="16200000"/>
          </a:gradFill>
          <a:ln w="9360">
            <a:solidFill>
              <a:srgbClr val="5e778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10 CuadroTexto"/>
          <p:cNvSpPr/>
          <p:nvPr/>
        </p:nvSpPr>
        <p:spPr>
          <a:xfrm>
            <a:off x="466560" y="3851280"/>
            <a:ext cx="764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 el objetivo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EVAR 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uadroTexto 3"/>
          <p:cNvSpPr/>
          <p:nvPr/>
        </p:nvSpPr>
        <p:spPr>
          <a:xfrm>
            <a:off x="395280" y="554040"/>
            <a:ext cx="81532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400" spc="-1" strike="noStrike">
                <a:solidFill>
                  <a:srgbClr val="617a8a"/>
                </a:solidFill>
                <a:latin typeface="Arial"/>
                <a:ea typeface="Arial"/>
              </a:rPr>
              <a:t>¿POR QUÉ ES TEMA “ALTERAR EL RESULTADO DEL PROCESO DE LICITACIÓN”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Alto volumen de recursos involucrad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Operaciones a través del mercado público: USD$ 6.500 millones aprox. anual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Otras operaciones vía licitación al margen de mercado público: USD$ 2.000 millones aprox. Anu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Operaciones vía licitaciones de empresas pública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Ej. Codelco: USD$ 10.000 millones aprox. anuales (incluye gastos e inversió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Las compras anteriores representan aprox. entre el 8% y el 10% del PIB de Chil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400" spc="-1" strike="noStrike">
                <a:solidFill>
                  <a:srgbClr val="617a8a"/>
                </a:solidFill>
                <a:latin typeface="Arial"/>
                <a:ea typeface="Arial"/>
              </a:rPr>
              <a:t>Estim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USD$ 15.000 millones aprox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Existe colusión en licitaciones que representan un 0,5% de dicho mont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(USD$ 750 millones aprox. Pagad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Los sobreprecios pagados son de un 10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Significa que lo que debió pagarse fue USD$ 750 –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USD$68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 =        USD$ 6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55091829-7CEB-4902-ADF0-6458A0DCD112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CuadroTexto 3"/>
          <p:cNvSpPr/>
          <p:nvPr/>
        </p:nvSpPr>
        <p:spPr>
          <a:xfrm>
            <a:off x="974880" y="760320"/>
            <a:ext cx="770076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GRAVE INFRACCIÓN A LA LIBRE COMPE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78B6CE1B-069E-4C9C-931F-AE4DD69429DA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5 Rectángulo"/>
          <p:cNvSpPr/>
          <p:nvPr/>
        </p:nvSpPr>
        <p:spPr>
          <a:xfrm>
            <a:off x="611280" y="1116000"/>
            <a:ext cx="82422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REJUICIOS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PERNICIOSOS SOBRE LOS CONSUMIDORES Y EL ESTADO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UMENTO DEL PRECIO (en promedio de un 10%-20%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or sobre el precio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mpetitivo, según OC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DUCCIÓN DE LA OFERTA (en  promedio de un 20%,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gún la OC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UMENTO DE GASTOS DEL GOBIERNO; distribución ineficiente de recursos públ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NOR CALIDAD, MENOR VARIEDAD DE PRODUCTOS Y DESINCENTIVO A LA INOV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n síntesis: Reducción del bienestar del consumidor y transferencia de renta desde los consumidores hacia a las empresas carteliz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42920"/>
            <a:ext cx="702972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CL" sz="1800" spc="-1" strike="noStrike">
                <a:solidFill>
                  <a:srgbClr val="617a8a"/>
                </a:solidFill>
                <a:latin typeface="Arial"/>
              </a:rPr>
              <a:t>ESTUDIO SOBRE ESTIMACIONES DE SOBRE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125360" y="1424160"/>
          <a:ext cx="6890040" cy="4894200"/>
        </p:xfrm>
        <a:graphic>
          <a:graphicData uri="http://schemas.openxmlformats.org/drawingml/2006/table">
            <a:tbl>
              <a:tblPr/>
              <a:tblGrid>
                <a:gridCol w="2024280"/>
                <a:gridCol w="1701720"/>
                <a:gridCol w="1616040"/>
                <a:gridCol w="1548000"/>
              </a:tblGrid>
              <a:tr h="1002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er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estr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° de cartel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breprecio promedio 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breprecio mediana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</a:tr>
              <a:tr h="100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hen y Scheffman (198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–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 – 1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8 – 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den (200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93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ner (200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nstein y Suslow (200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ffin (198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100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DE (2003), excluyendo los más al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</a:tbl>
          </a:graphicData>
        </a:graphic>
      </p:graphicFrame>
      <p:sp>
        <p:nvSpPr>
          <p:cNvPr id="83" name="4 Rectángulo"/>
          <p:cNvSpPr/>
          <p:nvPr/>
        </p:nvSpPr>
        <p:spPr>
          <a:xfrm>
            <a:off x="1127880" y="6176880"/>
            <a:ext cx="221616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360" bIns="45360"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(Connor y Bolotova 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18:04:11Z</dcterms:created>
  <dc:creator>Fernando Araya</dc:creator>
  <dc:description/>
  <dc:language>en-US</dc:language>
  <cp:lastModifiedBy>Felipe Irarrázabal</cp:lastModifiedBy>
  <dcterms:modified xsi:type="dcterms:W3CDTF">2011-11-17T20:17:04Z</dcterms:modified>
  <cp:revision>94</cp:revision>
  <dc:subject/>
  <dc:title>Diapositiva 1</dc:title>
</cp:coreProperties>
</file>