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8996363" cy="6840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F55F0901-27C3-41EF-8E6A-BBD1363DAC9C}" type="datetime">
              <a:rPr b="0" lang="es-ES_tradnl" sz="12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4680" y="685440"/>
            <a:ext cx="45086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71995758-247F-4E1F-A046-4D0E3C6D98F0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50864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81B92F33-634F-4A04-8FD8-5480DC60A311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50864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DF2705A8-537D-4F62-BE67-72051BFABF69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50864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7010B709-A851-40F7-B8C1-AC2CA7E5DE2B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50864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9C9C170B-3C92-4532-8FF3-521E660BB98C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50864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8A86542F-1B52-4E33-87DE-42F13C8C1DBA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50864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E7F28B1A-380C-49FD-8017-BEC48DD6722C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50864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C8B63ECF-7298-416C-83C4-439EE734D90A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50864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0DF17DE8-097D-4DC0-B3BC-F34E5E84301E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50864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C937FF71-ECA4-4890-ABBB-12685388BD1A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B1CB-C88D-44A0-89E1-85DE281A3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9280" y="1595160"/>
            <a:ext cx="80992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9280" y="3952800"/>
            <a:ext cx="80992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CC24-14D2-487E-BB6B-90DBE4A55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9280" y="159516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9720" y="159516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9280" y="395280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9720" y="395280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E2CE-A112-4683-8F6C-7A22421F6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9280" y="1595160"/>
            <a:ext cx="26078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7800" y="1595160"/>
            <a:ext cx="26078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6680" y="1595160"/>
            <a:ext cx="26078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9280" y="3952800"/>
            <a:ext cx="26078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7800" y="3952800"/>
            <a:ext cx="26078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6680" y="3952800"/>
            <a:ext cx="26078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6554-BF5F-45A1-87D6-8C4D710C9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9280" y="1595160"/>
            <a:ext cx="80992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8885-DCCD-43BC-8DD5-204EEE299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9280" y="1595160"/>
            <a:ext cx="80992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CF9E-9D0F-4084-AEE6-A27FF2B9F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9280" y="1595160"/>
            <a:ext cx="395244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9720" y="1595160"/>
            <a:ext cx="395244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C970-A03B-4706-B14E-4810CE55E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1FAC-0603-4383-8A61-0EE1DDD36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9280" y="274680"/>
            <a:ext cx="80992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B50C-CABA-45AA-92CD-BB0C0C89C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9280" y="159516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9720" y="1595160"/>
            <a:ext cx="395244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9280" y="395280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9D2B-D88B-401E-ADF2-2208FF9B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9280" y="1595160"/>
            <a:ext cx="395244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9720" y="159516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9720" y="395280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DD37-DF19-4665-B817-CEC3195D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9280" y="159516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9720" y="159516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9280" y="3952800"/>
            <a:ext cx="80992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7534-EF28-4BEB-BDFA-2471F3D0A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9280" y="1595160"/>
            <a:ext cx="80992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4928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  <a:defRPr b="0" lang="es-ES_trad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3A7DD92A-AAFE-4527-82A0-F011AB02334A}" type="datetime">
              <a:rPr b="0" lang="es-ES_tradnl" sz="1200" spc="-1" strike="noStrike">
                <a:solidFill>
                  <a:srgbClr val="898989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74760" y="6338880"/>
            <a:ext cx="2847960" cy="36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  <a:defRPr b="0" lang="es-ES_trad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625439EB-F9D8-4E59-AB3B-0940AFE85891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agen 5" descr="1.jpg"/>
          <p:cNvPicPr/>
          <p:nvPr/>
        </p:nvPicPr>
        <p:blipFill>
          <a:blip r:embed="rId1"/>
          <a:stretch/>
        </p:blipFill>
        <p:spPr>
          <a:xfrm>
            <a:off x="-36360" y="0"/>
            <a:ext cx="9034200" cy="6867360"/>
          </a:xfrm>
          <a:prstGeom prst="rect">
            <a:avLst/>
          </a:prstGeom>
          <a:ln w="0">
            <a:noFill/>
          </a:ln>
        </p:spPr>
      </p:pic>
      <p:sp>
        <p:nvSpPr>
          <p:cNvPr id="49" name="CuadroTexto 3"/>
          <p:cNvSpPr/>
          <p:nvPr/>
        </p:nvSpPr>
        <p:spPr>
          <a:xfrm>
            <a:off x="106200" y="1955880"/>
            <a:ext cx="592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6000" spc="-1" strike="noStrike">
                <a:solidFill>
                  <a:srgbClr val="617a8a"/>
                </a:solidFill>
                <a:latin typeface="Arial"/>
              </a:rPr>
              <a:t>CARTE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CuadroTexto 3"/>
          <p:cNvSpPr/>
          <p:nvPr/>
        </p:nvSpPr>
        <p:spPr>
          <a:xfrm>
            <a:off x="974880" y="760320"/>
            <a:ext cx="77007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1800" spc="-1" strike="noStrike">
                <a:solidFill>
                  <a:srgbClr val="617a8a"/>
                </a:solidFill>
                <a:latin typeface="Arial"/>
              </a:rPr>
              <a:t>FISCALÍA NACIONAL ECONÓMICA Y EL COMBATE A LOS CARTE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Conector recto 6"/>
          <p:cNvSpPr/>
          <p:nvPr/>
        </p:nvSpPr>
        <p:spPr>
          <a:xfrm>
            <a:off x="0" y="644364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426135A0-8E0C-49D5-8AC1-2A07365FC08E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71680" y="148392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451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800" spc="-1" strike="noStrike" u="sng">
                <a:solidFill>
                  <a:srgbClr val="000000"/>
                </a:solidFill>
                <a:uFillTx/>
                <a:latin typeface="Arial"/>
              </a:rPr>
              <a:t>UNIDAD ESPECIALIZ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17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on profesionales e infraestructura dedicada exclusivamente al combate de los carteles, actualmente contamos con los más modernos recursos informáticos de pericia forense y de seguridad que permiten al mismo tiempo mejorar la eficiencia en la investigación y resguardar la integridad de las pruebas recabad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170000"/>
              </a:lnSpc>
              <a:spcBef>
                <a:spcPts val="400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17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articipación activa en los grupos especializados en el tema – International Competition Network, OECD, Forum Latino Americano, otr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9280" y="610920"/>
            <a:ext cx="8099280" cy="80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1800" spc="-1" strike="noStrike">
                <a:solidFill>
                  <a:srgbClr val="617a8a"/>
                </a:solidFill>
                <a:latin typeface="Arial"/>
                <a:ea typeface="Arial"/>
              </a:rPr>
              <a:t>FISCALÍA NACIONAL ECONÓMICA Y EL COMBATE A LOS CARTELES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49280" y="876240"/>
            <a:ext cx="8099280" cy="546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 algn="just">
              <a:spcBef>
                <a:spcPts val="400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 u="sng">
                <a:solidFill>
                  <a:srgbClr val="000000"/>
                </a:solidFill>
                <a:uFillTx/>
                <a:latin typeface="Arial"/>
              </a:rPr>
              <a:t>ACCIONES REPRESIV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iversas investigaciones iniciadas por oficio y por denuncias realizad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esarrollo de Métodos Cuantitativos diseñados específicamente para la      detección de carteles en licit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onvenio con otros órganos del Estado para la detección temprana de estos ilícit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spcBef>
                <a:spcPts val="400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Investigaciones Reservadas: ES FUNDAMENTAL LA MANTENCIÓN DE LA CONFIDENCIALIDAD DE LAS INVESTIGACIONES DURANTE SUS PRIMERAS ETAPAS INVESTIGATIV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spcBef>
                <a:spcPts val="400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 u="sng">
                <a:solidFill>
                  <a:srgbClr val="000000"/>
                </a:solidFill>
                <a:uFillTx/>
                <a:latin typeface="Arial"/>
              </a:rPr>
              <a:t>ACCIONES PREVENTIV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2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ublicaciones de guías y documentos de trabaj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0400" indent="-22536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ompras Publicas y Libre Competenci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0400" indent="-22536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Guía de Asociaciones Gremiale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3 Marcador de número de diapositiva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D80A1E11-CBC7-4197-BBA3-2CDD8590F128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Conector recto 6"/>
          <p:cNvSpPr/>
          <p:nvPr/>
        </p:nvSpPr>
        <p:spPr>
          <a:xfrm>
            <a:off x="0" y="6502320"/>
            <a:ext cx="8997840" cy="180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CuadroTexto 3"/>
          <p:cNvSpPr/>
          <p:nvPr/>
        </p:nvSpPr>
        <p:spPr>
          <a:xfrm>
            <a:off x="525600" y="655488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49280" y="610920"/>
            <a:ext cx="8099280" cy="80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1800" spc="-1" strike="noStrike">
                <a:solidFill>
                  <a:srgbClr val="617a8a"/>
                </a:solidFill>
                <a:latin typeface="Arial"/>
                <a:ea typeface="Arial"/>
              </a:rPr>
              <a:t>FISCALÍA NACIONAL ECONÓMICA Y EL COMBATE A LOS CARTELES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49280" y="1116000"/>
            <a:ext cx="8099280" cy="4511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 algn="just">
              <a:lnSpc>
                <a:spcPct val="2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articipación activa junto a los Seremi y otras autoridades regionales para difusión y educación de la legislación contingent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2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resencia constante en Congresos y Seminarios nacionale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2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Acuerdos de Cooperación con Agencias de Competencia Internacional – Esto es fundamental para la acción contra los carteles internacion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3 Marcador de número de diapositiva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574C48E7-10F7-4F1F-B856-6C7420B1D075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Conector recto 6"/>
          <p:cNvSpPr/>
          <p:nvPr/>
        </p:nvSpPr>
        <p:spPr>
          <a:xfrm>
            <a:off x="0" y="6502320"/>
            <a:ext cx="8997840" cy="180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CuadroTexto 3"/>
          <p:cNvSpPr/>
          <p:nvPr/>
        </p:nvSpPr>
        <p:spPr>
          <a:xfrm>
            <a:off x="525600" y="655488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105840"/>
            <a:ext cx="8099280" cy="100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1800" spc="-1" strike="noStrike">
                <a:solidFill>
                  <a:srgbClr val="617a8a"/>
                </a:solidFill>
                <a:latin typeface="Arial"/>
                <a:ea typeface="Arial"/>
              </a:rPr>
              <a:t>NUEVAS HERRAMIENTAS INVESTIGATIVAS Y DISUASIVAS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2 Marcador de contenido" descr=""/>
          <p:cNvPicPr/>
          <p:nvPr/>
        </p:nvPicPr>
        <p:blipFill>
          <a:blip r:embed="rId1"/>
          <a:stretch/>
        </p:blipFill>
        <p:spPr>
          <a:xfrm>
            <a:off x="426960" y="1109520"/>
            <a:ext cx="8163000" cy="3907080"/>
          </a:xfrm>
          <a:prstGeom prst="rect">
            <a:avLst/>
          </a:prstGeom>
          <a:ln w="0">
            <a:noFill/>
          </a:ln>
        </p:spPr>
      </p:pic>
      <p:sp>
        <p:nvSpPr>
          <p:cNvPr id="101" name="3 Marcador de número de diapositiva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52EEDBB6-962F-45D6-9102-93028425EC1E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Conector recto 6"/>
          <p:cNvSpPr/>
          <p:nvPr/>
        </p:nvSpPr>
        <p:spPr>
          <a:xfrm>
            <a:off x="0" y="6502320"/>
            <a:ext cx="8997840" cy="180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uadroTexto 3"/>
          <p:cNvSpPr/>
          <p:nvPr/>
        </p:nvSpPr>
        <p:spPr>
          <a:xfrm>
            <a:off x="525600" y="655488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1 Marcador de número de diapositiva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7F7826CC-B2A5-4BBF-9A63-B431F81099CA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2 Rectángulo"/>
          <p:cNvSpPr/>
          <p:nvPr/>
        </p:nvSpPr>
        <p:spPr>
          <a:xfrm>
            <a:off x="2116080" y="2322360"/>
            <a:ext cx="959040" cy="308160"/>
          </a:xfrm>
          <a:prstGeom prst="rect">
            <a:avLst/>
          </a:prstGeom>
          <a:solidFill>
            <a:srgbClr val="c5cb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onector recto 4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06906306-1B35-4A34-96A1-8A13BDD5F31E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6 Diagrama" descr=""/>
          <p:cNvPicPr/>
          <p:nvPr/>
        </p:nvPicPr>
        <p:blipFill>
          <a:blip r:embed="rId1"/>
          <a:stretch/>
        </p:blipFill>
        <p:spPr>
          <a:xfrm>
            <a:off x="669960" y="1457280"/>
            <a:ext cx="7596000" cy="4930920"/>
          </a:xfrm>
          <a:prstGeom prst="rect">
            <a:avLst/>
          </a:prstGeom>
          <a:ln w="0">
            <a:noFill/>
          </a:ln>
        </p:spPr>
      </p:pic>
      <p:sp>
        <p:nvSpPr>
          <p:cNvPr id="110" name="7 CuadroTexto"/>
          <p:cNvSpPr/>
          <p:nvPr/>
        </p:nvSpPr>
        <p:spPr>
          <a:xfrm>
            <a:off x="498600" y="219240"/>
            <a:ext cx="7939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MX" sz="1800" spc="-1" strike="noStrike">
                <a:solidFill>
                  <a:srgbClr val="617a8a"/>
                </a:solidFill>
                <a:latin typeface="Arial"/>
              </a:rPr>
              <a:t>Métodos de Dete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Los métodos de detección de carteles, usando análisis económicos pueden ser agrupados 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8 CuadroTexto"/>
          <p:cNvSpPr/>
          <p:nvPr/>
        </p:nvSpPr>
        <p:spPr>
          <a:xfrm>
            <a:off x="2411280" y="349092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9 Rectángulo" descr=""/>
          <p:cNvPicPr/>
          <p:nvPr/>
        </p:nvPicPr>
        <p:blipFill>
          <a:blip r:embed="rId2"/>
          <a:stretch/>
        </p:blipFill>
        <p:spPr>
          <a:xfrm>
            <a:off x="5510160" y="2401920"/>
            <a:ext cx="1774800" cy="377640"/>
          </a:xfrm>
          <a:prstGeom prst="rect">
            <a:avLst/>
          </a:prstGeom>
          <a:ln w="0">
            <a:noFill/>
          </a:ln>
        </p:spPr>
      </p:pic>
      <p:sp>
        <p:nvSpPr>
          <p:cNvPr id="113" name="10 Rectángulo"/>
          <p:cNvSpPr/>
          <p:nvPr/>
        </p:nvSpPr>
        <p:spPr>
          <a:xfrm>
            <a:off x="2411280" y="2322360"/>
            <a:ext cx="287640" cy="308160"/>
          </a:xfrm>
          <a:prstGeom prst="rect">
            <a:avLst/>
          </a:prstGeom>
          <a:solidFill>
            <a:srgbClr val="c5cb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13 Rectángulo"/>
          <p:cNvSpPr/>
          <p:nvPr/>
        </p:nvSpPr>
        <p:spPr>
          <a:xfrm>
            <a:off x="2411280" y="2630520"/>
            <a:ext cx="287640" cy="55440"/>
          </a:xfrm>
          <a:prstGeom prst="rect">
            <a:avLst/>
          </a:prstGeom>
          <a:solidFill>
            <a:srgbClr val="bec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11 Rectángulo" descr=""/>
          <p:cNvPicPr/>
          <p:nvPr/>
        </p:nvPicPr>
        <p:blipFill>
          <a:blip r:embed="rId3"/>
          <a:stretch/>
        </p:blipFill>
        <p:spPr>
          <a:xfrm>
            <a:off x="1633680" y="2462040"/>
            <a:ext cx="1815840" cy="37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1 Marcador de número de diapositiva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DEC44FD1-32E3-4A60-9652-E4746B8D593D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CuadroTexto 3"/>
          <p:cNvSpPr/>
          <p:nvPr/>
        </p:nvSpPr>
        <p:spPr>
          <a:xfrm>
            <a:off x="974880" y="20520"/>
            <a:ext cx="802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 algn="ct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MX" sz="1800" spc="-1" strike="noStrike">
                <a:solidFill>
                  <a:srgbClr val="617a8a"/>
                </a:solidFill>
                <a:latin typeface="Arial"/>
              </a:rPr>
              <a:t>Análisis Estruct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Conector recto 6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9563883B-28DF-4F11-AE88-0CA51FAAD485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6 CuadroTexto"/>
          <p:cNvSpPr/>
          <p:nvPr/>
        </p:nvSpPr>
        <p:spPr>
          <a:xfrm>
            <a:off x="974880" y="1258920"/>
            <a:ext cx="7340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844560" y="528480"/>
          <a:ext cx="7615080" cy="5810400"/>
        </p:xfrm>
        <a:graphic>
          <a:graphicData uri="http://schemas.openxmlformats.org/drawingml/2006/table">
            <a:tbl>
              <a:tblPr/>
              <a:tblGrid>
                <a:gridCol w="5095800"/>
                <a:gridCol w="1224000"/>
                <a:gridCol w="1295280"/>
              </a:tblGrid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1" lang="es-C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racteríst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7a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1" lang="es-C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cilita Colus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7a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1" lang="es-C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ficulta Colus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7a8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ntración del Merc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o Homogéne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reras a la Entra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parencia de Precios e Intercambio de Inform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os Niveles de Innov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etría en Cost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cto Multimerc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ja Elasticidad de la Deman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er Monopsóni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ciones Estructurales entre Empres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uerdos de Cooper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istencia de una Empresa Maveric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ociaciones Gremia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anda Creci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uctuaciones de la Deman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</a:tr>
            </a:tbl>
          </a:graphicData>
        </a:graphic>
      </p:graphicFrame>
      <p:pic>
        <p:nvPicPr>
          <p:cNvPr id="123" name="9 Imagen" descr="click.png"/>
          <p:cNvPicPr/>
          <p:nvPr/>
        </p:nvPicPr>
        <p:blipFill>
          <a:blip r:embed="rId1"/>
          <a:stretch/>
        </p:blipFill>
        <p:spPr>
          <a:xfrm>
            <a:off x="6448320" y="1225440"/>
            <a:ext cx="211320" cy="211320"/>
          </a:xfrm>
          <a:prstGeom prst="rect">
            <a:avLst/>
          </a:prstGeom>
          <a:ln w="0">
            <a:noFill/>
          </a:ln>
        </p:spPr>
      </p:pic>
      <p:pic>
        <p:nvPicPr>
          <p:cNvPr id="124" name="10 Imagen" descr="click.png"/>
          <p:cNvPicPr/>
          <p:nvPr/>
        </p:nvPicPr>
        <p:blipFill>
          <a:blip r:embed="rId2"/>
          <a:stretch/>
        </p:blipFill>
        <p:spPr>
          <a:xfrm>
            <a:off x="6448320" y="1542960"/>
            <a:ext cx="211320" cy="211320"/>
          </a:xfrm>
          <a:prstGeom prst="rect">
            <a:avLst/>
          </a:prstGeom>
          <a:ln w="0">
            <a:noFill/>
          </a:ln>
        </p:spPr>
      </p:pic>
      <p:pic>
        <p:nvPicPr>
          <p:cNvPr id="125" name="11 Imagen" descr="click.png"/>
          <p:cNvPicPr/>
          <p:nvPr/>
        </p:nvPicPr>
        <p:blipFill>
          <a:blip r:embed="rId3"/>
          <a:stretch/>
        </p:blipFill>
        <p:spPr>
          <a:xfrm>
            <a:off x="6448320" y="1952640"/>
            <a:ext cx="211320" cy="210960"/>
          </a:xfrm>
          <a:prstGeom prst="rect">
            <a:avLst/>
          </a:prstGeom>
          <a:ln w="0">
            <a:noFill/>
          </a:ln>
        </p:spPr>
      </p:pic>
      <p:pic>
        <p:nvPicPr>
          <p:cNvPr id="126" name="12 Imagen" descr="click.png"/>
          <p:cNvPicPr/>
          <p:nvPr/>
        </p:nvPicPr>
        <p:blipFill>
          <a:blip r:embed="rId4"/>
          <a:stretch/>
        </p:blipFill>
        <p:spPr>
          <a:xfrm>
            <a:off x="7812000" y="2305080"/>
            <a:ext cx="209520" cy="210960"/>
          </a:xfrm>
          <a:prstGeom prst="rect">
            <a:avLst/>
          </a:prstGeom>
          <a:ln w="0">
            <a:noFill/>
          </a:ln>
        </p:spPr>
      </p:pic>
      <p:pic>
        <p:nvPicPr>
          <p:cNvPr id="127" name="13 Imagen" descr="click.png"/>
          <p:cNvPicPr/>
          <p:nvPr/>
        </p:nvPicPr>
        <p:blipFill>
          <a:blip r:embed="rId5"/>
          <a:stretch/>
        </p:blipFill>
        <p:spPr>
          <a:xfrm>
            <a:off x="6448320" y="2698920"/>
            <a:ext cx="211320" cy="210960"/>
          </a:xfrm>
          <a:prstGeom prst="rect">
            <a:avLst/>
          </a:prstGeom>
          <a:ln w="0">
            <a:noFill/>
          </a:ln>
        </p:spPr>
      </p:pic>
      <p:pic>
        <p:nvPicPr>
          <p:cNvPr id="128" name="14 Imagen" descr="click.png"/>
          <p:cNvPicPr/>
          <p:nvPr/>
        </p:nvPicPr>
        <p:blipFill>
          <a:blip r:embed="rId6"/>
          <a:stretch/>
        </p:blipFill>
        <p:spPr>
          <a:xfrm>
            <a:off x="6448320" y="3059280"/>
            <a:ext cx="211320" cy="210960"/>
          </a:xfrm>
          <a:prstGeom prst="rect">
            <a:avLst/>
          </a:prstGeom>
          <a:ln w="0">
            <a:noFill/>
          </a:ln>
        </p:spPr>
      </p:pic>
      <p:pic>
        <p:nvPicPr>
          <p:cNvPr id="129" name="15 Imagen" descr="click.png"/>
          <p:cNvPicPr/>
          <p:nvPr/>
        </p:nvPicPr>
        <p:blipFill>
          <a:blip r:embed="rId7"/>
          <a:stretch/>
        </p:blipFill>
        <p:spPr>
          <a:xfrm>
            <a:off x="6448320" y="3419640"/>
            <a:ext cx="211320" cy="210960"/>
          </a:xfrm>
          <a:prstGeom prst="rect">
            <a:avLst/>
          </a:prstGeom>
          <a:ln w="0">
            <a:noFill/>
          </a:ln>
        </p:spPr>
      </p:pic>
      <p:pic>
        <p:nvPicPr>
          <p:cNvPr id="130" name="16 Imagen" descr="click.png"/>
          <p:cNvPicPr/>
          <p:nvPr/>
        </p:nvPicPr>
        <p:blipFill>
          <a:blip r:embed="rId8"/>
          <a:stretch/>
        </p:blipFill>
        <p:spPr>
          <a:xfrm>
            <a:off x="7812000" y="3780000"/>
            <a:ext cx="209520" cy="210960"/>
          </a:xfrm>
          <a:prstGeom prst="rect">
            <a:avLst/>
          </a:prstGeom>
          <a:ln w="0">
            <a:noFill/>
          </a:ln>
        </p:spPr>
      </p:pic>
      <p:pic>
        <p:nvPicPr>
          <p:cNvPr id="131" name="17 Imagen" descr="click.png"/>
          <p:cNvPicPr/>
          <p:nvPr/>
        </p:nvPicPr>
        <p:blipFill>
          <a:blip r:embed="rId9"/>
          <a:stretch/>
        </p:blipFill>
        <p:spPr>
          <a:xfrm>
            <a:off x="6448320" y="4140360"/>
            <a:ext cx="211320" cy="210960"/>
          </a:xfrm>
          <a:prstGeom prst="rect">
            <a:avLst/>
          </a:prstGeom>
          <a:ln w="0">
            <a:noFill/>
          </a:ln>
        </p:spPr>
      </p:pic>
      <p:pic>
        <p:nvPicPr>
          <p:cNvPr id="132" name="18 Imagen" descr="click.png"/>
          <p:cNvPicPr/>
          <p:nvPr/>
        </p:nvPicPr>
        <p:blipFill>
          <a:blip r:embed="rId10"/>
          <a:stretch/>
        </p:blipFill>
        <p:spPr>
          <a:xfrm>
            <a:off x="6496200" y="5651640"/>
            <a:ext cx="209520" cy="210960"/>
          </a:xfrm>
          <a:prstGeom prst="rect">
            <a:avLst/>
          </a:prstGeom>
          <a:ln w="0">
            <a:noFill/>
          </a:ln>
        </p:spPr>
      </p:pic>
      <p:pic>
        <p:nvPicPr>
          <p:cNvPr id="133" name="19 Imagen" descr="click.png"/>
          <p:cNvPicPr/>
          <p:nvPr/>
        </p:nvPicPr>
        <p:blipFill>
          <a:blip r:embed="rId11"/>
          <a:stretch/>
        </p:blipFill>
        <p:spPr>
          <a:xfrm>
            <a:off x="6496200" y="5291280"/>
            <a:ext cx="209520" cy="210960"/>
          </a:xfrm>
          <a:prstGeom prst="rect">
            <a:avLst/>
          </a:prstGeom>
          <a:ln w="0">
            <a:noFill/>
          </a:ln>
        </p:spPr>
      </p:pic>
      <p:pic>
        <p:nvPicPr>
          <p:cNvPr id="134" name="20 Imagen" descr="click.png"/>
          <p:cNvPicPr/>
          <p:nvPr/>
        </p:nvPicPr>
        <p:blipFill>
          <a:blip r:embed="rId12"/>
          <a:stretch/>
        </p:blipFill>
        <p:spPr>
          <a:xfrm>
            <a:off x="7812000" y="4897440"/>
            <a:ext cx="209520" cy="210960"/>
          </a:xfrm>
          <a:prstGeom prst="rect">
            <a:avLst/>
          </a:prstGeom>
          <a:ln w="0">
            <a:noFill/>
          </a:ln>
        </p:spPr>
      </p:pic>
      <p:pic>
        <p:nvPicPr>
          <p:cNvPr id="135" name="21 Imagen" descr="click.png"/>
          <p:cNvPicPr/>
          <p:nvPr/>
        </p:nvPicPr>
        <p:blipFill>
          <a:blip r:embed="rId13"/>
          <a:stretch/>
        </p:blipFill>
        <p:spPr>
          <a:xfrm>
            <a:off x="6462720" y="4505400"/>
            <a:ext cx="210960" cy="210960"/>
          </a:xfrm>
          <a:prstGeom prst="rect">
            <a:avLst/>
          </a:prstGeom>
          <a:ln w="0">
            <a:noFill/>
          </a:ln>
        </p:spPr>
      </p:pic>
      <p:pic>
        <p:nvPicPr>
          <p:cNvPr id="136" name="22 Imagen" descr="click.png"/>
          <p:cNvPicPr/>
          <p:nvPr/>
        </p:nvPicPr>
        <p:blipFill>
          <a:blip r:embed="rId14"/>
          <a:stretch/>
        </p:blipFill>
        <p:spPr>
          <a:xfrm>
            <a:off x="7859880" y="5996160"/>
            <a:ext cx="210960" cy="210960"/>
          </a:xfrm>
          <a:prstGeom prst="rect">
            <a:avLst/>
          </a:prstGeom>
          <a:ln w="0">
            <a:noFill/>
          </a:ln>
        </p:spPr>
      </p:pic>
      <p:pic>
        <p:nvPicPr>
          <p:cNvPr id="137" name="9 Imagen" descr="click.png"/>
          <p:cNvPicPr/>
          <p:nvPr/>
        </p:nvPicPr>
        <p:blipFill>
          <a:blip r:embed="rId15"/>
          <a:stretch/>
        </p:blipFill>
        <p:spPr>
          <a:xfrm>
            <a:off x="6448320" y="826920"/>
            <a:ext cx="211320" cy="21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1 Marcador de número de diapositiva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52E619CB-5A29-4A88-A2DC-6B13F4643407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1 Título"/>
          <p:cNvSpPr/>
          <p:nvPr/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MX" sz="3200" spc="-1" strike="noStrike">
                <a:solidFill>
                  <a:srgbClr val="617a8a"/>
                </a:solidFill>
                <a:latin typeface="Arial"/>
              </a:rPr>
              <a:t>Análisis conduc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3 Marcador de número de diapositiva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9BC766DE-20BF-44C4-9F60-762DBB971760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4 Imagen" descr="bigger profits.jpg"/>
          <p:cNvPicPr/>
          <p:nvPr/>
        </p:nvPicPr>
        <p:blipFill>
          <a:blip r:embed="rId1"/>
          <a:stretch/>
        </p:blipFill>
        <p:spPr>
          <a:xfrm>
            <a:off x="528480" y="2043000"/>
            <a:ext cx="1090800" cy="1090800"/>
          </a:xfrm>
          <a:prstGeom prst="rect">
            <a:avLst/>
          </a:prstGeom>
          <a:ln w="0">
            <a:noFill/>
          </a:ln>
        </p:spPr>
      </p:pic>
      <p:pic>
        <p:nvPicPr>
          <p:cNvPr id="142" name="5 Imagen" descr="financial_stability1.jpg"/>
          <p:cNvPicPr/>
          <p:nvPr/>
        </p:nvPicPr>
        <p:blipFill>
          <a:blip r:embed="rId2"/>
          <a:stretch/>
        </p:blipFill>
        <p:spPr>
          <a:xfrm>
            <a:off x="1978200" y="2341440"/>
            <a:ext cx="1306440" cy="682920"/>
          </a:xfrm>
          <a:prstGeom prst="rect">
            <a:avLst/>
          </a:prstGeom>
          <a:ln w="0">
            <a:noFill/>
          </a:ln>
        </p:spPr>
      </p:pic>
      <p:sp>
        <p:nvSpPr>
          <p:cNvPr id="143" name="6 CuadroTexto"/>
          <p:cNvSpPr/>
          <p:nvPr/>
        </p:nvSpPr>
        <p:spPr>
          <a:xfrm>
            <a:off x="395280" y="3267000"/>
            <a:ext cx="15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Más elev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7 CuadroTexto"/>
          <p:cNvSpPr/>
          <p:nvPr/>
        </p:nvSpPr>
        <p:spPr>
          <a:xfrm>
            <a:off x="1835280" y="326700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Baja vari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8 Imagen" descr="greedy CEOs.png"/>
          <p:cNvPicPr/>
          <p:nvPr/>
        </p:nvPicPr>
        <p:blipFill>
          <a:blip r:embed="rId3"/>
          <a:stretch/>
        </p:blipFill>
        <p:spPr>
          <a:xfrm>
            <a:off x="3851280" y="1792440"/>
            <a:ext cx="1636560" cy="1212840"/>
          </a:xfrm>
          <a:prstGeom prst="rect">
            <a:avLst/>
          </a:prstGeom>
          <a:ln w="0">
            <a:noFill/>
          </a:ln>
        </p:spPr>
      </p:pic>
      <p:sp>
        <p:nvSpPr>
          <p:cNvPr id="146" name="9 CuadroTexto"/>
          <p:cNvSpPr/>
          <p:nvPr/>
        </p:nvSpPr>
        <p:spPr>
          <a:xfrm>
            <a:off x="3284640" y="2806560"/>
            <a:ext cx="2448000" cy="82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Bodoni MT Poster Compressed"/>
              </a:rPr>
              <a:t>     </a:t>
            </a:r>
            <a:r>
              <a:rPr b="0" lang="es-CL" sz="2400" spc="-1" strike="noStrike">
                <a:solidFill>
                  <a:srgbClr val="000000"/>
                </a:solidFill>
                <a:latin typeface="Bodoni MT Poster Compressed"/>
              </a:rPr>
              <a:t>¡¿</a:t>
            </a:r>
            <a:r>
              <a:rPr b="0" lang="es-CL" sz="1200" spc="-1" strike="noStrike">
                <a:solidFill>
                  <a:srgbClr val="000000"/>
                </a:solidFill>
                <a:latin typeface="Bodoni MT Poster Compressed"/>
              </a:rPr>
              <a:t>YQUIÉN DICE QUE TENGO QUE BAJAR LOS PRECIOS?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10 CuadroTexto"/>
          <p:cNvSpPr/>
          <p:nvPr/>
        </p:nvSpPr>
        <p:spPr>
          <a:xfrm>
            <a:off x="3284640" y="3267000"/>
            <a:ext cx="30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Menor relación con cos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F:\dollar.gif"/>
          <p:cNvPicPr/>
          <p:nvPr/>
        </p:nvPicPr>
        <p:blipFill>
          <a:blip r:embed="rId4"/>
          <a:stretch/>
        </p:blipFill>
        <p:spPr>
          <a:xfrm>
            <a:off x="7095960" y="2062080"/>
            <a:ext cx="508320" cy="962280"/>
          </a:xfrm>
          <a:prstGeom prst="rect">
            <a:avLst/>
          </a:prstGeom>
          <a:ln w="0">
            <a:noFill/>
          </a:ln>
        </p:spPr>
      </p:pic>
      <p:sp>
        <p:nvSpPr>
          <p:cNvPr id="149" name="12 CuadroTexto"/>
          <p:cNvSpPr/>
          <p:nvPr/>
        </p:nvSpPr>
        <p:spPr>
          <a:xfrm>
            <a:off x="6083280" y="3267000"/>
            <a:ext cx="24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Márgenes más elev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13 CuadroTexto"/>
          <p:cNvSpPr/>
          <p:nvPr/>
        </p:nvSpPr>
        <p:spPr>
          <a:xfrm>
            <a:off x="754200" y="125100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REC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4 CuadroTexto"/>
          <p:cNvSpPr/>
          <p:nvPr/>
        </p:nvSpPr>
        <p:spPr>
          <a:xfrm>
            <a:off x="698400" y="385128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ANTIDAD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5 Rectángulo"/>
          <p:cNvSpPr/>
          <p:nvPr/>
        </p:nvSpPr>
        <p:spPr>
          <a:xfrm>
            <a:off x="754200" y="4394160"/>
            <a:ext cx="44989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2520" indent="4680">
              <a:lnSpc>
                <a:spcPct val="100000"/>
              </a:lnSpc>
              <a:tabLst>
                <a:tab algn="l" pos="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ticipaciones de mercado altamente estables en el tiem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4680">
              <a:lnSpc>
                <a:spcPct val="100000"/>
              </a:lnSpc>
              <a:tabLst>
                <a:tab algn="l" pos="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4680">
              <a:lnSpc>
                <a:spcPct val="100000"/>
              </a:lnSpc>
              <a:tabLst>
                <a:tab algn="l" pos="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tación de las ofertas y de los ofer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Imagen 24" descr=""/>
          <p:cNvPicPr/>
          <p:nvPr/>
        </p:nvPicPr>
        <p:blipFill>
          <a:blip r:embed="rId5"/>
          <a:stretch/>
        </p:blipFill>
        <p:spPr>
          <a:xfrm>
            <a:off x="5724360" y="4059360"/>
            <a:ext cx="2926080" cy="1854000"/>
          </a:xfrm>
          <a:prstGeom prst="rect">
            <a:avLst/>
          </a:prstGeom>
          <a:ln w="0">
            <a:noFill/>
          </a:ln>
        </p:spPr>
      </p:pic>
      <p:sp>
        <p:nvSpPr>
          <p:cNvPr id="154" name="Conector recto 6"/>
          <p:cNvSpPr/>
          <p:nvPr/>
        </p:nvSpPr>
        <p:spPr>
          <a:xfrm>
            <a:off x="0" y="6502320"/>
            <a:ext cx="8997840" cy="180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CuadroTexto 3"/>
          <p:cNvSpPr/>
          <p:nvPr/>
        </p:nvSpPr>
        <p:spPr>
          <a:xfrm>
            <a:off x="525600" y="655488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MX" sz="1800" spc="-1" strike="noStrike">
                <a:solidFill>
                  <a:srgbClr val="617a8a"/>
                </a:solidFill>
                <a:latin typeface="Arial"/>
                <a:ea typeface="Arial"/>
              </a:rPr>
              <a:t>Uso de facultades duras para la recopilación de pruebas e indicios del actual coordinad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49280" y="1595160"/>
            <a:ext cx="80992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oble tramitación: TDLC y Corte de Apelacio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lanificación diligencia: simultanea y sigilos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Revisión de antecedentes, entrevistas con autoridades, envíos de oficios, declaración de los investigados, declaración de ex-funcionarios, declaraciones de personas que pudiera presentar nuevos anteceden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Búsqueda de jurisprudencia internacion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ifusión entre los investigados de los beneficios de la suscripción a la Delación Compensa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OTR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400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3 Marcador de número de diapositiva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460C3E88-D6E2-494E-ABF7-D17A46C1F07D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Conector recto 6"/>
          <p:cNvSpPr/>
          <p:nvPr/>
        </p:nvSpPr>
        <p:spPr>
          <a:xfrm>
            <a:off x="0" y="6502320"/>
            <a:ext cx="8997840" cy="180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CuadroTexto 3"/>
          <p:cNvSpPr/>
          <p:nvPr/>
        </p:nvSpPr>
        <p:spPr>
          <a:xfrm>
            <a:off x="525600" y="655488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CuadroTexto 3"/>
          <p:cNvSpPr/>
          <p:nvPr/>
        </p:nvSpPr>
        <p:spPr>
          <a:xfrm>
            <a:off x="974880" y="760320"/>
            <a:ext cx="770076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1800" spc="-1" strike="noStrike">
                <a:solidFill>
                  <a:srgbClr val="617a8a"/>
                </a:solidFill>
                <a:latin typeface="Arial"/>
              </a:rPr>
              <a:t>RESULTADOS POSIB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CuadroTexto 3"/>
          <p:cNvSpPr/>
          <p:nvPr/>
        </p:nvSpPr>
        <p:spPr>
          <a:xfrm>
            <a:off x="652320" y="6440400"/>
            <a:ext cx="802332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Conector recto 6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D376A658-D434-4CF4-822E-EB8AD9B8BBEB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46040" y="1323720"/>
            <a:ext cx="8229600" cy="551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ARCHIVO/ REQUERIMIENTO ANTE EL TDL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jemplo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Tecumse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Farmac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Buses (Terminales y Curacaví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SENTENCIA TDLC/CS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Radios, Sentencia N°1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Transporte - varios por acuerdos de precio/reparto de mercado/ exclusión de competidores, Sentencias N°102, 94, 8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Oxigeno, Sentencia N°4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Isapre, Sentencia N°5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Plasma, Sentencia N°6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Asfalto, Sentencia N°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Imagen 5" descr="1.jpg"/>
          <p:cNvPicPr/>
          <p:nvPr/>
        </p:nvPicPr>
        <p:blipFill>
          <a:blip r:embed="rId1"/>
          <a:stretch/>
        </p:blipFill>
        <p:spPr>
          <a:xfrm>
            <a:off x="-36360" y="0"/>
            <a:ext cx="9034200" cy="6867360"/>
          </a:xfrm>
          <a:prstGeom prst="rect">
            <a:avLst/>
          </a:prstGeom>
          <a:ln w="0">
            <a:noFill/>
          </a:ln>
        </p:spPr>
      </p:pic>
      <p:sp>
        <p:nvSpPr>
          <p:cNvPr id="167" name="CuadroTexto 3"/>
          <p:cNvSpPr/>
          <p:nvPr/>
        </p:nvSpPr>
        <p:spPr>
          <a:xfrm>
            <a:off x="106200" y="1955880"/>
            <a:ext cx="592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6000" spc="-1" strike="noStrike">
                <a:solidFill>
                  <a:srgbClr val="617a8a"/>
                </a:solidFill>
                <a:latin typeface="Arial"/>
              </a:rPr>
              <a:t>CARTE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CuadroTexto 3"/>
          <p:cNvSpPr/>
          <p:nvPr/>
        </p:nvSpPr>
        <p:spPr>
          <a:xfrm>
            <a:off x="974880" y="466560"/>
            <a:ext cx="8022960" cy="51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2000" spc="-1" strike="noStrike">
                <a:solidFill>
                  <a:srgbClr val="617a8a"/>
                </a:solidFill>
                <a:latin typeface="Arial"/>
                <a:ea typeface="Arial"/>
              </a:rPr>
              <a:t>CONTEN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Defini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Grave infracción a la libre compet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FNE y el combate a los carte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Nuevas Herramientas Investigati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Nuevas Herramientas Disuasi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Métodos de Dete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Resultados Esper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ector recto 4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9F012BF7-5655-4FDF-BF50-9F21FE0CAC7D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uadroTexto 3"/>
          <p:cNvSpPr/>
          <p:nvPr/>
        </p:nvSpPr>
        <p:spPr>
          <a:xfrm>
            <a:off x="969840" y="6440400"/>
            <a:ext cx="802332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CuadroTexto 3"/>
          <p:cNvSpPr/>
          <p:nvPr/>
        </p:nvSpPr>
        <p:spPr>
          <a:xfrm>
            <a:off x="130320" y="3441600"/>
            <a:ext cx="6306840" cy="19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4000" spc="-1" strike="noStrike">
                <a:solidFill>
                  <a:srgbClr val="617a8a"/>
                </a:solidFill>
                <a:latin typeface="Arial"/>
              </a:rPr>
              <a:t>¿Qué son los acuerdos o carteles en materia de libre competencia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Imagen 4" descr="logo.jpg"/>
          <p:cNvPicPr/>
          <p:nvPr/>
        </p:nvPicPr>
        <p:blipFill>
          <a:blip r:embed="rId1"/>
          <a:stretch/>
        </p:blipFill>
        <p:spPr>
          <a:xfrm>
            <a:off x="6437160" y="1255680"/>
            <a:ext cx="2560680" cy="185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CuadroTexto 3"/>
          <p:cNvSpPr/>
          <p:nvPr/>
        </p:nvSpPr>
        <p:spPr>
          <a:xfrm>
            <a:off x="847800" y="500040"/>
            <a:ext cx="7700760" cy="59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MX" sz="1800" spc="-1" strike="noStrike">
                <a:solidFill>
                  <a:srgbClr val="617a8a"/>
                </a:solidFill>
                <a:latin typeface="Arial"/>
              </a:rPr>
              <a:t>DEFINIC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RAE: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 “Convenio entre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varias empresas similares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para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evitar la mutua competencia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 y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regular la producción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venta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 y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precios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 en determinado campo industrial”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Coloma: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“La colusión puede definirse como una situación en la cual una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serie de empresas acuerdan no competir entre ellas con el objetivo de incrementar los beneficios conjuntos de todo el grupo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”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Art. 3 DL. 211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“…Se considerarán, entre otros, como hechos, actos o convenciones que impiden, restringen o entorpecen la libre competencia o que tienden a producir dichos efectos, los siguient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a) </a:t>
            </a:r>
            <a:r>
              <a:rPr b="1" i="1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Los acuerdos expresos o tácitos entre competidores</a:t>
            </a:r>
            <a:r>
              <a:rPr b="0" i="1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, o las prácticas concertadas entre ellos, </a:t>
            </a:r>
            <a:r>
              <a:rPr b="1" i="1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que les confieran poder de mercado </a:t>
            </a:r>
            <a:r>
              <a:rPr b="0" i="1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y que consisten en </a:t>
            </a:r>
            <a:r>
              <a:rPr b="1" i="1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fijar precios de venta, de compra u otras condiciones de comercialización, limitar la producción, asignarse zonas o cuotas de mercado, excluir competidores o afectar el resultado de procesos de licitación</a:t>
            </a:r>
            <a:r>
              <a:rPr b="0" i="1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” 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Conector recto 6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AB993167-F3E0-4F6B-B2D5-63A6DEA39990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onector recto 6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B4A28263-27A6-4AA5-95E6-FA9E976D0A4B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CuadroTexto 3"/>
          <p:cNvSpPr/>
          <p:nvPr/>
        </p:nvSpPr>
        <p:spPr>
          <a:xfrm>
            <a:off x="974880" y="192240"/>
            <a:ext cx="7196040" cy="64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1800" spc="-1" strike="noStrike">
                <a:solidFill>
                  <a:srgbClr val="617a8a"/>
                </a:solidFill>
                <a:latin typeface="Arial"/>
              </a:rPr>
              <a:t>POR LO TAN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XISTENCIA DE UN ACUERDO– NO NECESARIAMENTE EXPRE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L ACUERDO TIENE QUE SER ENTRE COMPETI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IENE QUE CONFERIR PODER DE MERCADO A SUS PARTÍCI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Y  TIENE QUE TENER POR OBJETO (aptitud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47760" indent="-342720">
              <a:lnSpc>
                <a:spcPct val="150000"/>
              </a:lnSpc>
              <a:buClr>
                <a:srgbClr val="000000"/>
              </a:buClr>
              <a:buFont typeface="Arial"/>
              <a:buAutoNum type="romanLcPeriod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jar precios de venta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de compr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47760" indent="-342720">
              <a:lnSpc>
                <a:spcPct val="150000"/>
              </a:lnSpc>
              <a:buClr>
                <a:srgbClr val="000000"/>
              </a:buClr>
              <a:buFont typeface="Arial"/>
              <a:buAutoNum type="romanLcPeriod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jar otras condiciones de comercializació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47760" indent="-342720">
              <a:lnSpc>
                <a:spcPct val="150000"/>
              </a:lnSpc>
              <a:buClr>
                <a:srgbClr val="000000"/>
              </a:buClr>
              <a:buFont typeface="Arial"/>
              <a:buAutoNum type="romanLcPeriod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mitar la producció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47760" indent="-342720">
              <a:lnSpc>
                <a:spcPct val="150000"/>
              </a:lnSpc>
              <a:buClr>
                <a:srgbClr val="000000"/>
              </a:buClr>
              <a:buFont typeface="Arial"/>
              <a:buAutoNum type="romanLcPeriod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ignarse zonas de mercad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47760" indent="-342720">
              <a:lnSpc>
                <a:spcPct val="150000"/>
              </a:lnSpc>
              <a:buClr>
                <a:srgbClr val="000000"/>
              </a:buClr>
              <a:buFont typeface="Arial"/>
              <a:buAutoNum type="romanLcPeriod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ignarse cuotas de mercad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47760" indent="-342720">
              <a:lnSpc>
                <a:spcPct val="150000"/>
              </a:lnSpc>
              <a:buClr>
                <a:srgbClr val="000000"/>
              </a:buClr>
              <a:buFont typeface="Arial"/>
              <a:buAutoNum type="romanLcPeriod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cluir competidores 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47760" indent="-342720">
              <a:lnSpc>
                <a:spcPct val="150000"/>
              </a:lnSpc>
              <a:buClr>
                <a:srgbClr val="000000"/>
              </a:buClr>
              <a:buFont typeface="Arial"/>
              <a:buAutoNum type="romanLcPeriod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fectar el resultado de procesos de licitación – “</a:t>
            </a:r>
            <a:r>
              <a:rPr b="0" i="1" lang="es-MX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id rigging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47760" indent="-342720">
              <a:lnSpc>
                <a:spcPct val="150000"/>
              </a:lnSpc>
              <a:tabLst>
                <a:tab algn="l" pos="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47760" indent="-34272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CuadroTexto 3"/>
          <p:cNvSpPr/>
          <p:nvPr/>
        </p:nvSpPr>
        <p:spPr>
          <a:xfrm>
            <a:off x="974880" y="760320"/>
            <a:ext cx="77007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1800" spc="-1" strike="noStrike">
                <a:solidFill>
                  <a:srgbClr val="617a8a"/>
                </a:solidFill>
                <a:latin typeface="Arial"/>
              </a:rPr>
              <a:t>Afectar el resultado de procesos de licitac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Conector recto 6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812F14AA-03AA-42B8-9546-9CCECC38AE6D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18960" y="1186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 algn="just">
              <a:spcBef>
                <a:spcPts val="79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spcBef>
                <a:spcPts val="79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spcBef>
                <a:spcPts val="79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890640" y="1187280"/>
            <a:ext cx="72165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presión o limitación de propue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puestas de cober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otación del gan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bcontratación de un compet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9 Flecha abajo"/>
          <p:cNvSpPr/>
          <p:nvPr/>
        </p:nvSpPr>
        <p:spPr>
          <a:xfrm>
            <a:off x="3851280" y="3203640"/>
            <a:ext cx="1008000" cy="1224000"/>
          </a:xfrm>
          <a:prstGeom prst="down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5b7b90"/>
              </a:gs>
              <a:gs pos="100000">
                <a:srgbClr val="b8cddc"/>
              </a:gs>
            </a:gsLst>
            <a:lin ang="16200000"/>
          </a:gradFill>
          <a:ln w="9360">
            <a:solidFill>
              <a:srgbClr val="5e778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10 CuadroTexto"/>
          <p:cNvSpPr/>
          <p:nvPr/>
        </p:nvSpPr>
        <p:spPr>
          <a:xfrm>
            <a:off x="466560" y="3851280"/>
            <a:ext cx="764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n el objetivo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LEVAR PRE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CuadroTexto 3"/>
          <p:cNvSpPr/>
          <p:nvPr/>
        </p:nvSpPr>
        <p:spPr>
          <a:xfrm>
            <a:off x="395280" y="554040"/>
            <a:ext cx="8153280" cy="57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1400" spc="-1" strike="noStrike">
                <a:solidFill>
                  <a:srgbClr val="617a8a"/>
                </a:solidFill>
                <a:latin typeface="Arial"/>
                <a:ea typeface="Arial"/>
              </a:rPr>
              <a:t>¿POR QUÉ ES TEMA “ALTERAR EL RESULTADO DEL PROCESO DE LICITACIÓN”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Alto volumen de recursos involucrad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Operaciones a través del mercado público: USD$ 6.500 millones aprox. anual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Otras operaciones vía licitación al margen de mercado público: USD$ 2.000 millones aprox. Anual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Operaciones vía licitaciones de empresas pública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Ej. Codelco: USD$ 10.000 millones aprox. anuales (incluye gastos e inversión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Las compras anteriores representan aprox. entre el 8% y el 10% del PIB de Chil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1400" spc="-1" strike="noStrike">
                <a:solidFill>
                  <a:srgbClr val="617a8a"/>
                </a:solidFill>
                <a:latin typeface="Arial"/>
                <a:ea typeface="Arial"/>
              </a:rPr>
              <a:t>Estim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USD$ 15.000 millones aprox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Existe colusión en licitaciones que representan un 0,5% de dicho mont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(USD$ 750 millones aprox. Pagad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Los sobreprecios pagados son de un 10%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Significa que lo que debió pagarse fue USD$ 750 –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USD$68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 =        USD$ 68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Conector recto 6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CBEEC70B-84D0-4331-8C66-5E4348A64B06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CuadroTexto 3"/>
          <p:cNvSpPr/>
          <p:nvPr/>
        </p:nvSpPr>
        <p:spPr>
          <a:xfrm>
            <a:off x="974880" y="760320"/>
            <a:ext cx="7700760" cy="7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1800" spc="-1" strike="noStrike">
                <a:solidFill>
                  <a:srgbClr val="617a8a"/>
                </a:solidFill>
                <a:latin typeface="Arial"/>
              </a:rPr>
              <a:t>GRAVE INFRACCIÓN A LA LIBRE COMPET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Conector recto 6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D825F374-A465-4D13-978A-9A6A5076B8EC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5 Rectángulo"/>
          <p:cNvSpPr/>
          <p:nvPr/>
        </p:nvSpPr>
        <p:spPr>
          <a:xfrm>
            <a:off x="611280" y="1116000"/>
            <a:ext cx="82422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PREJUICIOS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PERNICIOSOS SOBRE LOS CONSUMIDORES Y EL ESTADO: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UMENTO DEL PRECIO (en promedio de un 10%-20%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or sobre el precio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mpetitivo, según OC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REDUCCIÓN DE LA OFERTA (en  promedio de un 20%,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egún la OC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UMENTO DE GASTOS DEL GOBIERNO; distribución ineficiente de recursos públic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ENOR CALIDAD, MENOR VARIEDAD DE PRODUCTOS Y DESINCENTIVO A LA INOV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n síntesis: Reducción del bienestar del consumidor y transferencia de renta desde los consumidores hacia a las empresas cartelizad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25000" y="142920"/>
            <a:ext cx="702972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CL" sz="1800" spc="-1" strike="noStrike">
                <a:solidFill>
                  <a:srgbClr val="617a8a"/>
                </a:solidFill>
                <a:latin typeface="Arial"/>
              </a:rPr>
              <a:t>ESTUDIO SOBRE ESTIMACIONES DE SOBREPRE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125360" y="1424160"/>
          <a:ext cx="6890040" cy="4894200"/>
        </p:xfrm>
        <a:graphic>
          <a:graphicData uri="http://schemas.openxmlformats.org/drawingml/2006/table">
            <a:tbl>
              <a:tblPr/>
              <a:tblGrid>
                <a:gridCol w="2024280"/>
                <a:gridCol w="1701720"/>
                <a:gridCol w="1616040"/>
                <a:gridCol w="1548000"/>
              </a:tblGrid>
              <a:tr h="1002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ferenc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7a8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estr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° de cartele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7a8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breprecio promedio 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7a8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breprecio mediana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7a8a"/>
                    </a:solidFill>
                  </a:tcPr>
                </a:tc>
              </a:tr>
              <a:tr h="100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hen y Scheffman (198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– 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7 – 1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8 – 1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rden (200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</a:tr>
              <a:tr h="393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ner (200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</a:tr>
              <a:tr h="700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nstein y Suslow (200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iffin (198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</a:tr>
              <a:tr h="100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DE (2003), excluyendo los más al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</a:tr>
            </a:tbl>
          </a:graphicData>
        </a:graphic>
      </p:graphicFrame>
      <p:sp>
        <p:nvSpPr>
          <p:cNvPr id="83" name="4 Rectángulo"/>
          <p:cNvSpPr/>
          <p:nvPr/>
        </p:nvSpPr>
        <p:spPr>
          <a:xfrm>
            <a:off x="1127880" y="6176880"/>
            <a:ext cx="221616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360" bIns="45360" anchor="t">
            <a:sp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(Connor y Bolotova 200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0T18:04:11Z</dcterms:created>
  <dc:creator>Fernando Araya</dc:creator>
  <dc:description/>
  <dc:language>en-US</dc:language>
  <cp:lastModifiedBy>Felipe Irarrázabal</cp:lastModifiedBy>
  <dcterms:modified xsi:type="dcterms:W3CDTF">2011-11-17T20:17:04Z</dcterms:modified>
  <cp:revision>94</cp:revision>
  <dc:subject/>
  <dc:title>Diapositiva 1</dc:title>
</cp:coreProperties>
</file>