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899636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077D93E-E77C-4ACF-B571-D42DDCA0E435}" type="datetime">
              <a:rPr b="0" lang="es-ES_tradnl" sz="12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680" y="685440"/>
            <a:ext cx="4508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180EFC7-5C57-4E8E-AAA6-BBDC069CFA7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60EC92E-7D18-441E-A063-0B0EED71652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0ED480B7-C638-4F2A-BD42-941BEFF9311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1AF2F190-C219-402B-B1FA-1D16C17C785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2FCDE5C-5959-4F8C-8351-BF1D68E4DFD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7F78B81-7995-4A3C-9A5F-F30FE7D03B3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11D4AD4-1E64-4F72-B104-0D2D44A4628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AFE2E7B-EF1F-4F66-AE76-65D74E27D1E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07E82038-FECD-41EF-B93D-6A0B2E739AF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F05324F1-CBD6-417A-BAEF-AB4CDAE2BE7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298F-2C7E-4350-8212-7FFFC1F6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3C67-3898-4177-8C57-36695296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53A-C60D-48DA-9204-424D0A8C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66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92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66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C45F-6498-493F-A565-B1EEB7C8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680-C361-4C3E-8FE1-B78DE8ED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4B3-0925-4DD7-AC87-75490FD8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0B70-AB3E-4712-A875-C92F6795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7975-9B04-4F65-BEE3-3F6BFB4E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9280" y="274680"/>
            <a:ext cx="8099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2DD-E4FC-4F61-AC00-208D7F40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F25-E2DC-4FB3-9FE3-D30B0277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2F49-DE50-4495-8851-7E55B448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01D3-5C3C-47C8-BD7F-CC2E1791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928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0B12077C-F585-4FDD-9837-101E3123BAF9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338880"/>
            <a:ext cx="284796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59F6F13-2163-4956-BE17-2E0DE645E0C1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n 5" descr="1.jpg"/>
          <p:cNvPicPr/>
          <p:nvPr/>
        </p:nvPicPr>
        <p:blipFill>
          <a:blip r:embed="rId1"/>
          <a:stretch/>
        </p:blipFill>
        <p:spPr>
          <a:xfrm>
            <a:off x="-36360" y="0"/>
            <a:ext cx="9034200" cy="6867360"/>
          </a:xfrm>
          <a:prstGeom prst="rect">
            <a:avLst/>
          </a:prstGeom>
          <a:ln w="0">
            <a:noFill/>
          </a:ln>
        </p:spPr>
      </p:pic>
      <p:sp>
        <p:nvSpPr>
          <p:cNvPr id="49" name="CuadroTexto 3"/>
          <p:cNvSpPr/>
          <p:nvPr/>
        </p:nvSpPr>
        <p:spPr>
          <a:xfrm>
            <a:off x="106200" y="1955880"/>
            <a:ext cx="592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6000" spc="-1" strike="noStrike">
                <a:solidFill>
                  <a:srgbClr val="617a8a"/>
                </a:solidFill>
                <a:latin typeface="Arial"/>
              </a:rPr>
              <a:t>CARTE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uadroTexto 3"/>
          <p:cNvSpPr/>
          <p:nvPr/>
        </p:nvSpPr>
        <p:spPr>
          <a:xfrm>
            <a:off x="974880" y="760320"/>
            <a:ext cx="7700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FISCALÍA NACIONAL ECONÓMICA Y EL COMBATE A LOS CARTE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ector recto 6"/>
          <p:cNvSpPr/>
          <p:nvPr/>
        </p:nvSpPr>
        <p:spPr>
          <a:xfrm>
            <a:off x="0" y="644364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DB37DB10-C7B0-4FDC-8765-E14017188B7B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71680" y="148392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451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UNIDAD ESPECI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 profesionales e infraestructura dedicada exclusivamente al combate de los carteles, actualmente contamos con los más modernos recursos informáticos de pericia forense y de seguridad que permiten al mismo tiempo mejorar la eficiencia en la investigación y resguardar la integridad de las pruebas recab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articipación activa en los grupos especializados en el tema – International Competition Network, OECD, Forum Latino Americano, 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9280" y="610920"/>
            <a:ext cx="8099280" cy="80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FISCALÍA NACIONAL ECONÓMICA Y EL COMBATE A LOS CARTELE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9280" y="876240"/>
            <a:ext cx="8099280" cy="546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ACCIONES REPRES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versas investigaciones iniciadas por oficio y por denuncias realiz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arrollo de Métodos Cuantitativos diseñados específicamente para la      detección de carteles en lici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venio con otros órganos del Estado para la detección temprana de estos ilíci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vestigaciones Reservadas: ES FUNDAMENTAL LA MANTENCIÓN DE LA CONFIDENCIALIDAD DE LAS INVESTIGACIONES DURANTE SUS PRIMERAS ETAPAS INVESTIG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ACCIONES PREVENTIV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ublicaciones de guías y documentos de trabaj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pras Publicas y Libre Competenci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Guía de Asociaciones Gremial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CE89996-4925-4EE8-BC31-84F6D2A27DB3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9280" y="610920"/>
            <a:ext cx="8099280" cy="80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FISCALÍA NACIONAL ECONÓMICA Y EL COMBATE A LOS CARTELE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49280" y="1116000"/>
            <a:ext cx="8099280" cy="45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articipación activa junto a los Seremi y otras autoridades regionales para difusión y educación de la legislación conting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esencia constante en Congresos y Seminarios nacional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cuerdos de Cooperación con Agencias de Competencia Internacional – Esto es fundamental para la acción contra los carteles inter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6348681-E624-44B1-BFE2-AC18A1371ED4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05840"/>
            <a:ext cx="8099280" cy="10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NUEVAS HERRAMIENTAS INVESTIGATIVAS Y DISUASIVA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2 Marcador de contenido" descr=""/>
          <p:cNvPicPr/>
          <p:nvPr/>
        </p:nvPicPr>
        <p:blipFill>
          <a:blip r:embed="rId1"/>
          <a:stretch/>
        </p:blipFill>
        <p:spPr>
          <a:xfrm>
            <a:off x="426960" y="1109520"/>
            <a:ext cx="8163000" cy="3907080"/>
          </a:xfrm>
          <a:prstGeom prst="rect">
            <a:avLst/>
          </a:prstGeom>
          <a:ln w="0">
            <a:noFill/>
          </a:ln>
        </p:spPr>
      </p:pic>
      <p:sp>
        <p:nvSpPr>
          <p:cNvPr id="101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FEA9283D-20B8-47A5-B823-3C35E90F562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73235F8-1265-49A9-BDC3-910D44B954E8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2 Rectángulo"/>
          <p:cNvSpPr/>
          <p:nvPr/>
        </p:nvSpPr>
        <p:spPr>
          <a:xfrm>
            <a:off x="2116080" y="2322360"/>
            <a:ext cx="959040" cy="308160"/>
          </a:xfrm>
          <a:prstGeom prst="rect">
            <a:avLst/>
          </a:prstGeom>
          <a:solidFill>
            <a:srgbClr val="c5c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447F128-978F-4761-9B11-46FCA725C6BD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6 Diagrama" descr=""/>
          <p:cNvPicPr/>
          <p:nvPr/>
        </p:nvPicPr>
        <p:blipFill>
          <a:blip r:embed="rId1"/>
          <a:stretch/>
        </p:blipFill>
        <p:spPr>
          <a:xfrm>
            <a:off x="669960" y="1457280"/>
            <a:ext cx="7596000" cy="4930920"/>
          </a:xfrm>
          <a:prstGeom prst="rect">
            <a:avLst/>
          </a:prstGeom>
          <a:ln w="0">
            <a:noFill/>
          </a:ln>
        </p:spPr>
      </p:pic>
      <p:sp>
        <p:nvSpPr>
          <p:cNvPr id="110" name="7 CuadroTexto"/>
          <p:cNvSpPr/>
          <p:nvPr/>
        </p:nvSpPr>
        <p:spPr>
          <a:xfrm>
            <a:off x="498600" y="219240"/>
            <a:ext cx="793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Métodos de Det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métodos de detección de carteles, usando análisis económicos pueden ser agrupados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CuadroTexto"/>
          <p:cNvSpPr/>
          <p:nvPr/>
        </p:nvSpPr>
        <p:spPr>
          <a:xfrm>
            <a:off x="2411280" y="34909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9 Rectángulo" descr=""/>
          <p:cNvPicPr/>
          <p:nvPr/>
        </p:nvPicPr>
        <p:blipFill>
          <a:blip r:embed="rId2"/>
          <a:stretch/>
        </p:blipFill>
        <p:spPr>
          <a:xfrm>
            <a:off x="5510160" y="2401920"/>
            <a:ext cx="1774800" cy="377640"/>
          </a:xfrm>
          <a:prstGeom prst="rect">
            <a:avLst/>
          </a:prstGeom>
          <a:ln w="0">
            <a:noFill/>
          </a:ln>
        </p:spPr>
      </p:pic>
      <p:sp>
        <p:nvSpPr>
          <p:cNvPr id="113" name="10 Rectángulo"/>
          <p:cNvSpPr/>
          <p:nvPr/>
        </p:nvSpPr>
        <p:spPr>
          <a:xfrm>
            <a:off x="2411280" y="2322360"/>
            <a:ext cx="287640" cy="308160"/>
          </a:xfrm>
          <a:prstGeom prst="rect">
            <a:avLst/>
          </a:prstGeom>
          <a:solidFill>
            <a:srgbClr val="c5c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3 Rectángulo"/>
          <p:cNvSpPr/>
          <p:nvPr/>
        </p:nvSpPr>
        <p:spPr>
          <a:xfrm>
            <a:off x="2411280" y="2630520"/>
            <a:ext cx="287640" cy="55440"/>
          </a:xfrm>
          <a:prstGeom prst="rect">
            <a:avLst/>
          </a:prstGeom>
          <a:solidFill>
            <a:srgbClr val="bec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11 Rectángulo" descr=""/>
          <p:cNvPicPr/>
          <p:nvPr/>
        </p:nvPicPr>
        <p:blipFill>
          <a:blip r:embed="rId3"/>
          <a:stretch/>
        </p:blipFill>
        <p:spPr>
          <a:xfrm>
            <a:off x="1633680" y="2462040"/>
            <a:ext cx="1815840" cy="3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85006788-A8DF-4AEA-AC7C-DCB282394FD2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uadroTexto 3"/>
          <p:cNvSpPr/>
          <p:nvPr/>
        </p:nvSpPr>
        <p:spPr>
          <a:xfrm>
            <a:off x="974880" y="20520"/>
            <a:ext cx="802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Análisis Estruc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9C5093F3-CBC2-4B1C-A901-7D583C32AB40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6 CuadroTexto"/>
          <p:cNvSpPr/>
          <p:nvPr/>
        </p:nvSpPr>
        <p:spPr>
          <a:xfrm>
            <a:off x="974880" y="1258920"/>
            <a:ext cx="7340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44560" y="528480"/>
          <a:ext cx="7615080" cy="5810400"/>
        </p:xfrm>
        <a:graphic>
          <a:graphicData uri="http://schemas.openxmlformats.org/drawingml/2006/table">
            <a:tbl>
              <a:tblPr/>
              <a:tblGrid>
                <a:gridCol w="5095800"/>
                <a:gridCol w="1224000"/>
                <a:gridCol w="129528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acterís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a Colu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iculta Colu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ntración del Mer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Homogén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eras a la Ent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ia de Precios e Intercambio de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s Niveles de Inno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etría en Cos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o Multimer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a Elasticidad de la 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er Monopsón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 Estructurales entre Empre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os de Cooper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ncia de una Empresa Maveri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ciones Gremi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a Cre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ctuaciones de la 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</a:tbl>
          </a:graphicData>
        </a:graphic>
      </p:graphicFrame>
      <p:pic>
        <p:nvPicPr>
          <p:cNvPr id="123" name="9 Imagen" descr="click.png"/>
          <p:cNvPicPr/>
          <p:nvPr/>
        </p:nvPicPr>
        <p:blipFill>
          <a:blip r:embed="rId1"/>
          <a:stretch/>
        </p:blipFill>
        <p:spPr>
          <a:xfrm>
            <a:off x="6448320" y="1225440"/>
            <a:ext cx="211320" cy="211320"/>
          </a:xfrm>
          <a:prstGeom prst="rect">
            <a:avLst/>
          </a:prstGeom>
          <a:ln w="0">
            <a:noFill/>
          </a:ln>
        </p:spPr>
      </p:pic>
      <p:pic>
        <p:nvPicPr>
          <p:cNvPr id="124" name="10 Imagen" descr="click.png"/>
          <p:cNvPicPr/>
          <p:nvPr/>
        </p:nvPicPr>
        <p:blipFill>
          <a:blip r:embed="rId2"/>
          <a:stretch/>
        </p:blipFill>
        <p:spPr>
          <a:xfrm>
            <a:off x="6448320" y="1542960"/>
            <a:ext cx="211320" cy="211320"/>
          </a:xfrm>
          <a:prstGeom prst="rect">
            <a:avLst/>
          </a:prstGeom>
          <a:ln w="0">
            <a:noFill/>
          </a:ln>
        </p:spPr>
      </p:pic>
      <p:pic>
        <p:nvPicPr>
          <p:cNvPr id="125" name="11 Imagen" descr="click.png"/>
          <p:cNvPicPr/>
          <p:nvPr/>
        </p:nvPicPr>
        <p:blipFill>
          <a:blip r:embed="rId3"/>
          <a:stretch/>
        </p:blipFill>
        <p:spPr>
          <a:xfrm>
            <a:off x="6448320" y="195264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6" name="12 Imagen" descr="click.png"/>
          <p:cNvPicPr/>
          <p:nvPr/>
        </p:nvPicPr>
        <p:blipFill>
          <a:blip r:embed="rId4"/>
          <a:stretch/>
        </p:blipFill>
        <p:spPr>
          <a:xfrm>
            <a:off x="7812000" y="230508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27" name="13 Imagen" descr="click.png"/>
          <p:cNvPicPr/>
          <p:nvPr/>
        </p:nvPicPr>
        <p:blipFill>
          <a:blip r:embed="rId5"/>
          <a:stretch/>
        </p:blipFill>
        <p:spPr>
          <a:xfrm>
            <a:off x="6448320" y="26989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8" name="14 Imagen" descr="click.png"/>
          <p:cNvPicPr/>
          <p:nvPr/>
        </p:nvPicPr>
        <p:blipFill>
          <a:blip r:embed="rId6"/>
          <a:stretch/>
        </p:blipFill>
        <p:spPr>
          <a:xfrm>
            <a:off x="6448320" y="305928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9" name="15 Imagen" descr="click.png"/>
          <p:cNvPicPr/>
          <p:nvPr/>
        </p:nvPicPr>
        <p:blipFill>
          <a:blip r:embed="rId7"/>
          <a:stretch/>
        </p:blipFill>
        <p:spPr>
          <a:xfrm>
            <a:off x="6448320" y="341964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30" name="16 Imagen" descr="click.png"/>
          <p:cNvPicPr/>
          <p:nvPr/>
        </p:nvPicPr>
        <p:blipFill>
          <a:blip r:embed="rId8"/>
          <a:stretch/>
        </p:blipFill>
        <p:spPr>
          <a:xfrm>
            <a:off x="7812000" y="378000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1" name="17 Imagen" descr="click.png"/>
          <p:cNvPicPr/>
          <p:nvPr/>
        </p:nvPicPr>
        <p:blipFill>
          <a:blip r:embed="rId9"/>
          <a:stretch/>
        </p:blipFill>
        <p:spPr>
          <a:xfrm>
            <a:off x="6448320" y="414036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32" name="18 Imagen" descr="click.png"/>
          <p:cNvPicPr/>
          <p:nvPr/>
        </p:nvPicPr>
        <p:blipFill>
          <a:blip r:embed="rId10"/>
          <a:stretch/>
        </p:blipFill>
        <p:spPr>
          <a:xfrm>
            <a:off x="6496200" y="565164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3" name="19 Imagen" descr="click.png"/>
          <p:cNvPicPr/>
          <p:nvPr/>
        </p:nvPicPr>
        <p:blipFill>
          <a:blip r:embed="rId11"/>
          <a:stretch/>
        </p:blipFill>
        <p:spPr>
          <a:xfrm>
            <a:off x="6496200" y="529128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4" name="20 Imagen" descr="click.png"/>
          <p:cNvPicPr/>
          <p:nvPr/>
        </p:nvPicPr>
        <p:blipFill>
          <a:blip r:embed="rId12"/>
          <a:stretch/>
        </p:blipFill>
        <p:spPr>
          <a:xfrm>
            <a:off x="7812000" y="489744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5" name="21 Imagen" descr="click.png"/>
          <p:cNvPicPr/>
          <p:nvPr/>
        </p:nvPicPr>
        <p:blipFill>
          <a:blip r:embed="rId13"/>
          <a:stretch/>
        </p:blipFill>
        <p:spPr>
          <a:xfrm>
            <a:off x="6462720" y="450540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136" name="22 Imagen" descr="click.png"/>
          <p:cNvPicPr/>
          <p:nvPr/>
        </p:nvPicPr>
        <p:blipFill>
          <a:blip r:embed="rId14"/>
          <a:stretch/>
        </p:blipFill>
        <p:spPr>
          <a:xfrm>
            <a:off x="7859880" y="599616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137" name="9 Imagen" descr="click.png"/>
          <p:cNvPicPr/>
          <p:nvPr/>
        </p:nvPicPr>
        <p:blipFill>
          <a:blip r:embed="rId15"/>
          <a:stretch/>
        </p:blipFill>
        <p:spPr>
          <a:xfrm>
            <a:off x="6448320" y="826920"/>
            <a:ext cx="211320" cy="2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7D69036-D054-45BC-90EF-DC043629C1A5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 Título"/>
          <p:cNvSpPr/>
          <p:nvPr/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3200" spc="-1" strike="noStrike">
                <a:solidFill>
                  <a:srgbClr val="617a8a"/>
                </a:solidFill>
                <a:latin typeface="Arial"/>
              </a:rPr>
              <a:t>Análisis condu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FB2357F7-F50E-40E0-AFA1-51E5FECC2674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4 Imagen" descr="bigger profits.jpg"/>
          <p:cNvPicPr/>
          <p:nvPr/>
        </p:nvPicPr>
        <p:blipFill>
          <a:blip r:embed="rId1"/>
          <a:stretch/>
        </p:blipFill>
        <p:spPr>
          <a:xfrm>
            <a:off x="528480" y="2043000"/>
            <a:ext cx="1090800" cy="1090800"/>
          </a:xfrm>
          <a:prstGeom prst="rect">
            <a:avLst/>
          </a:prstGeom>
          <a:ln w="0">
            <a:noFill/>
          </a:ln>
        </p:spPr>
      </p:pic>
      <p:pic>
        <p:nvPicPr>
          <p:cNvPr id="142" name="5 Imagen" descr="financial_stability1.jpg"/>
          <p:cNvPicPr/>
          <p:nvPr/>
        </p:nvPicPr>
        <p:blipFill>
          <a:blip r:embed="rId2"/>
          <a:stretch/>
        </p:blipFill>
        <p:spPr>
          <a:xfrm>
            <a:off x="1978200" y="2341440"/>
            <a:ext cx="1306440" cy="682920"/>
          </a:xfrm>
          <a:prstGeom prst="rect">
            <a:avLst/>
          </a:prstGeom>
          <a:ln w="0">
            <a:noFill/>
          </a:ln>
        </p:spPr>
      </p:pic>
      <p:sp>
        <p:nvSpPr>
          <p:cNvPr id="143" name="6 CuadroTexto"/>
          <p:cNvSpPr/>
          <p:nvPr/>
        </p:nvSpPr>
        <p:spPr>
          <a:xfrm>
            <a:off x="395280" y="326700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ás elev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7 CuadroTexto"/>
          <p:cNvSpPr/>
          <p:nvPr/>
        </p:nvSpPr>
        <p:spPr>
          <a:xfrm>
            <a:off x="1835280" y="3267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aja var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8 Imagen" descr="greedy CEOs.png"/>
          <p:cNvPicPr/>
          <p:nvPr/>
        </p:nvPicPr>
        <p:blipFill>
          <a:blip r:embed="rId3"/>
          <a:stretch/>
        </p:blipFill>
        <p:spPr>
          <a:xfrm>
            <a:off x="3851280" y="1792440"/>
            <a:ext cx="1636560" cy="1212840"/>
          </a:xfrm>
          <a:prstGeom prst="rect">
            <a:avLst/>
          </a:prstGeom>
          <a:ln w="0">
            <a:noFill/>
          </a:ln>
        </p:spPr>
      </p:pic>
      <p:sp>
        <p:nvSpPr>
          <p:cNvPr id="146" name="9 CuadroTexto"/>
          <p:cNvSpPr/>
          <p:nvPr/>
        </p:nvSpPr>
        <p:spPr>
          <a:xfrm>
            <a:off x="3284640" y="2806560"/>
            <a:ext cx="2448000" cy="82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doni MT Poster Compressed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Bodoni MT Poster Compressed"/>
              </a:rPr>
              <a:t>¡¿</a:t>
            </a:r>
            <a:r>
              <a:rPr b="0" lang="es-CL" sz="1200" spc="-1" strike="noStrike">
                <a:solidFill>
                  <a:srgbClr val="000000"/>
                </a:solidFill>
                <a:latin typeface="Bodoni MT Poster Compressed"/>
              </a:rPr>
              <a:t>YQUIÉN DICE QUE TENGO QUE BAJAR LOS PRECIOS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0 CuadroTexto"/>
          <p:cNvSpPr/>
          <p:nvPr/>
        </p:nvSpPr>
        <p:spPr>
          <a:xfrm>
            <a:off x="3284640" y="3267000"/>
            <a:ext cx="30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nor relación con co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F:\dollar.gif"/>
          <p:cNvPicPr/>
          <p:nvPr/>
        </p:nvPicPr>
        <p:blipFill>
          <a:blip r:embed="rId4"/>
          <a:stretch/>
        </p:blipFill>
        <p:spPr>
          <a:xfrm>
            <a:off x="7095960" y="2062080"/>
            <a:ext cx="508320" cy="962280"/>
          </a:xfrm>
          <a:prstGeom prst="rect">
            <a:avLst/>
          </a:prstGeom>
          <a:ln w="0">
            <a:noFill/>
          </a:ln>
        </p:spPr>
      </p:pic>
      <p:sp>
        <p:nvSpPr>
          <p:cNvPr id="149" name="12 CuadroTexto"/>
          <p:cNvSpPr/>
          <p:nvPr/>
        </p:nvSpPr>
        <p:spPr>
          <a:xfrm>
            <a:off x="6083280" y="3267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árgenes más elev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3 CuadroTexto"/>
          <p:cNvSpPr/>
          <p:nvPr/>
        </p:nvSpPr>
        <p:spPr>
          <a:xfrm>
            <a:off x="754200" y="1251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EC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CuadroTexto"/>
          <p:cNvSpPr/>
          <p:nvPr/>
        </p:nvSpPr>
        <p:spPr>
          <a:xfrm>
            <a:off x="698400" y="3851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NTIDAD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Rectángulo"/>
          <p:cNvSpPr/>
          <p:nvPr/>
        </p:nvSpPr>
        <p:spPr>
          <a:xfrm>
            <a:off x="754200" y="4394160"/>
            <a:ext cx="4498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ciones de mercado altamente estables en el 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tación de las ofertas y de los ofer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Imagen 24" descr=""/>
          <p:cNvPicPr/>
          <p:nvPr/>
        </p:nvPicPr>
        <p:blipFill>
          <a:blip r:embed="rId5"/>
          <a:stretch/>
        </p:blipFill>
        <p:spPr>
          <a:xfrm>
            <a:off x="5724360" y="4059360"/>
            <a:ext cx="2926080" cy="1854000"/>
          </a:xfrm>
          <a:prstGeom prst="rect">
            <a:avLst/>
          </a:prstGeom>
          <a:ln w="0">
            <a:noFill/>
          </a:ln>
        </p:spPr>
      </p:pic>
      <p:sp>
        <p:nvSpPr>
          <p:cNvPr id="154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  <a:ea typeface="Arial"/>
              </a:rPr>
              <a:t>Uso de facultades duras para la recopilación de pruebas e indicios del actual coordin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oble tramitación: TDLC y Corte de Apel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lanificación diligencia: simultanea y sigilo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visión de antecedentes, entrevistas con autoridades, envíos de oficios, declaración de los investigados, declaración de ex-funcionarios, declaraciones de personas que pudiera presentar nuevos anteced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úsqueda de jurisprudencia intern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fusión entre los investigados de los beneficios de la suscripción a la Delación Compens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052770E6-D579-45D7-BA10-11210FC2CAC5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uadroTexto 3"/>
          <p:cNvSpPr/>
          <p:nvPr/>
        </p:nvSpPr>
        <p:spPr>
          <a:xfrm>
            <a:off x="974880" y="760320"/>
            <a:ext cx="7700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RESULTADOS POSI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adroTexto 3"/>
          <p:cNvSpPr/>
          <p:nvPr/>
        </p:nvSpPr>
        <p:spPr>
          <a:xfrm>
            <a:off x="652320" y="6440400"/>
            <a:ext cx="80233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6E99E78-27B2-47C9-87E7-040D81F60BD3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46040" y="1323720"/>
            <a:ext cx="8229600" cy="55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RCHIVO/ REQUERIMIENTO ANTE EL TDL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ecumse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arma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Buses (Terminales y Curaca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NTENCIA TDLC/C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adios, Sentencia N°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ransporte - varios por acuerdos de precio/reparto de mercado/ exclusión de competidores, Sentencias N°102, 94, 8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xigeno, Sentencia N°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sapre, Sentencia N°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sma, Sentencia N°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sfalto, Sentencia N°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n 5" descr="1.jpg"/>
          <p:cNvPicPr/>
          <p:nvPr/>
        </p:nvPicPr>
        <p:blipFill>
          <a:blip r:embed="rId1"/>
          <a:stretch/>
        </p:blipFill>
        <p:spPr>
          <a:xfrm>
            <a:off x="-36360" y="0"/>
            <a:ext cx="9034200" cy="6867360"/>
          </a:xfrm>
          <a:prstGeom prst="rect">
            <a:avLst/>
          </a:prstGeom>
          <a:ln w="0">
            <a:noFill/>
          </a:ln>
        </p:spPr>
      </p:pic>
      <p:sp>
        <p:nvSpPr>
          <p:cNvPr id="167" name="CuadroTexto 3"/>
          <p:cNvSpPr/>
          <p:nvPr/>
        </p:nvSpPr>
        <p:spPr>
          <a:xfrm>
            <a:off x="106200" y="1955880"/>
            <a:ext cx="592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6000" spc="-1" strike="noStrike">
                <a:solidFill>
                  <a:srgbClr val="617a8a"/>
                </a:solidFill>
                <a:latin typeface="Arial"/>
              </a:rPr>
              <a:t>CARTE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Texto 3"/>
          <p:cNvSpPr/>
          <p:nvPr/>
        </p:nvSpPr>
        <p:spPr>
          <a:xfrm>
            <a:off x="974880" y="466560"/>
            <a:ext cx="802296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000" spc="-1" strike="noStrike">
                <a:solidFill>
                  <a:srgbClr val="617a8a"/>
                </a:solidFill>
                <a:latin typeface="Arial"/>
                <a:ea typeface="Arial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ave infracción a la libre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FNE y el combate a los cart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uevas Herramientas Investig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uevas Herramientas Disuas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étodos de Det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B58592F-884F-434F-9A28-97E26DD6C9A4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adroTexto 3"/>
          <p:cNvSpPr/>
          <p:nvPr/>
        </p:nvSpPr>
        <p:spPr>
          <a:xfrm>
            <a:off x="969840" y="6440400"/>
            <a:ext cx="80233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uadroTexto 3"/>
          <p:cNvSpPr/>
          <p:nvPr/>
        </p:nvSpPr>
        <p:spPr>
          <a:xfrm>
            <a:off x="130320" y="3441600"/>
            <a:ext cx="630684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4000" spc="-1" strike="noStrike">
                <a:solidFill>
                  <a:srgbClr val="617a8a"/>
                </a:solidFill>
                <a:latin typeface="Arial"/>
              </a:rPr>
              <a:t>¿Qué son los acuerdos o carteles en materia de libre competencia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n 4" descr="logo.jpg"/>
          <p:cNvPicPr/>
          <p:nvPr/>
        </p:nvPicPr>
        <p:blipFill>
          <a:blip r:embed="rId1"/>
          <a:stretch/>
        </p:blipFill>
        <p:spPr>
          <a:xfrm>
            <a:off x="6437160" y="1255680"/>
            <a:ext cx="256068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uadroTexto 3"/>
          <p:cNvSpPr/>
          <p:nvPr/>
        </p:nvSpPr>
        <p:spPr>
          <a:xfrm>
            <a:off x="847800" y="500040"/>
            <a:ext cx="7700760" cy="59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DEFINI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RAE: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“Convenio entr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varias empresas similar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par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evitar la mutua competenci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regular la produc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vent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precio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en determinado campo industrial”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Coloma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“La colusión puede definirse como una situación en la cual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serie de empresas acuerdan no competir entre ellas con el objetivo de incrementar los beneficios conjuntos de todo el grup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rt. 3 DL. 211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“…Se considerarán, entre otros, como hechos, actos o convenciones que impiden, restringen o entorpecen la libre competencia o que tienden a producir dichos efectos, los sigui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Los acuerdos expresos o tácitos entre competidores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, o las prácticas concertadas entre ellos,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que les confieran poder de mercado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y que consisten en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fijar precios de venta, de compra u otras condiciones de comercialización, limitar la producción, asignarse zonas o cuotas de mercado, excluir competidores o afectar el resultado de procesos de licitación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”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21B34BF-F1F4-4C94-9257-87427DA6C570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9629D3DA-F48F-4A14-A2B1-E1507A599DC8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adroTexto 3"/>
          <p:cNvSpPr/>
          <p:nvPr/>
        </p:nvSpPr>
        <p:spPr>
          <a:xfrm>
            <a:off x="974880" y="192240"/>
            <a:ext cx="719604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POR LO TA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XISTENCIA DE UN ACUERDO– NO NECESARIAMENTE EXP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ACUERDO TIENE QUE SER ENTRE COMPETI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IENE QUE CONFERIR PODER DE MERCADO A SUS PARTÍCI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Y  TIENE QUE TENER POR OBJETO (aptitud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jar precios de vent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de comp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jar otras condiciones de comercializació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 la producció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rse zonas de merca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rse cuotas de merca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luir competidores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ectar el resultado de procesos de licitación – “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d rigging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tabLst>
                <a:tab algn="l" pos="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uadroTexto 3"/>
          <p:cNvSpPr/>
          <p:nvPr/>
        </p:nvSpPr>
        <p:spPr>
          <a:xfrm>
            <a:off x="974880" y="760320"/>
            <a:ext cx="7700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Afectar el resultado de procesos de licit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F52C9400-E033-425A-BEAD-D517DDC3C83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18960" y="1186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890640" y="1187280"/>
            <a:ext cx="72165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resión o limitación de prop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uestas de cob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tación del gan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contratación de un compet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9 Flecha abajo"/>
          <p:cNvSpPr/>
          <p:nvPr/>
        </p:nvSpPr>
        <p:spPr>
          <a:xfrm>
            <a:off x="3851280" y="3203640"/>
            <a:ext cx="1008000" cy="122400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5b7b90"/>
              </a:gs>
              <a:gs pos="100000">
                <a:srgbClr val="b8cddc"/>
              </a:gs>
            </a:gsLst>
            <a:lin ang="16200000"/>
          </a:gradFill>
          <a:ln w="9360">
            <a:solidFill>
              <a:srgbClr val="5e778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0 CuadroTexto"/>
          <p:cNvSpPr/>
          <p:nvPr/>
        </p:nvSpPr>
        <p:spPr>
          <a:xfrm>
            <a:off x="466560" y="3851280"/>
            <a:ext cx="76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 el objetivo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EVAR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uadroTexto 3"/>
          <p:cNvSpPr/>
          <p:nvPr/>
        </p:nvSpPr>
        <p:spPr>
          <a:xfrm>
            <a:off x="395280" y="55404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400" spc="-1" strike="noStrike">
                <a:solidFill>
                  <a:srgbClr val="617a8a"/>
                </a:solidFill>
                <a:latin typeface="Arial"/>
                <a:ea typeface="Arial"/>
              </a:rPr>
              <a:t>¿POR QUÉ ES TEMA “ALTERAR EL RESULTADO DEL PROCESO DE LICITACIÓN”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Alto volumen de recursos involucrad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peraciones a través del mercado público: USD$ 6.500 millones aprox. anua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tras operaciones vía licitación al margen de mercado público: USD$ 2.000 millones aprox. Anu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peraciones vía licitaciones de empresas pública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j. Codelco: USD$ 10.000 millones aprox. anuales (incluye gastos e inversió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as compras anteriores representan aprox. entre el 8% y el 10% del PIB de Chi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400" spc="-1" strike="noStrike">
                <a:solidFill>
                  <a:srgbClr val="617a8a"/>
                </a:solidFill>
                <a:latin typeface="Arial"/>
                <a:ea typeface="Arial"/>
              </a:rPr>
              <a:t>Estim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USD$ 15.000 millones aprox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xiste colusión en licitaciones que representan un 0,5% de dicho mo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(USD$ 750 millones aprox. Pag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os sobreprecios pagados son de un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ignifica que lo que debió pagarse fue USD$ 750 –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USD$68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=        USD$ 6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D2834903-939B-4B5C-AC90-5962615E9EB8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uadroTexto 3"/>
          <p:cNvSpPr/>
          <p:nvPr/>
        </p:nvSpPr>
        <p:spPr>
          <a:xfrm>
            <a:off x="974880" y="760320"/>
            <a:ext cx="770076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GRAVE INFRACCIÓN A LA LIBRE COMPE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31AA162-ED6F-4954-9570-4C2C250F50D8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611280" y="1116000"/>
            <a:ext cx="8242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EJUICIO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PERNICIOSOS SOBRE LOS CONSUMIDORES Y EL ESTAD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EL PRECIO (en promedio de un 10%-20%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or sobre el precio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petitivo, según OC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UCCIÓN DE LA OFERTA (en  promedio de un 20%,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gún la OC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E GASTOS DEL GOBIERNO; distribución ineficiente de recursos públ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NOR CALIDAD, MENOR VARIEDAD DE PRODUCTOS Y DESINCENTIVO A LA INOV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n síntesis: Reducción del bienestar del consumidor y transferencia de renta desde los consumidores hacia a las empresas carteliz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42920"/>
            <a:ext cx="702972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800" spc="-1" strike="noStrike">
                <a:solidFill>
                  <a:srgbClr val="617a8a"/>
                </a:solidFill>
                <a:latin typeface="Arial"/>
              </a:rPr>
              <a:t>ESTUDIO SOBRE ESTIMACIONES DE SOBRE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25360" y="1424160"/>
          <a:ext cx="6890040" cy="4894200"/>
        </p:xfrm>
        <a:graphic>
          <a:graphicData uri="http://schemas.openxmlformats.org/drawingml/2006/table">
            <a:tbl>
              <a:tblPr/>
              <a:tblGrid>
                <a:gridCol w="2024280"/>
                <a:gridCol w="1701720"/>
                <a:gridCol w="1616040"/>
                <a:gridCol w="1548000"/>
              </a:tblGrid>
              <a:tr h="1002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estr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° de carte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precio promedio 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precio mediana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en y Scheffman (198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 – 1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 –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en (200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93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ner (200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nstein y Suslow (20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ffin (198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DE (2003), excluyendo los más al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</a:tbl>
          </a:graphicData>
        </a:graphic>
      </p:graphicFrame>
      <p:sp>
        <p:nvSpPr>
          <p:cNvPr id="83" name="4 Rectángulo"/>
          <p:cNvSpPr/>
          <p:nvPr/>
        </p:nvSpPr>
        <p:spPr>
          <a:xfrm>
            <a:off x="1127880" y="6176880"/>
            <a:ext cx="22161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360" bIns="4536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(Connor y Bolotova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8:04:11Z</dcterms:created>
  <dc:creator>Fernando Araya</dc:creator>
  <dc:description/>
  <dc:language>en-US</dc:language>
  <cp:lastModifiedBy>Felipe Irarrázabal</cp:lastModifiedBy>
  <dcterms:modified xsi:type="dcterms:W3CDTF">2011-11-17T20:17:04Z</dcterms:modified>
  <cp:revision>94</cp:revision>
  <dc:subject/>
  <dc:title>Diapositiva 1</dc:title>
</cp:coreProperties>
</file>