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9A2A6C-C9C5-49E4-A7A8-587E30147E3B}"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58781B-6931-487F-A1C0-CAC8E96E81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6BFA08-3DFD-498A-A919-A119EB8C79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7ABF55-0158-4A2C-B2F5-2457A2DAF6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03FE78-F7ED-45B1-9B1E-02164D8EF0B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E700915-5285-4C6A-8496-9F3F6C9F5BC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928399-B1D6-40DC-B026-61017EC462F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62F551-DCF6-4120-AB7B-58BB8BEA1E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4C236C7-3004-49EF-8D9A-CF54B963B5E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CE6F08-4186-49E0-BEA2-33322B525D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868A49-99C5-470D-8CCB-F6FFBB2B66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688AA4-D955-46B6-8114-7F4D0305D7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A591A8-A86B-4DC6-82BC-1B7F1B67C4F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F04DED-4157-4A91-9319-5C5D355AD6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D2D7FB-6407-4F09-96F2-EB93A144FCD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A3D40A-0A5B-45C4-A6C3-B25903F409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493BF9-3CBC-4987-9EBD-0E014427C4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B5E570-DAC6-4288-B17E-DEB1E8C0C0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0BF1B7-6519-4869-AA67-191D29AEDE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1E3BF7-CFF8-4F43-B091-93DBA1BB72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31DE6D-1749-4E4A-A2CC-4E0C4C961C8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0B2905-AC52-4872-BBBE-E6A90B9563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62EC01-9903-457F-A97E-EC70DDAF06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2E3D27-E038-4589-BDB4-C723B19E2A6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196934-0657-403F-B909-9171AFAEA9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38CEF7-1254-4CDE-853A-B933CD3CBA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1BAD98-BFE7-4A37-96FB-F0E8326014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FF7D2A-BC45-4160-9731-F88A3647C6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76A5D3-37B5-41E9-BA7F-DD6FB0F7EF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400EEA-D5A5-40DE-B22F-51774C5C22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2C32B4-F147-4F6B-A74E-E4130D9C19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4541CD-738C-46AB-B3F4-15AA9B8CCC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323777-D4C3-4185-9ECF-FA022B3B96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8AE1CA-EEAA-4B16-9D3D-5AD3522572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01B879-735B-42FF-9DD8-99173C1972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7634D0-3513-4E20-8279-8ED5D6FE0A1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2A99E7-489B-4B73-BB3E-BCB396C97A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FC7CED-935B-4509-A7A4-78F989389C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F94DFD-9613-4177-8AF5-DA44884E10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420DDC-C8FD-44A2-BBB1-B05502C4FF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775F0-54C7-4926-8329-2571062DC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CBE18-6BA9-4BA4-9756-13AEAEC68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E9DD5-77AE-4DFA-BEEF-9123DD702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2AC69-BFA4-4EFA-B3FC-C820E7700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C54AB-DC0C-4BDD-A066-9AF616657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0F87B-96FA-4FB3-AF07-D64963C15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68339-93B0-432D-9E98-08D042C44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3AE46-36E4-4720-93ED-D086AFD12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4B411-D551-4139-BEF4-AB80AFCBA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F28B2-4F90-4E8B-B947-F344962B7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637F1-7B12-4BD8-9D79-24348C124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1439F-BEA9-4B2C-8B2D-DB0126285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11236-754E-441A-BF46-04D34D067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D9229-3E06-4884-86AF-1528F5D0E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0BF93-4FA7-4D9A-9B35-93627BE01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A4E57-4CF1-4D7E-8322-6AE5108EE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1A700-8CB4-4DCC-B1D3-4A9A8DC33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05689-70B6-4A9A-829B-5A8119DDC8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2F91A-0F53-444A-9003-C008E4101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A07D40-DBCE-49B1-873D-B64C31556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6DEAE-07A3-4287-ABA4-EC53713899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C23DD-BF47-450F-884C-96BA1A15FF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56884-2C46-4AA8-9321-71C968FF3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669E8-98CA-44D8-AA47-FD9B9D498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F1B96-C009-4508-B86C-D8719F7F0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26EE9-A445-47F4-87D5-DD70150C2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1453D-3F03-4FAF-AFF8-DEDEEAFD2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6252A-FB24-4786-AAE0-63242624F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71454B-1938-47C6-9866-137DB8756A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393EF-D18C-4794-9792-72992FD3AD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62202-3943-454A-B7DE-5B5939FE8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65C06-BCD1-4FB8-B3CB-A94C806BF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ACF28-6255-4F4E-B58C-202FA380F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D450-240C-49DA-BBB8-DEE00C18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9F50-510B-46AD-AC9E-BA5BF00A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00EF9-0E62-4F10-8911-616791EB8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44DD77-16E4-409D-BCE6-30EE4CAC8DA1}"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E68505-1794-477C-B369-A720F8065F65}"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C1DB62-DBA9-4EC2-A593-0692AC39BE35}"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3E6FED1-87C8-4F3E-A26D-3B3CD38DACE0}"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C99181-1131-4919-8B01-C165A5F4DE00}" type="datetime">
              <a:rPr b="0" lang="es-CL" sz="1200" spc="-1" strike="noStrike">
                <a:solidFill>
                  <a:srgbClr val="898989"/>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087D88-E7AD-4623-9534-7DBF1FBC6B78}"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FF172B-0AFE-44DB-A62A-0377E442E5A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610743-9692-4764-ADE5-4FBF123C257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2F3168-2992-49E3-BDB1-AF8B048D056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8C4793-CE73-4AF5-A919-2385F434524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D24D30-3669-4E02-9C36-1C931F4E7CA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58429A-A53D-42E7-BDD5-E8115739D78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D187EF-782D-4945-85FC-7E7B0803F19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342C41-65AF-4F1A-8139-3AA8D5149A0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1FB8B3-44A5-46EE-A703-F0A004ED1BF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1AC6F8-0F41-425E-B4D6-2E6F2E754FE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203194-CA1B-4D4B-99BB-98DC9BD2D9F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4302D6-9A91-44E1-8F92-070647682A5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29334E-F395-4665-B693-4D5F3D9538F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7AE40B-15CF-418B-AEDC-917EBB99516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D28E51-C365-48D8-B071-00528B120DA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3FC930-1A2D-4686-A5FB-8E35601CEB4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6CE885-6EC7-42FB-BE5B-309AD4BF856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197656-45FD-4E6A-B2FB-2755E296DC2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0687A0-C252-4A0F-8CB1-4CFD28A0D6C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E668BA-9E33-42CB-86F3-0AACA5DD717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73EB52-6EF2-4A92-8350-2C3EDD5FD15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6708A3-FC7B-4AFE-8D0F-24EA6EC6D76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3BC18D-345E-4D55-9499-6E1B74BA80B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CD8D1D-25C3-446F-9A44-7F9714D240C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1DC835-246B-41F4-89DD-98C99657EDB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E10D9A-43F8-4230-BE1C-AF413BF109D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6F8F8B-B606-434B-B3AF-5BA73ADD868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663A9F-E5B7-45A4-9273-B109C244EAF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5EF159-452A-4F01-8509-3B675ABC583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8A216B-1E31-4E2C-9822-AFB0EDD006E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7461AF-8395-49DF-B582-ECC37AA42DC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5E85BE-D0EF-4133-AE66-19D57177450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2F18D1-8357-401A-9CBF-1F03E4E00E2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BAF29D-324F-4B63-BB7C-BAF6B08FE79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6935E1-5C40-4FD7-8FB6-0998F35AF6A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EF1AF9-AC9B-45C7-8969-C8D73463A83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FE6EFE-F58D-45CA-BFC0-AE051A949EC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