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BF89668-05DE-4E50-8127-B1BF0441E71A}" type="datetime">
              <a:rPr b="0" lang="es-ES_tradnl" sz="1200" spc="-1" strike="noStrike">
                <a:solidFill>
                  <a:srgbClr val="000000"/>
                </a:solidFill>
                <a:latin typeface="Arial"/>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327E44E-C58C-40A5-916C-71119655A7C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8BA53-B383-4677-8DC7-FE600D835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B5B42-DCE8-4E51-AA18-DE7C8BFD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85ADD-3579-4589-9966-0C895627F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EBC91-10BF-453E-942F-AE484E68E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A55E3-DC74-4280-981A-B011B0764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94026-2701-4165-8DD0-8FEC82A2E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74FB-F877-452F-9A98-1D101E4EE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A95D-9942-4D12-9409-9948D8982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5C8F5-E246-4895-9962-DA70CED36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333F-39B3-4037-B278-CB221B98E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0013E-2251-482D-99BC-35FA72056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01E60-8CC2-4810-8EF9-85B7A3937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1D70F41-5EFD-4582-9574-ACAA9B24B019}" type="datetime">
              <a:rPr b="0" lang="es-ES_trad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EF153A8-2DD5-48C8-9E36-9710728E1E3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FC8FE0D-59DA-4395-822C-4E18212E6F2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E8EFFA6-3CFB-4481-8278-A99DEC3C112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A20A12B-1485-47BC-8949-00B5C348C44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2996889-5242-4C26-8421-BF3116DBD17C}"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ECA6B3A-3339-40EE-8C90-1912F5F4496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976439C-0575-4015-AFE9-0C50F8FF000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EF22B30-9BBC-4F21-B9DD-6A991240C631}"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67EFC72-152A-48F7-A6A7-94BA8600F3C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7B25B9D9-B8EA-471C-8D19-8B76023D919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025665C-998F-42A1-BB03-6CA50EC3D89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3EC9316-A0F1-4A29-88EF-650417D05B8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7698490-89FC-442A-8563-E2A3E7EDE53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A83C16E-C8EC-42D0-A906-781C82ACF13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33DD61A-8F6C-4B8D-AFAE-CEF916E6D26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9635F87-10C3-44E5-B94C-09AD54DF2A7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