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D04CE1F-B1C4-4292-B32C-3B59C1B5420E}" type="datetime">
              <a:rPr b="0" lang="es-ES_tradnl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680" y="685440"/>
            <a:ext cx="4508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6C5EC7E-7E7C-4BD0-9926-5218E9177A9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C9AAA20-97BB-4A39-9731-F3DCCAEA2C9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3183FAC-6193-4E40-8A4C-DD7A7C6AF01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93D02F9-BF9C-4F82-996F-FC9B6D54827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F0B6664-1210-421A-AD8A-DCC9D994452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BA5F4F4-5790-407B-874E-3BB8A54F2E6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3E79DA9-7550-48CB-B08A-5956EBB6885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5E6A6C2-BF09-4238-AC9B-E7A9AAFCA34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5A7A7DE-60D1-48AB-A75F-2339D1CB7A4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85800"/>
            <a:ext cx="450864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67ED267-4210-4B8B-940D-4AD80AA8EE3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39B6-9164-46EB-97B1-59762823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A4B-A1FC-4B1A-8B40-B02B3CBD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D68-9317-4059-B104-71B4607F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C62-BDA5-40BC-AC4B-C43D2F52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7BF-A30E-418D-B382-A38F1E5B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1EC5-7759-4884-9649-CD4C3137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872-6822-4791-A0CB-15242D5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6DA-9976-4DAD-AC26-5459B723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66C4-04E8-44FD-A344-00C59D0D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96E-851A-4887-B636-176E2FEB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6ED1-C327-450D-90B4-43CAEEB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78D-30DA-4EDD-B3B0-F4ADCC07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2943BC8-E557-4938-88A7-0F8BC201A028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DDE3AD5-0329-4B4A-A143-2AE3B81631C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adroTexto 3"/>
          <p:cNvSpPr/>
          <p:nvPr/>
        </p:nvSpPr>
        <p:spPr>
          <a:xfrm>
            <a:off x="974880" y="760320"/>
            <a:ext cx="7700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FISCALÍA NACIONAL ECONÓMICA Y EL COMBATE A LOS CART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ector recto 6"/>
          <p:cNvSpPr/>
          <p:nvPr/>
        </p:nvSpPr>
        <p:spPr>
          <a:xfrm>
            <a:off x="0" y="644364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7F142B6-DA16-4A14-A8EB-977A27D1AD8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48392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451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ESPECIALI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 profesionales e infraestructura dedicada exclusivamente al combate de los carteles, actualmente contamos con los más modernos recursos informáticos de pericia forense y de seguridad que permiten al mismo tiempo mejorar la eficiencia en la investigación y resguardar la integridad de las pruebas recab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7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en los grupos especializados en el tema – International Competition Network, OECD, Forum Latino Americano,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9280" y="876240"/>
            <a:ext cx="8099280" cy="546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REPRES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versas investigaciones iniciadas por oficio y por denuncias rea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arrollo de Métodos Cuantitativos diseñados específicamente para la      detección de carteles en licit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venio con otros órganos del Estado para la detección temprana de estos ilíci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vestigaciones Reservadas: ES FUNDAMENTAL LA MANTENCIÓN DE LA CONFIDENCIALIDAD DE LAS INVESTIGACIONES DURANTE SUS PRIMERAS ETAPAS INVESTIG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CCIONES PREVENTI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ublicaciones de guías y documentos de trabaj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ras Publicas y Libre Competenc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Guía de Asociaciones Gremial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FB465667-3F35-425D-B6AD-E37F7BDC85D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610920"/>
            <a:ext cx="8099280" cy="80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FISCALÍA NACIONAL ECONÓMICA Y EL COMBATE A LOS CARTELE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1116000"/>
            <a:ext cx="8099280" cy="45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articipación activa junto a los Seremi y otras autoridades regionales para difusión y educación de la legislación conting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sencia constante en Congresos y Seminarios naciona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cuerdos de Cooperación con Agencias de Competencia Internacional – Esto es fundamental para la acción contra los carteles inter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1235DD07-CCF4-4FC8-9217-B75889DBA9D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105840"/>
            <a:ext cx="8099280" cy="100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  <a:ea typeface="Arial"/>
              </a:rPr>
              <a:t>NUEVAS HERRAMIENTAS INVESTIGATIVAS Y DISUASIVAS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2 Marcador de contenido" descr=""/>
          <p:cNvPicPr/>
          <p:nvPr/>
        </p:nvPicPr>
        <p:blipFill>
          <a:blip r:embed="rId1"/>
          <a:stretch/>
        </p:blipFill>
        <p:spPr>
          <a:xfrm>
            <a:off x="426960" y="1109520"/>
            <a:ext cx="8163000" cy="3907080"/>
          </a:xfrm>
          <a:prstGeom prst="rect">
            <a:avLst/>
          </a:prstGeom>
          <a:ln w="0">
            <a:noFill/>
          </a:ln>
        </p:spPr>
      </p:pic>
      <p:sp>
        <p:nvSpPr>
          <p:cNvPr id="101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0421D516-C865-4036-A5A0-ACDC2CE30EE6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553DB63-8DB1-4DA7-9065-6C18DB40FE3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2 Rectángulo"/>
          <p:cNvSpPr/>
          <p:nvPr/>
        </p:nvSpPr>
        <p:spPr>
          <a:xfrm>
            <a:off x="2116080" y="2322360"/>
            <a:ext cx="9590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68EF17B-C633-4F35-8525-9C6DCF73EB20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6 Diagrama" descr=""/>
          <p:cNvPicPr/>
          <p:nvPr/>
        </p:nvPicPr>
        <p:blipFill>
          <a:blip r:embed="rId1"/>
          <a:stretch/>
        </p:blipFill>
        <p:spPr>
          <a:xfrm>
            <a:off x="669960" y="1457280"/>
            <a:ext cx="7596000" cy="4930920"/>
          </a:xfrm>
          <a:prstGeom prst="rect">
            <a:avLst/>
          </a:prstGeom>
          <a:ln w="0">
            <a:noFill/>
          </a:ln>
        </p:spPr>
      </p:pic>
      <p:sp>
        <p:nvSpPr>
          <p:cNvPr id="110" name="7 CuadroTexto"/>
          <p:cNvSpPr/>
          <p:nvPr/>
        </p:nvSpPr>
        <p:spPr>
          <a:xfrm>
            <a:off x="498600" y="219240"/>
            <a:ext cx="793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Métodos de De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métodos de detección de carteles, usando análisis económicos pueden ser agrupados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8 CuadroTexto"/>
          <p:cNvSpPr/>
          <p:nvPr/>
        </p:nvSpPr>
        <p:spPr>
          <a:xfrm>
            <a:off x="2411280" y="34909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9 Rectángulo" descr=""/>
          <p:cNvPicPr/>
          <p:nvPr/>
        </p:nvPicPr>
        <p:blipFill>
          <a:blip r:embed="rId2"/>
          <a:stretch/>
        </p:blipFill>
        <p:spPr>
          <a:xfrm>
            <a:off x="5510160" y="2401920"/>
            <a:ext cx="1774800" cy="377640"/>
          </a:xfrm>
          <a:prstGeom prst="rect">
            <a:avLst/>
          </a:prstGeom>
          <a:ln w="0">
            <a:noFill/>
          </a:ln>
        </p:spPr>
      </p:pic>
      <p:sp>
        <p:nvSpPr>
          <p:cNvPr id="113" name="10 Rectángulo"/>
          <p:cNvSpPr/>
          <p:nvPr/>
        </p:nvSpPr>
        <p:spPr>
          <a:xfrm>
            <a:off x="2411280" y="2322360"/>
            <a:ext cx="287640" cy="308160"/>
          </a:xfrm>
          <a:prstGeom prst="rect">
            <a:avLst/>
          </a:prstGeom>
          <a:solidFill>
            <a:srgbClr val="c5c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13 Rectángulo"/>
          <p:cNvSpPr/>
          <p:nvPr/>
        </p:nvSpPr>
        <p:spPr>
          <a:xfrm>
            <a:off x="2411280" y="2630520"/>
            <a:ext cx="287640" cy="55440"/>
          </a:xfrm>
          <a:prstGeom prst="rect">
            <a:avLst/>
          </a:prstGeom>
          <a:solidFill>
            <a:srgbClr val="bec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11 Rectángulo" descr=""/>
          <p:cNvPicPr/>
          <p:nvPr/>
        </p:nvPicPr>
        <p:blipFill>
          <a:blip r:embed="rId3"/>
          <a:stretch/>
        </p:blipFill>
        <p:spPr>
          <a:xfrm>
            <a:off x="1633680" y="2462040"/>
            <a:ext cx="1815840" cy="3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D36C13F-BF5B-46BB-81EF-16F1E22B549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uadroTexto 3"/>
          <p:cNvSpPr/>
          <p:nvPr/>
        </p:nvSpPr>
        <p:spPr>
          <a:xfrm>
            <a:off x="974880" y="20520"/>
            <a:ext cx="8022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Análisis Estruc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31F8FABC-8265-4802-8694-44968EF86045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6 CuadroTexto"/>
          <p:cNvSpPr/>
          <p:nvPr/>
        </p:nvSpPr>
        <p:spPr>
          <a:xfrm>
            <a:off x="974880" y="1258920"/>
            <a:ext cx="7340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44560" y="528480"/>
          <a:ext cx="7615080" cy="5810400"/>
        </p:xfrm>
        <a:graphic>
          <a:graphicData uri="http://schemas.openxmlformats.org/drawingml/2006/table">
            <a:tbl>
              <a:tblPr/>
              <a:tblGrid>
                <a:gridCol w="5095800"/>
                <a:gridCol w="1224000"/>
                <a:gridCol w="1295280"/>
              </a:tblGrid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C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ficulta Colus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entración del 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 Homogén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eras a la Ent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de Precios e Intercambio de Inform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 Niveles de Inno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etría en Cos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cto Multimerc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Elasticidad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er Monopsón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es Estructurales entre Empres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s de Cooper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ncia de una Empresa Maver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ciaciones Grem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anda Crec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C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ctuaciones de la 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</a:tbl>
          </a:graphicData>
        </a:graphic>
      </p:graphicFrame>
      <p:pic>
        <p:nvPicPr>
          <p:cNvPr id="123" name="9 Imagen" descr="click.png"/>
          <p:cNvPicPr/>
          <p:nvPr/>
        </p:nvPicPr>
        <p:blipFill>
          <a:blip r:embed="rId1"/>
          <a:stretch/>
        </p:blipFill>
        <p:spPr>
          <a:xfrm>
            <a:off x="6448320" y="122544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4" name="10 Imagen" descr="click.png"/>
          <p:cNvPicPr/>
          <p:nvPr/>
        </p:nvPicPr>
        <p:blipFill>
          <a:blip r:embed="rId2"/>
          <a:stretch/>
        </p:blipFill>
        <p:spPr>
          <a:xfrm>
            <a:off x="6448320" y="1542960"/>
            <a:ext cx="211320" cy="211320"/>
          </a:xfrm>
          <a:prstGeom prst="rect">
            <a:avLst/>
          </a:prstGeom>
          <a:ln w="0">
            <a:noFill/>
          </a:ln>
        </p:spPr>
      </p:pic>
      <p:pic>
        <p:nvPicPr>
          <p:cNvPr id="125" name="11 Imagen" descr="click.png"/>
          <p:cNvPicPr/>
          <p:nvPr/>
        </p:nvPicPr>
        <p:blipFill>
          <a:blip r:embed="rId3"/>
          <a:stretch/>
        </p:blipFill>
        <p:spPr>
          <a:xfrm>
            <a:off x="6448320" y="1952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6" name="12 Imagen" descr="click.png"/>
          <p:cNvPicPr/>
          <p:nvPr/>
        </p:nvPicPr>
        <p:blipFill>
          <a:blip r:embed="rId4"/>
          <a:stretch/>
        </p:blipFill>
        <p:spPr>
          <a:xfrm>
            <a:off x="7812000" y="23050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27" name="13 Imagen" descr="click.png"/>
          <p:cNvPicPr/>
          <p:nvPr/>
        </p:nvPicPr>
        <p:blipFill>
          <a:blip r:embed="rId5"/>
          <a:stretch/>
        </p:blipFill>
        <p:spPr>
          <a:xfrm>
            <a:off x="6448320" y="269892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8" name="14 Imagen" descr="click.png"/>
          <p:cNvPicPr/>
          <p:nvPr/>
        </p:nvPicPr>
        <p:blipFill>
          <a:blip r:embed="rId6"/>
          <a:stretch/>
        </p:blipFill>
        <p:spPr>
          <a:xfrm>
            <a:off x="6448320" y="305928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29" name="15 Imagen" descr="click.png"/>
          <p:cNvPicPr/>
          <p:nvPr/>
        </p:nvPicPr>
        <p:blipFill>
          <a:blip r:embed="rId7"/>
          <a:stretch/>
        </p:blipFill>
        <p:spPr>
          <a:xfrm>
            <a:off x="6448320" y="341964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0" name="16 Imagen" descr="click.png"/>
          <p:cNvPicPr/>
          <p:nvPr/>
        </p:nvPicPr>
        <p:blipFill>
          <a:blip r:embed="rId8"/>
          <a:stretch/>
        </p:blipFill>
        <p:spPr>
          <a:xfrm>
            <a:off x="7812000" y="378000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1" name="17 Imagen" descr="click.png"/>
          <p:cNvPicPr/>
          <p:nvPr/>
        </p:nvPicPr>
        <p:blipFill>
          <a:blip r:embed="rId9"/>
          <a:stretch/>
        </p:blipFill>
        <p:spPr>
          <a:xfrm>
            <a:off x="6448320" y="4140360"/>
            <a:ext cx="211320" cy="210960"/>
          </a:xfrm>
          <a:prstGeom prst="rect">
            <a:avLst/>
          </a:prstGeom>
          <a:ln w="0">
            <a:noFill/>
          </a:ln>
        </p:spPr>
      </p:pic>
      <p:pic>
        <p:nvPicPr>
          <p:cNvPr id="132" name="18 Imagen" descr="click.png"/>
          <p:cNvPicPr/>
          <p:nvPr/>
        </p:nvPicPr>
        <p:blipFill>
          <a:blip r:embed="rId10"/>
          <a:stretch/>
        </p:blipFill>
        <p:spPr>
          <a:xfrm>
            <a:off x="6496200" y="56516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3" name="19 Imagen" descr="click.png"/>
          <p:cNvPicPr/>
          <p:nvPr/>
        </p:nvPicPr>
        <p:blipFill>
          <a:blip r:embed="rId11"/>
          <a:stretch/>
        </p:blipFill>
        <p:spPr>
          <a:xfrm>
            <a:off x="6496200" y="529128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4" name="20 Imagen" descr="click.png"/>
          <p:cNvPicPr/>
          <p:nvPr/>
        </p:nvPicPr>
        <p:blipFill>
          <a:blip r:embed="rId12"/>
          <a:stretch/>
        </p:blipFill>
        <p:spPr>
          <a:xfrm>
            <a:off x="7812000" y="4897440"/>
            <a:ext cx="209520" cy="210960"/>
          </a:xfrm>
          <a:prstGeom prst="rect">
            <a:avLst/>
          </a:prstGeom>
          <a:ln w="0">
            <a:noFill/>
          </a:ln>
        </p:spPr>
      </p:pic>
      <p:pic>
        <p:nvPicPr>
          <p:cNvPr id="135" name="21 Imagen" descr="click.png"/>
          <p:cNvPicPr/>
          <p:nvPr/>
        </p:nvPicPr>
        <p:blipFill>
          <a:blip r:embed="rId13"/>
          <a:stretch/>
        </p:blipFill>
        <p:spPr>
          <a:xfrm>
            <a:off x="6462720" y="450540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6" name="22 Imagen" descr="click.png"/>
          <p:cNvPicPr/>
          <p:nvPr/>
        </p:nvPicPr>
        <p:blipFill>
          <a:blip r:embed="rId14"/>
          <a:stretch/>
        </p:blipFill>
        <p:spPr>
          <a:xfrm>
            <a:off x="7859880" y="5996160"/>
            <a:ext cx="210960" cy="210960"/>
          </a:xfrm>
          <a:prstGeom prst="rect">
            <a:avLst/>
          </a:prstGeom>
          <a:ln w="0">
            <a:noFill/>
          </a:ln>
        </p:spPr>
      </p:pic>
      <p:pic>
        <p:nvPicPr>
          <p:cNvPr id="137" name="9 Imagen" descr="click.png"/>
          <p:cNvPicPr/>
          <p:nvPr/>
        </p:nvPicPr>
        <p:blipFill>
          <a:blip r:embed="rId15"/>
          <a:stretch/>
        </p:blipFill>
        <p:spPr>
          <a:xfrm>
            <a:off x="6448320" y="826920"/>
            <a:ext cx="211320" cy="2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1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5E4FBAF-FDCE-4EB0-82FB-3EFB4133930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Título"/>
          <p:cNvSpPr/>
          <p:nvPr/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3200" spc="-1" strike="noStrike">
                <a:solidFill>
                  <a:srgbClr val="617a8a"/>
                </a:solidFill>
                <a:latin typeface="Arial"/>
              </a:rPr>
              <a:t>Análisis condu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F34BC1D-7CEC-46B3-93C8-88ED06538D3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4 Imagen" descr="bigger profits.jpg"/>
          <p:cNvPicPr/>
          <p:nvPr/>
        </p:nvPicPr>
        <p:blipFill>
          <a:blip r:embed="rId1"/>
          <a:stretch/>
        </p:blipFill>
        <p:spPr>
          <a:xfrm>
            <a:off x="528480" y="2043000"/>
            <a:ext cx="1090800" cy="1090800"/>
          </a:xfrm>
          <a:prstGeom prst="rect">
            <a:avLst/>
          </a:prstGeom>
          <a:ln w="0">
            <a:noFill/>
          </a:ln>
        </p:spPr>
      </p:pic>
      <p:pic>
        <p:nvPicPr>
          <p:cNvPr id="142" name="5 Imagen" descr="financial_stability1.jpg"/>
          <p:cNvPicPr/>
          <p:nvPr/>
        </p:nvPicPr>
        <p:blipFill>
          <a:blip r:embed="rId2"/>
          <a:stretch/>
        </p:blipFill>
        <p:spPr>
          <a:xfrm>
            <a:off x="1978200" y="2341440"/>
            <a:ext cx="1306440" cy="682920"/>
          </a:xfrm>
          <a:prstGeom prst="rect">
            <a:avLst/>
          </a:prstGeom>
          <a:ln w="0">
            <a:noFill/>
          </a:ln>
        </p:spPr>
      </p:pic>
      <p:sp>
        <p:nvSpPr>
          <p:cNvPr id="143" name="6 CuadroTexto"/>
          <p:cNvSpPr/>
          <p:nvPr/>
        </p:nvSpPr>
        <p:spPr>
          <a:xfrm>
            <a:off x="395280" y="3267000"/>
            <a:ext cx="15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s elev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7 CuadroTexto"/>
          <p:cNvSpPr/>
          <p:nvPr/>
        </p:nvSpPr>
        <p:spPr>
          <a:xfrm>
            <a:off x="1835280" y="3267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aja var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8 Imagen" descr="greedy CEOs.png"/>
          <p:cNvPicPr/>
          <p:nvPr/>
        </p:nvPicPr>
        <p:blipFill>
          <a:blip r:embed="rId3"/>
          <a:stretch/>
        </p:blipFill>
        <p:spPr>
          <a:xfrm>
            <a:off x="3851280" y="1792440"/>
            <a:ext cx="1636560" cy="1212840"/>
          </a:xfrm>
          <a:prstGeom prst="rect">
            <a:avLst/>
          </a:prstGeom>
          <a:ln w="0">
            <a:noFill/>
          </a:ln>
        </p:spPr>
      </p:pic>
      <p:sp>
        <p:nvSpPr>
          <p:cNvPr id="146" name="9 CuadroTexto"/>
          <p:cNvSpPr/>
          <p:nvPr/>
        </p:nvSpPr>
        <p:spPr>
          <a:xfrm>
            <a:off x="3284640" y="2806560"/>
            <a:ext cx="244800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Bodoni MT Poster Compressed"/>
              </a:rPr>
              <a:t>¡¿</a:t>
            </a:r>
            <a:r>
              <a:rPr b="0" lang="es-CL" sz="1200" spc="-1" strike="noStrike">
                <a:solidFill>
                  <a:srgbClr val="000000"/>
                </a:solidFill>
                <a:latin typeface="Bodoni MT Poster Compressed"/>
              </a:rPr>
              <a:t>YQUIÉN DICE QUE TENGO QUE BAJAR LOS PRECIOS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 CuadroTexto"/>
          <p:cNvSpPr/>
          <p:nvPr/>
        </p:nvSpPr>
        <p:spPr>
          <a:xfrm>
            <a:off x="3284640" y="3267000"/>
            <a:ext cx="30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nor relación con co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dollar.gif"/>
          <p:cNvPicPr/>
          <p:nvPr/>
        </p:nvPicPr>
        <p:blipFill>
          <a:blip r:embed="rId4"/>
          <a:stretch/>
        </p:blipFill>
        <p:spPr>
          <a:xfrm>
            <a:off x="7095960" y="2062080"/>
            <a:ext cx="508320" cy="962280"/>
          </a:xfrm>
          <a:prstGeom prst="rect">
            <a:avLst/>
          </a:prstGeom>
          <a:ln w="0">
            <a:noFill/>
          </a:ln>
        </p:spPr>
      </p:pic>
      <p:sp>
        <p:nvSpPr>
          <p:cNvPr id="149" name="12 CuadroTexto"/>
          <p:cNvSpPr/>
          <p:nvPr/>
        </p:nvSpPr>
        <p:spPr>
          <a:xfrm>
            <a:off x="6083280" y="3267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árgenes más elev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3 CuadroTexto"/>
          <p:cNvSpPr/>
          <p:nvPr/>
        </p:nvSpPr>
        <p:spPr>
          <a:xfrm>
            <a:off x="754200" y="125100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CI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CuadroTexto"/>
          <p:cNvSpPr/>
          <p:nvPr/>
        </p:nvSpPr>
        <p:spPr>
          <a:xfrm>
            <a:off x="698400" y="385128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NTIDA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Rectángulo"/>
          <p:cNvSpPr/>
          <p:nvPr/>
        </p:nvSpPr>
        <p:spPr>
          <a:xfrm>
            <a:off x="754200" y="4394160"/>
            <a:ext cx="4498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ticipaciones de mercado altamente estables en el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4680">
              <a:lnSpc>
                <a:spcPct val="100000"/>
              </a:lnSpc>
              <a:tabLst>
                <a:tab algn="l" pos="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tación de las ofertas y de los ofer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Imagen 24" descr=""/>
          <p:cNvPicPr/>
          <p:nvPr/>
        </p:nvPicPr>
        <p:blipFill>
          <a:blip r:embed="rId5"/>
          <a:stretch/>
        </p:blipFill>
        <p:spPr>
          <a:xfrm>
            <a:off x="5724360" y="4059360"/>
            <a:ext cx="2926080" cy="1854000"/>
          </a:xfrm>
          <a:prstGeom prst="rect">
            <a:avLst/>
          </a:prstGeom>
          <a:ln w="0">
            <a:noFill/>
          </a:ln>
        </p:spPr>
      </p:pic>
      <p:sp>
        <p:nvSpPr>
          <p:cNvPr id="154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  <a:ea typeface="Arial"/>
              </a:rPr>
              <a:t>Uso de facultades duras para la recopilación de pruebas e indicios del actual coordina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oble tramitación: TDLC y Corte de Apel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lanificación diligencia: simultanea y sigilo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 de antecedentes, entrevistas con autoridades, envíos de oficios, declaración de los investigados, declaración de ex-funcionarios, declaraciones de personas que pudiera presentar nuevos anteced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úsqueda de jurisprudencia inter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fusión entre los investigados de los beneficios de la suscripción a la Delación Compens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8B326C31-4D41-4BC1-8E3B-AE476C49713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recto 6"/>
          <p:cNvSpPr/>
          <p:nvPr/>
        </p:nvSpPr>
        <p:spPr>
          <a:xfrm>
            <a:off x="0" y="6502320"/>
            <a:ext cx="8997840" cy="180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uadroTexto 3"/>
          <p:cNvSpPr/>
          <p:nvPr/>
        </p:nvSpPr>
        <p:spPr>
          <a:xfrm>
            <a:off x="525600" y="655488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3"/>
          <p:cNvSpPr/>
          <p:nvPr/>
        </p:nvSpPr>
        <p:spPr>
          <a:xfrm>
            <a:off x="974880" y="760320"/>
            <a:ext cx="7700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RESULTADOS POSI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uadroTexto 3"/>
          <p:cNvSpPr/>
          <p:nvPr/>
        </p:nvSpPr>
        <p:spPr>
          <a:xfrm>
            <a:off x="65232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493F766-616C-4254-88FE-AA56BFDDD56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46040" y="1323720"/>
            <a:ext cx="8229600" cy="55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RCHIVO/ REQUERIMIENTO ANTE EL TDL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ecumse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Farma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Buses (Terminales y Curaca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NTENCIA TDLC/C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adios, Sentencia N°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Transporte - varios por acuerdos de precio/reparto de mercado/ exclusión de competidores, Sentencias N°102, 94, 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Oxigeno, Sentencia N°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sapre, Sentencia N°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sma, Sentencia N°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sfalto, Sentencia N°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n 5" descr="1.jpg"/>
          <p:cNvPicPr/>
          <p:nvPr/>
        </p:nvPicPr>
        <p:blipFill>
          <a:blip r:embed="rId1"/>
          <a:stretch/>
        </p:blipFill>
        <p:spPr>
          <a:xfrm>
            <a:off x="-36360" y="0"/>
            <a:ext cx="9034200" cy="6867360"/>
          </a:xfrm>
          <a:prstGeom prst="rect">
            <a:avLst/>
          </a:prstGeom>
          <a:ln w="0">
            <a:noFill/>
          </a:ln>
        </p:spPr>
      </p:pic>
      <p:sp>
        <p:nvSpPr>
          <p:cNvPr id="167" name="CuadroTexto 3"/>
          <p:cNvSpPr/>
          <p:nvPr/>
        </p:nvSpPr>
        <p:spPr>
          <a:xfrm>
            <a:off x="106200" y="1955880"/>
            <a:ext cx="592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6000" spc="-1" strike="noStrike">
                <a:solidFill>
                  <a:srgbClr val="617a8a"/>
                </a:solidFill>
                <a:latin typeface="Arial"/>
              </a:rPr>
              <a:t>CARTE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466560"/>
            <a:ext cx="802296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000" spc="-1" strike="noStrike">
                <a:solidFill>
                  <a:srgbClr val="617a8a"/>
                </a:solidFill>
                <a:latin typeface="Arial"/>
                <a:ea typeface="Arial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Grave infracción a la libre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FNE y el combate a los car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Investig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Nuevas Herramientas Disua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de Det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Resultados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8DB1DF9-36A5-452E-96D7-31A3128ED67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adroTexto 3"/>
          <p:cNvSpPr/>
          <p:nvPr/>
        </p:nvSpPr>
        <p:spPr>
          <a:xfrm>
            <a:off x="969840" y="6440400"/>
            <a:ext cx="802332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CuadroTexto 3"/>
          <p:cNvSpPr/>
          <p:nvPr/>
        </p:nvSpPr>
        <p:spPr>
          <a:xfrm>
            <a:off x="130320" y="3441600"/>
            <a:ext cx="630684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4000" spc="-1" strike="noStrike">
                <a:solidFill>
                  <a:srgbClr val="617a8a"/>
                </a:solidFill>
                <a:latin typeface="Arial"/>
              </a:rPr>
              <a:t>¿Qué son los acuerdos o carteles en materia de libre competenci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agen 4" descr="logo.jpg"/>
          <p:cNvPicPr/>
          <p:nvPr/>
        </p:nvPicPr>
        <p:blipFill>
          <a:blip r:embed="rId1"/>
          <a:stretch/>
        </p:blipFill>
        <p:spPr>
          <a:xfrm>
            <a:off x="6437160" y="1255680"/>
            <a:ext cx="2560680" cy="18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uadroTexto 3"/>
          <p:cNvSpPr/>
          <p:nvPr/>
        </p:nvSpPr>
        <p:spPr>
          <a:xfrm>
            <a:off x="847800" y="500040"/>
            <a:ext cx="770076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800" spc="-1" strike="noStrike">
                <a:solidFill>
                  <a:srgbClr val="617a8a"/>
                </a:solidFill>
                <a:latin typeface="Arial"/>
              </a:rPr>
              <a:t>DEFINI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AE: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“Convenio entre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arias empresas similares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ar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evitar la mutua competenci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regular la producción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venta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 en determinado campo industrial”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Coloma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“La colusión puede definirse como una situación en la cual una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serie de empresas acuerdan no competir entre ellas con el objetivo de incrementar los beneficios conjuntos de todo el grupo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rt. 3 DL. 211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“…Se considerarán, entre otros, como hechos, actos o convenciones que impiden, restringen o entorpecen la libre competencia o que tienden a producir dichos efectos, los sigui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a)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Los acuerdos expresos o tácitos entre competidores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, o las prácticas concertadas entre ellos,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que les confieran poder de mercado 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y que consisten en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fijar precios de venta, de compra u otras condiciones de comercialización, limitar la producción, asignarse zonas o cuotas de mercado, excluir competidores o afectar el resultado de procesos de licitación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Arial"/>
              </a:rPr>
              <a:t>”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D681402-8D18-4810-ACB3-CA113970EA9C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F5411AB-70A3-45A2-8CCE-C697D0B09B8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192240"/>
            <a:ext cx="719604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POR LO TA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XISTENCIA DE UN ACUERDO– NO NECESARIAMENTE EXP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ACUERDO TIENE QUE SER ENTRE COMPETI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NE QUE CONFERIR PODER DE MERCADO A SUS PARTÍCI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Y  TIENE QUE TENER POR OBJETO (aptitud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precios de vent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de comp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jar otras condiciones de comercializa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 la producció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zon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rse cuotas de mercad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cluir competidores 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AutoNum type="romanLcPeriod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ectar el resultado de procesos de licitación – “</a:t>
            </a:r>
            <a:r>
              <a:rPr b="0" i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id rigging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tabLst>
                <a:tab algn="l" pos="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47760" indent="-3427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CuadroTexto 3"/>
          <p:cNvSpPr/>
          <p:nvPr/>
        </p:nvSpPr>
        <p:spPr>
          <a:xfrm>
            <a:off x="974880" y="760320"/>
            <a:ext cx="77007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Afectar el resultado de procesos de licit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5B9B631-5F4F-4F66-9C5D-678BD0F3DB8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8960" y="1186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just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890640" y="1187280"/>
            <a:ext cx="72165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resión o limitación de propue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uestas de cober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tación del 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contratación de un compe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9 Flecha abajo"/>
          <p:cNvSpPr/>
          <p:nvPr/>
        </p:nvSpPr>
        <p:spPr>
          <a:xfrm>
            <a:off x="3851280" y="3203640"/>
            <a:ext cx="1008000" cy="1224000"/>
          </a:xfrm>
          <a:prstGeom prst="down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5b7b90"/>
              </a:gs>
              <a:gs pos="100000">
                <a:srgbClr val="b8cddc"/>
              </a:gs>
            </a:gsLst>
            <a:lin ang="16200000"/>
          </a:gradFill>
          <a:ln w="9360">
            <a:solidFill>
              <a:srgbClr val="5e778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0 CuadroTexto"/>
          <p:cNvSpPr/>
          <p:nvPr/>
        </p:nvSpPr>
        <p:spPr>
          <a:xfrm>
            <a:off x="466560" y="3851280"/>
            <a:ext cx="764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el objetivo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EVAR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395280" y="554040"/>
            <a:ext cx="815328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¿POR QUÉ ES TEMA “ALTERAR EL RESULTADO DEL PROCESO DE LICITACIÓN”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Alto volumen de recursos involucrad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a través del mercado público: USD$ 6.500 millones aprox. anual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tras operaciones vía licitación al margen de mercado público: USD$ 2.000 millones aprox. Anu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Operaciones vía licitaciones de empresas públic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j. Codelco: USD$ 10.000 millones aprox. anuales (incluye gastos e inversió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as compras anteriores representan aprox. entre el 8% y el 10% del PIB de Ch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400" spc="-1" strike="noStrike">
                <a:solidFill>
                  <a:srgbClr val="617a8a"/>
                </a:solidFill>
                <a:latin typeface="Arial"/>
                <a:ea typeface="Arial"/>
              </a:rPr>
              <a:t>Estima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 15.000 millones apro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xiste colusión en licitaciones que representan un 0,5% de dicho mon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(USD$ 750 millones aprox. Pag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Los sobreprecios pagados son de un 1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 que lo que debió pagarse fue USD$ 750 –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USD$68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=        USD$ 6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DBFC818-65D0-410D-9A0C-0B1AECE074F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adroTexto 3"/>
          <p:cNvSpPr/>
          <p:nvPr/>
        </p:nvSpPr>
        <p:spPr>
          <a:xfrm>
            <a:off x="974880" y="760320"/>
            <a:ext cx="770076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800" spc="-1" strike="noStrike">
                <a:solidFill>
                  <a:srgbClr val="617a8a"/>
                </a:solidFill>
                <a:latin typeface="Arial"/>
              </a:rPr>
              <a:t>GRAVE INFRACCIÓN A LA LIBRE COMPE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COLUSION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ISCALÍA NACIONAL ECONÓ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onector recto 6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77F1BAB-C7FF-4378-802E-7D5C02AAC8F1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611280" y="1116000"/>
            <a:ext cx="8242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EJUICIO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PERNICIOSOS SOBRE LOS CONSUMIDORES Y EL ESTAD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L PRECIO (en promedio de un 10%-20%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or sobre el precio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etitivo, según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DUCCIÓN DE LA OFERTA (en  promedio de un 20%,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gún la OC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UMENTO DE GASTOS DEL GOBIERNO; distribución ineficiente de recursos públic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OR CALIDAD, MENOR VARIEDAD DE PRODUCTOS Y DESINCENTIVO A LA INOV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n síntesis: Reducción del bienestar del consumidor y transferencia de renta desde los consumidores hacia a las empresas carteliz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42920"/>
            <a:ext cx="702972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800" spc="-1" strike="noStrike">
                <a:solidFill>
                  <a:srgbClr val="617a8a"/>
                </a:solidFill>
                <a:latin typeface="Arial"/>
              </a:rPr>
              <a:t>ESTUDIO SOBRE ESTIMACIONES DE SOBRE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25360" y="1424160"/>
          <a:ext cx="6890040" cy="4894200"/>
        </p:xfrm>
        <a:graphic>
          <a:graphicData uri="http://schemas.openxmlformats.org/drawingml/2006/table">
            <a:tbl>
              <a:tblPr/>
              <a:tblGrid>
                <a:gridCol w="2024280"/>
                <a:gridCol w="1701720"/>
                <a:gridCol w="1616040"/>
                <a:gridCol w="1548000"/>
              </a:tblGrid>
              <a:tr h="1002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estr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° de cartel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promedio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breprecio mediana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7a8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hen y Scheffma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 – 1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8 – 1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den (200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ner (200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nstein y Suslow (200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ffin (198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7da"/>
                    </a:solidFill>
                  </a:tcPr>
                </a:tc>
              </a:tr>
              <a:tr h="100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DE (2003), excluyendo los más al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2520"/>
                          <a:tab algn="l" pos="905040"/>
                          <a:tab algn="l" pos="1357200"/>
                          <a:tab algn="l" pos="1809720"/>
                          <a:tab algn="l" pos="2262240"/>
                          <a:tab algn="l" pos="2714760"/>
                          <a:tab algn="l" pos="3166920"/>
                          <a:tab algn="l" pos="3619440"/>
                          <a:tab algn="l" pos="4071960"/>
                          <a:tab algn="l" pos="4524480"/>
                          <a:tab algn="l" pos="4976640"/>
                          <a:tab algn="l" pos="5429160"/>
                          <a:tab algn="l" pos="5881680"/>
                          <a:tab algn="l" pos="6334200"/>
                          <a:tab algn="l" pos="6786720"/>
                          <a:tab algn="l" pos="7238880"/>
                          <a:tab algn="l" pos="7691400"/>
                          <a:tab algn="l" pos="8143920"/>
                          <a:tab algn="l" pos="8596440"/>
                          <a:tab algn="l" pos="9048600"/>
                        </a:tabLst>
                      </a:pPr>
                      <a:r>
                        <a:rPr b="0" lang="es-MX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ed"/>
                    </a:solidFill>
                  </a:tcPr>
                </a:tc>
              </a:tr>
            </a:tbl>
          </a:graphicData>
        </a:graphic>
      </p:graphicFrame>
      <p:sp>
        <p:nvSpPr>
          <p:cNvPr id="83" name="4 Rectángulo"/>
          <p:cNvSpPr/>
          <p:nvPr/>
        </p:nvSpPr>
        <p:spPr>
          <a:xfrm>
            <a:off x="1127880" y="6176880"/>
            <a:ext cx="22161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360" bIns="45360"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(Connor y Bolotova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1-17T20:17:04Z</dcterms:modified>
  <cp:revision>94</cp:revision>
  <dc:subject/>
  <dc:title>Diapositiva 1</dc:title>
</cp:coreProperties>
</file>