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904CE8D-BBA8-41FE-9C56-112A444809AD}" type="datetime">
              <a:rPr b="0" lang="es-ES_tradnl"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227895B-CD9B-4C4E-8EBD-45CA2E5D17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6DF75-BCC8-42EC-B2C1-EA0D26D66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65306-A25A-4DAF-92C0-D9E54F1B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66421-D273-493D-AD26-E5F521FF9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29E93-40FB-4776-B7D6-2393D7049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F6C7-586C-4C19-86E8-F5CFA1FA7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E8000-C434-478A-A1EB-57182EFED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E973-7BF8-47FC-BEF4-3E69F145C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1E1A-6196-4482-B33E-7F965E86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326BB-6956-4EE2-BB80-B622AF53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C378-0ACD-44F1-945B-D7C589516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897D-9CE9-490B-B585-212FF7D2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B4F8-0471-4905-B2EC-DBE136D0A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2114981-D5F5-4B7A-A88D-FF142F98D931}" type="datetime">
              <a:rPr b="0" lang="es-ES_tradnl"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18309EC-E2F1-47B8-BA3F-1265ED9907F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D364C4B-61BF-431E-9B88-DD92709680F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985487B-B317-42CA-B663-CAF114F0ABE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E278185-BF9B-4DFF-848E-457867B4F88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2CA5955-F2A2-40D3-B4DD-CD173306905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3D41783-D233-428E-9A02-A9B2012340E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A351497-C2B2-4ECF-8500-58423AA096F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3EF6975-B369-4FB8-80A7-BAE4DB1D0D5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A4C59DC-044E-4ECD-942D-2E63079014F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C7B5A34-4B04-4956-931C-B57D45E5EAC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56B62D1-EDB4-48CA-B909-ADE2F5BB2F9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8A5DA95-CA01-4F67-8DCC-805E4FAC894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DCC955A-E0FF-436B-84ED-5E156E8DF36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0C9DB71-2F42-4A3B-AD38-8D42DB70263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06DB1B3-AF77-4AE4-A1D4-D70F1DD3EE2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2815211-B055-4339-BB59-A3E02E1E17F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