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36AEAEC-4D74-4DFF-A035-84CCD1321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95200" y="690120"/>
            <a:ext cx="4622760" cy="346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60B8F00-F364-4621-BF5F-0F5312742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D2761C5-F94B-465F-A3A0-D37CE3CC79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027386D-7B31-4DFF-94C7-4D0A2DFEA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328F2D8-1C2A-4628-B99F-344279919E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DB55432-B32E-466F-9F5F-745CC4903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7C7F3F9-0835-4CCC-B243-BA79196C1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8F24892-FE9A-4F2A-BDAA-D25162615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E1100EA-B450-4733-81E8-3B8383CA6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319D15F-4477-469E-878C-3598C6B6B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68D7D3D-E24B-4097-B08B-5EBB05CCA5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53685ED-F790-4226-9A24-C706A2F79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5D0EA79-F93C-4731-ABE5-C703314C0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AC20723-9308-461B-985D-7173019D0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B417860-73B2-4C8F-A3FF-77574E5B0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 iDTV da CidadeBC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71880" y="8853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025C0D9-C96F-4957-A838-1081CEFE4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619520" cy="34657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B42F-BC6D-43E4-99B9-5D2CC6023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75984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13AF-2DD4-4AED-8DBF-6362A7FA7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1048-E475-4649-BFD9-B16022050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3716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3716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7598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7598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7598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6B87-17F0-4E13-BA7D-38091E02F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F705-376A-47E3-ADA3-1DF25445B3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E455-E73E-43CB-8592-8E2D89F06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5EFF-B083-4E02-8BA2-33CD1CA1F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AD0E9-C40D-424B-B9BC-5C1C8DA8C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181080"/>
            <a:ext cx="574200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92F9-8025-4909-8800-8CA503158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1D97-09CB-4542-B083-E4438E0C2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7598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9FAD-5347-43D5-AB89-43AE020B5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3716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75984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B126-AFDE-43BE-98CD-88FB8156B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100000">
                <a:srgbClr val="990000"/>
              </a:gs>
            </a:gsLst>
            <a:lin ang="0"/>
          </a:gra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730600" y="660348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152920" y="659088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DB32-5B20-41DD-81D4-17AB5D391E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31"/>
          <p:cNvSpPr/>
          <p:nvPr/>
        </p:nvSpPr>
        <p:spPr>
          <a:xfrm>
            <a:off x="0" y="0"/>
            <a:ext cx="6818400" cy="826920"/>
          </a:xfrm>
          <a:prstGeom prst="rect">
            <a:avLst/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28600" y="181080"/>
            <a:ext cx="5742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40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2376360" y="5549760"/>
            <a:ext cx="63248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FELIPE IRARRÁZABAL PHILIPPI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 Narrow"/>
              </a:rPr>
              <a:t>MGPP/UNIVERSIDAD DE CHILE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  <a:ea typeface="Arial"/>
              </a:rPr>
              <a:t>05 DE OCTUBRE DE 2011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CuadroTexto 3"/>
          <p:cNvSpPr/>
          <p:nvPr/>
        </p:nvSpPr>
        <p:spPr>
          <a:xfrm>
            <a:off x="-184320" y="3862440"/>
            <a:ext cx="9058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ahoma"/>
              </a:rPr>
              <a:t>Costo-Beneficio en el Sistema Jurídico Chilen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85680" y="-628560"/>
            <a:ext cx="13161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EAE6-0DC4-4444-9320-C956569EC01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Introducció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00280" y="925560"/>
            <a:ext cx="76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recho y Economía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" name="Picture 4" descr="human_skeleton_1"/>
          <p:cNvPicPr/>
          <p:nvPr/>
        </p:nvPicPr>
        <p:blipFill>
          <a:blip r:embed="rId1"/>
          <a:stretch/>
        </p:blipFill>
        <p:spPr>
          <a:xfrm>
            <a:off x="990720" y="1314360"/>
            <a:ext cx="2571480" cy="523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irculationgeneral"/>
          <p:cNvPicPr/>
          <p:nvPr/>
        </p:nvPicPr>
        <p:blipFill>
          <a:blip r:embed="rId2"/>
          <a:stretch/>
        </p:blipFill>
        <p:spPr>
          <a:xfrm>
            <a:off x="5267160" y="1324080"/>
            <a:ext cx="194976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E460-42FA-4724-A597-5DB059EEEB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Visión orgánic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5640" y="2239920"/>
            <a:ext cx="76075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92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egislador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utoridad Administrativa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Juez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91CE-2317-422F-921D-AB3898077D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Legislado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00280" y="925560"/>
            <a:ext cx="760716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92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egislador: Destinatario natural de análisis CB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179280" indent="392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400040" indent="-64908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Amplias atribuciones en relación a las garantías constitucionales económica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400040" indent="-649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400040" indent="-64908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Existen ciertas limitaciones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Requisitos de cada garantí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Garantía de las garantía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Ius Puniendi: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descripción de las conducta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sanciones por riesgo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enumeración de las sancione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Principio de la proporcionalidad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03688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E21B-658C-42D3-B285-AC5307B88D3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Autoridad Administrativ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38080" y="773280"/>
            <a:ext cx="760752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pende del espacio discrecional que le dé la ley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A  B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   C  D</a:t>
            </a:r>
            <a:r>
              <a:rPr b="1" lang="es-ES_tradnl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¿Por qué NO se puede optar por A, B, C o D?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Principio de legalidad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Órganos del Estado deben someter su acción a la Constitución y a las normas dictadas conforme a ell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</a:rPr>
              <a:t>Órganos del Estado actúan válidamente dentro de su competencia y en la forma que prescriba la ley, si no habrá nulidad y responsabilidade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Jurisprudencia de la Contraloría: revisión de legalidad y no de mérito y oportunidad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624120" y="2000160"/>
            <a:ext cx="8384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   3   4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33840" y="2017800"/>
            <a:ext cx="838080" cy="309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cc0000"/>
                </a:solidFill>
                <a:latin typeface="Times New Roman"/>
              </a:rPr>
              <a:t>2   3   4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E6DE-9AB9-4A67-B877-0523873BABC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Autoridad Administrativ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69800" y="649440"/>
            <a:ext cx="7607520" cy="59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¿Es completamente libre para decidir 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, o </a:t>
            </a:r>
            <a:r>
              <a:rPr b="1" lang="es-CL" sz="16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?: No, Diferencia entre discrecionalidad y arbitrariedad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rincipio de la Proporcionalidad y Razonabilidad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No se podrán establecer diferencias arbitraria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No discriminación arbitraria en el trato que deben dar el Estado y sus organismo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Igualdad ante la ley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Legislación administrativa más bien parca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Administración deberá observar los principios de la eficiencia y eficaci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Administración deberá velar por la eficiente e idónea administración de los medios públicos y por el debido cumplimiento de la función públic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La decisión, en todo caso, debe ser fundad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Teoría de los actos propios/confianza legítim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E296-BF08-463F-98C3-596B1E8FAA0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Juez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07960" y="584280"/>
            <a:ext cx="809316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Tienen que aplicar la ley (o el “sentido” de la ley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rimero: revisión de legalidad; luego control de razonabilidad (la justificación es analizada desde muchas perspectivas, incluso CB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3111480" indent="-457200" algn="just">
              <a:lnSpc>
                <a:spcPct val="100000"/>
              </a:lnSpc>
              <a:spcBef>
                <a:spcPts val="876"/>
              </a:spcBef>
              <a:buClr>
                <a:srgbClr val="ff3300"/>
              </a:buClr>
              <a:buFont typeface="Wingdings" charset="2"/>
              <a:buChar char=""/>
              <a:tabLst>
                <a:tab algn="l" pos="86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Tahoma"/>
                <a:ea typeface="Tahoma"/>
              </a:rPr>
              <a:t>“</a:t>
            </a:r>
            <a:r>
              <a:rPr b="1" lang="es-CL" sz="1200" spc="-1" strike="noStrike">
                <a:solidFill>
                  <a:srgbClr val="ff3300"/>
                </a:solidFill>
                <a:latin typeface="Tahoma"/>
                <a:ea typeface="Tahoma"/>
              </a:rPr>
              <a:t>Los jueces están obligados a cumplir su función aplicando la legislación vigente, con prescindencia de la convicción íntima que tengan acerca de la bondad de ésta”</a:t>
            </a: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  Corte Suprema, 15/06/09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Espacio para CB: Interpretación da flexibilidad al sistema: elemento lógico y sistemático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Otro espacio para CB: Decisión entre dos derechos: hay que optar entre dos derechos igualmente bien protegidos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Obligación de fundamentar la sentencia: “consideraciones de hecho y derecho que sirven de fundamento a la sentencia”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Crítica: la fundamentación es pobre, y la crítica de la doctrina a la jurisprudencia también es pobre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2 Marcador de número de diapositiva"/>
          <p:cNvSpPr/>
          <p:nvPr/>
        </p:nvSpPr>
        <p:spPr>
          <a:xfrm>
            <a:off x="8153280" y="659124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624A-F962-4174-B7FD-90E3795F2E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0" y="0"/>
            <a:ext cx="5994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Limitaciones chilena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88880" y="1258920"/>
            <a:ext cx="76075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1908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19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obre formación cuantitativa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Poca información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714680" indent="-470160" algn="just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Tahoma"/>
                <a:ea typeface="Tahoma"/>
              </a:rPr>
              <a:t>Mala información (tendenciosa pues viene de parte interesada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3" marL="246384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6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uadroTexto 3"/>
          <p:cNvSpPr/>
          <p:nvPr/>
        </p:nvSpPr>
        <p:spPr>
          <a:xfrm>
            <a:off x="2376360" y="5549760"/>
            <a:ext cx="63248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FELIPE IRARRÁZABAL PHILIPPI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 Narrow"/>
              </a:rPr>
              <a:t>MGPP/UNIVERSIDAD DE CHILE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  <a:ea typeface="Arial"/>
              </a:rPr>
              <a:t>05 DE OCTUBRE DE 2011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CuadroTexto 3"/>
          <p:cNvSpPr/>
          <p:nvPr/>
        </p:nvSpPr>
        <p:spPr>
          <a:xfrm>
            <a:off x="-184320" y="3862440"/>
            <a:ext cx="9058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ahoma"/>
              </a:rPr>
              <a:t>Costo-Beneficio en el Sistema Jurídico Chilen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85680" y="-628560"/>
            <a:ext cx="13161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2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15:28:12Z</dcterms:created>
  <dc:creator>Felipe Irarrázabal</dc:creator>
  <dc:description/>
  <dc:language>en-US</dc:language>
  <cp:lastModifiedBy>Felipe Irarrázabal</cp:lastModifiedBy>
  <cp:lastPrinted>2000-12-05T01:20:25Z</cp:lastPrinted>
  <dcterms:modified xsi:type="dcterms:W3CDTF">2011-10-05T18:24:15Z</dcterms:modified>
  <cp:revision>1511</cp:revision>
  <dc:subject/>
  <dc:title>FODA Invertec</dc:title>
</cp:coreProperties>
</file>