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97188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0534740-BAB9-4A4D-BDA3-C210031250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95200" y="690120"/>
            <a:ext cx="4622760" cy="346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27EE772-067E-46A4-A692-25816889D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37B8045-6587-470B-AF04-A4AFC064E4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E85DD96-570B-41C8-8420-E2E4A9D8C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2F4F001-EA8D-4656-B69F-1A50B9E141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D34096D-A8B8-4D23-88F1-4B88655EB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0E647DB-3CE5-4A73-83EF-CC13C9E765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EF322C4-6FB3-4BC3-A789-0C07305F8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AB05B23-A047-45FF-AE2E-E61F74D28B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58724DB-A417-4DF7-B61F-59D0D2D7C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16A3EBE-9010-478D-881E-3B25CA8082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24C5019-95C0-4C0E-8DA6-0FEB41352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CD5368B-9917-47C4-8BC9-47662D41E8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784A5D2-BE02-4CF0-86B9-30B5BFA20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3D6667D-2D33-4F90-AA4B-8A05D7BF46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22E0E5F-6CE3-486E-85F7-51D12277C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56EBD-A0CE-4C0B-B622-D66CA25F2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375984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86F05-8177-4623-9EEA-B14223FCF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13716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75984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4560" y="375984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082FE-F49A-4FBF-8633-1225337F8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360" y="137160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0560" y="137160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375984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360" y="375984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0560" y="375984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602D6-6BC9-4773-A248-58A08FE546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CDA81-C271-408D-B534-3AE50B084D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C8FB4-4483-4995-8ADD-726DDBFA3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4560" y="137160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82CCB-A460-4874-AFA6-1F9182264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2BAE0-4286-4164-AC85-B5CDBCEC4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181080"/>
            <a:ext cx="5742000" cy="2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34D6D-4ED8-4846-B6AE-EA2C105E4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4560" y="137160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375984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B35E9-37D0-4CD6-ABA2-E2508F76A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4560" y="13716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4560" y="375984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A65C1-09BF-4CE8-B5C2-643CF18DC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4560" y="13716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375984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87A2E-9F9E-46E3-B1AD-B3A8CEDAF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4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400"/>
              </a:spcBef>
              <a:buClr>
                <a:srgbClr val="cc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400"/>
              </a:spcBef>
              <a:buClr>
                <a:srgbClr val="cc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730600" y="6603480"/>
            <a:ext cx="4038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152920" y="659088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263B-3374-4AEC-BA4C-32C50DC9089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Rectangle 31"/>
          <p:cNvSpPr/>
          <p:nvPr/>
        </p:nvSpPr>
        <p:spPr>
          <a:xfrm>
            <a:off x="0" y="0"/>
            <a:ext cx="6818400" cy="826920"/>
          </a:xfrm>
          <a:prstGeom prst="rect">
            <a:avLst/>
          </a:prstGeom>
          <a:gradFill rotWithShape="0">
            <a:gsLst>
              <a:gs pos="0">
                <a:srgbClr val="5e1800"/>
              </a:gs>
              <a:gs pos="100000">
                <a:srgbClr val="cc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40" descr="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82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uadroTexto 3"/>
          <p:cNvSpPr/>
          <p:nvPr/>
        </p:nvSpPr>
        <p:spPr>
          <a:xfrm>
            <a:off x="2376360" y="5549760"/>
            <a:ext cx="632484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FELIPE IRARRÁZABAL PHILIPPI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 Narrow"/>
              </a:rPr>
              <a:t>MGPP/UNIVERSIDAD DE CHILE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  <a:ea typeface="Arial"/>
              </a:rPr>
              <a:t>05 DE OCTUBRE DE 2011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CuadroTexto 3"/>
          <p:cNvSpPr/>
          <p:nvPr/>
        </p:nvSpPr>
        <p:spPr>
          <a:xfrm>
            <a:off x="-184320" y="3862440"/>
            <a:ext cx="9058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ahoma"/>
              </a:rPr>
              <a:t>Costo-Beneficio en el Sistema Jurídico Chileno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85680" y="-628560"/>
            <a:ext cx="131616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" name="Picture 8" descr="http://cesarusat.files.wordpress.com/2011/04/abogados_sevilla_derecho_penal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5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D8A3-40C9-4825-89E1-682421C877B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Introducció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00280" y="925560"/>
            <a:ext cx="76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Derecho y Economía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7" name="Picture 4" descr="human_skeleton_1"/>
          <p:cNvPicPr/>
          <p:nvPr/>
        </p:nvPicPr>
        <p:blipFill>
          <a:blip r:embed="rId1"/>
          <a:stretch/>
        </p:blipFill>
        <p:spPr>
          <a:xfrm>
            <a:off x="990720" y="1314360"/>
            <a:ext cx="2571480" cy="523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irculationgeneral"/>
          <p:cNvPicPr/>
          <p:nvPr/>
        </p:nvPicPr>
        <p:blipFill>
          <a:blip r:embed="rId2"/>
          <a:stretch/>
        </p:blipFill>
        <p:spPr>
          <a:xfrm>
            <a:off x="5267160" y="1324080"/>
            <a:ext cx="1949760" cy="51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EEB4-4592-44BF-AE70-78235901D4A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Visión orgánica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85640" y="2239920"/>
            <a:ext cx="76075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indent="392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Legislador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utoridad Administrativa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Juez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FACA-FA4C-45F8-A246-9AF97DD36C9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Legislado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800280" y="925560"/>
            <a:ext cx="760716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indent="392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Legislador: Destinatario natural de análisis CB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400040" indent="-64908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Amplias atribuciones en relación a las garantías constitucionales económica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400040" indent="-649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400040" indent="-64908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Existen ciertas limitaciones: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Requisitos de cada garantí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Garantía de las garantía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Ius Puniendi: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4" marL="31114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descripción de las conductas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4" marL="31114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sanciones por riesgos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4" marL="31114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enumeración de las sancione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4" marL="311148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Principio de la proporcionalidad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C315-3A32-4ED1-BAD1-2261CB0C600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Autoridad Administrativa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838080" y="773280"/>
            <a:ext cx="7607520" cy="58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1908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Depende del espacio discrecional que le dé la ley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A  B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   C  D</a:t>
            </a:r>
            <a:r>
              <a:rPr b="1" lang="es-ES_tradnl" sz="2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¿Por qué NO se puede optar por A, B, C o D?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Principio de legalidad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Órganos del Estado deben someter su acción a la Constitución y a las normas dictadas conforme a ell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Órganos del Estado actúan válidamente dentro de su competencia y en la forma que prescriba la ley, si no habrá nulidad y responsabilidade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Jurisprudencia de la Contraloría: revisión de legalidad y no de mérito y oportunidad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624120" y="2000160"/>
            <a:ext cx="83844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2   3   4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33840" y="2017800"/>
            <a:ext cx="838080" cy="309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cc0000"/>
                </a:solidFill>
                <a:latin typeface="Times New Roman"/>
              </a:rPr>
              <a:t>2   3   4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877B-5B53-411A-ADA4-AAD0BD6FF96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Autoridad Administrativa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69800" y="649440"/>
            <a:ext cx="7607520" cy="59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1908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¿Es completamente libre para decidir 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3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, o 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4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?: No, Diferencia entre discrecionalidad y arbitrariedad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Principio de la Proporcionalidad y Razonabilidad: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No se podrán establecer diferencias arbitraria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No discriminación arbitraria en el trato que deben dar el Estado y sus organismo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Igualdad ante la ley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Legislación administrativa más bien parca: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Administración deberá observar los principios de la eficiencia y eficaci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Administración deberá velar por la eficiente e idónea administración de los medios públicos y por el debido cumplimiento de la función públic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La decisión, en todo caso, debe ser fundad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Teoría de los actos propios/confianza legítim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50B2-80DA-4FA6-910E-BAAF42E205B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Juez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07960" y="584280"/>
            <a:ext cx="8093160" cy="64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1908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Tienen que aplicar la ley (o el “sentido” de la ley)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Primero: revisión de legalidad; luego control de razonabilidad (la justificación es analizada desde muchas perspectivas, incluso CB)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4" marL="3111480" indent="-457200" algn="just">
              <a:lnSpc>
                <a:spcPct val="100000"/>
              </a:lnSpc>
              <a:spcBef>
                <a:spcPts val="876"/>
              </a:spcBef>
              <a:buClr>
                <a:srgbClr val="ff3300"/>
              </a:buClr>
              <a:buFont typeface="Wingdings" charset="2"/>
              <a:buChar char=""/>
              <a:tabLst>
                <a:tab algn="l" pos="86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3300"/>
                </a:solidFill>
                <a:latin typeface="Tahoma"/>
                <a:ea typeface="Tahoma"/>
              </a:rPr>
              <a:t>“</a:t>
            </a:r>
            <a:r>
              <a:rPr b="1" lang="es-CL" sz="1200" spc="-1" strike="noStrike">
                <a:solidFill>
                  <a:srgbClr val="ff3300"/>
                </a:solidFill>
                <a:latin typeface="Tahoma"/>
                <a:ea typeface="Tahoma"/>
              </a:rPr>
              <a:t>Los jueces están obligados a cumplir su función aplicando la legislación vigente, con prescindencia de la convicción íntima que tengan acerca de la bondad de ésta”</a:t>
            </a: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  Corte Suprema, 15/06/09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Espacio para CB: Interpretación da flexibilidad al sistema: elemento lógico y sistemático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Otro espacio para CB: Decisión entre dos derechos: hay que optar entre dos derechos igualmente bien protegidos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Obligación de fundamentar la sentencia: “consideraciones de hecho y derecho que sirven de fundamento a la sentencia”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Crítica: la fundamentación es pobre, y la crítica de la doctrina a la jurisprudencia también es pobre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2FCB-E572-4A29-A62B-6B1179C87E6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Limitaciones chilenas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88880" y="1258920"/>
            <a:ext cx="76075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1908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Pobre formación cuantitativ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Poca información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Mala información (tendenciosa pues viene de parte interesada)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CuadroTexto 3"/>
          <p:cNvSpPr/>
          <p:nvPr/>
        </p:nvSpPr>
        <p:spPr>
          <a:xfrm>
            <a:off x="2376360" y="5549760"/>
            <a:ext cx="632484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FELIPE IRARRÁZABAL PHILIPPI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 Narrow"/>
              </a:rPr>
              <a:t>MGPP/UNIVERSIDAD DE CHILE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  <a:ea typeface="Arial"/>
              </a:rPr>
              <a:t>05 DE OCTUBRE DE 2011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CuadroTexto 3"/>
          <p:cNvSpPr/>
          <p:nvPr/>
        </p:nvSpPr>
        <p:spPr>
          <a:xfrm>
            <a:off x="-184320" y="3862440"/>
            <a:ext cx="9058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ahoma"/>
              </a:rPr>
              <a:t>Costo-Beneficio en el Sistema Jurídico Chileno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85680" y="-628560"/>
            <a:ext cx="131616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2" name="Picture 8" descr="http://cesarusat.files.wordpress.com/2011/04/abogados_sevilla_derecho_penal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573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30T15:28:12Z</dcterms:created>
  <dc:creator>Felipe Irarrázabal</dc:creator>
  <dc:description/>
  <dc:language>en-US</dc:language>
  <cp:lastModifiedBy>Felipe Irarrázabal</cp:lastModifiedBy>
  <cp:lastPrinted>2000-12-05T01:20:25Z</cp:lastPrinted>
  <dcterms:modified xsi:type="dcterms:W3CDTF">2011-10-05T18:24:15Z</dcterms:modified>
  <cp:revision>1511</cp:revision>
  <dc:subject/>
  <dc:title>FODA Invertec</dc:title>
</cp:coreProperties>
</file>