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895A282-B729-4146-BA3E-BAD9E7482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5200" y="690120"/>
            <a:ext cx="4622760" cy="346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56883B-A17B-4308-BB40-2B15492B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0A66693-38EF-4295-957A-E09D03E3E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CB9AD49-56D3-49D7-9AD8-4ECE2D8A1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80AC67A-E96E-4AB7-9987-BD1322207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B02141A-25B1-4A13-9BAA-912E94B24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2180C8E-926E-48B2-A1A0-9BAEFC488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8DCFE56-B3EA-4667-B438-B1017E2A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D631279-F1C3-4FE1-86EE-2F9EB5C2B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48CE5E4-744E-48B4-BB48-CDAA31C83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330801-30AB-408D-81FA-1290BEC24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ABA9DD5-6036-4DBD-9C0C-E3DBD8513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9FA288B-CB39-4E4E-8518-A1C5D8C41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451E7A3-FC19-4EA7-87A8-8DDC8332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CA351EB-083A-4E45-BFA7-DCF9C012F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2AAA3CF-CBF1-41F5-8291-EB08C081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CFEB-4569-4D7C-A234-8225CC73E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2C76-FBCC-4AE4-BAA4-6D3AC673E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52BE-6648-43DC-B1FE-999D26BDE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97B3-9CD8-4B5B-B58C-974CA4F83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F8CA-591B-4648-8DE4-87DA3E577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571B-8193-4638-B721-02D256D72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E44B-5D99-4350-B119-0D6A5D511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157A-EDF4-4C45-BF7C-78367DAEE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81080"/>
            <a:ext cx="57420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2EC9-C676-4AD1-8EB8-887B45064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CBF-F9BB-4E10-A451-E567770D8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754D-31D7-4D9E-942B-FD12DA78D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C311-14BD-4CBE-83EF-D8A43C7EF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730600" y="660348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152920" y="65908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B5A-3C15-4C1B-B7C0-330A9108F6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0" y="0"/>
            <a:ext cx="6818400" cy="82692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40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07F-F5B0-4FAF-A2FE-1048C25DD6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0280" y="92556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recho y Economí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" descr="human_skeleton_1"/>
          <p:cNvPicPr/>
          <p:nvPr/>
        </p:nvPicPr>
        <p:blipFill>
          <a:blip r:embed="rId1"/>
          <a:stretch/>
        </p:blipFill>
        <p:spPr>
          <a:xfrm>
            <a:off x="990720" y="1314360"/>
            <a:ext cx="2571480" cy="523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irculationgeneral"/>
          <p:cNvPicPr/>
          <p:nvPr/>
        </p:nvPicPr>
        <p:blipFill>
          <a:blip r:embed="rId2"/>
          <a:stretch/>
        </p:blipFill>
        <p:spPr>
          <a:xfrm>
            <a:off x="5267160" y="1324080"/>
            <a:ext cx="19497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A142-E7BC-454F-BD2C-B4932B609A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Visión orgán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5640" y="2239920"/>
            <a:ext cx="76075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toridad Administrativ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AE0-D451-4EDD-8CFB-41901EF5F8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egislad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00280" y="925560"/>
            <a:ext cx="76071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: Destinatario natural de análisis CB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Amplias atribuciones en relación a las garantías constitucionales económic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xisten ciertas limitaciones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Requisitos de cada garantí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Garantía de las garantí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Ius Puniendi: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descripción de las conducta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sanciones por riesg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numeración de las sancion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a proporcionalidad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F952-9130-4B97-AEDE-0B6FFC447E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773280"/>
            <a:ext cx="760752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pende del espacio discrecional que le dé la le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A  B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  C  D</a:t>
            </a:r>
            <a:r>
              <a:rPr b="1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Por qué NO se puede optar por A, B, C o D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egal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deben someter su acción a la Constitución y a las normas dictadas conforme a ell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actúan válidamente dentro de su competencia y en la forma que prescriba la ley, si no habrá nulidad y responsabilidad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Jurisprudencia de la Contraloría: revisión de legalidad y no de mérito y oportun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24120" y="2000160"/>
            <a:ext cx="838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   3   4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33840" y="2017800"/>
            <a:ext cx="838080" cy="30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0000"/>
                </a:solidFill>
                <a:latin typeface="Times New Roman"/>
              </a:rPr>
              <a:t>2   3   4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254C-BCA1-4A25-9EF3-2AC4F54E5A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69800" y="649440"/>
            <a:ext cx="760752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Es completamente libre para decidir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o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?: No, Diferencia entre discrecionalidad y arbitrarieda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ncipio de la Proporcionalidad y Razonabilidad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se podrán establecer diferencias arbitrari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discriminación arbitraria en el trato que deben dar el Estado y sus organismo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Igualdad ante la le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egislación administrativa más bien parca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observar los principios de la eficiencia y eficaci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velar por la eficiente e idónea administración de los medios públicos y por el debido cumplimiento de la función públic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a decisión, en todo caso, debe ser fundad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Teoría de los actos propios/confianza legítim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C13-6B66-4468-9557-8FE9C18B75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Juez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07960" y="584280"/>
            <a:ext cx="809316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ienen que aplicar la ley (o el “sentido” de la ley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mero: revisión de legalidad; luego control de razonabilidad (la justificación es analizada desde muchas perspectivas, incluso CB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"/>
              <a:tabLst>
                <a:tab algn="l" pos="86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“</a:t>
            </a: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Los jueces están obligados a cumplir su función aplicando la legislación vigente, con prescindencia de la convicción íntima que tengan acerca de la bondad de ésta”</a:t>
            </a: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  Corte Suprema, 15/06/09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Espacio para CB: Interpretación da flexibilidad al sistema: elemento lógico y sistemático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tro espacio para CB: Decisión entre dos derechos: hay que optar entre dos derechos igualmente bien protegid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bligación de fundamentar la sentencia: “consideraciones de hecho y derecho que sirven de fundamento a la sentencia”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Crítica: la fundamentación es pobre, y la crítica de la doctrina a la jurisprudencia también es pobr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B121-EC5D-4901-99D1-9F14B24F01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imitaciones chilena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88880" y="1258920"/>
            <a:ext cx="76075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bre formación cuantitativ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ca informació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Mala información (tendenciosa pues viene de parte interesada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28:12Z</dcterms:created>
  <dc:creator>Felipe Irarrázabal</dc:creator>
  <dc:description/>
  <dc:language>en-US</dc:language>
  <cp:lastModifiedBy>Felipe Irarrázabal</cp:lastModifiedBy>
  <cp:lastPrinted>2000-12-05T01:20:25Z</cp:lastPrinted>
  <dcterms:modified xsi:type="dcterms:W3CDTF">2011-10-05T18:24:15Z</dcterms:modified>
  <cp:revision>1511</cp:revision>
  <dc:subject/>
  <dc:title>FODA Invertec</dc:title>
</cp:coreProperties>
</file>