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A10-A253-4BAD-A4F7-396D807D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738-F850-4C6B-959E-6B48BD3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F29-93E0-404D-AF29-C0BCD349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874-A9B8-47B1-B95B-54964C9D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D17-94AC-4223-8EA2-86F72EDB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28F-893F-427D-B22F-B7630D89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04C-952D-4750-9FE1-211DAA4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B66-DE19-485F-9F5D-F6501AC3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111-B840-40D9-ACC4-631BA17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65E-E9D5-47C3-96ED-71E2DDB9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D88-5B16-4EF5-AD1A-E5A4E3D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69B-F2D0-49CE-ABAE-FD2551B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CE1CB91-D4E8-4FDB-B938-38605E5DD742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EEE31F3-0773-44EA-97A7-00F0817C7D7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24F5548-198E-4728-B600-F69070AF28E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Imagen" descr="core_values[1].jpg"/>
          <p:cNvPicPr/>
          <p:nvPr/>
        </p:nvPicPr>
        <p:blipFill>
          <a:blip r:embed="rId1"/>
          <a:stretch/>
        </p:blipFill>
        <p:spPr>
          <a:xfrm>
            <a:off x="4786200" y="356400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92" name="8 Imagen" descr="scale_clip_art_17489[1].jpg"/>
          <p:cNvPicPr/>
          <p:nvPr/>
        </p:nvPicPr>
        <p:blipFill>
          <a:blip r:embed="rId2"/>
          <a:stretch/>
        </p:blipFill>
        <p:spPr>
          <a:xfrm>
            <a:off x="4786200" y="0"/>
            <a:ext cx="4211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3"/>
          <p:cNvSpPr/>
          <p:nvPr/>
        </p:nvSpPr>
        <p:spPr>
          <a:xfrm>
            <a:off x="974880" y="900000"/>
            <a:ext cx="757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¿AUTÓNO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w &amp;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EC1AE67-6B83-40C4-A00C-4F476D9ED93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7 Imagen" descr="Isla_con_Palmera-1024x768-25719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3"/>
          <p:cNvSpPr/>
          <p:nvPr/>
        </p:nvSpPr>
        <p:spPr>
          <a:xfrm>
            <a:off x="974880" y="900000"/>
            <a:ext cx="7573680" cy="83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DERECHO VS.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ción + s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implí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uición sobre 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y métodos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93AC02C-E96B-4BA8-A32B-940D6D37192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 Imagen" descr="skeleton-anatomy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8 Imagen" descr="sistema-circulatorio[1].jpg"/>
          <p:cNvPicPr/>
          <p:nvPr/>
        </p:nvPicPr>
        <p:blipFill>
          <a:blip r:embed="rId2"/>
          <a:stretch/>
        </p:blipFill>
        <p:spPr>
          <a:xfrm>
            <a:off x="5003640" y="262728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echo vs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CAB8567-1763-49EA-8222-DC76B8B2F4F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 Imagen" descr="bostezo4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Civ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BECBD53-9FE7-4BDA-AE69-A06E106C6FF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upload.wikimedia.org/wikipedia/commons/thumb/2/25/Codigo_Civil_Chile_01.jpg/150px-Codigo_Civil_Chile_01.jpg"/>
          <p:cNvPicPr/>
          <p:nvPr/>
        </p:nvPicPr>
        <p:blipFill>
          <a:blip r:embed="rId1"/>
          <a:stretch/>
        </p:blipFill>
        <p:spPr>
          <a:xfrm>
            <a:off x="4859280" y="0"/>
            <a:ext cx="4138560" cy="3014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84240" y="-1198440"/>
            <a:ext cx="1847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educarchile.cl/UserFiles/P0001/Image/Modulo2_contenidos_estudiantes_historia_eje2/Andres_Bello.jpg"/>
          <p:cNvPicPr/>
          <p:nvPr/>
        </p:nvPicPr>
        <p:blipFill>
          <a:blip r:embed="rId2"/>
          <a:stretch/>
        </p:blipFill>
        <p:spPr>
          <a:xfrm>
            <a:off x="4859280" y="3014640"/>
            <a:ext cx="4138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uadroTexto 3"/>
          <p:cNvSpPr/>
          <p:nvPr/>
        </p:nvSpPr>
        <p:spPr>
          <a:xfrm>
            <a:off x="974880" y="900000"/>
            <a:ext cx="757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/Potestad reg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9874BF2-2262-4851-9E99-98C44FE36B2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error-de-derecho-300x30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ORIA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g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 de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4AFDAE7-279E-4239-A9D0-663C651363C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books[1].jpg"/>
          <p:cNvPicPr/>
          <p:nvPr/>
        </p:nvPicPr>
        <p:blipFill>
          <a:blip r:embed="rId1"/>
          <a:stretch/>
        </p:blipFill>
        <p:spPr>
          <a:xfrm>
            <a:off x="4660920" y="855720"/>
            <a:ext cx="4336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974880" y="900000"/>
            <a:ext cx="75736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RAMA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347028D-0018-415A-9515-DE1E21CAA15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0 Imagen" descr="arboles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974880" y="900000"/>
            <a:ext cx="3595680" cy="76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S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esoro encontrado en terreno ajeno se dividirá por partes iguales entre el dueño del terreno y la persona que haya hecho el descubrimiento. Pero esta última no tendrá derecho a su porción, sino cuando el descubrimiento sea fortuito o cuando se haya buscado el tesoro con permiso del dueño del terreno. En los demás casos, o cuando sean una misma persona el dueño del terreno y el descubridor, pertenecerá todo el tesoro al dueño del terren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D965EA2-8BC1-4648-8C83-642F74BBE91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Firarrazabal\Desktop\treasure[1].jpg"/>
          <p:cNvPicPr/>
          <p:nvPr/>
        </p:nvPicPr>
        <p:blipFill>
          <a:blip r:embed="rId1"/>
          <a:stretch/>
        </p:blipFill>
        <p:spPr>
          <a:xfrm>
            <a:off x="4570560" y="0"/>
            <a:ext cx="442728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uadroTexto 3"/>
          <p:cNvSpPr/>
          <p:nvPr/>
        </p:nvSpPr>
        <p:spPr>
          <a:xfrm>
            <a:off x="974880" y="900000"/>
            <a:ext cx="3452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LESION EN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endedor sufre lesión enorme, cuando el precio que recibe es inferior a la mitad del justo precio de la cosa que se vende; y el comprador a su vez sufre lesión enorme, cuando el justo precio de la cosa que compra es inferior a la mitad del precio que paga por e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7543696-69F6-4DA8-B407-0C461AAB328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Firarrazabal\Desktop\imagesCALPG78Q.jpg"/>
          <p:cNvPicPr/>
          <p:nvPr/>
        </p:nvPicPr>
        <p:blipFill>
          <a:blip r:embed="rId1"/>
          <a:stretch/>
        </p:blipFill>
        <p:spPr>
          <a:xfrm>
            <a:off x="4930920" y="0"/>
            <a:ext cx="4066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974880" y="900000"/>
            <a:ext cx="34527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ANIMAL F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 causado por un animal fiero, de que no se reporta utilidad para la guarda o servicio de un predio, será siempre imputable al que lo tenga, y si alegare que no le fue posible evitar el daño, no será oí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69BEA01-E649-472A-A3AF-D2C77D3503D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Firarrazabal\Desktop\perro bravo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0-06T18:54:34Z</dcterms:modified>
  <cp:revision>138</cp:revision>
  <dc:subject/>
  <dc:title>Diapositiva 1</dc:title>
</cp:coreProperties>
</file>