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65D-08E2-494A-8EA3-733767ED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545-2440-4D77-8A57-285069F9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0C8-771B-44DA-9BE5-BFC1BE80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5F6-D0F0-45C1-A673-E888F19E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033-3A12-4B87-BC54-6E0D6F56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09D-72CE-4617-BF5B-ABA49FB4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28F-859F-4AFA-8A0B-D993A47C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C36-47B9-42EF-ACA0-ADB32F8B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097-A379-430B-A615-036C6A4D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B30-606D-4E9B-8359-6FFA42B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D0B-720E-4374-B366-8770EBBD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CCD-E4E4-4C4B-BFC1-B85DE4C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BB11765-4E08-440E-8EB8-AC01AB98ADFE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3BDA296-1C2C-4868-B43C-93B10268A6A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3"/>
          <p:cNvSpPr/>
          <p:nvPr/>
        </p:nvSpPr>
        <p:spPr>
          <a:xfrm>
            <a:off x="2338560" y="5533920"/>
            <a:ext cx="6222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LIPE IRARRÁZABAL 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GPP/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5 DE OCTUBRE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uadroTexto 3"/>
          <p:cNvSpPr/>
          <p:nvPr/>
        </p:nvSpPr>
        <p:spPr>
          <a:xfrm>
            <a:off x="-181080" y="3851280"/>
            <a:ext cx="891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4400" spc="-1" strike="noStrike">
                <a:solidFill>
                  <a:srgbClr val="617a8a"/>
                </a:solidFill>
                <a:latin typeface="Arial"/>
              </a:rPr>
              <a:t>DERECHO: ¿CIENCIA O A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84240" y="-6271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899784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uadroTexto 3"/>
          <p:cNvSpPr/>
          <p:nvPr/>
        </p:nvSpPr>
        <p:spPr>
          <a:xfrm>
            <a:off x="974880" y="900000"/>
            <a:ext cx="75736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VALORES EN J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A0D43CC-40B1-4F6F-B819-362DE577C39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7 Imagen" descr="core_values[1].jpg"/>
          <p:cNvPicPr/>
          <p:nvPr/>
        </p:nvPicPr>
        <p:blipFill>
          <a:blip r:embed="rId1"/>
          <a:stretch/>
        </p:blipFill>
        <p:spPr>
          <a:xfrm>
            <a:off x="4786200" y="3564000"/>
            <a:ext cx="4211640" cy="3274920"/>
          </a:xfrm>
          <a:prstGeom prst="rect">
            <a:avLst/>
          </a:prstGeom>
          <a:ln w="0">
            <a:noFill/>
          </a:ln>
        </p:spPr>
      </p:pic>
      <p:pic>
        <p:nvPicPr>
          <p:cNvPr id="92" name="8 Imagen" descr="scale_clip_art_17489[1].jpg"/>
          <p:cNvPicPr/>
          <p:nvPr/>
        </p:nvPicPr>
        <p:blipFill>
          <a:blip r:embed="rId2"/>
          <a:stretch/>
        </p:blipFill>
        <p:spPr>
          <a:xfrm>
            <a:off x="4786200" y="0"/>
            <a:ext cx="4211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Texto 3"/>
          <p:cNvSpPr/>
          <p:nvPr/>
        </p:nvSpPr>
        <p:spPr>
          <a:xfrm>
            <a:off x="974880" y="900000"/>
            <a:ext cx="7573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¿AUTÓNO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w &amp;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D85BA26-33E4-467C-8D97-2D243DAA387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7 Imagen" descr="Isla_con_Palmera-1024x768-257190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uadroTexto 3"/>
          <p:cNvSpPr/>
          <p:nvPr/>
        </p:nvSpPr>
        <p:spPr>
          <a:xfrm>
            <a:off x="974880" y="900000"/>
            <a:ext cx="7573680" cy="83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DERECHO VS. EC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ción + sa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implíc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uición sobre 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oría y métodos cient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05CA4EC-5D4F-4604-BFA3-A3A562074E4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6 Imagen" descr="skeleton-anatomy[1].jpg"/>
          <p:cNvPicPr/>
          <p:nvPr/>
        </p:nvPicPr>
        <p:blipFill>
          <a:blip r:embed="rId1"/>
          <a:stretch/>
        </p:blipFill>
        <p:spPr>
          <a:xfrm>
            <a:off x="5003640" y="0"/>
            <a:ext cx="3994200" cy="2627280"/>
          </a:xfrm>
          <a:prstGeom prst="rect">
            <a:avLst/>
          </a:prstGeom>
          <a:ln w="0">
            <a:noFill/>
          </a:ln>
        </p:spPr>
      </p:pic>
      <p:pic>
        <p:nvPicPr>
          <p:cNvPr id="103" name="8 Imagen" descr="sistema-circulatorio[1].jpg"/>
          <p:cNvPicPr/>
          <p:nvPr/>
        </p:nvPicPr>
        <p:blipFill>
          <a:blip r:embed="rId2"/>
          <a:stretch/>
        </p:blipFill>
        <p:spPr>
          <a:xfrm>
            <a:off x="5003640" y="2627280"/>
            <a:ext cx="39942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uadroTexto 3"/>
          <p:cNvSpPr/>
          <p:nvPr/>
        </p:nvSpPr>
        <p:spPr>
          <a:xfrm>
            <a:off x="2338560" y="5533920"/>
            <a:ext cx="6222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LIPE IRARRÁZABAL 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GPP/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5 DE OCTUBRE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adroTexto 3"/>
          <p:cNvSpPr/>
          <p:nvPr/>
        </p:nvSpPr>
        <p:spPr>
          <a:xfrm>
            <a:off x="-181080" y="3851280"/>
            <a:ext cx="891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4400" spc="-1" strike="noStrike">
                <a:solidFill>
                  <a:srgbClr val="617a8a"/>
                </a:solidFill>
                <a:latin typeface="Arial"/>
              </a:rPr>
              <a:t>DERECHO: ¿CIENCIA O A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84240" y="-6271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899784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uadroTexto 3"/>
          <p:cNvSpPr/>
          <p:nvPr/>
        </p:nvSpPr>
        <p:spPr>
          <a:xfrm>
            <a:off x="974880" y="900000"/>
            <a:ext cx="757368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ente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oría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ores en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Autonom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echo vs.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448E8EA-90B0-4EA9-A473-FEB44873642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 Imagen" descr="bostezo4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900000"/>
            <a:ext cx="75736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s princip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Civi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o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50D469F-009A-4D62-AF22-0F9B3C33B1A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upload.wikimedia.org/wikipedia/commons/thumb/2/25/Codigo_Civil_Chile_01.jpg/150px-Codigo_Civil_Chile_01.jpg"/>
          <p:cNvPicPr/>
          <p:nvPr/>
        </p:nvPicPr>
        <p:blipFill>
          <a:blip r:embed="rId1"/>
          <a:stretch/>
        </p:blipFill>
        <p:spPr>
          <a:xfrm>
            <a:off x="4859280" y="0"/>
            <a:ext cx="4138560" cy="3014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>
            <a:off x="84240" y="-1198440"/>
            <a:ext cx="18478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educarchile.cl/UserFiles/P0001/Image/Modulo2_contenidos_estudiantes_historia_eje2/Andres_Bello.jpg"/>
          <p:cNvPicPr/>
          <p:nvPr/>
        </p:nvPicPr>
        <p:blipFill>
          <a:blip r:embed="rId2"/>
          <a:stretch/>
        </p:blipFill>
        <p:spPr>
          <a:xfrm>
            <a:off x="4859280" y="3014640"/>
            <a:ext cx="41385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uadroTexto 3"/>
          <p:cNvSpPr/>
          <p:nvPr/>
        </p:nvSpPr>
        <p:spPr>
          <a:xfrm>
            <a:off x="974880" y="900000"/>
            <a:ext cx="75736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FUENTES D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y/Potestad regla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u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rispru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ct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1700367-E438-4A9D-A42B-C7BEC9715E3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5 Imagen" descr="error-de-derecho-300x300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uadroTexto 3"/>
          <p:cNvSpPr/>
          <p:nvPr/>
        </p:nvSpPr>
        <p:spPr>
          <a:xfrm>
            <a:off x="974880" y="900000"/>
            <a:ext cx="757368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TEORIA DE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pre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gu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licto de 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4CBBE17-308A-4811-BF70-A57D69C48F0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6 Imagen" descr="books[1].jpg"/>
          <p:cNvPicPr/>
          <p:nvPr/>
        </p:nvPicPr>
        <p:blipFill>
          <a:blip r:embed="rId1"/>
          <a:stretch/>
        </p:blipFill>
        <p:spPr>
          <a:xfrm>
            <a:off x="4660920" y="855720"/>
            <a:ext cx="43369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uadroTexto 3"/>
          <p:cNvSpPr/>
          <p:nvPr/>
        </p:nvSpPr>
        <p:spPr>
          <a:xfrm>
            <a:off x="974880" y="900000"/>
            <a:ext cx="75736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RAMAS D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an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8C690DE-4C43-41A9-9FED-07764F2B885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10 Imagen" descr="arboles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974880" y="900000"/>
            <a:ext cx="3595680" cy="76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TES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tesoro encontrado en terreno ajeno se dividirá por partes iguales entre el dueño del terreno y la persona que haya hecho el descubrimiento. Pero esta última no tendrá derecho a su porción, sino cuando el descubrimiento sea fortuito o cuando se haya buscado el tesoro con permiso del dueño del terreno. En los demás casos, o cuando sean una misma persona el dueño del terreno y el descubridor, pertenecerá todo el tesoro al dueño del terren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05EACAC-5D34-48A2-8600-AE367AF937E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Firarrazabal\Desktop\treasure[1].jpg"/>
          <p:cNvPicPr/>
          <p:nvPr/>
        </p:nvPicPr>
        <p:blipFill>
          <a:blip r:embed="rId1"/>
          <a:stretch/>
        </p:blipFill>
        <p:spPr>
          <a:xfrm>
            <a:off x="4570560" y="0"/>
            <a:ext cx="442728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uadroTexto 3"/>
          <p:cNvSpPr/>
          <p:nvPr/>
        </p:nvSpPr>
        <p:spPr>
          <a:xfrm>
            <a:off x="974880" y="900000"/>
            <a:ext cx="345276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LESION EN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endedor sufre lesión enorme, cuando el precio que recibe es inferior a la mitad del justo precio de la cosa que se vende; y el comprador a su vez sufre lesión enorme, cuando el justo precio de la cosa que compra es inferior a la mitad del precio que paga por e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77B82DD-9595-45A9-AB8A-3D07414980A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Firarrazabal\Desktop\imagesCALPG78Q.jpg"/>
          <p:cNvPicPr/>
          <p:nvPr/>
        </p:nvPicPr>
        <p:blipFill>
          <a:blip r:embed="rId1"/>
          <a:stretch/>
        </p:blipFill>
        <p:spPr>
          <a:xfrm>
            <a:off x="4930920" y="0"/>
            <a:ext cx="40669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Texto 3"/>
          <p:cNvSpPr/>
          <p:nvPr/>
        </p:nvSpPr>
        <p:spPr>
          <a:xfrm>
            <a:off x="974880" y="900000"/>
            <a:ext cx="34527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ANIMAL F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año causado por un animal fiero, de que no se reporta utilidad para la guarda o servicio de un predio, será siempre imputable al que lo tenga, y si alegare que no le fue posible evitar el daño, no será oí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9D8B3FF-2F56-49BD-9D53-3BF84CABD83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Firarrazabal\Desktop\perro bravo[1].jpg"/>
          <p:cNvPicPr/>
          <p:nvPr/>
        </p:nvPicPr>
        <p:blipFill>
          <a:blip r:embed="rId1"/>
          <a:stretch/>
        </p:blipFill>
        <p:spPr>
          <a:xfrm>
            <a:off x="5003640" y="0"/>
            <a:ext cx="39942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0-06T18:54:34Z</dcterms:modified>
  <cp:revision>138</cp:revision>
  <dc:subject/>
  <dc:title>Diapositiva 1</dc:title>
</cp:coreProperties>
</file>