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7B7-FFC0-4959-B0C6-980A0A33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65C-F687-479D-83BC-F4ADDB44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467-B1E9-4FCD-95FA-D2C3954E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8E0-5AB5-47B8-948C-F71DEBE3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148-CFD1-476A-8F84-DD30AF06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A7E-3CEC-4080-95A9-7FE1C5D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D6C-7C26-4690-8A8E-9761637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0A2-7230-4E6C-8401-CCF351D2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921-73B7-4F15-8333-8F3B6DED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35A-E090-4466-8C69-03D1CA0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AF8-9154-4ED2-B1F6-705504D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DA2-B57D-4F29-B57C-93488DDA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6EE166E-9253-4D9F-AE9D-2E5B05442A6E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EA8E8C4-1FFD-440C-8F78-996AB6DDB5E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5AD766A-E1A5-48BD-8845-0B988DF3226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7 Imagen" descr="core_values[1].jpg"/>
          <p:cNvPicPr/>
          <p:nvPr/>
        </p:nvPicPr>
        <p:blipFill>
          <a:blip r:embed="rId1"/>
          <a:stretch/>
        </p:blipFill>
        <p:spPr>
          <a:xfrm>
            <a:off x="4786200" y="356400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92" name="8 Imagen" descr="scale_clip_art_17489[1].jpg"/>
          <p:cNvPicPr/>
          <p:nvPr/>
        </p:nvPicPr>
        <p:blipFill>
          <a:blip r:embed="rId2"/>
          <a:stretch/>
        </p:blipFill>
        <p:spPr>
          <a:xfrm>
            <a:off x="4786200" y="0"/>
            <a:ext cx="4211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3"/>
          <p:cNvSpPr/>
          <p:nvPr/>
        </p:nvSpPr>
        <p:spPr>
          <a:xfrm>
            <a:off x="974880" y="900000"/>
            <a:ext cx="757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¿AUTÓNO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w &amp;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D76F7F1-F091-43BC-8D0E-3E6A50D5D73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7 Imagen" descr="Isla_con_Palmera-1024x768-25719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3"/>
          <p:cNvSpPr/>
          <p:nvPr/>
        </p:nvSpPr>
        <p:spPr>
          <a:xfrm>
            <a:off x="974880" y="900000"/>
            <a:ext cx="7573680" cy="83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DERECHO VS.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ción + s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implí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uición sobre 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y métodos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672ED34-F484-4E3B-85F7-195B2318EB5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 Imagen" descr="skeleton-anatomy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8 Imagen" descr="sistema-circulatorio[1].jpg"/>
          <p:cNvPicPr/>
          <p:nvPr/>
        </p:nvPicPr>
        <p:blipFill>
          <a:blip r:embed="rId2"/>
          <a:stretch/>
        </p:blipFill>
        <p:spPr>
          <a:xfrm>
            <a:off x="5003640" y="262728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echo vs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C28EE64-93BA-460C-94D0-C8D700AEFA6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 Imagen" descr="bostezo4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s 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Civ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9E29621-EB1B-4D6A-8248-D32CD66E224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upload.wikimedia.org/wikipedia/commons/thumb/2/25/Codigo_Civil_Chile_01.jpg/150px-Codigo_Civil_Chile_01.jpg"/>
          <p:cNvPicPr/>
          <p:nvPr/>
        </p:nvPicPr>
        <p:blipFill>
          <a:blip r:embed="rId1"/>
          <a:stretch/>
        </p:blipFill>
        <p:spPr>
          <a:xfrm>
            <a:off x="4859280" y="0"/>
            <a:ext cx="4138560" cy="3014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84240" y="-1198440"/>
            <a:ext cx="1847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educarchile.cl/UserFiles/P0001/Image/Modulo2_contenidos_estudiantes_historia_eje2/Andres_Bello.jpg"/>
          <p:cNvPicPr/>
          <p:nvPr/>
        </p:nvPicPr>
        <p:blipFill>
          <a:blip r:embed="rId2"/>
          <a:stretch/>
        </p:blipFill>
        <p:spPr>
          <a:xfrm>
            <a:off x="4859280" y="3014640"/>
            <a:ext cx="4138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uadroTexto 3"/>
          <p:cNvSpPr/>
          <p:nvPr/>
        </p:nvSpPr>
        <p:spPr>
          <a:xfrm>
            <a:off x="974880" y="900000"/>
            <a:ext cx="757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y/Potestad reg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BEF1C19-00A3-4D4E-BB5C-86F08073A78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5 Imagen" descr="error-de-derecho-300x30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ORIA 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g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licto de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0EA7518-8F20-4DB8-B82A-DECF5199DF0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6 Imagen" descr="books[1].jpg"/>
          <p:cNvPicPr/>
          <p:nvPr/>
        </p:nvPicPr>
        <p:blipFill>
          <a:blip r:embed="rId1"/>
          <a:stretch/>
        </p:blipFill>
        <p:spPr>
          <a:xfrm>
            <a:off x="4660920" y="855720"/>
            <a:ext cx="4336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Texto 3"/>
          <p:cNvSpPr/>
          <p:nvPr/>
        </p:nvSpPr>
        <p:spPr>
          <a:xfrm>
            <a:off x="974880" y="900000"/>
            <a:ext cx="75736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RAMA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EB07F6A-D1ED-4301-B586-C9E264E95A4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0 Imagen" descr="arboles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974880" y="900000"/>
            <a:ext cx="3595680" cy="76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S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esoro encontrado en terreno ajeno se dividirá por partes iguales entre el dueño del terreno y la persona que haya hecho el descubrimiento. Pero esta última no tendrá derecho a su porción, sino cuando el descubrimiento sea fortuito o cuando se haya buscado el tesoro con permiso del dueño del terreno. En los demás casos, o cuando sean una misma persona el dueño del terreno y el descubridor, pertenecerá todo el tesoro al dueño del terren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218C36F-8F31-424A-9814-8ABA8029807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Firarrazabal\Desktop\treasure[1].jpg"/>
          <p:cNvPicPr/>
          <p:nvPr/>
        </p:nvPicPr>
        <p:blipFill>
          <a:blip r:embed="rId1"/>
          <a:stretch/>
        </p:blipFill>
        <p:spPr>
          <a:xfrm>
            <a:off x="4570560" y="0"/>
            <a:ext cx="442728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uadroTexto 3"/>
          <p:cNvSpPr/>
          <p:nvPr/>
        </p:nvSpPr>
        <p:spPr>
          <a:xfrm>
            <a:off x="974880" y="900000"/>
            <a:ext cx="3452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LESION EN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endedor sufre lesión enorme, cuando el precio que recibe es inferior a la mitad del justo precio de la cosa que se vende; y el comprador a su vez sufre lesión enorme, cuando el justo precio de la cosa que compra es inferior a la mitad del precio que paga por e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9455019-5594-4534-9880-B3E61DADBB8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Firarrazabal\Desktop\imagesCALPG78Q.jpg"/>
          <p:cNvPicPr/>
          <p:nvPr/>
        </p:nvPicPr>
        <p:blipFill>
          <a:blip r:embed="rId1"/>
          <a:stretch/>
        </p:blipFill>
        <p:spPr>
          <a:xfrm>
            <a:off x="4930920" y="0"/>
            <a:ext cx="4066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974880" y="900000"/>
            <a:ext cx="34527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ANIMAL F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 causado por un animal fiero, de que no se reporta utilidad para la guarda o servicio de un predio, será siempre imputable al que lo tenga, y si alegare que no le fue posible evitar el daño, no será oí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4E67995-8627-409A-962B-FCC3016FEAE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Firarrazabal\Desktop\perro bravo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0-06T18:54:34Z</dcterms:modified>
  <cp:revision>138</cp:revision>
  <dc:subject/>
  <dc:title>Diapositiva 1</dc:title>
</cp:coreProperties>
</file>