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79BC2-FD08-4660-894B-BBD8B0414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56486-64CD-43DC-81C8-D93BA7362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EF0BA-7C3F-440E-AD97-DABD634E4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8C09D-079C-4572-B442-E5EAA06AD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30E38-7B2F-4E7B-9E60-D020AC039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10E70-8A9C-4BB7-93DF-F5B40253F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42658-B86F-40F4-9AAA-1B7725BED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FA0C3-4A3E-45CC-B3A5-95C547D01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ED447-9457-454F-8FFB-B42FDED9B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21DDE-A414-4474-8BF4-A985ABAD6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3386C-CC18-4571-8E40-9454A008D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E0EA9-719C-498E-9A18-EB920CED0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6A360-D4F2-42E8-8921-BA21CA87F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F56CF-1F6E-4921-9B02-547360FE3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E1FA4-8F99-43CD-9ED3-059D72BD3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72693-D34D-4A09-AE64-00A41304C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85805-099D-4F65-ADFE-81F1788A6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6384B-A615-4B50-9216-3195F751B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01193-334B-41AD-9395-484D50827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A8687-5EE4-4992-9F35-157F9D78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1477B-4B38-46A9-BCD9-88DA733F2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AFC63-B1E2-48B4-9FC7-CE424767D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054B9-72D6-4BF7-9EEC-357EDE4A4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4574-3473-46E2-BE18-116E5854D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DD77-B40F-4A15-9899-31E8DE106380}"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8D0B7-7BE7-4804-A3EE-E86F9DE64706}"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AB1A-BCC8-4FF3-ACF4-90A4D22CDA0E}"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áximo Bosch</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Cristian Maturan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Octubre</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AFAE-FAA8-46DA-AC82-7A7147771415}"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4CEF-E16E-4F78-952E-CF585610810A}"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3172-FFE8-48D2-9B0F-769CAAF13A7B}"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ABCB-0854-4A15-BBDD-3AB32BA2E16D}"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CLAIO Rio 2012</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E679-7843-41DB-9490-C3CDF788D3ED}"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 (análisis descriptiv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10-05T21:14:26Z</dcterms:modified>
  <cp:revision>94</cp:revision>
  <dc:subject/>
  <dc:title>Estimación de demanda por SKU para una categoría</dc:title>
</cp:coreProperties>
</file>