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4EA6F-9E9C-49D5-8804-B8F7AEFA9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F161D-6496-4D9B-BE23-E2197743F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0AA1B-DCC5-401B-AD70-EC17D6141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0E764-48A0-43B3-9FC7-EA509CF3C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B0E3F-8E55-44E8-84E3-9A15CC70F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2BF40-4DF1-46EE-92AA-12FEF5B22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E4AE8-13B0-4FE7-9AB6-6A36F120E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574B5-D378-49A6-AF05-C599F91FD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4FE7D-9B6B-46A2-AAF8-47EAA4383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1D25D-3500-47AC-B232-5867262F5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1897F-695B-42EF-B5C3-3C8053417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9290-51E1-4C88-99F0-9251729FE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70BA9-5DE3-47DF-96E8-152E9EE6D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94B02-AD46-4AD0-8BF6-299CF9C67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A50CE-6828-4435-AA1C-AB7DFCFFD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FC846-A165-4B93-AA29-BB871D90F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33FB3-89CB-4D2F-A637-C442BE8F4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59F28-2004-4560-A05A-DB41CB62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9C447-4F69-47C7-851C-01DB8A7B2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D24C3-61C6-47CA-B07A-E69B99355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DA971-167D-4267-A2C5-C697889B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0C4C8-5544-43CB-A2D9-8C0347C8B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2952-7FD0-4F8E-9EEB-8BFFAE13D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369B-ED51-4A85-A463-A7053E25D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C882-F45D-417C-8931-E7D84FB6A32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5D42-ABFC-45C0-9785-C69C718D4DA7}"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E65B-8E5F-4E68-BCCA-BFECD7B09B88}"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áximo Bosch</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Cristian Maturan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Octubre</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C801-D158-4BC4-9356-03A5C5BD190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A1DB-38C2-4084-A8D2-0EF45E460658}"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D829-AD77-4004-924F-8106B50838B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034B-FF46-4E8F-B98F-FB571AABA14A}"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CLAIO Rio 2012</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FDFD-A799-4700-A726-CB954CC04E4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 (análisis descriptiv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10-05T21:14:26Z</dcterms:modified>
  <cp:revision>94</cp:revision>
  <dc:subject/>
  <dc:title>Estimación de demanda por SKU para una categoría</dc:title>
</cp:coreProperties>
</file>