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531DC-4D69-4ADD-9EE9-3A62BA95ED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C041B-8BA9-4ADC-BAE1-5356EF179B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3C67E-D9CA-4D41-9D5F-74F7301AF3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86730-BFA8-424E-A115-CAF5C57E17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87FC5-7350-430A-995E-8629E076C3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28ED4-3063-4341-A9FA-14C0A4EA97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E13E6-8DAF-4D1A-9CD1-D0A40A8EA6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82CD3-0D2D-43AE-BEB2-6A5BBE4E61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2F5AA-BC8C-4BA6-A615-B89A3F42FB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5D223-75E1-4F9E-8E38-E115156C73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9381A-3556-4DC5-AFD0-769CC44383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789A9-6EBC-4615-985A-61C7580DC8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AEFBB-C78A-4B11-BE18-FDE5FE31CE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25220-CF75-4DB1-AE30-B5EA022D77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977A9-BBFF-4FEB-A52C-7C1389C216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BE423-B412-4245-8E66-FD3A9B2E8E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15F3A-B338-476E-AC59-FE20AB9644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F7170-5034-42FB-A3C3-8032C0F518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E6158-C64E-4A1E-869E-BE43F7AE96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45CC7-EB35-43F0-B68A-586BAC1C6D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B97EC-A6BA-4885-851C-29ACF27847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D5188-66F2-4097-9CA1-7098AE4BBD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46028-0B83-4B16-813B-E9D68DABB8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DDDB1-408F-42C7-99A1-A1B852B87B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80789-691D-4531-9894-10FFA7C8DC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8AFEF-74FD-4B47-80B6-C5A73757E3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E8C6C-E314-4F73-8A86-2440532059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185B0-B43D-4955-8219-781449335F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5733E-C87B-4461-A90C-826D795EF9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124D8-E72B-4E4A-838C-114B670B5C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F9578-52C9-4B93-A66F-BE1611D80F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25EF8-456B-4AE6-8552-21B10B68C9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E1E8E-F8C7-4C10-BD1D-5ABEA8B476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4EAD2-E9D0-4E87-859A-B742F6130C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0A9C7-E348-4B6D-9E01-D643281D12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3236A-D279-467B-A44E-46842F43AF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D5767-FB71-441C-A505-E8469074BC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00687-324E-4A0C-B03A-CA4C1A5B69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112A5-B77C-4943-A06B-23CDA08476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131C5-8627-45FF-B4C3-FE83384CF8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76048-E719-45B6-8DD6-7E77A32DF9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769AD-9AD5-45A6-BDC3-3ED5099B7F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13D94-B24D-4901-8F50-63F7ABC983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2A745-A045-49D3-AC87-78C293BBE4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B9EF2-333C-460A-8338-70B5E8F81F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CC668-D8BC-4F88-A9E4-92E43F89FB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53D37-8D18-4CBD-B975-1551206A7C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9F638-BFCB-4195-A81D-ED3A2B4B03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61E06-536D-4567-B810-0EB9805EDC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17BBA-5415-4A11-A827-A2B1E799C7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31876-7CF3-4363-ADD1-5B443BED79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3FC7D-B5C6-4566-971B-663A10000D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E9695-EB3B-4476-A1B4-F24EDCBDCF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9CBE8-6B7E-404F-982C-EF47BF69C7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–</a:t>
            </a:r>
            <a:fld id="{400AC808-AE77-4606-A861-BD3FE99CC38C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1952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048120"/>
            <a:ext cx="243828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TIONS: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Y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400" y="2085480"/>
            <a:ext cx="556272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ahoma"/>
              </a:rPr>
              <a:t>CHAPTER 11</a:t>
            </a:r>
            <a:br>
              <a:rPr sz="24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Organizational Structure and Controls</a:t>
            </a:r>
            <a:endParaRPr b="0" i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ionships between Strategy and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y and structure have a reciprocal relationship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ucture flows from or follows the selection of the firm’s strategy but …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nce in place, structure can influence current strategic actions as well as choices about future strateg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3815F-9DF5-4CF6-B256-FB905D18BFB3}" type="slidenum">
              <a:t>10</a:t>
            </a:fld>
          </a:p>
        </p:txBody>
      </p:sp>
    </p:spTree>
  </p:cSld>
  <p:transition>
    <p:random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 flipV="1">
            <a:off x="534960" y="1030680"/>
            <a:ext cx="8074080" cy="18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volutionary Patterns of Structure and Organizat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rms grow in predictable pattern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st by volum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n by geograph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n integration (vertical, horizontal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d finally through product/business diversific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firm’s growth patterns determine its structural form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147ED-6A7E-4F56-B74B-4544A1AC5339}" type="slidenum">
              <a:t>11</a:t>
            </a:fld>
          </a:p>
        </p:txBody>
      </p:sp>
    </p:spTree>
  </p:cSld>
  <p:transition>
    <p:random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volutionary Patterns of Structure and Organizational Struc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ll organizations require some form of organizational structure to implement and manage their strateg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rms frequently alter their structure as they grow in size and complexit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ree basic structure typ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imple struc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unctional struc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ultidivisional structure (M-form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A2B22-93C4-4B43-9CD8-28BDDCCA6218}" type="slidenum">
              <a:t>12</a:t>
            </a:fld>
          </a:p>
        </p:txBody>
      </p:sp>
    </p:spTree>
  </p:cSld>
  <p:transition>
    <p:random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2133720" cy="253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y and Structure Growth Patter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3505320" y="1841400"/>
            <a:ext cx="3657600" cy="7225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Sales Growth</a:t>
            </a:r>
            <a:br>
              <a:rPr sz="1600"/>
            </a:b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Coordination and Control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486400" y="131112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fficient implementation of formulated strate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505320" y="685800"/>
            <a:ext cx="3657600" cy="609480"/>
          </a:xfrm>
          <a:prstGeom prst="bevel">
            <a:avLst>
              <a:gd name="adj" fmla="val 9847"/>
            </a:avLst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Simple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05320" y="3098880"/>
            <a:ext cx="3657600" cy="609480"/>
          </a:xfrm>
          <a:prstGeom prst="bevel">
            <a:avLst>
              <a:gd name="adj" fmla="val 9847"/>
            </a:avLst>
          </a:prstGeom>
          <a:gradFill rotWithShape="0">
            <a:gsLst>
              <a:gs pos="0">
                <a:srgbClr val="172f00"/>
              </a:gs>
              <a:gs pos="100000">
                <a:srgbClr val="33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Functional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517920" y="4235400"/>
            <a:ext cx="3632040" cy="7225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Sales Growth</a:t>
            </a:r>
            <a:br>
              <a:rPr sz="1600"/>
            </a:b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Coordination and Control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05320" y="5486400"/>
            <a:ext cx="3657600" cy="609480"/>
          </a:xfrm>
          <a:prstGeom prst="bevel">
            <a:avLst>
              <a:gd name="adj" fmla="val 9847"/>
            </a:avLst>
          </a:prstGeom>
          <a:gradFill rotWithShape="0">
            <a:gsLst>
              <a:gs pos="0">
                <a:srgbClr val="5e1700"/>
              </a:gs>
              <a:gs pos="100000">
                <a:srgbClr val="cc33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Multidivisional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34120" y="12952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34120" y="256536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34120" y="370836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34120" y="49528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562720" y="3720960"/>
            <a:ext cx="2361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fficient implementation of formulated strate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A6980-A8E8-4595-9B00-40484B494B38}" type="slidenum">
              <a:t>13</a:t>
            </a:fld>
          </a:p>
        </p:txBody>
      </p:sp>
    </p:spTree>
  </p:cSld>
  <p:transition>
    <p:random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500"/>
                            </p:stCondLst>
                            <p:childTnLst>
                              <p:par>
                                <p:cTn id="3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500"/>
                            </p:stCondLst>
                            <p:childTnLst>
                              <p:par>
                                <p:cTn id="3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3500"/>
                            </p:stCondLst>
                            <p:childTnLst>
                              <p:par>
                                <p:cTn id="3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4500"/>
                            </p:stCondLst>
                            <p:childTnLst>
                              <p:par>
                                <p:cTn id="3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500"/>
                            </p:stCondLst>
                            <p:childTnLst>
                              <p:par>
                                <p:cTn id="3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6500"/>
                            </p:stCondLst>
                            <p:childTnLst>
                              <p:par>
                                <p:cTn id="3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75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8500"/>
                            </p:stCondLst>
                            <p:childTnLst>
                              <p:par>
                                <p:cTn id="3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95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500"/>
                            </p:stCondLst>
                            <p:childTnLst>
                              <p:par>
                                <p:cTn id="3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44600" y="458640"/>
            <a:ext cx="2155680" cy="13813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561600"/>
            <a:ext cx="1752840" cy="1220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1</a:t>
            </a:r>
            <a:r>
              <a:rPr b="1" i="1" lang="en-US" sz="1200" spc="-1" strike="noStrike">
                <a:solidFill>
                  <a:srgbClr val="cc66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rategy and Structure Growth Pattern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019400" y="304920"/>
            <a:ext cx="2305080" cy="619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5BDCD-542E-47C4-A9A7-C57FF41D3278}" type="slidenum">
              <a:t>14</a:t>
            </a:fld>
          </a:p>
        </p:txBody>
      </p:sp>
    </p:spTree>
  </p:cSld>
  <p:transition>
    <p:random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y and Structure: Simple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wner-manager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kes all major decisions directl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nitors all activ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aff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rves as an extension of the manager’s supervisor authorit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tched with focus strategies and business-level strateg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monly complete by offering a single product line in a single geographic marke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ECA8B-DE12-43AE-887E-2C8B56D0AC04}" type="slidenum">
              <a:t>15</a:t>
            </a:fld>
          </a:p>
        </p:txBody>
      </p:sp>
    </p:spTree>
  </p:cSld>
  <p:transition>
    <p:random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imple Struc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rowth creat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lex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rial and structural challeng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wner-manager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monly lack organizational skills and experien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ecome ineffective in managing the specialized and complex tasks involved with multiple organizational func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1FEBB-39CC-4AAA-BC5B-90C16CEA855B}" type="slidenum">
              <a:t>16</a:t>
            </a:fld>
          </a:p>
        </p:txBody>
      </p:sp>
    </p:spTree>
  </p:cSld>
  <p:transition>
    <p:random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y and Structure: Funct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hief Executive Officer (CEO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imited corporate staff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unctional line managers in dominant organizational areas of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ion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keting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ngineering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ccounting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&amp;D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uman resour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upports use of business-level strategies and some corporate-level strateg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ingle or dominant business with low levels of diversific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9B272-DF5C-4943-8CD2-3E361A8E14F3}" type="slidenum">
              <a:t>17</a:t>
            </a:fld>
          </a:p>
        </p:txBody>
      </p:sp>
    </p:spTree>
  </p:cSld>
  <p:transition>
    <p:random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0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unctional Struc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fferences in orientation among organizational functions ca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mpede communication and coordin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rease the need for CEO to integrate decisions and actions of business func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acilitate career paths and professional development in specialized functional area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use functional-area managers to focus on local versus overall company strategic issu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C5DA0-91AD-4631-BC3A-8B3D1697411C}" type="slidenum">
              <a:t>18</a:t>
            </a:fld>
          </a:p>
        </p:txBody>
      </p:sp>
    </p:spTree>
  </p:cSld>
  <p:transition>
    <p:random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y and Structure: Multidivis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Contro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perating divisions function as separate businesses or profit cent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op corporate officer delegates responsibilities to division manager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 day-to-day opera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 business-unit strate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ppropriate as firm grows through diversific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B3E42-260A-4DF9-9E05-DB992753FD71}" type="slidenum">
              <a:t>19</a:t>
            </a:fld>
          </a:p>
        </p:txBody>
      </p:sp>
    </p:spTree>
  </p:cSld>
  <p:transition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04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organizational structure and controls and discuss the difference between strategic and financial control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spcBef>
                <a:spcPts val="104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relationship between strategy and structur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spcBef>
                <a:spcPts val="104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functional structures used to implement business-level strategi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spcBef>
                <a:spcPts val="104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use of three versions of the multidivisional (M-form) structure to implement different diversification strategi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0A771-FD2B-4D79-99B5-7402CF9F65C2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ultidivisional Struc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ree Major Benefit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 officers are able to more accurately monitor the performance of each business, which simplifies the problem of contro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acilitates comparisons between divisions, which improves the resource allocation proc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imulates managers of poorly performing divisions to look for ways of improving performan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D18D1-6CBE-4197-BA55-CB03BFDFD7E5}" type="slidenum">
              <a:t>20</a:t>
            </a:fld>
          </a:p>
        </p:txBody>
      </p:sp>
    </p:spTree>
  </p:cSld>
  <p:transition>
    <p:random/>
  </p:transition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0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tching Strategy and Funct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fferent forms of the functional organizational structure are matched to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st leadership strate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fferentiation strate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grated cost leadership/differentiation strate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fferences in these forms are seen in three important structural characteristic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pecialization (number and types of jobs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entralization (decision-making authority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malization (formal rules and work procedures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2047B-A85C-4AF9-A7AD-F49BB75E5390}" type="slidenum">
              <a:t>21</a:t>
            </a:fld>
          </a:p>
        </p:txBody>
      </p:sp>
    </p:spTree>
  </p:cSld>
  <p:transition>
    <p:random/>
  </p:transition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6324840" cy="91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11.2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nctional Structure for Implementation of a Cost Leadership Strategy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457200"/>
            <a:ext cx="8229600" cy="7621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83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33520" y="1539720"/>
            <a:ext cx="8172360" cy="4023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6400800" y="1523880"/>
            <a:ext cx="2590920" cy="17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9160" indent="-119160">
              <a:spcBef>
                <a:spcPts val="249"/>
              </a:spcBef>
              <a:tabLst>
                <a:tab algn="l" pos="0"/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perations is the main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cess engineering is emphasized rather than new product R&amp;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latively large centralized staff coordinates func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malized procedures allow for emergence of a low-cost cul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verall structure is mechanical; job roles are highly struct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39127-EC46-47BC-B38C-5B8B324F9A53}" type="slidenum">
              <a:t>22</a:t>
            </a:fld>
          </a:p>
        </p:txBody>
      </p:sp>
    </p:spTree>
  </p:cSld>
  <p:transition>
    <p:random/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0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500"/>
                            </p:stCondLst>
                            <p:childTnLst>
                              <p:par>
                                <p:cTn id="6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2500"/>
                            </p:stCondLst>
                            <p:childTnLst>
                              <p:par>
                                <p:cTn id="6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sing the Functional Structure to Implement 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 Cost Leadership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perations is the main function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cess engineering is emphasized over research and develop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arge centralized staff oversees activ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malized procedures guide ac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ucture is mechanica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Job roles are highly structur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9889B-7636-4C72-96F8-DBA6838903DA}" type="slidenum">
              <a:t>23</a:t>
            </a:fld>
          </a:p>
        </p:txBody>
      </p:sp>
    </p:spTree>
  </p:cSld>
  <p:transition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0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500"/>
                            </p:stCondLst>
                            <p:childTnLst>
                              <p:par>
                                <p:cTn id="6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1500"/>
                            </p:stCondLst>
                            <p:childTnLst>
                              <p:par>
                                <p:cTn id="6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1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25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1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3500"/>
                            </p:stCondLst>
                            <p:childTnLst>
                              <p:par>
                                <p:cTn id="6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1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450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1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5500"/>
                            </p:stCondLst>
                            <p:childTnLst>
                              <p:par>
                                <p:cTn id="7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10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504360"/>
            <a:ext cx="6782040" cy="1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11.3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 Structure for Implementation of a Differentiation Strategy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" y="457200"/>
            <a:ext cx="8229600" cy="7621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93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00120" y="1566720"/>
            <a:ext cx="8010360" cy="37245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457200" y="5470560"/>
            <a:ext cx="8001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es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Marketing is the main function for keeping track of new product ideas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New product R&amp;D is emphasiz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st functions are decentralized, but R&amp;D and marketing may have centralized staffs that work closely with each ot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malization is limited so that new product ideas can emerge easily and change is more readily accomplis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verall structure is organic; job roles are less struct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6C796-CF3D-4642-A095-91B143904204}" type="slidenum">
              <a:t>24</a:t>
            </a:fld>
          </a:p>
        </p:txBody>
      </p:sp>
    </p:spTree>
  </p:cSld>
  <p:transition>
    <p:random/>
  </p:transition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0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500"/>
                            </p:stCondLst>
                            <p:childTnLst>
                              <p:par>
                                <p:cTn id="7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1000"/>
                            </p:stCondLst>
                            <p:childTnLst>
                              <p:par>
                                <p:cTn id="7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sing the Functional Structure to Implement a Differentiation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rketing is the main function for tracking new product idea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New product R&amp;D is emphasiz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st functions are decentraliz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malization is limited to foster change and promote new idea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verall structure is organic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Job roles are less structur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89B79-034F-40EA-8264-AD515180459D}" type="slidenum">
              <a:t>25</a:t>
            </a:fld>
          </a:p>
        </p:txBody>
      </p:sp>
    </p:spTree>
  </p:cSld>
  <p:transition>
    <p:random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0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sing the Functional Structure to Implement the Integrated Cost Leadership/ Differentiation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8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lling products that create customer value due to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ir relatively low product cost through an emphasis on production and process engineering, with infrequent product chang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asonable sources of differentiation based on new-product R&amp;D are emphasized while production and process engineering are no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8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sed frequently in global econom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77040-3555-4878-9A7E-D3C894DDB893}" type="slidenum">
              <a:t>26</a:t>
            </a:fld>
          </a:p>
        </p:txBody>
      </p:sp>
    </p:spTree>
  </p:cSld>
  <p:transition>
    <p:random/>
  </p:transition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0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lementing an Integrated Cost Leadership/Differentiation Strateg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integrated form of the functional structure must have: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cision-making patterns that are partially centralized and partially decentraliz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mi-specialized job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ules and procedures that allow both formal and informal job behavi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DF40B-F279-4EB5-BF52-B0CABA24285C}" type="slidenum">
              <a:t>27</a:t>
            </a:fld>
          </a:p>
        </p:txBody>
      </p:sp>
    </p:spTree>
  </p:cSld>
  <p:transition>
    <p:random/>
  </p:transition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-Level Strategies and the Multidivis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firm’s continuing success that leads to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diversification, o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ket diversification, o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oth product and market diversific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creasing diversification creates control problems that the functional structure can’t handl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formation processing, coordin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tro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303FA-081F-461A-8A67-AA8732726992}" type="slidenum">
              <a:t>28</a:t>
            </a:fld>
          </a:p>
        </p:txBody>
      </p:sp>
    </p:spTree>
  </p:cSld>
  <p:transition>
    <p:random/>
  </p:transition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0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5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8" dur="5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3" dur="50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50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-Level Strategies and the Multidivisional Struc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ersification strategy requires firm to change from functional structure to a multidivisional structur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fferent levels of diversification create the need for implementation of a unique form of the multidivisional structur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87534-4913-4C75-BEC7-AAD7051D59EB}" type="slidenum">
              <a:t>29</a:t>
            </a:fld>
          </a:p>
        </p:txBody>
      </p:sp>
    </p:spTree>
  </p:cSld>
  <p:transition>
    <p:random/>
  </p:transition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51814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904760"/>
            <a:ext cx="822960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500"/>
              </a:spcBef>
              <a:buClr>
                <a:srgbClr val="336699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organizational structures used to implement three international strategi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336699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rategic networks and discuss how strategic center firms implement such networks at the business, corporate and international level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960" y="104472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3A84C-1398-49CA-8506-E6F08DB3EB79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6324840" cy="580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4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ree Variations of the Multidivisional Structure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" y="457200"/>
            <a:ext cx="8229600" cy="5335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15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990720" y="1560600"/>
            <a:ext cx="7124760" cy="3316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EB180-44D5-4292-811B-1B097B78A285}" type="slidenum">
              <a:t>30</a:t>
            </a:fld>
          </a:p>
        </p:txBody>
      </p:sp>
    </p:spTree>
  </p:cSld>
  <p:transition>
    <p:random/>
  </p:transition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0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500"/>
                            </p:stCondLst>
                            <p:childTnLst>
                              <p:par>
                                <p:cTn id="8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1000"/>
                            </p:stCondLst>
                            <p:childTnLst>
                              <p:par>
                                <p:cTn id="8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5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5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operative Form of the Multidivisional Structure for Implementation of a Related Constrained Strategy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457200" y="581040"/>
            <a:ext cx="1828800" cy="479160"/>
            <a:chOff x="457200" y="581040"/>
            <a:chExt cx="1828800" cy="479160"/>
          </a:xfrm>
        </p:grpSpPr>
        <p:sp>
          <p:nvSpPr>
            <p:cNvPr id="221" name=""/>
            <p:cNvSpPr/>
            <p:nvPr/>
          </p:nvSpPr>
          <p:spPr>
            <a:xfrm>
              <a:off x="685800" y="58104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7200" y="88740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066680" y="1285920"/>
            <a:ext cx="7010640" cy="43527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457200" y="571500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otes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 Structural integration devices create tight links among all divis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rporate office emphasizes centralized strategic planning, human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resources, and marketing to foster cooperation between divis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&amp;D is likely to be centralized•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24280" y="5715000"/>
            <a:ext cx="3962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wards are subjective and tend to emphasize overall corporate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formance in addition to divisional performan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ulture emphasizes cooperative shar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ADB99-C529-4613-8241-E9E5FF930051}" type="slidenum">
              <a:t>31</a:t>
            </a:fld>
          </a:p>
        </p:txBody>
      </p:sp>
    </p:spTree>
  </p:cSld>
  <p:transition>
    <p:random/>
  </p:transition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0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500"/>
                            </p:stCondLst>
                            <p:childTnLst>
                              <p:par>
                                <p:cTn id="8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ultidivisional Structure: Cooperative Form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Horizontal integration is used to bring about interdivisional cooperation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haring divisional competencies facilitates development of economies of scop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o foster divisional cooperation, the corporate office emphasizes centralization: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ategic planning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uman resour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keting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142880" y="5791320"/>
            <a:ext cx="4447800" cy="4597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ted Constrain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A5EE6-C5E1-417C-AACF-776353C61447}" type="slidenum">
              <a:t>32</a:t>
            </a:fld>
          </a:p>
        </p:txBody>
      </p:sp>
    </p:spTree>
  </p:cSld>
  <p:transition>
    <p:random/>
  </p:transition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fill="hold">
                      <p:stCondLst>
                        <p:cond delay="0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3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8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3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6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9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2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operative Form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&amp;D is likely to be centralize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requent, direct contact between division managers encourages and supports cooperation and sharing of competencies and resourc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se of liaison rol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ewards are subjective, emphasizing overall corporate performance in addition to divisional performanc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142880" y="5791320"/>
            <a:ext cx="4447800" cy="4597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ted Constrain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07EAF-BE85-4872-A15D-C07234C47E07}" type="slidenum">
              <a:t>33</a:t>
            </a:fld>
          </a:p>
        </p:txBody>
      </p:sp>
    </p:spTree>
  </p:cSld>
  <p:transition>
    <p:random/>
  </p:transition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fill="hold">
                      <p:stCondLst>
                        <p:cond delay="0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4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9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4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9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46784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6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BU Form of the Multidivisional Structure for Implementation of a Related Linked Strategy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35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457200" y="5842080"/>
            <a:ext cx="4114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ructural integration among divisions within SBUs, but independence 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cross SB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rategic planning may be the most prominent function in headquarters for  managing the strategic planning approval process of SBUs for the presid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0" y="5972040"/>
            <a:ext cx="35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ach SBU may have its own budget for staff to foster integ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rporate headquarters staff serve as consultants to SBUs and divisions, rather than having direct input to product strategy, as in the cooperative for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090440" y="1285920"/>
            <a:ext cx="6963120" cy="442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DAAB0-A343-4C6E-8C9B-B05007ED4F58}" type="slidenum">
              <a:t>34</a:t>
            </a:fld>
          </a:p>
        </p:txBody>
      </p:sp>
    </p:spTree>
  </p:cSld>
  <p:transition>
    <p:random/>
  </p:transition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0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500"/>
                            </p:stCondLst>
                            <p:childTnLst>
                              <p:par>
                                <p:cTn id="9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1000"/>
                            </p:stCondLst>
                            <p:childTnLst>
                              <p:par>
                                <p:cTn id="9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ultidivisional Structure: SBU Form 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business unit (SBU) form is a structure consisting of three level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 headquart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ategic business units (SBUs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BU divis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isions within SBUs shar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s, or markets, or both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938840" y="5791320"/>
            <a:ext cx="3652560" cy="4597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ted Link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FB6A6-D959-42B1-93FB-555147066D8C}" type="slidenum">
              <a:t>35</a:t>
            </a:fld>
          </a:p>
        </p:txBody>
      </p:sp>
    </p:spTree>
  </p:cSld>
  <p:transition>
    <p:random/>
  </p:transition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0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6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6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1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6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1" dur="5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ultidivisional Structure: SBU Form 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isions within SBUs develop economies of scope and/or scale by sharing product or market competenci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ach SBU is a profit center controlled and evaluated by the headquarters offi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sed by large firm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n be complex due to an organization’s size and diversity in products and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938840" y="5791320"/>
            <a:ext cx="3652560" cy="4597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ted Link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7230F-257C-426C-B648-C26EA2FB6252}" type="slidenum">
              <a:t>36</a:t>
            </a:fld>
          </a:p>
        </p:txBody>
      </p:sp>
    </p:spTree>
  </p:cSld>
  <p:transition>
    <p:random/>
  </p:transition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3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8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3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8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670572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7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petitive Form of the Multidivisional Structure for Implementation of an Unrelated Strategy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49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104840" y="1295280"/>
            <a:ext cx="6934320" cy="348624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533520" y="5356080"/>
            <a:ext cx="36576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rporate headquarters has a small sta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inance and auditing are the most prominent functions in the headquarters office to manage cash flow and assure the accuracy of performance data coming from divis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191120" y="5486400"/>
            <a:ext cx="4572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he legal affairs function becomes important when the firm acquires or divests asse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visions are independent and separate for financial evaluation purpo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visions retain strategic control, but cash is managed by the corporate off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visions compete for corporate resour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4BB6B-6FE5-4A21-8A3E-D12627F406D3}" type="slidenum">
              <a:t>37</a:t>
            </a:fld>
          </a:p>
        </p:txBody>
      </p:sp>
    </p:spTree>
  </p:cSld>
  <p:transition>
    <p:random/>
  </p:transition>
  <p:timing>
    <p:tnLst>
      <p:par>
        <p:cTn id="1029" dur="indefinite" restart="never" nodeType="tmRoot">
          <p:childTnLst>
            <p:seq>
              <p:cTn id="1030" dur="indefinite" nodeType="mainSeq">
                <p:childTnLst>
                  <p:par>
                    <p:cTn id="1031" fill="hold">
                      <p:stCondLst>
                        <p:cond delay="0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500"/>
                            </p:stCondLst>
                            <p:childTnLst>
                              <p:par>
                                <p:cTn id="10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ultidivisional Structure: Competitive Form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structure in which there is complete independence among the firm’s division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visions do not share common corporate strength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ecause strengths aren’t shared, integrating devices aren’t develop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rganizational arrangements emphasize divisional competition rather than cooper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724000" y="5791320"/>
            <a:ext cx="2890440" cy="459720"/>
          </a:xfrm>
          <a:prstGeom prst="rect">
            <a:avLst/>
          </a:prstGeom>
          <a:solidFill>
            <a:srgbClr val="99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relat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668EC-C96B-460E-AE74-33B8EF0ECD7B}" type="slidenum">
              <a:t>38</a:t>
            </a:fld>
          </a:p>
        </p:txBody>
      </p:sp>
    </p:spTree>
  </p:cSld>
  <p:transition>
    <p:random/>
  </p:transition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fill="hold">
                      <p:stCondLst>
                        <p:cond delay="0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5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0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5" dur="5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0" dur="5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ive Form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ree benefits from the internal competi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lexibility—corporate headquarters can have divisions working on different technologies to identify those with greatest future potentia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hallenges the status quo and inertia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tivates effor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reates specific profit performance expectations for each division to promote internal competition for resourc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724000" y="5791320"/>
            <a:ext cx="2890440" cy="459720"/>
          </a:xfrm>
          <a:prstGeom prst="rect">
            <a:avLst/>
          </a:prstGeom>
          <a:solidFill>
            <a:srgbClr val="99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relat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C9BDA-B83A-4D7A-8496-FE5F6F2C5CB4}" type="slidenum">
              <a:t>39</a:t>
            </a:fld>
          </a:p>
        </p:txBody>
      </p:sp>
    </p:spTree>
  </p:cSld>
  <p:transition>
    <p:random/>
  </p:transition>
  <p:timing>
    <p:tnLst>
      <p:par>
        <p:cTn id="1071" dur="indefinite" restart="never" nodeType="tmRoot">
          <p:childTnLst>
            <p:seq>
              <p:cTn id="1072" dur="indefinite" nodeType="mainSeq">
                <p:childTnLst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7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500"/>
                            </p:stCondLst>
                            <p:childTnLst>
                              <p:par>
                                <p:cTn id="10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1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5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9" dur="5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4" dur="5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Structure and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rganizational structure specifi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irm’s formal reporting relationships, procedures, controls, and authority and decision-making process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work to be done and how to do it, given the firm’s strategy or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t is critical to match organizational structure to the firm’s strategy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63EDD-EECD-4947-AC23-16B44576D7B3}" type="slidenum">
              <a:t>4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85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1941480" indent="0">
              <a:buNone/>
              <a:tabLst>
                <a:tab algn="l" pos="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11.1</a:t>
            </a:r>
            <a:r>
              <a:rPr b="1" i="1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aracteristics of the Structures Necessary to Implement the Related Constrained, Related Linked, and Unrelated Diversification Strategies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1" name=""/>
          <p:cNvSpPr/>
          <p:nvPr/>
        </p:nvSpPr>
        <p:spPr>
          <a:xfrm>
            <a:off x="403200" y="1628640"/>
            <a:ext cx="8305920" cy="37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Cooperative M-Form 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SBU M-Form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Competitive M-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uctural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Related Constrained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Related Linked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Unrelated Diversificatio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racteristic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ategy)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ategy)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ategy)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entralization of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ntralized a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tially centraliz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entralized to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ration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porate offi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 SBUs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vi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 of integra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ensiv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rat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existen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isiona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phasize subjectiv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a mixture o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phasize objectiv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formanc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trategic) criteria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jective (strategic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financial) criteria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raisal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objectiv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financial) crite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isional incentiv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ed to overal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xed linkage t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ed to divisional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ensa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porat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porate, SBU, a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forman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forman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visional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340440" y="1166760"/>
            <a:ext cx="24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verall Structural 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64760" y="6289560"/>
            <a:ext cx="263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rategy implemented with structural for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DE605-A105-4D34-A014-CC6017453F8D}" type="slidenum">
              <a:t>40</a:t>
            </a:fld>
          </a:p>
        </p:txBody>
      </p:sp>
    </p:spTree>
  </p:cSld>
  <p:transition>
    <p:random/>
  </p:transition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fill="hold">
                      <p:stCondLst>
                        <p:cond delay="0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Strategies and Worldwide Structur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ternational strategies allow the firm to search for new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ke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sour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e competenc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655BE-C815-44BF-8D87-383DD370527D}" type="slidenum">
              <a:t>41</a:t>
            </a:fld>
          </a:p>
        </p:txBody>
      </p:sp>
    </p:spTree>
  </p:cSld>
  <p:transition>
    <p:random/>
  </p:transition>
  <p:timing>
    <p:tnLst>
      <p:par>
        <p:cTn id="1107" dur="indefinite" restart="never" nodeType="tmRoot">
          <p:childTnLst>
            <p:seq>
              <p:cTn id="1108" dur="indefinite" nodeType="mainSeq">
                <p:childTnLst>
                  <p:par>
                    <p:cTn id="1109" fill="hold">
                      <p:stCondLst>
                        <p:cond delay="0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8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3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8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3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8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5095800" cy="449748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495000"/>
            <a:ext cx="6705720" cy="91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11.8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orldwide Geographic Area Structure for Implementation of a Multidomestic Strategy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9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71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412920" y="5678640"/>
            <a:ext cx="598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perimeter circles indicate decentralization of oper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mphasis is on differentiation by local demand to fit an area or country cul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rporate headquarters coordinates financial resources among independent subsidia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organization is like a decentralized fede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E3A6F-A56E-4CC0-A090-C2642E8A7910}" type="slidenum">
              <a:t>42</a:t>
            </a:fld>
          </a:p>
        </p:txBody>
      </p:sp>
    </p:spTree>
  </p:cSld>
  <p:transition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0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6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Worldwide Geographic Area Structure: Implementing a Multidomestic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ultidomestic strategy decentralizes strategic and operating decisions to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siness units in each coun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characteristics tailored to local preferen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rms counter global competitive forces by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stablishing protected market positions, o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ng in industry segments most affected by differences among local countr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3D2AA-B1DF-45DA-8F0C-35B148366AD1}" type="slidenum">
              <a:t>43</a:t>
            </a:fld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Worldwide Geographic Area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Worldwide Geographic Area Structur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mphasizes national interes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acilitates the firm’s efforts to satisfy local or cultural differen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ultidomestic Strateg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quires little coordination between different county markets: integrating mechanisms aren’t need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Key disadvantage is inability to create global efficienc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E4D80-D699-483B-929F-F342F6134120}" type="slidenum">
              <a:t>44</a:t>
            </a:fld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670572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9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orldwide Product Divisional Structure for Implementation of a Global Strategy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82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2576520" y="1295280"/>
            <a:ext cx="5076720" cy="452448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360" y="5681520"/>
            <a:ext cx="77914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headquarters’ circle indicates centralization to coordinate information flow among worldwide produ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rporate headquarters uses many intercoordination devices to facilitate global economies of scale and sc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rporate headquarters also allocates financial resources in a cooperative 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organization is like a centralized fede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29005-8EAA-40C9-9421-CFEC863D0197}" type="slidenum">
              <a:t>45</a:t>
            </a:fld>
          </a:p>
        </p:txBody>
      </p:sp>
    </p:spTree>
  </p:cSld>
  <p:transition>
    <p:random/>
  </p:transition>
  <p:timing>
    <p:tnLst>
      <p:par>
        <p:cTn id="1157" dur="indefinite" restart="never" nodeType="tmRoot">
          <p:childTnLst>
            <p:seq>
              <p:cTn id="1158" dur="indefinite" nodeType="mainSeq">
                <p:childTnLst>
                  <p:par>
                    <p:cTn id="1159" fill="hold">
                      <p:stCondLst>
                        <p:cond delay="0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4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Worldwide Product Divisional Structure: Implementing a Global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lobal Strateg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llows firm to offer standardized products across country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ects on Firm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ccess depends on firm’s ability to develop and take advantage of economies of scope and scale on global leve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 tends to outsource some primary or support activities to the world’s best provid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D3E8A-846B-4552-B580-2E2A3506E391}" type="slidenum">
              <a:t>46</a:t>
            </a:fld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Worldwide Product Divis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5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entralizes decision-making authority in the worldwide division headquarter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eadquarters coordinates and integrates decisions and actions among divisional business uni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5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tegrating mechanisms are important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rect contact between manag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iaison roles between departme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mporary task forces as well as permanent team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7A617-1896-4A7A-A8B1-C05693DFADC0}" type="slidenum">
              <a:t>47</a:t>
            </a:fld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bination Structure: A Transnational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ransnational Strateg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bines multidomestic strategy’s local responsiveness with global strategy’s efficienc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bination structure draws characteristics and mechanisms from both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orldwide geographic area struc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orldwide product divisional struc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ppropriate integrating mechanisms for the combination structure are less obviou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48E04-824D-4327-B2DE-9B345B121E9E}" type="slidenum">
              <a:t>48</a:t>
            </a:fld>
          </a:p>
        </p:txBody>
      </p:sp>
    </p:spTree>
  </p:cSld>
  <p:transition>
    <p:random/>
  </p:transition>
  <p:timing>
    <p:tnLst>
      <p:par>
        <p:cTn id="1175" dur="indefinite" restart="never" nodeType="tmRoot">
          <p:childTnLst>
            <p:seq>
              <p:cTn id="1176" dur="indefinite" nodeType="mainSeq">
                <p:childTnLst>
                  <p:par>
                    <p:cTn id="1177" fill="hold">
                      <p:stCondLst>
                        <p:cond delay="0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6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1" dur="5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6" dur="5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1" dur="5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6" dur="5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1" dur="500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0106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10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ing the Hybrid Form of the Combination Structure for Implementation of a Transnational Strategy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97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561960" y="1600200"/>
            <a:ext cx="8020080" cy="3124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D51CE-BF8E-4B2D-B54D-54035830165B}" type="slidenum">
              <a:t>49</a:t>
            </a:fld>
          </a:p>
        </p:txBody>
      </p:sp>
    </p:spTree>
  </p:cSld>
  <p:transition>
    <p:random/>
  </p:transition>
  <p:timing>
    <p:tnLst>
      <p:par>
        <p:cTn id="1212" dur="indefinite" restart="never" nodeType="tmRoot">
          <p:childTnLst>
            <p:seq>
              <p:cTn id="1213" dur="indefinite" nodeType="mainSeq">
                <p:childTnLst>
                  <p:par>
                    <p:cTn id="1214" fill="hold">
                      <p:stCondLst>
                        <p:cond delay="0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ective structures provide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abil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35480" indent="-28296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lexibil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87280" indent="-28728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uctural stability provides: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capacity required to consistently and predictably manage daily work routin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87280" indent="-28728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uctural flexibility provides for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opportunity to explore competitive possibil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35480" indent="-28296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allocation of resources to activities that shape needed competitive advantag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DDA7F-EB99-4574-B197-D90A30E8F963}" type="slidenum">
              <a:t>5</a:t>
            </a:fld>
          </a:p>
        </p:txBody>
      </p:sp>
    </p:spTree>
  </p:cSld>
  <p:transition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tches between Cooperative Strategies and Network Structur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Network strategy exists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artners form several alliances in order to improve performance of the alliance network itself through cooperative endeav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Network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group of firms formed to create value by participating in multiple cooperative arrangements such as alliances and joint ventur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54E95-247E-449D-A47E-E7AA46656CC4}" type="slidenum">
              <a:t>50</a:t>
            </a:fld>
          </a:p>
        </p:txBody>
      </p:sp>
    </p:spTree>
  </p:cSld>
  <p:transition>
    <p:random/>
  </p:transition>
  <p:timing>
    <p:tnLst>
      <p:par>
        <p:cTn id="1228" dur="indefinite" restart="never" nodeType="tmRoot">
          <p:childTnLst>
            <p:seq>
              <p:cTn id="1229" dur="indefinite" nodeType="mainSeq">
                <p:childTnLst>
                  <p:par>
                    <p:cTn id="1230" fill="hold">
                      <p:stCondLst>
                        <p:cond delay="0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9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4" dur="5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9" dur="5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4" dur="500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tches between Cooperative Strategies and Network Structur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networks are used to implement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siness-level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-level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rnational cooperative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center firm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irm around which the network’s cooperative relationships revolv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D2E8D-A969-4FCB-B271-6EF3D09C71FD}" type="slidenum">
              <a:t>51</a:t>
            </a:fld>
          </a:p>
        </p:txBody>
      </p:sp>
    </p:spTree>
  </p:cSld>
  <p:transition>
    <p:random/>
  </p:transition>
  <p:timing>
    <p:tnLst>
      <p:par>
        <p:cTn id="1255" dur="indefinite" restart="never" nodeType="tmRoot">
          <p:childTnLst>
            <p:seq>
              <p:cTn id="1256" dur="indefinite" nodeType="mainSeq">
                <p:childTnLst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1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6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1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6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1" dur="5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6" dur="5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44600" y="447840"/>
            <a:ext cx="2155680" cy="115236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561960"/>
            <a:ext cx="1752840" cy="976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11</a:t>
            </a:r>
            <a:r>
              <a:rPr b="1" i="1" lang="en-US" sz="1200" spc="-1" strike="noStrike">
                <a:solidFill>
                  <a:srgbClr val="cc66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Strategic Network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68580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2978280" y="671400"/>
            <a:ext cx="4870440" cy="534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8DF41-06DC-4468-8E18-DBDB22C75E97}" type="slidenum">
              <a:t>52</a:t>
            </a:fld>
          </a:p>
        </p:txBody>
      </p:sp>
    </p:spTree>
  </p:cSld>
  <p:transition>
    <p:random/>
  </p:transition>
  <p:timing>
    <p:tnLst>
      <p:par>
        <p:cTn id="1287" dur="indefinite" restart="never" nodeType="tmRoot">
          <p:childTnLst>
            <p:seq>
              <p:cTn id="1288" dur="indefinite" nodeType="mainSeq">
                <p:childTnLst>
                  <p:par>
                    <p:cTn id="1289" fill="hold">
                      <p:stCondLst>
                        <p:cond delay="0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93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Center Firm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s the foundation for the strategic network’s structur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cerned with aspects of organizational structure such as formal reporting relationship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s the complex, cooperative interactions among network partn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ngages in four primary task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ategic outsourcing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enc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y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ace to lear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A0B98-D907-418C-BC04-0611960B7D8D}" type="slidenum">
              <a:t>53</a:t>
            </a:fld>
          </a:p>
        </p:txBody>
      </p:sp>
    </p:spTree>
  </p:cSld>
  <p:transition>
    <p:random/>
  </p:transition>
  <p:timing>
    <p:tnLst>
      <p:par>
        <p:cTn id="1294" dur="indefinite" restart="never" nodeType="tmRoot">
          <p:childTnLst>
            <p:seq>
              <p:cTn id="1295" dur="indefinite" nodeType="mainSeq">
                <p:childTnLst>
                  <p:par>
                    <p:cTn id="1296" fill="hold">
                      <p:stCondLst>
                        <p:cond delay="0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5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0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5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0" dur="5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5" dur="5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0" dur="500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lementing Business-Level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ertical Complementary Allianc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s have complementary competencies in different value chain stages that let them cooperatively integrate their different skill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Horizontal Complementary Allianc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s that agree to combine competencies to create value in the same stage of the value chai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strategic center firm is obvious in vertical alliances, but not always in horizontal allianc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2B0AB-1392-402D-B57D-0CED3D12C032}" type="slidenum">
              <a:t>54</a:t>
            </a:fld>
          </a:p>
        </p:txBody>
      </p:sp>
    </p:spTree>
  </p:cSld>
  <p:transition>
    <p:random/>
  </p:transition>
  <p:timing>
    <p:tnLst>
      <p:par>
        <p:cTn id="1331" dur="indefinite" restart="never" nodeType="tmRoot">
          <p:childTnLst>
            <p:seq>
              <p:cTn id="1332" dur="indefinite" nodeType="mainSeq">
                <p:childTnLst>
                  <p:par>
                    <p:cTn id="1333" fill="hold">
                      <p:stCondLst>
                        <p:cond delay="0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2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7" dur="5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2" dur="5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7" dur="50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2" dur="500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lementing Business-Level Cooperative Strategies: International Franchising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ranchising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common form of cooperative strategy used to facilitate product and market diversific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llows the firm to use its competencies to extend or diversify its product or market reach without completing a merger or acquisi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E734D-52AA-4E43-9705-6CB303C7C4C9}" type="slidenum">
              <a:t>55</a:t>
            </a:fld>
          </a:p>
        </p:txBody>
      </p:sp>
    </p:spTree>
  </p:cSld>
  <p:transition>
    <p:random/>
  </p:transition>
  <p:timing>
    <p:tnLst>
      <p:par>
        <p:cTn id="1363" dur="indefinite" restart="never" nodeType="tmRoot">
          <p:childTnLst>
            <p:seq>
              <p:cTn id="1364" dur="indefinite" nodeType="mainSeq">
                <p:childTnLst>
                  <p:par>
                    <p:cTn id="1365" fill="hold">
                      <p:stCondLst>
                        <p:cond delay="0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4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0" dur="5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lementing International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Network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used to implement international cooperative strategies for competing in several countr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ces in countries’ regulatory environments increase the challenge of managing international networ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stributed Strategic Network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the organizational structure used to manage international cooperative strateg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al strategic center fi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B1E49-214E-4C89-A319-6D67B0D3032C}" type="slidenum">
              <a:t>56</a:t>
            </a:fld>
          </a:p>
        </p:txBody>
      </p:sp>
    </p:spTree>
  </p:cSld>
  <p:transition>
    <p:random/>
  </p:transition>
  <p:timing>
    <p:tnLst>
      <p:par>
        <p:cTn id="1381" dur="indefinite" restart="never" nodeType="tmRoot">
          <p:childTnLst>
            <p:seq>
              <p:cTn id="1382" dur="indefinite" nodeType="mainSeq">
                <p:childTnLst>
                  <p:par>
                    <p:cTn id="1383" fill="hold">
                      <p:stCondLst>
                        <p:cond delay="0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2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5" dur="5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8" dur="5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3" dur="5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6" dur="50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9" dur="500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444600" y="458640"/>
            <a:ext cx="2155680" cy="115272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561960"/>
            <a:ext cx="1752840" cy="976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12</a:t>
            </a:r>
            <a:r>
              <a:rPr b="1" i="1" lang="en-US" sz="1200" spc="-1" strike="noStrike">
                <a:solidFill>
                  <a:srgbClr val="cc66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Distributed Strategic Network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2819520" y="728640"/>
            <a:ext cx="5257800" cy="540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BBF63-AD95-4A84-BAED-DEB5FA15BB5D}" type="slidenum">
              <a:t>57</a:t>
            </a:fld>
          </a:p>
        </p:txBody>
      </p:sp>
    </p:spTree>
  </p:cSld>
  <p:transition>
    <p:random/>
  </p:transition>
  <p:timing>
    <p:tnLst>
      <p:par>
        <p:cTn id="1410" dur="indefinite" restart="never" nodeType="tmRoot">
          <p:childTnLst>
            <p:seq>
              <p:cTn id="1411" dur="indefinite" nodeType="mainSeq">
                <p:childTnLst>
                  <p:par>
                    <p:cTn id="1412" fill="hold">
                      <p:stCondLst>
                        <p:cond delay="0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16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urposes of Organizational Control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uide the use of strateg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dicate how to compare actual results with expected resul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ggest corrective actions to take when the difference between actual and expected results is unacceptabl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wo Types of Organizational Control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ategic contro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nancial contro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3D7AD-391E-43F5-B39C-7B399DDB904B}" type="slidenum">
              <a:t>6</a:t>
            </a:fld>
          </a:p>
        </p:txBody>
      </p:sp>
    </p:spTree>
  </p:cSld>
  <p:transition>
    <p:random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85640" y="1295280"/>
            <a:ext cx="2508480" cy="1287720"/>
          </a:xfrm>
          <a:prstGeom prst="roundRect">
            <a:avLst>
              <a:gd name="adj" fmla="val 16667"/>
            </a:avLst>
          </a:prstGeom>
          <a:solidFill>
            <a:srgbClr val="b2b2b2">
              <a:alpha val="5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8229600" cy="32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Controls: Subjective criteria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concerned with examining the fit between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31480" indent="-226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the fir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ight 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pportunities in its external environmen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the fir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n 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ompetitive advantag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valuate the degree to which the firm focuses on the requirements to implement its strateg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435480" y="1492200"/>
            <a:ext cx="2330280" cy="914400"/>
            <a:chOff x="3435480" y="1492200"/>
            <a:chExt cx="2330280" cy="914400"/>
          </a:xfrm>
        </p:grpSpPr>
        <p:sp>
          <p:nvSpPr>
            <p:cNvPr id="113" name=""/>
            <p:cNvSpPr/>
            <p:nvPr/>
          </p:nvSpPr>
          <p:spPr>
            <a:xfrm>
              <a:off x="3435480" y="1492200"/>
              <a:ext cx="2330280" cy="91440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520800" y="1566360"/>
              <a:ext cx="2157120" cy="763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rganizat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790560" y="1492200"/>
            <a:ext cx="1879560" cy="914400"/>
            <a:chOff x="790560" y="1492200"/>
            <a:chExt cx="1879560" cy="914400"/>
          </a:xfrm>
        </p:grpSpPr>
        <p:sp>
          <p:nvSpPr>
            <p:cNvPr id="116" name=""/>
            <p:cNvSpPr/>
            <p:nvPr/>
          </p:nvSpPr>
          <p:spPr>
            <a:xfrm>
              <a:off x="790560" y="1492200"/>
              <a:ext cx="1879560" cy="91440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59320" y="1566360"/>
              <a:ext cx="1739880" cy="76428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Strateg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6502320" y="1492200"/>
            <a:ext cx="1879560" cy="914400"/>
            <a:chOff x="6502320" y="1492200"/>
            <a:chExt cx="1879560" cy="914400"/>
          </a:xfrm>
        </p:grpSpPr>
        <p:sp>
          <p:nvSpPr>
            <p:cNvPr id="119" name=""/>
            <p:cNvSpPr/>
            <p:nvPr/>
          </p:nvSpPr>
          <p:spPr>
            <a:xfrm>
              <a:off x="6502320" y="1492200"/>
              <a:ext cx="1879560" cy="91440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571080" y="1566360"/>
              <a:ext cx="1740240" cy="76428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inanc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1" name=""/>
          <p:cNvCxnSpPr>
            <a:stCxn id="113" idx="1"/>
            <a:endCxn id="116" idx="3"/>
          </p:cNvCxnSpPr>
          <p:nvPr/>
        </p:nvCxnSpPr>
        <p:spPr>
          <a:xfrm flipH="1">
            <a:off x="2669760" y="1949040"/>
            <a:ext cx="7660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2" name=""/>
          <p:cNvCxnSpPr>
            <a:stCxn id="113" idx="3"/>
            <a:endCxn id="119" idx="1"/>
          </p:cNvCxnSpPr>
          <p:nvPr/>
        </p:nvCxnSpPr>
        <p:spPr>
          <a:xfrm>
            <a:off x="5765760" y="1949040"/>
            <a:ext cx="7372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29829-93B7-4BE3-9E6B-7EE268D0A848}" type="slidenum">
              <a:t>7</a:t>
            </a:fld>
          </a:p>
        </p:txBody>
      </p:sp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915160" y="1295280"/>
            <a:ext cx="2508120" cy="1287720"/>
          </a:xfrm>
          <a:prstGeom prst="roundRect">
            <a:avLst>
              <a:gd name="adj" fmla="val 16667"/>
            </a:avLst>
          </a:prstGeom>
          <a:solidFill>
            <a:srgbClr val="b2b2b2">
              <a:alpha val="5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747880"/>
            <a:ext cx="8229600" cy="33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nancial Controls: Objective criteria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ccounting-based measures include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on inve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on as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ket-based measures include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c Value Added (EV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3178080" y="1492200"/>
            <a:ext cx="2330640" cy="914400"/>
            <a:chOff x="3178080" y="1492200"/>
            <a:chExt cx="2330640" cy="914400"/>
          </a:xfrm>
        </p:grpSpPr>
        <p:sp>
          <p:nvSpPr>
            <p:cNvPr id="127" name=""/>
            <p:cNvSpPr/>
            <p:nvPr/>
          </p:nvSpPr>
          <p:spPr>
            <a:xfrm>
              <a:off x="3178080" y="1492200"/>
              <a:ext cx="2330640" cy="91440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263760" y="1566360"/>
              <a:ext cx="2157480" cy="763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rganizat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533520" y="1492200"/>
            <a:ext cx="1879560" cy="914400"/>
            <a:chOff x="533520" y="1492200"/>
            <a:chExt cx="1879560" cy="914400"/>
          </a:xfrm>
        </p:grpSpPr>
        <p:sp>
          <p:nvSpPr>
            <p:cNvPr id="130" name=""/>
            <p:cNvSpPr/>
            <p:nvPr/>
          </p:nvSpPr>
          <p:spPr>
            <a:xfrm>
              <a:off x="533520" y="1492200"/>
              <a:ext cx="1879560" cy="91440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02280" y="1566360"/>
              <a:ext cx="1739880" cy="76428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rateg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6245280" y="1492200"/>
            <a:ext cx="1879560" cy="914400"/>
            <a:chOff x="6245280" y="1492200"/>
            <a:chExt cx="1879560" cy="914400"/>
          </a:xfrm>
        </p:grpSpPr>
        <p:sp>
          <p:nvSpPr>
            <p:cNvPr id="133" name=""/>
            <p:cNvSpPr/>
            <p:nvPr/>
          </p:nvSpPr>
          <p:spPr>
            <a:xfrm>
              <a:off x="6245280" y="1492200"/>
              <a:ext cx="1879560" cy="91440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314040" y="1566360"/>
              <a:ext cx="1740240" cy="76428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Financ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1"/>
            <a:endCxn id="130" idx="3"/>
          </p:cNvCxnSpPr>
          <p:nvPr/>
        </p:nvCxnSpPr>
        <p:spPr>
          <a:xfrm flipH="1">
            <a:off x="2412360" y="1949040"/>
            <a:ext cx="765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7" idx="3"/>
            <a:endCxn id="133" idx="1"/>
          </p:cNvCxnSpPr>
          <p:nvPr/>
        </p:nvCxnSpPr>
        <p:spPr>
          <a:xfrm>
            <a:off x="5508720" y="1949040"/>
            <a:ext cx="7372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7669C-572D-4288-90F1-632E2B8FBE21}" type="slidenum">
              <a:t>8</a:t>
            </a:fld>
          </a:p>
        </p:txBody>
      </p:sp>
    </p:spTree>
  </p:cSld>
  <p:transition>
    <p:random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5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Matching Control to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elative use of controls varies by type of strategy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arge diversified firms using a cost leadership strategy emphasize financial control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anies and business units using a differentiation strategy emphasize strategic control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3F425-84D6-4EAA-9D16-37ECA9C4FE3C}" type="slidenum">
              <a:t>9</a:t>
            </a:fld>
          </a:p>
        </p:txBody>
      </p:sp>
    </p:spTree>
  </p:cSld>
  <p:transition>
    <p:random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The University of West Alabama</dc:creator>
  <dc:description/>
  <dc:language>en-US</dc:language>
  <cp:lastModifiedBy>Teodoro Wigodski</cp:lastModifiedBy>
  <dcterms:modified xsi:type="dcterms:W3CDTF">2006-07-29T17:29:07Z</dcterms:modified>
  <cp:revision>43</cp:revision>
  <dc:subject>Chapter 11</dc:subject>
  <dc:title>Strategic Management 7e.</dc:title>
</cp:coreProperties>
</file>