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34DE-AB3A-4451-9D8B-4FF0EF357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1C36-5763-4367-9312-2BCC57825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69FF-DD7F-476F-B715-9D9641A12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7952-1121-47D6-8F77-FB2EC7A3D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A86F-8E68-4A8B-9F30-7B256FF6F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FA94-C636-425E-AFE8-9706AF44A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88C6-D3DD-4135-B91B-BCD48C400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5784-7954-4A71-BACB-17EDEE51B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7D3B-57CC-42AE-B3B0-6080422AA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4E72-6BC5-4879-A9A4-78BC3DE3C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CB09-41CD-40B7-BF66-821CE90E4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3843-CFF4-40B7-B582-7AD1CF9B5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E304-C585-4327-B4C2-FA8BCD454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DD4B-6769-4280-BE84-763DB92A9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A99C-1AA0-4085-9C04-6F8A96F56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ABB8-2787-462D-9DBC-05DBCCC56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EBB9-8211-4016-B9DB-9448E8638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539F-2025-47A2-A2A1-CC702847F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C618-2FB2-4C2F-A8F9-4E77A30E7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68C1-39C6-4D02-8517-58D76FAC0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C370-9267-41C0-AE65-FAA6121D4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12E9-A69C-46CE-B240-2218A4E94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3C76-3984-45E7-89EF-948A66DDA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EA6C-44DE-4B8B-A348-E73C60577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97AA-F234-4316-8C74-AB029C31A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536A-3731-481D-B94A-3D956EE2D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D88C-F300-4069-A0E6-0674F161C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65A4-82A0-465E-8262-F0ED13AB1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CC6A-D25E-4850-A4D3-A79F62F88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A934-EBD0-4F04-BBB2-F0ED38FB1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44BC-1E1B-4F83-B895-6767606A9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DA6C-E8B2-4203-9706-5D298D9C7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7207-7157-47BC-B6BC-3F516267E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8090-6C98-485D-B55E-3841F2E78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F16D-911B-4CFA-84B7-50094A0FC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C85B-5B52-4811-BA4A-8CBCDDEF0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0972-D0F8-4366-BE5B-1AE09E9B5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4944-73BD-4B63-A191-FD9364610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17DB-BD21-451B-8580-CB4B5A6B2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FE13-7B48-4C6E-9A61-DDDCECFF2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B149-4CC1-4DA5-AB3B-53F3FD006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008A-8922-41DA-9AFF-9B8752603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24798-66A4-4DFD-84DA-F94632B0A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EF7CB-5F14-4BC7-9B6E-4E3FA4513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0E414-100D-4597-8386-02A06B7873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465C6-F25B-4F48-81CC-69DECE649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4CC8C-3282-44B9-8516-0617B1705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4FE19-0FA9-43FD-8A8B-663981EC7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A32ED-4D91-4250-A151-0F285B291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A5A77-1B70-4736-8375-E9B74E94C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7A723-F42D-4560-B5D0-AA34C0891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925E0-309A-4586-9EC2-1E149928F3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E1EC7-1B50-493A-A563-D6AEB1F94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429A1-0B25-4E2D-98D0-BE49720DF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–</a:t>
            </a:r>
            <a:fld id="{ED613291-2564-48E2-ADBF-468956010110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085480"/>
            <a:ext cx="556272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1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Organizational Structure and Controls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ionships between Strategy and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y and structure have a reciprocal relationship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flows from or follows the selection of the firm’s strategy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nce in place, structure can influence current strategic actions as well as choices about futur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635BE-326C-4E3E-887A-C1706FAF6861}" type="slidenum">
              <a:t>10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V="1">
            <a:off x="534960" y="1030680"/>
            <a:ext cx="807408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grow in predictable patt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st by volum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by geograph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integration (vertical, horizontal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d finally through product/business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growth patterns determine its structural fo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99215-56F4-48C0-96F8-70FA80F7276C}" type="slidenum">
              <a:t>11</a:t>
            </a:fld>
          </a:p>
        </p:txBody>
      </p:sp>
    </p:spTree>
  </p:cSld>
  <p:transition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ll organizations require some form of organizational structure to implement and manage their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frequently alter their structure as they grow in size and complex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asic structure typ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mpl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unct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divisional structure (M-form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B14FE-A696-4F5D-B628-96E496F7E791}" type="slidenum">
              <a:t>12</a:t>
            </a:fld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2133720" cy="253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 Growth Patter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1841400"/>
            <a:ext cx="365760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13111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6858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imp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09888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Funct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4235400"/>
            <a:ext cx="363204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54864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Multidivis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129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2565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708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4952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72096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05C5E-E70C-4C5E-A729-9F80934E3A46}" type="slidenum">
              <a:t>13</a:t>
            </a:fld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5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8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381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17528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y and Structure Growth Patter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19400" y="304920"/>
            <a:ext cx="230508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750D3-9EEA-44C7-A56F-0899AFAEE90C}" type="slidenum">
              <a:t>14</a:t>
            </a:fld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Simple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s all major decisions direct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nitors al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aff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rves as an extension of the manager’s supervisor author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tched with focus strategies and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complete by offering a single product line in a single geographic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50189-91E4-47C0-A268-C2FABB151C39}" type="slidenum">
              <a:t>15</a:t>
            </a:fld>
          </a:p>
        </p:txBody>
      </p:sp>
    </p:spTree>
  </p:cSld>
  <p:transition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imple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rowth creat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lex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and structural challe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lack organizational skills and experi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ome ineffective in managing the specialized and complex tasks involved with multiple organizational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4171F-13FA-43E5-B925-169B2E9B5BF3}" type="slidenum">
              <a:t>16</a:t>
            </a:fld>
          </a:p>
        </p:txBody>
      </p:sp>
    </p:spTree>
  </p:cSld>
  <p:transition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ief Executive Officer (CEO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mited corporate staff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unctional line managers in dominant organizational areas of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&amp;D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orts use of business-level strategies and some 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ngle or dominant business with low levels of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FE920-5A23-41D1-99A7-D2CD409D01D6}" type="slidenum">
              <a:t>17</a:t>
            </a:fld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unc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orientation among organizational functions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ede communication and coordin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 the need for CEO to integrate decisions and actions of business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 career paths and professional development in specialized functional ar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use functional-area managers to focus on local versus overall company strategic iss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6D780-9052-40D1-86F8-C374203C365A}" type="slidenum">
              <a:t>18</a:t>
            </a:fld>
          </a:p>
        </p:txBody>
      </p:sp>
    </p:spTree>
  </p:cSld>
  <p:transition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ng divisions function as separate businesses or profit cen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p corporate officer delegates responsibilities to division 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day-to-day oper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business-unit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as firm grows through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912BA-8BAA-48CB-9631-F06FD388C83E}" type="slidenum">
              <a:t>19</a:t>
            </a:fld>
          </a:p>
        </p:txBody>
      </p:sp>
    </p:spTree>
  </p:cSld>
  <p:transition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structure and controls and discuss the difference between strategic and financi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elationship between strategy and struc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unctional structures used to implement business-leve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use of three versions of the multidivisional (M-form) structure to implement different diversification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7D990-D07B-45CA-9E99-E9ECE72A3871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Major Benefi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rs are able to more accurately monitor the performance of each business, which simplifies the problem of contr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comparisons between divisions, which improves the resource allocation pro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imulates managers of poorly performing divisions to look for ways of improving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86335-1445-456C-8197-83C1E51FB2FD}" type="slidenum">
              <a:t>20</a:t>
            </a:fld>
          </a:p>
        </p:txBody>
      </p:sp>
    </p:spTree>
  </p:cSld>
  <p:transition>
    <p:random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ing Strategy and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forms of the functional organizational structure are matched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leadership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grated cost leadership/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these forms are seen in three important structural characteristic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alization (number and types of job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ntralization (decision-making authority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(formal rules and work procedure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9F5D3-A3C2-4476-927A-2097722A0B65}" type="slidenum">
              <a:t>21</a:t>
            </a:fld>
          </a:p>
        </p:txBody>
      </p:sp>
    </p:spTree>
  </p:cSld>
  <p:transition>
    <p:random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al Structure for Implementation of a Cost Leadership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1539720"/>
            <a:ext cx="8172360" cy="4023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400800" y="1523880"/>
            <a:ext cx="259092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spcBef>
                <a:spcPts val="249"/>
              </a:spcBef>
              <a:tabLst>
                <a:tab algn="l" pos="0"/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s is the main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s engineering is emphasized rather than new product R&amp;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latively large centralized staff coordinates 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ed procedures allow for emergence of a low-cost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mechanical; job roles are highly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CFEAC-AA1A-4333-8395-6AF497227B08}" type="slidenum">
              <a:t>22</a:t>
            </a:fld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 Cost Leadership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s is the main fun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cess engineering is emphasized over research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centralized staff oversees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ed procedures guide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is mechanic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highly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4C3E3-8311-4A67-AA98-0784067A5487}" type="slidenum">
              <a:t>23</a:t>
            </a:fld>
          </a:p>
        </p:txBody>
      </p:sp>
    </p:spTree>
  </p:cSld>
  <p:transition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504360"/>
            <a:ext cx="6782040" cy="1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 Structure for Implementation of a Differentiation Strategy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00120" y="1566720"/>
            <a:ext cx="8010360" cy="3724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" y="5470560"/>
            <a:ext cx="8001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Marketing is the main function for keeping track of new product idea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New product R&amp;D is emphas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t functions are decentralized, but R&amp;D and marketing may have centralized staffs that work closely with each 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ation is limited so that new product ideas can emerge easily and change is more readily accompl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organic; job roles are less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FF0BE-2ACD-4FF6-AA02-A777154A2909}" type="slidenum">
              <a:t>24</a:t>
            </a:fld>
          </a:p>
        </p:txBody>
      </p:sp>
    </p:spTree>
  </p:cSld>
  <p:transition>
    <p:random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a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ing is the main function for tracking new product idea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product R&amp;D is emphas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st functions are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is limited to foster change and promote new id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verall structure is organic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less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076B7-78E4-40B0-B5D0-22C14A97A83B}" type="slidenum">
              <a:t>25</a:t>
            </a:fld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the Integrated Cost Leadership/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lling products that create customer value due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ir relatively low product cost through an emphasis on production and process engineering, with infrequent product chang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asonable sources of differentiation based on new-product R&amp;D are emphasized while production and process engineering are no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frequently in global econom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7A248-3030-479D-A04C-F8905C9DF2B4}" type="slidenum">
              <a:t>26</a:t>
            </a:fld>
          </a:p>
        </p:txBody>
      </p:sp>
    </p:spTree>
  </p:cSld>
  <p:transition>
    <p:random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an Integrated Cost Leadership/Differentiation Strateg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ntegrated form of the functional structure must have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cision-making patterns that are partially centralized and partially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mi-specialized job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ules and procedures that allow both formal and informal job behavi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CE244-AD88-49BC-966E-B6AF3A197492}" type="slidenum">
              <a:t>27</a:t>
            </a:fld>
          </a:p>
        </p:txBody>
      </p:sp>
    </p:spTree>
  </p:cSld>
  <p:transition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continuing success that lead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oth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creasing diversification creates control problems that the functional structure can’t handl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ormation processing, coordin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65DAC-95EE-4460-9A5A-91E355463965}" type="slidenum">
              <a:t>28</a:t>
            </a:fld>
          </a:p>
        </p:txBody>
      </p:sp>
    </p:spTree>
  </p:cSld>
  <p:transition>
    <p:random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y requires firm to change from functional structure to a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levels of diversification create the need for implementation of a unique form of the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A6880-434B-4F50-B503-125A3F2F9106}" type="slidenum">
              <a:t>29</a:t>
            </a:fld>
          </a:p>
        </p:txBody>
      </p:sp>
    </p:spTree>
  </p:cSld>
  <p:transition>
    <p:random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organizational structures used to implement three internationa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networks and discuss how strategic center firms implement such networks at the business, corporate and international leve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1B129-D1CE-42B2-9FAA-3ECF4F49FC92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58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4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Variations of the Multidivisional Structur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457200"/>
            <a:ext cx="8229600" cy="5335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90720" y="1560600"/>
            <a:ext cx="7124760" cy="33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F3016-A52D-4A95-A533-4BFDEE38E5E4}" type="slidenum">
              <a:t>30</a:t>
            </a:fld>
          </a:p>
        </p:txBody>
      </p:sp>
    </p:spTree>
  </p:cSld>
  <p:transition>
    <p:random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operative Form of the Multidivisional Structure for Implementation of a Related Constrain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81040"/>
            <a:ext cx="1828800" cy="479160"/>
            <a:chOff x="457200" y="58104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8104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74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285920"/>
            <a:ext cx="7010640" cy="4352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57200" y="5715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Structural integration devices create tight links among all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office emphasizes centralized strategic planning, human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resources, and marketing to foster cooperation between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&amp;D is likely to be centralized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715000"/>
            <a:ext cx="3962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wards are subjective and tend to emphasize overall corporate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formance in addition to divisional perform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lture emphasizes cooperative sha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FF3CB-40EC-4BA8-9E2E-F2DB881793A5}" type="slidenum">
              <a:t>31</a:t>
            </a:fld>
          </a:p>
        </p:txBody>
      </p:sp>
    </p:spTree>
  </p:cSld>
  <p:transition>
    <p:random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opera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integration is used to bring about interdivisional coopera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ring divisional competencies facilitates development of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 foster divisional cooperation, the corporate office emphasizes centralization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plann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B4C32-3367-4EF1-B76A-60C654D090FC}" type="slidenum">
              <a:t>32</a:t>
            </a:fld>
          </a:p>
        </p:txBody>
      </p:sp>
    </p:spTree>
  </p:cSld>
  <p:transition>
    <p:random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&amp;D is likely to be centraliz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equent, direct contact between division managers encourages and supports cooperation and sharing of competencies and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liaison rol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wards are subjective, emphasizing overall corporate performance in addition to divisional performan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E0B09-5B62-4626-B697-013FA312FC44}" type="slidenum">
              <a:t>33</a:t>
            </a:fld>
          </a:p>
        </p:txBody>
      </p:sp>
    </p:spTree>
  </p:cSld>
  <p:transition>
    <p:random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467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6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U Form of the Multidivisional Structure for Implementation of a Related Link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57200" y="5842080"/>
            <a:ext cx="4114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uctural integration among divisions within SBUs, but independence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ross SB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ic planning may be the most prominent function in headquarters for  managing the strategic planning approval process of SBUs for the presi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9720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ach SBU may have its own budget for staff to foster inte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rporate headquarters staff serve as consultants to SBUs and divisions, rather than having direct input to product strategy, as in the cooperative f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90440" y="1285920"/>
            <a:ext cx="6963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CED74-95F5-4AEE-8F26-45AF962B034E}" type="slidenum">
              <a:t>34</a:t>
            </a:fld>
          </a:p>
        </p:txBody>
      </p:sp>
    </p:spTree>
  </p:cSld>
  <p:transition>
    <p:random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business unit (SBU) form is a structure consisting of three leve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headquar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business units (SBU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BU div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sha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s, or markets, or bo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63093-BB71-4414-898E-60069BC92CAB}" type="slidenum">
              <a:t>35</a:t>
            </a:fld>
          </a:p>
        </p:txBody>
      </p:sp>
    </p:spTree>
  </p:cSld>
  <p:transition>
    <p:random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develop economies of scope and/or scale by sharing product or market competenc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SBU is a profit center controlled and evaluated by the headquarters off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by large firm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be complex due to an organization’s size and diversity in products and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E6C33-9F6A-481F-B2F7-CCE8774B0A3D}" type="slidenum">
              <a:t>36</a:t>
            </a:fld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7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etitive Form of the Multidivisional Structure for Implementation of an Unrelat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4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104840" y="1295280"/>
            <a:ext cx="6934320" cy="3486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33520" y="5356080"/>
            <a:ext cx="365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headquarters has a small sta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nce and auditing are the most prominent functions in the headquarters office to manage cash flow and assure the accuracy of performance data coming from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5486400"/>
            <a:ext cx="457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legal affairs function becomes important when the firm acquires or divests ass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are independent and separate for financial evaluation purpo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retain strategic control, but cash is managed by the corporate off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compete for corporate resou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80FD1-9FE8-4074-8AC4-5C0D1D9AF1A0}" type="slidenum">
              <a:t>37</a:t>
            </a:fld>
          </a:p>
        </p:txBody>
      </p:sp>
    </p:spTree>
  </p:cSld>
  <p:transition>
    <p:random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mpeti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structure in which there is complete independence among the firm’s divi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isions do not share common corporate strength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ause strengths aren’t shared, integrating devices aren’t develop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arrangements emphasize divisional competition rather than cooper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721CC-B0AD-4F5F-844B-457B31C6AF1A}" type="slidenum">
              <a:t>38</a:t>
            </a:fld>
          </a:p>
        </p:txBody>
      </p:sp>
    </p:spTree>
  </p:cSld>
  <p:transition>
    <p:random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enefits from the internal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—corporate headquarters can have divisions working on different technologies to identify those with greatest future potenti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llenges the status quo and inertia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tivates effor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specific profit performance expectations for each division to promote internal competition for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7750F-DF0B-4F44-B0CB-B78688019F24}" type="slidenum">
              <a:t>39</a:t>
            </a:fld>
          </a:p>
        </p:txBody>
      </p:sp>
    </p:spTree>
  </p:cSld>
  <p:transition>
    <p:random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 and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structure specif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’s formal reporting relationships, procedures, controls, and authority and decision-making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work to be done and how to do it, given the firm’s strategy o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t is critical to match organizational structure to the firm’s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C0999-6C21-4DDB-9E75-3F131E3E9E16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11.1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s of the Structures Necessary to Implement the Related Constrained, Related Linked, and Unrelated Diversification Strategi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03200" y="1628640"/>
            <a:ext cx="83059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operative M-Form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BU M-Form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mpetitive M-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ctur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Constrain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Link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nrelated Diversifica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alization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ized a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ally centraliz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ntralized t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off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SBU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of integr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xist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subjec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a mixture 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objecti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trategic) criteri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ive (strategi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raisa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bjecti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 incen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over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xed linkage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division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ns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, SBU, 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al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0440" y="1166760"/>
            <a:ext cx="24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all Structural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760" y="628956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tegy implemented with structural for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62268-6B7F-4FB4-BBDB-3875843E8A15}" type="slidenum">
              <a:t>40</a:t>
            </a:fld>
          </a:p>
        </p:txBody>
      </p:sp>
    </p:spTree>
  </p:cSld>
  <p:transition>
    <p:random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Strategies and Worldwide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rnational strategies allow the firm to search for new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A62E6-2947-40FA-99AA-D45AF4CA1DBC}" type="slidenum">
              <a:t>41</a:t>
            </a:fld>
          </a:p>
        </p:txBody>
      </p:sp>
    </p:spTree>
  </p:cSld>
  <p:transition>
    <p:random/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5095800" cy="44974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495000"/>
            <a:ext cx="670572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1.8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ldwide Geographic Area Structure for Implementation of a Multidomestic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12920" y="5678640"/>
            <a:ext cx="598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perimeter circles indicate decentralization of 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phasis is on differentiation by local demand to fit an area or country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coordinates financial resources among independent subsidi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de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03523-0185-4B3A-A0F3-E6F102146FA9}" type="slidenum">
              <a:t>42</a:t>
            </a:fld>
          </a:p>
        </p:txBody>
      </p:sp>
    </p:spTree>
  </p:cSld>
  <p:transition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: Implementing a Multidomestic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 decentralizes strategic and operating decision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units in each cou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characteristics tailored to local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counter global competitive forces b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protected market positions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ng in industry segments most affected by differences among loc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F4700-AB92-4BEC-A81F-A19CB06EC8E8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orldwide Geographic Area Struc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hasizes national interes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the firm’s efforts to satisfy local or cultural dif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little coordination between different county markets: integrating mechanisms aren’t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y disadvantage is inability to create global efficienc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B3F66-D2FC-47D3-96CC-BD9240C50C96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9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ldwide Product Divisional Structure for Implementation of a Glob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576520" y="1295280"/>
            <a:ext cx="5076720" cy="4524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360" y="5681520"/>
            <a:ext cx="7791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headquarters’ circle indicates centralization to coordinate information flow among worldwide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uses many intercoordination devices to facilitate global economies of scale and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also allocates financial resources in a cooperative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2A4D3-6804-4448-BACA-3EE88D5C3D59}" type="slidenum">
              <a:t>45</a:t>
            </a:fld>
          </a:p>
        </p:txBody>
      </p:sp>
    </p:spTree>
  </p:cSld>
  <p:transition>
    <p:random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0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: Implementing a Glob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irm to offer standardized products across country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s on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 depends on firm’s ability to develop and take advantage of economies of scope and scale on global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tends to outsource some primary or support activities to the world’s best provi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A9BF9-CB2B-47D0-B26D-5C895E138064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entralizes decision-making authority in the worldwide division headquart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adquarters coordinates and integrates decisions and actions among divisional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grating mechanisms are importa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rect contact between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aison roles between depart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mporary task forces as well as permanent tea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F94B7-BB5C-44EE-9011-5D6214FA903E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bination Structure: A Transnation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ransnation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bines multidomestic strategy’s local responsiveness with global strategy’s efficienc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bination structure draws characteristics and mechanisms from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geographic area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product divis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integrating mechanisms for the combination structure are less obviou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44CFC-D210-49B4-9A4C-0F6E57CAE482}" type="slidenum">
              <a:t>48</a:t>
            </a:fld>
          </a:p>
        </p:txBody>
      </p:sp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010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0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the Hybrid Form of the Combination Structure for Implementation of a Transnation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9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61960" y="1600200"/>
            <a:ext cx="802008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9F02A-F47C-4259-963C-312768847CEB}" type="slidenum">
              <a:t>49</a:t>
            </a:fld>
          </a:p>
        </p:txBody>
      </p:sp>
    </p:spTree>
  </p:cSld>
  <p:transition>
    <p:random/>
  </p:transition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uctures provi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stability provides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apacity required to consistently and predictably manage daily work routi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flexibility provides for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opportunity to explore competitiv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llocation of resources to activities that shape needed competitive advanta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BE3CC-58F1-4192-A780-D9F80F430883}" type="slidenum">
              <a:t>5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etwork strategy exist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form several alliances in order to improve performance of the alliance network itself through cooperative endeav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formed to create value by participating in multiple cooperative arrangements such as alliances and joint vent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B108D-964E-4D37-8315-B9BDB60660D2}" type="slidenum">
              <a:t>50</a:t>
            </a:fld>
          </a:p>
        </p:txBody>
      </p:sp>
    </p:spTree>
  </p:cSld>
  <p:transition>
    <p:random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 are used to impleme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cooperative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enter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around which the network’s cooperative relationships revol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AA238-A1A5-49AF-962F-A63BDC944167}" type="slidenum">
              <a:t>51</a:t>
            </a:fld>
          </a:p>
        </p:txBody>
      </p:sp>
    </p:spTree>
  </p:cSld>
  <p:transition>
    <p:random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44600" y="447840"/>
            <a:ext cx="2155680" cy="11523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978280" y="671400"/>
            <a:ext cx="4870440" cy="53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93B4E-BD5F-4D47-824A-68E44DAEACF0}" type="slidenum">
              <a:t>52</a:t>
            </a:fld>
          </a:p>
        </p:txBody>
      </p:sp>
    </p:spTree>
  </p:cSld>
  <p:transition>
    <p:random/>
  </p:transition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0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9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Center Fi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s the foundation for the strategic network’s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aspects of organizational structure such as formal reporting relationship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s the complex, cooperative interactions among network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gages in four primary task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outsourc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ce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1E780-513E-4BF5-9DD4-2100D6EDAF22}" type="slidenum">
              <a:t>53</a:t>
            </a:fld>
          </a:p>
        </p:txBody>
      </p:sp>
    </p:spTree>
  </p:cSld>
  <p:transition>
    <p:random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have complementary competencies in different value chain stages that let them cooperatively integrate their different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that agree to combine competencies to create value in the same stage of the value chai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trategic center firm is obvious in vertical alliances, but not always in horizontal allian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F4DDE-BDF6-4AA7-9885-0A79C99C2956}" type="slidenum">
              <a:t>54</a:t>
            </a:fld>
          </a:p>
        </p:txBody>
      </p:sp>
    </p:spTree>
  </p:cSld>
  <p:transition>
    <p:random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: International 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anchis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mon form of cooperative strategy used to facilitate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the firm to use its competencies to extend or diversify its product or market reach without completing a merger or acquisi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AB9CE-D675-42AD-95DD-E435DD16210A}" type="slidenum">
              <a:t>55</a:t>
            </a:fld>
          </a:p>
        </p:txBody>
      </p:sp>
    </p:spTree>
  </p:cSld>
  <p:transition>
    <p:random/>
  </p:transition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0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used to implement international cooperative strategies for competing in sever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countries’ regulatory environments increase the challenge of managing international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stributed 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the organizational structure used to manage international cooper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strategic center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B2378-7B00-4A2E-BD60-A96A83D9BDF3}" type="slidenum">
              <a:t>56</a:t>
            </a:fld>
          </a:p>
        </p:txBody>
      </p:sp>
    </p:spTree>
  </p:cSld>
  <p:transition>
    <p:random/>
  </p:transition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152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2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Distributed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819520" y="728640"/>
            <a:ext cx="525780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8D2F2-92FB-4373-B2DF-8B5337FA4E78}" type="slidenum">
              <a:t>57</a:t>
            </a:fld>
          </a:p>
        </p:txBody>
      </p:sp>
    </p:spTree>
  </p:cSld>
  <p:transition>
    <p:random/>
  </p:transition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urposes of Organizational Contro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uide the use of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cate how to compare actual results with expected resul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ggest corrective actions to take when the difference between actual and expected results is unaccept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wo Types of Organizational 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0B473-B090-4F9D-B062-D950FE0921CF}" type="slidenum">
              <a:t>6</a:t>
            </a:fld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5640" y="1295280"/>
            <a:ext cx="250848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s: Su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ncerned with examining the fit between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ght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pportunities in its external environm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petitive advantag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valuate the degree to which the firm focuses on the requirements to implement its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435480" y="1492200"/>
            <a:ext cx="2330280" cy="914400"/>
            <a:chOff x="3435480" y="1492200"/>
            <a:chExt cx="2330280" cy="914400"/>
          </a:xfrm>
        </p:grpSpPr>
        <p:sp>
          <p:nvSpPr>
            <p:cNvPr id="113" name=""/>
            <p:cNvSpPr/>
            <p:nvPr/>
          </p:nvSpPr>
          <p:spPr>
            <a:xfrm>
              <a:off x="3435480" y="1492200"/>
              <a:ext cx="233028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20800" y="1566360"/>
              <a:ext cx="215712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90560" y="1492200"/>
            <a:ext cx="1879560" cy="914400"/>
            <a:chOff x="790560" y="1492200"/>
            <a:chExt cx="1879560" cy="914400"/>
          </a:xfrm>
        </p:grpSpPr>
        <p:sp>
          <p:nvSpPr>
            <p:cNvPr id="116" name=""/>
            <p:cNvSpPr/>
            <p:nvPr/>
          </p:nvSpPr>
          <p:spPr>
            <a:xfrm>
              <a:off x="79056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502320" y="1492200"/>
            <a:ext cx="1879560" cy="914400"/>
            <a:chOff x="6502320" y="1492200"/>
            <a:chExt cx="1879560" cy="914400"/>
          </a:xfrm>
        </p:grpSpPr>
        <p:sp>
          <p:nvSpPr>
            <p:cNvPr id="119" name=""/>
            <p:cNvSpPr/>
            <p:nvPr/>
          </p:nvSpPr>
          <p:spPr>
            <a:xfrm>
              <a:off x="65023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7108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1" name=""/>
          <p:cNvCxnSpPr>
            <a:stCxn id="113" idx="1"/>
            <a:endCxn id="116" idx="3"/>
          </p:cNvCxnSpPr>
          <p:nvPr/>
        </p:nvCxnSpPr>
        <p:spPr>
          <a:xfrm flipH="1">
            <a:off x="2669760" y="1949040"/>
            <a:ext cx="766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2" name=""/>
          <p:cNvCxnSpPr>
            <a:stCxn id="113" idx="3"/>
            <a:endCxn id="119" idx="1"/>
          </p:cNvCxnSpPr>
          <p:nvPr/>
        </p:nvCxnSpPr>
        <p:spPr>
          <a:xfrm>
            <a:off x="576576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D2698-5A7A-4C0A-9286-1BBC6C587C2D}" type="slidenum">
              <a:t>7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915160" y="1295280"/>
            <a:ext cx="250812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74788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Controls: O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Value Added (E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78080" y="1492200"/>
            <a:ext cx="2330640" cy="914400"/>
            <a:chOff x="3178080" y="1492200"/>
            <a:chExt cx="2330640" cy="914400"/>
          </a:xfrm>
        </p:grpSpPr>
        <p:sp>
          <p:nvSpPr>
            <p:cNvPr id="127" name=""/>
            <p:cNvSpPr/>
            <p:nvPr/>
          </p:nvSpPr>
          <p:spPr>
            <a:xfrm>
              <a:off x="3178080" y="1492200"/>
              <a:ext cx="233064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63760" y="1566360"/>
              <a:ext cx="215748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3520" y="1492200"/>
            <a:ext cx="1879560" cy="914400"/>
            <a:chOff x="533520" y="1492200"/>
            <a:chExt cx="1879560" cy="914400"/>
          </a:xfrm>
        </p:grpSpPr>
        <p:sp>
          <p:nvSpPr>
            <p:cNvPr id="130" name=""/>
            <p:cNvSpPr/>
            <p:nvPr/>
          </p:nvSpPr>
          <p:spPr>
            <a:xfrm>
              <a:off x="5335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228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245280" y="1492200"/>
            <a:ext cx="1879560" cy="914400"/>
            <a:chOff x="6245280" y="1492200"/>
            <a:chExt cx="1879560" cy="914400"/>
          </a:xfrm>
        </p:grpSpPr>
        <p:sp>
          <p:nvSpPr>
            <p:cNvPr id="133" name=""/>
            <p:cNvSpPr/>
            <p:nvPr/>
          </p:nvSpPr>
          <p:spPr>
            <a:xfrm>
              <a:off x="624528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1404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1"/>
            <a:endCxn id="130" idx="3"/>
          </p:cNvCxnSpPr>
          <p:nvPr/>
        </p:nvCxnSpPr>
        <p:spPr>
          <a:xfrm flipH="1">
            <a:off x="2412360" y="1949040"/>
            <a:ext cx="765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7" idx="3"/>
            <a:endCxn id="133" idx="1"/>
          </p:cNvCxnSpPr>
          <p:nvPr/>
        </p:nvCxnSpPr>
        <p:spPr>
          <a:xfrm>
            <a:off x="550872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9D54D-DF37-49A8-805C-370D523C3CB9}" type="slidenum">
              <a:t>8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tching Control to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lative use of controls varies by type of strateg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diversified firms using a cost leadership strategy emphasize financial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anies and business units using a differentiation strategy emphasize strategic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C0595-AD2C-4307-B56D-837E7E0C6F3D}" type="slidenum">
              <a:t>9</a:t>
            </a:fld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07Z</dcterms:modified>
  <cp:revision>43</cp:revision>
  <dc:subject>Chapter 11</dc:subject>
  <dc:title>Strategic Management 7e.</dc:title>
</cp:coreProperties>
</file>