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10.gif" ContentType="image/gif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move the slid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594F4-D90D-4C88-9018-A28DFDD77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2302F-14F2-457F-BE39-BE925BD6D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43241-0CC3-40B8-90D6-840D80343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1F2BF-2B08-4E5C-B93B-ABA8FEB95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E6470-B335-416D-A6C1-89C2DC966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97634-0D1F-4579-BEB6-08D195081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8334D-17D1-469B-AA42-31A05D85F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CC734-E0CF-49BA-BF18-D12C0D6BC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DC3CB-482A-455F-B651-D3F59A9BD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DDDE-4FC2-480D-9469-61E0692E3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C828D-A827-461F-9F7B-99939DF0C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FB2A6-E10D-4480-88A5-2228C1C27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3F4B6-FAE8-4E09-B968-53B2F80B0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0F3AD-40B2-4B89-BC00-048A89278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0CBCC-D90E-49C8-AB59-A72A243BF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CC3F9-8AD8-478E-86A5-FAC57CA5E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F3D69-FD95-444B-A38D-42F12CE74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67FB3-7C52-46D6-ABDD-535AB97EB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784A4-EE89-422B-AC39-F155A3E49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F2ED4-7FDD-482A-9F3A-A6A398A72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8BFC5-9391-4E51-8F4F-E74EC8CBE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22F0-DEF9-47B0-808F-3D59504C7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07C95-CEA4-422C-BA03-BCF688F5F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09E63-A748-4F96-99AF-38D4FA2CF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3DE65-B509-460C-B824-F6CC5ED81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0ABD4-EF69-4DA1-AAA8-4986DA4F5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A61F4-D3BE-475E-B4FF-01447F771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87211-4B00-4117-95E4-AD7B41724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F55E1-1641-4F70-85BC-0C5196F0C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F729D-7368-466F-A55E-80EE25915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F6CE8-87B0-4CDF-9DBD-CC6303215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9AEC9-350A-4EE3-9D5A-5300075EF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0FA8E-AD12-4ADB-B023-46039CC27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804AC-CE26-4500-B3BF-7DE8EA967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BD8CF-8E6E-40EB-A1DA-04383A8F9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4144B-6F21-4C9C-AD51-205B17B98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CE520-6FAB-4C51-8363-8A7BA114A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F1688-4BD3-415B-BC0A-439792A6D7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25AC4-B11D-47E7-BB02-C66A3CEE3B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270AF-77C7-4BB5-949B-A0D3977408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9697B-4521-45F5-9DC7-A5130ACDE8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767EF-641F-4167-B106-77D4174D85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8DAA5-CBEE-462D-AA60-018E8C82C1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61E2B-24C0-4A5D-A80B-4E40E4C52E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58B1F-8C0B-43FC-9C37-6EF70166D6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C5570-783E-4684-960A-CBE9EBF365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C77FC-D59F-4180-BEA3-36D994F7AE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7C999-685D-4C7D-8CD1-5A45416525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91A0E-E46E-4AF7-8D6A-6F7CE17C8D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–</a:t>
            </a:r>
            <a:fld id="{D17BA0D1-6FE1-4DB8-8B42-7084C83519C4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2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11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2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Line 13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14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5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6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8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1"/>
          <p:cNvSpPr/>
          <p:nvPr/>
        </p:nvSpPr>
        <p:spPr>
          <a:xfrm>
            <a:off x="228600" y="3048120"/>
            <a:ext cx="243828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0492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00400" y="2646360"/>
            <a:ext cx="5562720" cy="91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CHAPTER 10</a:t>
            </a:r>
            <a:br>
              <a:rPr sz="24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Corporate Governance</a:t>
            </a:r>
            <a:endParaRPr b="0" lang="en-US" sz="3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F060BD2E-E785-4CB8-9378-2B51AC4D6635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erial Opportunis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seeking of self-interest with guile (cunning or deceit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nagerial opportunism i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 attitude (inclination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set of behaviors (specific acts of self-interest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nagerial opportunism prevents the maximization of shareholder wealth (the primary goal of owner/principals)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EDF4B716-E45C-470A-8E7C-9C8034C5FA93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ponse to Managerial Opportunis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incipals do not know beforehand which agents will or will not act opportunisticall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us, principals establish governance and control mechanisms to prevent managerial opportunism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21CDBAC3-A3B4-4AA1-98A4-5A7179719562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xamples of the Agency Proble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Problem of Product Diversifi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d size, and the relationship of size to managerial compens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duction of managerial employment risk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se of Free Cash Flow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s prefer to invest these funds in additional product diversification (see above)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hareholders prefer the funds as dividends so they control how the funds are invest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BFCEDEF9-7537-4DCD-9AD3-A186845669EB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495360"/>
            <a:ext cx="79344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10.2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r and Shareholder Risk and Diversification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4" name="Freeform 3"/>
          <p:cNvSpPr/>
          <p:nvPr/>
        </p:nvSpPr>
        <p:spPr>
          <a:xfrm>
            <a:off x="457200" y="457200"/>
            <a:ext cx="8229600" cy="4665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4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56" name="Line 5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6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" name="Picture 8" descr=""/>
          <p:cNvPicPr/>
          <p:nvPr/>
        </p:nvPicPr>
        <p:blipFill>
          <a:blip r:embed="rId1"/>
          <a:stretch/>
        </p:blipFill>
        <p:spPr>
          <a:xfrm>
            <a:off x="1214280" y="1143000"/>
            <a:ext cx="6715440" cy="4915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9DA27E7A-4976-498B-BD78-1AA5F570B4F0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gency Costs and Governance Mechanism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gency Cost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um of incentive costs, monitoring costs, enforcement costs, and individual financial losses incurred by principals, because governance mechanisms cannot guarantee total compliance by the ag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incipals may engage in monitoring behavior to assess the activities and decisions of manager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wever, dispersed shareholding makes it difficult and inefficient to monitor management’s behavio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08D91238-8CFE-45F2-9262-4652280E64E0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gency Costs and 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oards of Directors have a fiduciary duty to shareholders to monitor managemen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wever, Boards of Directors are often accused of being lax in performing this func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A846810F-010D-45A0-AFBC-14C510E59FB6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7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206064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10.1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rporate Governance Mechanisms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304920" y="1327320"/>
            <a:ext cx="8305560" cy="47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al Governance Mech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wnership 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e amounts of stock owned by individual shareholders and institutional inves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oard of Dir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s responsible for representing the firm’s owners by monitoring top-level managers’ strategic dec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ecutive Compen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salary, bonuses, and long-term incentives to align managers’ interests with shareholders’ interest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rnal Governance 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rket for Corporate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urchase of a company that is underperforming relative to industry rivals in order to improve the firm’s strategic competitiv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73D1F205-F1EA-4099-968E-E5134C2D4652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2"/>
          <p:cNvSpPr/>
          <p:nvPr/>
        </p:nvSpPr>
        <p:spPr>
          <a:xfrm>
            <a:off x="3200400" y="1314360"/>
            <a:ext cx="990720" cy="440532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4405320"/>
              <a:gd name="textAreaBottom" fmla="*/ 4404240 h 44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2727"/>
                </a:lnTo>
                <a:cubicBezTo>
                  <a:pt x="10800" y="2738"/>
                  <a:pt x="5400" y="2749"/>
                  <a:pt x="0" y="2749"/>
                </a:cubicBezTo>
                <a:cubicBezTo>
                  <a:pt x="5400" y="2749"/>
                  <a:pt x="10800" y="2760"/>
                  <a:pt x="10800" y="2771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777840" y="1330200"/>
            <a:ext cx="490860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Large block shareholders have a strong incentive to monitor management closely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Their large stakes make it worth their while to spend time, effort and expense to monitor closely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They may also obtain Board seats which enhances their ability to monitor effectively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32560" indent="-23256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Financial institutions are legally forbidden from directly holding board seat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76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177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centration 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50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3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477F38B7-78EA-42E9-9FF5-61FCCF357E72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2"/>
          <p:cNvSpPr/>
          <p:nvPr/>
        </p:nvSpPr>
        <p:spPr>
          <a:xfrm>
            <a:off x="3200400" y="1386000"/>
            <a:ext cx="990720" cy="3186000"/>
          </a:xfrm>
          <a:custGeom>
            <a:avLst/>
            <a:gdLst>
              <a:gd name="textAreaLeft" fmla="*/ 632880 w 990720"/>
              <a:gd name="textAreaRight" fmla="*/ 991080 w 990720"/>
              <a:gd name="textAreaTop" fmla="*/ 720 h 3186000"/>
              <a:gd name="textAreaBottom" fmla="*/ 3185280 h 31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3530"/>
                </a:lnTo>
                <a:cubicBezTo>
                  <a:pt x="10800" y="3541"/>
                  <a:pt x="5400" y="3552"/>
                  <a:pt x="0" y="3552"/>
                </a:cubicBezTo>
                <a:cubicBezTo>
                  <a:pt x="5400" y="3552"/>
                  <a:pt x="10800" y="3563"/>
                  <a:pt x="10800" y="3574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777840" y="1455840"/>
            <a:ext cx="4908600" cy="39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e increasing influence of institutional owners (stock mutual funds and pension funds)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Have the size (proxy voting power) and incentive (demand for returns to funds) to discipline ineffective top-level manager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an affect the firm’s choice of strategie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84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185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centration (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1C786812-083A-4124-B74F-1BD8DB6A146B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2"/>
          <p:cNvSpPr/>
          <p:nvPr/>
        </p:nvSpPr>
        <p:spPr>
          <a:xfrm>
            <a:off x="3200400" y="1386000"/>
            <a:ext cx="990720" cy="387180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871800"/>
              <a:gd name="textAreaBottom" fmla="*/ 3870720 h 38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2901"/>
                </a:lnTo>
                <a:cubicBezTo>
                  <a:pt x="10800" y="2912"/>
                  <a:pt x="5400" y="2923"/>
                  <a:pt x="0" y="2923"/>
                </a:cubicBezTo>
                <a:cubicBezTo>
                  <a:pt x="5400" y="2923"/>
                  <a:pt x="10800" y="2934"/>
                  <a:pt x="10800" y="2945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777840" y="1452240"/>
            <a:ext cx="4908600" cy="37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hareholder activism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hareholders can convene to discuss corporation’s direction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If a consensus exists, shareholders can vote as a block to elect their candidates to the board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xy fight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There are limits on shareholder activism available to institutional owners in responding to activists’ tactic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92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193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centration (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AFAB1E07-3634-4B28-A7F1-407D393D73AE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spcBef>
                <a:spcPts val="104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corporate governance and explain why it is used to monitor and control managers’ strategic decis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1880" indent="-461880">
              <a:spcBef>
                <a:spcPts val="104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why ownership has been largely separated from managerial control in the modern corporation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1880" indent="-461880">
              <a:spcBef>
                <a:spcPts val="104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n agency relationship and managerial opportunism and describe their strategic implicat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1880" indent="-461880">
              <a:spcBef>
                <a:spcPts val="104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three internal governance mechanisms—ownership concentration, the board of directors, and executive compensation—are used to monitor and control managerial decis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7C44E50D-C188-431C-A080-E3F579157165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"/>
          <p:cNvSpPr/>
          <p:nvPr/>
        </p:nvSpPr>
        <p:spPr>
          <a:xfrm>
            <a:off x="3200400" y="1386000"/>
            <a:ext cx="990720" cy="402408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4024080"/>
              <a:gd name="textAreaBottom" fmla="*/ 4023000 h 40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8226"/>
                </a:lnTo>
                <a:cubicBezTo>
                  <a:pt x="10800" y="8237"/>
                  <a:pt x="5400" y="8248"/>
                  <a:pt x="0" y="8248"/>
                </a:cubicBezTo>
                <a:cubicBezTo>
                  <a:pt x="5400" y="8248"/>
                  <a:pt x="10800" y="8259"/>
                  <a:pt x="10800" y="8270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9520" y="14479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Board of director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Group of elected individuals that acts in the owners’ interests to formally monitor and control the firm’s top-level executiv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Board has the power to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irect the affairs of the organization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unish and reward manag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tect owners from managerial opportunism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200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01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8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04" name="Rectangle 9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0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Board of Directors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500"/>
                            </p:stCondLst>
                            <p:childTnLst>
                              <p:par>
                                <p:cTn id="43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0B1819E0-E890-4154-A50F-C80D885B630A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2"/>
          <p:cNvSpPr/>
          <p:nvPr/>
        </p:nvSpPr>
        <p:spPr>
          <a:xfrm>
            <a:off x="3200400" y="1386000"/>
            <a:ext cx="990720" cy="349092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490920"/>
              <a:gd name="textAreaBottom" fmla="*/ 3489840 h 34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9575"/>
                </a:lnTo>
                <a:cubicBezTo>
                  <a:pt x="10800" y="9586"/>
                  <a:pt x="5400" y="9597"/>
                  <a:pt x="0" y="9597"/>
                </a:cubicBezTo>
                <a:cubicBezTo>
                  <a:pt x="5400" y="9597"/>
                  <a:pt x="10800" y="9608"/>
                  <a:pt x="10800" y="9619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762000" y="14479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mposition of Boards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Insiders: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 the firm’s CEO and other top-level manag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Related Outsiders: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 individuals uninvolved with day-to-day operations, but who have a relationship with the firm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Outsiders: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 individuals who are independent of the firm’s day-to-day operations and other relationship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211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12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8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15" name="Rectangle 9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0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Board of Directors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(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C2CA3893-5D2D-421F-94B9-0A608C7ACD51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2"/>
          <p:cNvSpPr/>
          <p:nvPr/>
        </p:nvSpPr>
        <p:spPr>
          <a:xfrm>
            <a:off x="3200400" y="1386000"/>
            <a:ext cx="990720" cy="394812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948120"/>
              <a:gd name="textAreaBottom" fmla="*/ 3947040 h 39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8741"/>
                </a:lnTo>
                <a:cubicBezTo>
                  <a:pt x="10800" y="8752"/>
                  <a:pt x="5400" y="8763"/>
                  <a:pt x="0" y="8763"/>
                </a:cubicBezTo>
                <a:cubicBezTo>
                  <a:pt x="5400" y="8763"/>
                  <a:pt x="10800" y="8774"/>
                  <a:pt x="10800" y="8785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762000" y="14479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riticisms of Boards of Directors include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Too readily approve managers’ self-serving initiativ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Are exploited by managers with personal ties to board memb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Are not vigilant enough in hiring and monitoring CEO behavior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ack of agreement about the number of and most appropriate role of outside director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222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23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8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26" name="Rectangle 9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0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Board of Directors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(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4E115418-1BA4-48BE-A685-E995C4635031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2"/>
          <p:cNvSpPr/>
          <p:nvPr/>
        </p:nvSpPr>
        <p:spPr>
          <a:xfrm>
            <a:off x="3200400" y="1386000"/>
            <a:ext cx="990720" cy="394812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948120"/>
              <a:gd name="textAreaBottom" fmla="*/ 3947040 h 39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8368"/>
                </a:lnTo>
                <a:cubicBezTo>
                  <a:pt x="10800" y="8379"/>
                  <a:pt x="5400" y="8390"/>
                  <a:pt x="0" y="8390"/>
                </a:cubicBezTo>
                <a:cubicBezTo>
                  <a:pt x="5400" y="8390"/>
                  <a:pt x="10800" y="8401"/>
                  <a:pt x="10800" y="8412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62000" y="14479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Enhancing the effectiveness of boards and directors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More diversity in the backgrounds of board memb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tronger internal management and accounting control system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More formal processes to evaluate the board’s performance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Adopting a “lead director” role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hanges in compensation of director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233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34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8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37" name="Rectangle 9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10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Board of Directors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(d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89108F51-F246-478C-A48A-D7E5EEFF41F7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2"/>
          <p:cNvSpPr/>
          <p:nvPr/>
        </p:nvSpPr>
        <p:spPr>
          <a:xfrm>
            <a:off x="3200400" y="1386000"/>
            <a:ext cx="990720" cy="4557600"/>
          </a:xfrm>
          <a:custGeom>
            <a:avLst/>
            <a:gdLst>
              <a:gd name="textAreaLeft" fmla="*/ 632880 w 990720"/>
              <a:gd name="textAreaRight" fmla="*/ 991080 w 990720"/>
              <a:gd name="textAreaTop" fmla="*/ 1440 h 4557600"/>
              <a:gd name="textAreaBottom" fmla="*/ 4556160 h 45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2399"/>
                </a:lnTo>
                <a:cubicBezTo>
                  <a:pt x="10800" y="12410"/>
                  <a:pt x="5400" y="12421"/>
                  <a:pt x="0" y="12421"/>
                </a:cubicBezTo>
                <a:cubicBezTo>
                  <a:pt x="5400" y="12421"/>
                  <a:pt x="10800" y="12432"/>
                  <a:pt x="10800" y="12443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762000" y="14479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20680" indent="-220680">
              <a:spcBef>
                <a:spcPts val="9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Forms of compensation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586440" indent="-25812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alaries, bonuses, long-term performance incentives, stock awards, stock option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20680" indent="-220680">
              <a:spcBef>
                <a:spcPts val="9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Factors complicating executive compensation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586440" indent="-25812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trategic decisions by top-level managers are complex, non-routine and affect the firm over an extended period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586440" indent="-25812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Other variables affecting the firm’s performance over time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244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45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1"/>
          <p:cNvGrpSpPr/>
          <p:nvPr/>
        </p:nvGrpSpPr>
        <p:grpSpPr>
          <a:xfrm>
            <a:off x="541440" y="3483000"/>
            <a:ext cx="2811240" cy="1036440"/>
            <a:chOff x="541440" y="3483000"/>
            <a:chExt cx="2811240" cy="1036440"/>
          </a:xfrm>
        </p:grpSpPr>
        <p:sp>
          <p:nvSpPr>
            <p:cNvPr id="248" name="Rectangle 12"/>
            <p:cNvSpPr/>
            <p:nvPr/>
          </p:nvSpPr>
          <p:spPr>
            <a:xfrm>
              <a:off x="541440" y="34830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13"/>
            <p:cNvSpPr/>
            <p:nvPr/>
          </p:nvSpPr>
          <p:spPr>
            <a:xfrm>
              <a:off x="644400" y="356040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Execu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mpensation 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4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51" name="Rectangle 15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16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Board of Direc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000"/>
                            </p:stCondLst>
                            <p:childTnLst>
                              <p:par>
                                <p:cTn id="58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500"/>
                            </p:stCondLst>
                            <p:childTnLst>
                              <p:par>
                                <p:cTn id="59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01A19543-B180-429D-AFAD-46F08E6F5F8C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2"/>
          <p:cNvSpPr/>
          <p:nvPr/>
        </p:nvSpPr>
        <p:spPr>
          <a:xfrm>
            <a:off x="3200400" y="1386000"/>
            <a:ext cx="990720" cy="371952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719520"/>
              <a:gd name="textAreaBottom" fmla="*/ 3718440 h 37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5060"/>
                </a:lnTo>
                <a:cubicBezTo>
                  <a:pt x="10800" y="15071"/>
                  <a:pt x="5400" y="15082"/>
                  <a:pt x="0" y="15082"/>
                </a:cubicBezTo>
                <a:cubicBezTo>
                  <a:pt x="5400" y="15082"/>
                  <a:pt x="10800" y="15093"/>
                  <a:pt x="10800" y="15104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762000" y="1447920"/>
            <a:ext cx="4876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Limits on the effectiveness of executive compensation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Unintended consequences of stock option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Firm performance not as important than firm size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Balance sheet not showing executive wealth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Options not expensed at the time they are awarded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258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59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14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62" name="Rectangle 15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6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Board of Direc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17"/>
          <p:cNvGrpSpPr/>
          <p:nvPr/>
        </p:nvGrpSpPr>
        <p:grpSpPr>
          <a:xfrm>
            <a:off x="541440" y="3483000"/>
            <a:ext cx="2811240" cy="1036440"/>
            <a:chOff x="541440" y="3483000"/>
            <a:chExt cx="2811240" cy="1036440"/>
          </a:xfrm>
        </p:grpSpPr>
        <p:sp>
          <p:nvSpPr>
            <p:cNvPr id="265" name="Rectangle 18"/>
            <p:cNvSpPr/>
            <p:nvPr/>
          </p:nvSpPr>
          <p:spPr>
            <a:xfrm>
              <a:off x="541440" y="34830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9"/>
            <p:cNvSpPr/>
            <p:nvPr/>
          </p:nvSpPr>
          <p:spPr>
            <a:xfrm>
              <a:off x="644400" y="356040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Execu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mpensation (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E2ECDE86-8A7D-4846-9886-C7AF3B20837F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2"/>
          <p:cNvSpPr/>
          <p:nvPr/>
        </p:nvSpPr>
        <p:spPr>
          <a:xfrm>
            <a:off x="3200400" y="1690560"/>
            <a:ext cx="990720" cy="379584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795840"/>
              <a:gd name="textAreaBottom" fmla="*/ 3794760 h 37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8877"/>
                </a:lnTo>
                <a:cubicBezTo>
                  <a:pt x="10800" y="18888"/>
                  <a:pt x="5400" y="18899"/>
                  <a:pt x="0" y="18899"/>
                </a:cubicBezTo>
                <a:cubicBezTo>
                  <a:pt x="5400" y="18899"/>
                  <a:pt x="10800" y="18910"/>
                  <a:pt x="10800" y="18921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762000" y="1752480"/>
            <a:ext cx="4876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ndividuals and firms buy or take over undervalued corporat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Ineffective managers are usually replaced in such takeover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reat of takeover may lead firm to operate more efficiently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hanges in regulations have made hostile takeovers difficult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272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73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Group 14"/>
          <p:cNvGrpSpPr/>
          <p:nvPr/>
        </p:nvGrpSpPr>
        <p:grpSpPr>
          <a:xfrm>
            <a:off x="541440" y="4538520"/>
            <a:ext cx="2811240" cy="1036440"/>
            <a:chOff x="541440" y="4538520"/>
            <a:chExt cx="2811240" cy="1036440"/>
          </a:xfrm>
        </p:grpSpPr>
        <p:sp>
          <p:nvSpPr>
            <p:cNvPr id="276" name="Rectangle 15"/>
            <p:cNvSpPr/>
            <p:nvPr/>
          </p:nvSpPr>
          <p:spPr>
            <a:xfrm>
              <a:off x="541440" y="45385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7c9496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16"/>
            <p:cNvSpPr/>
            <p:nvPr/>
          </p:nvSpPr>
          <p:spPr>
            <a:xfrm>
              <a:off x="644400" y="46162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d5c5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Market f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rporate Control 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Group 20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79" name="Rectangle 21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22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Board of Direc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Group 23"/>
          <p:cNvGrpSpPr/>
          <p:nvPr/>
        </p:nvGrpSpPr>
        <p:grpSpPr>
          <a:xfrm>
            <a:off x="541440" y="3483000"/>
            <a:ext cx="2811240" cy="1036440"/>
            <a:chOff x="541440" y="3483000"/>
            <a:chExt cx="2811240" cy="1036440"/>
          </a:xfrm>
        </p:grpSpPr>
        <p:sp>
          <p:nvSpPr>
            <p:cNvPr id="282" name="Rectangle 24"/>
            <p:cNvSpPr/>
            <p:nvPr/>
          </p:nvSpPr>
          <p:spPr>
            <a:xfrm>
              <a:off x="541440" y="34830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25"/>
            <p:cNvSpPr/>
            <p:nvPr/>
          </p:nvSpPr>
          <p:spPr>
            <a:xfrm>
              <a:off x="644400" y="356040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ecu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mpens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0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6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500"/>
                            </p:stCondLst>
                            <p:childTnLst>
                              <p:par>
                                <p:cTn id="67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2000"/>
                            </p:stCondLst>
                            <p:childTnLst>
                              <p:par>
                                <p:cTn id="68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11DCE06D-F541-4DC5-BDAC-CD88F71004A6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2"/>
          <p:cNvSpPr/>
          <p:nvPr/>
        </p:nvSpPr>
        <p:spPr>
          <a:xfrm>
            <a:off x="3200400" y="1512720"/>
            <a:ext cx="990720" cy="425304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4253040"/>
              <a:gd name="textAreaBottom" fmla="*/ 4251960 h 4253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8079"/>
                </a:lnTo>
                <a:cubicBezTo>
                  <a:pt x="10800" y="18090"/>
                  <a:pt x="5400" y="18101"/>
                  <a:pt x="0" y="18101"/>
                </a:cubicBezTo>
                <a:cubicBezTo>
                  <a:pt x="5400" y="18101"/>
                  <a:pt x="10800" y="18112"/>
                  <a:pt x="10800" y="18123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733920" y="1523520"/>
            <a:ext cx="48765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Managerial defense tactics increase the costs of mounting a takeover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efense tactics may require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Asset restructuring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hanges in the financial structure of the firm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hareholder approval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Market for corporate control lacks the precision of internal governance mechanism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289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90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11"/>
          <p:cNvGrpSpPr/>
          <p:nvPr/>
        </p:nvGrpSpPr>
        <p:grpSpPr>
          <a:xfrm>
            <a:off x="541440" y="3483000"/>
            <a:ext cx="2811240" cy="1036440"/>
            <a:chOff x="541440" y="3483000"/>
            <a:chExt cx="2811240" cy="1036440"/>
          </a:xfrm>
        </p:grpSpPr>
        <p:sp>
          <p:nvSpPr>
            <p:cNvPr id="293" name="Rectangle 12"/>
            <p:cNvSpPr/>
            <p:nvPr/>
          </p:nvSpPr>
          <p:spPr>
            <a:xfrm>
              <a:off x="541440" y="34830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3"/>
            <p:cNvSpPr/>
            <p:nvPr/>
          </p:nvSpPr>
          <p:spPr>
            <a:xfrm>
              <a:off x="644400" y="356040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ecu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mpens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14"/>
          <p:cNvGrpSpPr/>
          <p:nvPr/>
        </p:nvGrpSpPr>
        <p:grpSpPr>
          <a:xfrm>
            <a:off x="541440" y="4538520"/>
            <a:ext cx="2811240" cy="1036440"/>
            <a:chOff x="541440" y="4538520"/>
            <a:chExt cx="2811240" cy="1036440"/>
          </a:xfrm>
        </p:grpSpPr>
        <p:sp>
          <p:nvSpPr>
            <p:cNvPr id="296" name="Rectangle 15"/>
            <p:cNvSpPr/>
            <p:nvPr/>
          </p:nvSpPr>
          <p:spPr>
            <a:xfrm>
              <a:off x="541440" y="45385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6"/>
            <p:cNvSpPr/>
            <p:nvPr/>
          </p:nvSpPr>
          <p:spPr>
            <a:xfrm>
              <a:off x="644400" y="46162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Market f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rporate Control (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Group 17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99" name="Rectangle 18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9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Board of Direc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0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1000"/>
                            </p:stCondLst>
                            <p:childTnLst>
                              <p:par>
                                <p:cTn id="70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500"/>
                            </p:stCondLst>
                            <p:childTnLst>
                              <p:par>
                                <p:cTn id="71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2000"/>
                            </p:stCondLst>
                            <p:childTnLst>
                              <p:par>
                                <p:cTn id="7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2500"/>
                            </p:stCondLst>
                            <p:childTnLst>
                              <p:par>
                                <p:cTn id="72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3000"/>
                            </p:stCondLst>
                            <p:childTnLst>
                              <p:par>
                                <p:cTn id="73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3500"/>
                            </p:stCondLst>
                            <p:childTnLst>
                              <p:par>
                                <p:cTn id="7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3469E3DE-A8EF-46E7-99BF-F51D10D983C7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560" y="441360"/>
            <a:ext cx="8381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10.2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General Environment: Segments and Element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209520" y="1251000"/>
            <a:ext cx="878220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Defense strategy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Category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Popularity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Effectiveness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Stockholder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among firms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as a defense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wealth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ison pi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entiv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porate char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entiv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low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ativ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endm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lden parachu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en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lig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tig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eenmai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iv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low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sti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ativ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ital structur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nclusiv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4"/>
          <p:cNvSpPr/>
          <p:nvPr/>
        </p:nvSpPr>
        <p:spPr>
          <a:xfrm>
            <a:off x="396360" y="6313320"/>
            <a:ext cx="7688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. A. Pearce II &amp; R. B. Robinson, Jr., 2004, Hostile takeover defenses that maximize shareholder wealth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Business Horizons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7(5): 15–24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0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84AFB9C2-E2F3-4923-9181-60EDF39843CA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rporate Governanc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1814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erman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wner and manager are often the same in private firm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ublic firms often have a dominant shareholder, frequently a bank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requently there is less emphasis on shareholder value than in U.S. firms, although this may be changing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310" name="Picture 4" descr="j0234757"/>
          <p:cNvPicPr/>
          <p:nvPr/>
        </p:nvPicPr>
        <p:blipFill>
          <a:blip r:embed="rId1"/>
          <a:stretch/>
        </p:blipFill>
        <p:spPr>
          <a:xfrm>
            <a:off x="5888160" y="4038480"/>
            <a:ext cx="1655640" cy="19051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5" descr="csuj_3zz[1]"/>
          <p:cNvPicPr/>
          <p:nvPr/>
        </p:nvPicPr>
        <p:blipFill>
          <a:blip r:embed="rId2"/>
          <a:stretch/>
        </p:blipFill>
        <p:spPr>
          <a:xfrm>
            <a:off x="6324480" y="2819520"/>
            <a:ext cx="2286000" cy="1379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0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5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770013FE-BE79-404C-B2CB-2402984087BD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52520" indent="-452520">
              <a:spcBef>
                <a:spcPts val="751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types of compensation executives receive and their effects on strategic decis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2520" indent="-452520">
              <a:spcBef>
                <a:spcPts val="751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the external corporate governance mechanism—the market for corporate control—acts as a restraint on top-level managers’ strategic decis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2520" indent="-452520">
              <a:spcBef>
                <a:spcPts val="751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use of corporate governance in international settings, in particular in Germany and Japan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2520" indent="-452520">
              <a:spcBef>
                <a:spcPts val="751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corporate governance fosters ethical strategic decisions and the importance of such behaviors on the part of top-level executiv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439FC247-69FD-4B81-89A3-F6C305EFDF1F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"/>
          <p:cNvSpPr/>
          <p:nvPr/>
        </p:nvSpPr>
        <p:spPr>
          <a:xfrm>
            <a:off x="4006800" y="2252520"/>
            <a:ext cx="399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le for the functions of direction and man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4006800" y="3471840"/>
            <a:ext cx="399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le for appointing members to the Vo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4006800" y="4937040"/>
            <a:ext cx="399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le for appointing members to the Aufsichtsr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rporate Governanc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318" name="Group 6"/>
          <p:cNvGrpSpPr/>
          <p:nvPr/>
        </p:nvGrpSpPr>
        <p:grpSpPr>
          <a:xfrm>
            <a:off x="1301760" y="2057400"/>
            <a:ext cx="2482560" cy="1033200"/>
            <a:chOff x="1301760" y="2057400"/>
            <a:chExt cx="2482560" cy="1033200"/>
          </a:xfrm>
        </p:grpSpPr>
        <p:sp>
          <p:nvSpPr>
            <p:cNvPr id="319" name="Rectangle 7"/>
            <p:cNvSpPr/>
            <p:nvPr/>
          </p:nvSpPr>
          <p:spPr>
            <a:xfrm>
              <a:off x="1301760" y="2057400"/>
              <a:ext cx="2482560" cy="10332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8"/>
            <p:cNvSpPr/>
            <p:nvPr/>
          </p:nvSpPr>
          <p:spPr>
            <a:xfrm>
              <a:off x="1361880" y="2125440"/>
              <a:ext cx="2327400" cy="897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orsta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Group 9"/>
          <p:cNvGrpSpPr/>
          <p:nvPr/>
        </p:nvGrpSpPr>
        <p:grpSpPr>
          <a:xfrm>
            <a:off x="1301760" y="3352680"/>
            <a:ext cx="2482920" cy="1033200"/>
            <a:chOff x="1301760" y="3352680"/>
            <a:chExt cx="2482920" cy="1033200"/>
          </a:xfrm>
        </p:grpSpPr>
        <p:sp>
          <p:nvSpPr>
            <p:cNvPr id="322" name="Rectangle 10"/>
            <p:cNvSpPr/>
            <p:nvPr/>
          </p:nvSpPr>
          <p:spPr>
            <a:xfrm>
              <a:off x="1301760" y="3352680"/>
              <a:ext cx="2482920" cy="1033200"/>
            </a:xfrm>
            <a:prstGeom prst="rect">
              <a:avLst/>
            </a:prstGeom>
            <a:gradFill rotWithShape="0">
              <a:gsLst>
                <a:gs pos="0">
                  <a:srgbClr val="5e4700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11"/>
            <p:cNvSpPr/>
            <p:nvPr/>
          </p:nvSpPr>
          <p:spPr>
            <a:xfrm>
              <a:off x="1362240" y="3420720"/>
              <a:ext cx="2327040" cy="8971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5e4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ufsichtsra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Group 12"/>
          <p:cNvGrpSpPr/>
          <p:nvPr/>
        </p:nvGrpSpPr>
        <p:grpSpPr>
          <a:xfrm>
            <a:off x="1300320" y="4627440"/>
            <a:ext cx="2495520" cy="1359000"/>
            <a:chOff x="1300320" y="4627440"/>
            <a:chExt cx="2495520" cy="1359000"/>
          </a:xfrm>
        </p:grpSpPr>
        <p:sp>
          <p:nvSpPr>
            <p:cNvPr id="325" name="Rectangle 13"/>
            <p:cNvSpPr/>
            <p:nvPr/>
          </p:nvSpPr>
          <p:spPr>
            <a:xfrm>
              <a:off x="1300320" y="4627440"/>
              <a:ext cx="2495520" cy="1359000"/>
            </a:xfrm>
            <a:prstGeom prst="rect">
              <a:avLst/>
            </a:pr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4"/>
            <p:cNvSpPr/>
            <p:nvPr/>
          </p:nvSpPr>
          <p:spPr>
            <a:xfrm>
              <a:off x="1377720" y="4802400"/>
              <a:ext cx="2340000" cy="100872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Union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embers Shar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27" name="AutoShape 15"/>
          <p:cNvCxnSpPr>
            <a:stCxn id="325" idx="0"/>
            <a:endCxn id="322" idx="2"/>
          </p:cNvCxnSpPr>
          <p:nvPr/>
        </p:nvCxnSpPr>
        <p:spPr>
          <a:xfrm flipH="1" flipV="1">
            <a:off x="2542680" y="4385880"/>
            <a:ext cx="5760" cy="241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328" name="AutoShape 16"/>
          <p:cNvCxnSpPr>
            <a:stCxn id="322" idx="0"/>
            <a:endCxn id="319" idx="2"/>
          </p:cNvCxnSpPr>
          <p:nvPr/>
        </p:nvCxnSpPr>
        <p:spPr>
          <a:xfrm flipV="1">
            <a:off x="2542680" y="3090600"/>
            <a:ext cx="1080" cy="262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329" name="Text Box 17"/>
          <p:cNvSpPr/>
          <p:nvPr/>
        </p:nvSpPr>
        <p:spPr>
          <a:xfrm>
            <a:off x="1952640" y="1295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Germany: Two-tiered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0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500"/>
                            </p:stCondLst>
                            <p:childTnLst>
                              <p:par>
                                <p:cTn id="79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500"/>
                            </p:stCondLst>
                            <p:childTnLst>
                              <p:par>
                                <p:cTn id="8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1000"/>
                            </p:stCondLst>
                            <p:childTnLst>
                              <p:par>
                                <p:cTn id="80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500"/>
                            </p:stCondLst>
                            <p:childTnLst>
                              <p:par>
                                <p:cTn id="8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1000"/>
                            </p:stCondLst>
                            <p:childTnLst>
                              <p:par>
                                <p:cTn id="81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7A511DC7-AAD8-4173-A93B-76139237F8BA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2" descr="j0090245"/>
          <p:cNvPicPr/>
          <p:nvPr/>
        </p:nvPicPr>
        <p:blipFill>
          <a:blip r:embed="rId1"/>
          <a:stretch/>
        </p:blipFill>
        <p:spPr>
          <a:xfrm>
            <a:off x="6864480" y="3352680"/>
            <a:ext cx="1670040" cy="170496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rporate Governanc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9562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Japa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mportant governance factors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l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il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en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Keiretsus: strongly interrelated groups of firms tied together by cross-shareholding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anks (especially “main bank”) are highly influential with firm’s manag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335" name="Picture 5" descr="v0igzx1j[1]"/>
          <p:cNvPicPr/>
          <p:nvPr/>
        </p:nvPicPr>
        <p:blipFill>
          <a:blip r:embed="rId2"/>
          <a:stretch/>
        </p:blipFill>
        <p:spPr>
          <a:xfrm>
            <a:off x="6172200" y="1981080"/>
            <a:ext cx="2127240" cy="1495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0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500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6" dur="500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947F5A0C-8772-4273-8FB5-29F5D42BE780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rporate Governanc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Japan (cont’d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Other governance characteristics: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ful government inter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relationships between firms and government 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ive and stable shareholders who exert littl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bsence of external market for corporat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1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9F9CE0AA-45B0-4486-B8AF-52CF33FA4CBC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rporate Governanc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lobal Corporate Governa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2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Organizations worldwide are adopting a relatively uniform governance structure.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ards of directors are becoming smaller, with more independent and outside me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ors are becoming more a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rapidly developing market economies, minority shareholder rights are not protected by adequate governance contr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2" dur="5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5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AA1119DE-2B51-47B8-8C7A-B33FA7992003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4"/>
          <p:cNvGrpSpPr/>
          <p:nvPr/>
        </p:nvGrpSpPr>
        <p:grpSpPr>
          <a:xfrm>
            <a:off x="566640" y="4716360"/>
            <a:ext cx="2584440" cy="846360"/>
            <a:chOff x="566640" y="4716360"/>
            <a:chExt cx="2584440" cy="846360"/>
          </a:xfrm>
        </p:grpSpPr>
        <p:sp>
          <p:nvSpPr>
            <p:cNvPr id="347" name="Rectangle 5"/>
            <p:cNvSpPr/>
            <p:nvPr/>
          </p:nvSpPr>
          <p:spPr>
            <a:xfrm>
              <a:off x="566640" y="4716360"/>
              <a:ext cx="2584440" cy="846360"/>
            </a:xfrm>
            <a:prstGeom prst="rect">
              <a:avLst/>
            </a:pr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6"/>
            <p:cNvSpPr/>
            <p:nvPr/>
          </p:nvSpPr>
          <p:spPr>
            <a:xfrm>
              <a:off x="619200" y="477432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rganiz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Group 7"/>
          <p:cNvGrpSpPr/>
          <p:nvPr/>
        </p:nvGrpSpPr>
        <p:grpSpPr>
          <a:xfrm>
            <a:off x="566640" y="3835440"/>
            <a:ext cx="2584440" cy="846000"/>
            <a:chOff x="566640" y="3835440"/>
            <a:chExt cx="2584440" cy="846000"/>
          </a:xfrm>
        </p:grpSpPr>
        <p:sp>
          <p:nvSpPr>
            <p:cNvPr id="350" name="Rectangle 8"/>
            <p:cNvSpPr/>
            <p:nvPr/>
          </p:nvSpPr>
          <p:spPr>
            <a:xfrm>
              <a:off x="566640" y="383544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9"/>
            <p:cNvSpPr/>
            <p:nvPr/>
          </p:nvSpPr>
          <p:spPr>
            <a:xfrm>
              <a:off x="625320" y="388908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Product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3520" y="518760"/>
            <a:ext cx="54100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and Ethical Behavior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53" name="Text Box 29"/>
          <p:cNvSpPr/>
          <p:nvPr/>
        </p:nvSpPr>
        <p:spPr>
          <a:xfrm>
            <a:off x="1752480" y="1905120"/>
            <a:ext cx="563904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t is important to serve the interests of the firm’s multiple stakeholder group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30"/>
          <p:cNvSpPr/>
          <p:nvPr/>
        </p:nvSpPr>
        <p:spPr>
          <a:xfrm>
            <a:off x="3530520" y="3033720"/>
            <a:ext cx="510552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3160" indent="-17316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hareholders (in the capital market stakeholder group) are viewed as the most important stakeholder gro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he focus of governance mechanisms is on the control of managerial decisions to assure shareholder intere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nterests of shareholders is served by the Board of Direct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32"/>
          <p:cNvSpPr/>
          <p:nvPr/>
        </p:nvSpPr>
        <p:spPr>
          <a:xfrm>
            <a:off x="3124080" y="3022560"/>
            <a:ext cx="609840" cy="2743200"/>
          </a:xfrm>
          <a:custGeom>
            <a:avLst/>
            <a:gdLst>
              <a:gd name="textAreaLeft" fmla="*/ 389520 w 609840"/>
              <a:gd name="textAreaRight" fmla="*/ 610200 w 609840"/>
              <a:gd name="textAreaTop" fmla="*/ 720 h 2743200"/>
              <a:gd name="textAreaBottom" fmla="*/ 274248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2918"/>
                </a:lnTo>
                <a:cubicBezTo>
                  <a:pt x="10800" y="2929"/>
                  <a:pt x="5400" y="2940"/>
                  <a:pt x="0" y="2940"/>
                </a:cubicBezTo>
                <a:cubicBezTo>
                  <a:pt x="5400" y="2940"/>
                  <a:pt x="10800" y="2951"/>
                  <a:pt x="10800" y="2962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Group 10"/>
          <p:cNvGrpSpPr/>
          <p:nvPr/>
        </p:nvGrpSpPr>
        <p:grpSpPr>
          <a:xfrm>
            <a:off x="565200" y="2963880"/>
            <a:ext cx="2584440" cy="846000"/>
            <a:chOff x="565200" y="2963880"/>
            <a:chExt cx="2584440" cy="846000"/>
          </a:xfrm>
        </p:grpSpPr>
        <p:sp>
          <p:nvSpPr>
            <p:cNvPr id="357" name="Rectangle 11"/>
            <p:cNvSpPr/>
            <p:nvPr/>
          </p:nvSpPr>
          <p:spPr>
            <a:xfrm>
              <a:off x="565200" y="296388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12"/>
            <p:cNvSpPr/>
            <p:nvPr/>
          </p:nvSpPr>
          <p:spPr>
            <a:xfrm>
              <a:off x="623880" y="3017880"/>
              <a:ext cx="2467080" cy="738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apital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500"/>
                            </p:stCondLst>
                            <p:childTnLst>
                              <p:par>
                                <p:cTn id="91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1000"/>
                            </p:stCondLst>
                            <p:childTnLst>
                              <p:par>
                                <p:cTn id="92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1500"/>
                            </p:stCondLst>
                            <p:childTnLst>
                              <p:par>
                                <p:cTn id="92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2000"/>
                            </p:stCondLst>
                            <p:childTnLst>
                              <p:par>
                                <p:cTn id="9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2500"/>
                            </p:stCondLst>
                            <p:childTnLst>
                              <p:par>
                                <p:cTn id="93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3000"/>
                            </p:stCondLst>
                            <p:childTnLst>
                              <p:par>
                                <p:cTn id="94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3500"/>
                            </p:stCondLst>
                            <p:childTnLst>
                              <p:par>
                                <p:cTn id="94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B6EBEF64-8162-4192-91F6-954EFD3C4A4F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4"/>
          <p:cNvGrpSpPr/>
          <p:nvPr/>
        </p:nvGrpSpPr>
        <p:grpSpPr>
          <a:xfrm>
            <a:off x="566640" y="4718160"/>
            <a:ext cx="2584440" cy="846000"/>
            <a:chOff x="566640" y="4718160"/>
            <a:chExt cx="2584440" cy="846000"/>
          </a:xfrm>
        </p:grpSpPr>
        <p:sp>
          <p:nvSpPr>
            <p:cNvPr id="362" name="Rectangle 5"/>
            <p:cNvSpPr/>
            <p:nvPr/>
          </p:nvSpPr>
          <p:spPr>
            <a:xfrm>
              <a:off x="566640" y="471816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6"/>
            <p:cNvSpPr/>
            <p:nvPr/>
          </p:nvSpPr>
          <p:spPr>
            <a:xfrm>
              <a:off x="619200" y="477612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rganiz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7"/>
          <p:cNvGrpSpPr/>
          <p:nvPr/>
        </p:nvGrpSpPr>
        <p:grpSpPr>
          <a:xfrm>
            <a:off x="566640" y="3833640"/>
            <a:ext cx="2584440" cy="846360"/>
            <a:chOff x="566640" y="3833640"/>
            <a:chExt cx="2584440" cy="846360"/>
          </a:xfrm>
        </p:grpSpPr>
        <p:sp>
          <p:nvSpPr>
            <p:cNvPr id="365" name="Rectangle 8"/>
            <p:cNvSpPr/>
            <p:nvPr/>
          </p:nvSpPr>
          <p:spPr>
            <a:xfrm>
              <a:off x="566640" y="3833640"/>
              <a:ext cx="2584440" cy="8463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9"/>
            <p:cNvSpPr/>
            <p:nvPr/>
          </p:nvSpPr>
          <p:spPr>
            <a:xfrm>
              <a:off x="625320" y="388728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Product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10"/>
          <p:cNvGrpSpPr/>
          <p:nvPr/>
        </p:nvGrpSpPr>
        <p:grpSpPr>
          <a:xfrm>
            <a:off x="565200" y="2959200"/>
            <a:ext cx="2584440" cy="846000"/>
            <a:chOff x="565200" y="2959200"/>
            <a:chExt cx="2584440" cy="846000"/>
          </a:xfrm>
        </p:grpSpPr>
        <p:sp>
          <p:nvSpPr>
            <p:cNvPr id="368" name="Rectangle 11"/>
            <p:cNvSpPr/>
            <p:nvPr/>
          </p:nvSpPr>
          <p:spPr>
            <a:xfrm>
              <a:off x="565200" y="295920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12"/>
            <p:cNvSpPr/>
            <p:nvPr/>
          </p:nvSpPr>
          <p:spPr>
            <a:xfrm>
              <a:off x="623880" y="3013200"/>
              <a:ext cx="2467080" cy="738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pital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3160" y="5187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and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thical Behavior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71" name="Rectangle 30"/>
          <p:cNvSpPr/>
          <p:nvPr/>
        </p:nvSpPr>
        <p:spPr>
          <a:xfrm>
            <a:off x="3505320" y="3040200"/>
            <a:ext cx="4952880" cy="19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3160" indent="-17316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Product market stakeholders (customers, suppliers and host communities) and organizational stakeholders may withdraw their support of the firm if their needs are not met, at least minim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32"/>
          <p:cNvSpPr/>
          <p:nvPr/>
        </p:nvSpPr>
        <p:spPr>
          <a:xfrm>
            <a:off x="3124080" y="2997360"/>
            <a:ext cx="609840" cy="2082600"/>
          </a:xfrm>
          <a:custGeom>
            <a:avLst/>
            <a:gdLst>
              <a:gd name="textAreaLeft" fmla="*/ 389520 w 609840"/>
              <a:gd name="textAreaRight" fmla="*/ 610200 w 609840"/>
              <a:gd name="textAreaTop" fmla="*/ 360 h 2082600"/>
              <a:gd name="textAreaBottom" fmla="*/ 2082240 h 2082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3001"/>
                </a:lnTo>
                <a:cubicBezTo>
                  <a:pt x="10800" y="13012"/>
                  <a:pt x="5400" y="13023"/>
                  <a:pt x="0" y="13023"/>
                </a:cubicBezTo>
                <a:cubicBezTo>
                  <a:pt x="5400" y="13023"/>
                  <a:pt x="10800" y="13034"/>
                  <a:pt x="10800" y="13045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3"/>
          <p:cNvSpPr/>
          <p:nvPr/>
        </p:nvSpPr>
        <p:spPr>
          <a:xfrm>
            <a:off x="1752480" y="1905120"/>
            <a:ext cx="563904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t is important to serve the interests of the firm’s multiple stakeholder group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0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500"/>
                            </p:stCondLst>
                            <p:childTnLst>
                              <p:par>
                                <p:cTn id="96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1FA6BB3A-FB89-4708-AF02-EE0C7AEF82B6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32"/>
          <p:cNvSpPr/>
          <p:nvPr/>
        </p:nvSpPr>
        <p:spPr>
          <a:xfrm>
            <a:off x="3124080" y="2971800"/>
            <a:ext cx="609840" cy="2743200"/>
          </a:xfrm>
          <a:custGeom>
            <a:avLst/>
            <a:gdLst>
              <a:gd name="textAreaLeft" fmla="*/ 389520 w 609840"/>
              <a:gd name="textAreaRight" fmla="*/ 610200 w 609840"/>
              <a:gd name="textAreaTop" fmla="*/ 720 h 2743200"/>
              <a:gd name="textAreaBottom" fmla="*/ 274248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6703"/>
                </a:lnTo>
                <a:cubicBezTo>
                  <a:pt x="10800" y="16714"/>
                  <a:pt x="5400" y="16725"/>
                  <a:pt x="0" y="16725"/>
                </a:cubicBezTo>
                <a:cubicBezTo>
                  <a:pt x="5400" y="16725"/>
                  <a:pt x="10800" y="16736"/>
                  <a:pt x="10800" y="16747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7"/>
          <p:cNvGrpSpPr/>
          <p:nvPr/>
        </p:nvGrpSpPr>
        <p:grpSpPr>
          <a:xfrm>
            <a:off x="566640" y="3822840"/>
            <a:ext cx="2584440" cy="846000"/>
            <a:chOff x="566640" y="3822840"/>
            <a:chExt cx="2584440" cy="846000"/>
          </a:xfrm>
        </p:grpSpPr>
        <p:sp>
          <p:nvSpPr>
            <p:cNvPr id="378" name="Rectangle 8"/>
            <p:cNvSpPr/>
            <p:nvPr/>
          </p:nvSpPr>
          <p:spPr>
            <a:xfrm>
              <a:off x="566640" y="382284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9"/>
            <p:cNvSpPr/>
            <p:nvPr/>
          </p:nvSpPr>
          <p:spPr>
            <a:xfrm>
              <a:off x="625320" y="387648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Product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Group 4"/>
          <p:cNvGrpSpPr/>
          <p:nvPr/>
        </p:nvGrpSpPr>
        <p:grpSpPr>
          <a:xfrm>
            <a:off x="566640" y="4710240"/>
            <a:ext cx="2584440" cy="846000"/>
            <a:chOff x="566640" y="4710240"/>
            <a:chExt cx="2584440" cy="846000"/>
          </a:xfrm>
        </p:grpSpPr>
        <p:sp>
          <p:nvSpPr>
            <p:cNvPr id="381" name="Rectangle 5"/>
            <p:cNvSpPr/>
            <p:nvPr/>
          </p:nvSpPr>
          <p:spPr>
            <a:xfrm>
              <a:off x="566640" y="471024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6"/>
            <p:cNvSpPr/>
            <p:nvPr/>
          </p:nvSpPr>
          <p:spPr>
            <a:xfrm>
              <a:off x="619200" y="476820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Organiz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Group 10"/>
          <p:cNvGrpSpPr/>
          <p:nvPr/>
        </p:nvGrpSpPr>
        <p:grpSpPr>
          <a:xfrm>
            <a:off x="565200" y="2951280"/>
            <a:ext cx="2584440" cy="846000"/>
            <a:chOff x="565200" y="2951280"/>
            <a:chExt cx="2584440" cy="846000"/>
          </a:xfrm>
        </p:grpSpPr>
        <p:sp>
          <p:nvSpPr>
            <p:cNvPr id="384" name="Rectangle 11"/>
            <p:cNvSpPr/>
            <p:nvPr/>
          </p:nvSpPr>
          <p:spPr>
            <a:xfrm>
              <a:off x="565200" y="295128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12"/>
            <p:cNvSpPr/>
            <p:nvPr/>
          </p:nvSpPr>
          <p:spPr>
            <a:xfrm>
              <a:off x="623880" y="3005280"/>
              <a:ext cx="2467080" cy="738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pital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3160" y="5187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and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thical Behavior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87" name="Text Box 29"/>
          <p:cNvSpPr/>
          <p:nvPr/>
        </p:nvSpPr>
        <p:spPr>
          <a:xfrm>
            <a:off x="1790640" y="1905120"/>
            <a:ext cx="556272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t is important to serve the interests of the firm’s multiple stakeholder group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30"/>
          <p:cNvSpPr/>
          <p:nvPr/>
        </p:nvSpPr>
        <p:spPr>
          <a:xfrm>
            <a:off x="3505320" y="3014640"/>
            <a:ext cx="495288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3160" indent="-17316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ome observers believe that ethically responsible companies design and use governance mechanisms that serve all stakeholders’ intere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mportance of maintaining ethical behavior is seen in the examples of Enron, WorldCom, HealthSouth and Ty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0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500"/>
                            </p:stCondLst>
                            <p:childTnLst>
                              <p:par>
                                <p:cTn id="97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1000"/>
                            </p:stCondLst>
                            <p:childTnLst>
                              <p:par>
                                <p:cTn id="98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C36FA7C6-E8ED-4310-A8A2-6C80ACA3AD50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 Governanc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 governance i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relationship among stakeholders that is used to determine and control the strategic direction and performance of organiza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cerned with identifying ways to ensure that strategic decisions are made more effectivel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Used in corporations to establish order between the firm’s owners and its top-level managers whose interests may be in conflic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B9EA3E4A-F1C6-4E4B-A199-54C5C0A86EC8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Governance Mechanism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79924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wnership Concentr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lative amounts of stock owned by individual shareholders and institutional investo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oard of Director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dividuals responsible </a:t>
            </a:r>
            <a:br>
              <a:rPr sz="2400"/>
            </a:b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 representing the firm’s </a:t>
            </a:r>
            <a:br>
              <a:rPr sz="2400"/>
            </a:b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wners by monitoring top-level managers’ strategic decis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16" name="Picture 27" descr="j0090344"/>
          <p:cNvPicPr/>
          <p:nvPr/>
        </p:nvPicPr>
        <p:blipFill>
          <a:blip r:embed="rId1"/>
          <a:stretch/>
        </p:blipFill>
        <p:spPr>
          <a:xfrm>
            <a:off x="5486400" y="2401920"/>
            <a:ext cx="2801880" cy="2093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7E4F83B7-6810-45FC-B993-EB3767AE2860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54864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xecutive Compens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use of salary, bonuses, and long-term incentives to align managers’ interests with shareholders’ intere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rket for Corporate Contro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purchase of a firm that is underperforming relative to industry rivals in order to improve its strategic competitive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21" name="Picture 29" descr="j0215564"/>
          <p:cNvPicPr/>
          <p:nvPr/>
        </p:nvPicPr>
        <p:blipFill>
          <a:blip r:embed="rId1"/>
          <a:stretch/>
        </p:blipFill>
        <p:spPr>
          <a:xfrm>
            <a:off x="5791320" y="2009880"/>
            <a:ext cx="2879640" cy="2867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Marcador de pie de página 4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Marcador de número de diapositiva 5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9A1237B5-FD69-4286-B5D1-81D0904589C4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paration of Ownership and Managerial Contro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384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Basis of the modern corporatio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hareholders purchase stock, becoming residual claimant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hareholders reduce risk by holding diversified portfolio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fessional managers are contracted to provide decision making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8320" y="1676520"/>
            <a:ext cx="40384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Modern public corporation form leads to efficient specialization of tasks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Risk bearing by sharehold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trategy development and decision making by manag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A6F072B0-5454-4CB1-B67D-3AF292C6DBA4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463680"/>
            <a:ext cx="793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10.1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gency Relationship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0" name="Freeform 4"/>
          <p:cNvSpPr/>
          <p:nvPr/>
        </p:nvSpPr>
        <p:spPr>
          <a:xfrm>
            <a:off x="457200" y="457200"/>
            <a:ext cx="8229600" cy="4665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10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32" name="Line 6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7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Picture 12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7391520" cy="4538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88688800-3ECC-40BA-9C0B-57231DEAC317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gency Relationship Problem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rincipal and agent have divergent interests and goal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hareholders lack direct control of large, publicly traded corporat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gent makes decisions that result in the pursuit of goals that conflict with those of the principal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t is difficult or expensive for the principal to verify that the agent has behaved appropriately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gent falls prey to managerial opportunism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8T16:39:10Z</dcterms:created>
  <dc:creator>Charlie Cook, The University of West Alabama</dc:creator>
  <dc:description/>
  <dc:language>en-US</dc:language>
  <cp:lastModifiedBy>Luis Zaviezo</cp:lastModifiedBy>
  <dcterms:modified xsi:type="dcterms:W3CDTF">2010-11-08T16:49:52Z</dcterms:modified>
  <cp:revision>47</cp:revision>
  <dc:subject>Chapter 10</dc:subject>
  <dc:title>Strategic Management 7e.</dc:title>
</cp:coreProperties>
</file>