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move the slid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FA02-04BC-4087-96FD-B2278A542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198E-EE0C-41AE-8525-A0B2E701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D8E3-BF3A-4C41-9F74-10E74919F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F78C-B80C-4BD9-959A-43897608F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A3A4-B567-4658-8B2F-4014EEBE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C1E5-6FAF-4EA3-BE09-60BE43EDC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990C-5FF1-452E-BDC4-10120B38C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46CF-6BDA-41E2-A343-1D7F8F202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F2B9-27EB-4738-9C17-72BA2FBA9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846F-BED4-41CF-BD57-D351E010F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8145-8AF2-4472-910B-43F48B4C4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02BE-A73B-4D38-97D8-7F08E323B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05B6-4F1A-46ED-88DF-A3D755FA7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4AE8-7849-4360-AA1B-F30686E6B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83C1-5AC4-4D21-9151-36F12BCD9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A027-09E4-41E4-BDFF-B65C3D91D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B801-6E95-4F1A-B586-F5C49B569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0960-02F0-4132-9E16-308736BC0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6C11-E756-4AA8-A2AE-C63FD79DD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3B6D-663D-47A0-8E60-81C737723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459D-006F-4FBC-8B9D-C4576D34D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6AFC-6F7C-4524-AFA1-FECADD7F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BAEB-5CCB-46D5-920A-B01E401C9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B985-7BB3-448B-8B6F-722A52BB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CD0A-70EE-4211-8A23-80C814B77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2AC6-7F86-4AC6-9BAB-DC4220FC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06E5-73AA-41BE-866A-84A76E78A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2025-F0BA-4F3F-BF6A-221A2D12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D7A8-9835-4BDB-B607-D49F22F64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F839-5316-4327-B0D1-FB98F7A70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90E1-9B6B-4B66-A475-4F846A9E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8FE4-AD16-4DBE-906C-A3D1754B9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9B91-093F-4C48-840A-6B71F8D82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507C-912E-4E75-891A-66ECF919E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B16F-03D7-4B81-A5C2-DDCD77522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E1F7-EDBE-43E4-A0E7-0C7F86C1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E78F-9E0F-4ADF-BC89-FA4987CC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09F3-F0AB-4EE8-BEB6-0D35CF7AB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5F76-41FF-48B2-B38A-52AF4AA84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CCC5-95A3-40DC-AFB7-6C3CAA313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03DC-1217-4C70-8253-F496659DB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48A4-1652-468A-9C89-DABFEB6E0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ACF6-1847-4926-9260-C7D875644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EAD5-1A7C-4D79-BDEC-9881FA482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29EE-82F9-49ED-B74C-35BCE88AD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5FF8-3E8C-4766-B3F6-B06C07CF7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1B71-9FE1-4224-A25B-1989C5C0F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0F2F-57A2-4D78-941D-BA2026213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5F06-EB76-45E8-BF1D-1BDBF950F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8C9EC064-9AB5-40D8-852D-C278666F4033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Line 13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0492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lang="en-US" sz="3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2F14C4D-65B1-4D25-93BD-6B7A53EA9D1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9261EBA-5C18-4BD9-AA12-0512B8E074A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E1C8837-3C41-4224-8D69-EB5D471BCF0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63A9452-8E07-4891-B281-818DF6B22B5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6" name="Line 5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970BFEA-72AA-4B67-A4C1-1533EA76E73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CDA8F4E-6302-4237-ABA6-EF12CBB6EE2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D0A7AA9-E1AD-4191-875A-1F99C9A95ED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B444782-6C70-4752-8D7A-B40D403B295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7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9126311-0A40-49B2-A926-C5291D1E5CA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6EB5F55-B281-4B58-B227-698D082579D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17CD920-A9C1-40FB-A6E4-077FEC455ED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7D2AD1C-70B5-4BAD-BA61-A356F9BF297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01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04057BA-26A3-4AA1-951E-6804B0C9945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2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5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876D615-8AF5-41A2-B23F-78FE941922F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6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7009061-FDA6-4A80-9525-66F913750B5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4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37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8961E2F-2023-41EB-AC7D-4328E16AE94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4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8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51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5037AA4-8DA1-4335-B8B7-A6256661246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59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62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65" name="Rectangle 18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56702BC-729B-4FB1-BC4B-4B36C1614EA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7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7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d5c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79" name="Rectangle 21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82" name="Rectangle 24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5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43648B5-EFBD-4847-BB24-AB7B1312585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90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93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9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99" name="Rectangle 18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85F3208-1742-4DB7-ABB2-502B2FA6E2B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70F2665-5C18-4A7D-86F0-8808EF5FB28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10" name="Picture 4" descr="j0234757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suj_3zz[1]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90A21BA-315D-4E3E-9504-B81170037D3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7385EDF-88EB-43F3-AE5C-DFC55188161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319" name="Rectangle 7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322" name="Rectangle 10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325" name="Rectangle 13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4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AutoShape 15"/>
          <p:cNvCxnSpPr>
            <a:stCxn id="325" idx="0"/>
            <a:endCxn id="322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28" name="AutoShape 16"/>
          <p:cNvCxnSpPr>
            <a:stCxn id="322" idx="0"/>
            <a:endCxn id="319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29" name="Text Box 17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1C30356-FDB4-4843-9CD2-E7C3DD58FD3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j0090245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35" name="Picture 5" descr="v0igzx1j[1]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05B0E32-3AA9-4399-A52B-24AE454A050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017DFCF-D0B1-4614-B20F-3FEF336D545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93C7950-E774-4ABA-B248-4D061E5DF99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347" name="Rectangle 5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350" name="Rectangle 8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9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0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357" name="Rectangle 11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B754278-851A-4F41-A5B4-CEC22AEC60E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362" name="Rectangle 5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7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365" name="Rectangle 8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368" name="Rectangle 11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2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A9EEF0A-C417-4FB6-9D69-FF887773CDF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2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78" name="Rectangle 8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81" name="Rectangle 5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84" name="Rectangle 11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EDD9E67-17C3-4C03-8D06-2AD35B478AA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7BB67D8-BA7E-4C61-A25A-27D05416B3C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6" name="Picture 27" descr="j0090344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2D216AA-025B-46CB-A116-9C948D175A8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29" descr="j0215564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ie de página 4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arcador de número de diapositiva 5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2EC7666-5C22-4A82-8411-E3E4F2C8C38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89CA9DE-A5E9-4FD2-99E8-A1C7C1701DC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2" name="Line 6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5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77B5776-7B50-4CCB-8F34-13CAEB8A7B7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9:10Z</dcterms:created>
  <dc:creator>Charlie Cook, The University of West Alabama</dc:creator>
  <dc:description/>
  <dc:language>en-US</dc:language>
  <cp:lastModifiedBy>Luis Zaviezo</cp:lastModifiedBy>
  <dcterms:modified xsi:type="dcterms:W3CDTF">2010-11-08T16:49:52Z</dcterms:modified>
  <cp:revision>47</cp:revision>
  <dc:subject>Chapter 10</dc:subject>
  <dc:title>Strategic Management 7e.</dc:title>
</cp:coreProperties>
</file>