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E398-79B0-4D01-9A91-429B9B688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9A65-CE8E-49B5-84D5-606FDD2F9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295E-4A00-49EA-9FE9-826FD4ACF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3FDE-BDE8-4A58-8C99-DDE1DF238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793B-7CD9-4884-B0DA-E2A6375C0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94F1-F8BC-4378-A681-E4E16B4C8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0E78-22A0-4D2B-946D-45F5DDEC0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2CDB-9115-48B3-82C1-539AD4F55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F235-DE21-4D87-B1D4-4E7B7FDFF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F1D0-438F-4FDC-8D52-00FED17D8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91F4-6A78-4FE7-81FB-13A60FD74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6C25-DEFE-4896-AF0D-D8285FBCC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4E98-02E3-4CBB-8B31-1D7E405B3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CCAA-0492-432D-8C2C-AAD08F0C8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DAA0-4DA8-4FDD-BDF4-A6A6E3890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81ED-AABC-46AD-B8F2-8BDA35CB8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C84A-B7F0-4884-89E8-49D3B3512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9373-94E8-491A-B668-DCCF703CF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884F-6274-4C72-9EED-49BCBF059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5E7B-55C8-4C53-A06A-96AF17A61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4E9E-FAFC-4B75-937F-32D15544A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F11B-2EE0-48D9-A4C3-5730FB8DF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E4CE-9370-499A-84D7-81F83DAF2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2C39-2E1A-421A-A28E-A138E379D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786E-7725-425C-9A03-B703FCF95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FBD9-85F5-44AF-8F8C-3D2620FE9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E7DA-F0E8-4855-9222-D3D9EF3C2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5ACF-054F-4638-9BDD-7CBD04AF4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F4E8E-2F83-40C2-8E38-372DFC89DE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1B0AD-6BE5-452E-A5F2-4E459D0D35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2F87C-E908-4BFE-A438-B47A9296F4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FF06A-85B5-4A29-B205-95C2D4DAEA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0F4D0-9EFD-4E3D-A869-FA9FE23674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300F4-2DD6-44BE-ACD7-33428916CD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2003A-901A-46D9-82A6-2B8F2F5BB8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FD2EA-3070-4341-904C-146CD20517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D0158-D7E5-4A1F-BF83-4EB88F809D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538D7-A999-4465-AF02-5838A3E1E4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BB3FD-3AAD-4851-9D08-65538FFA1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AC2FC-DD21-4B06-BD9A-1CAD34ED70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–</a:t>
            </a:r>
            <a:fld id="{53A7B98F-93B2-4FCB-B51A-293F58192D41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306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590920"/>
            <a:ext cx="556272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ahoma"/>
              </a:rPr>
              <a:t>CHAPTER 9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operative Strategy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asons for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219320"/>
            <a:ext cx="156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121932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7360" y="1884240"/>
            <a:ext cx="28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low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1884240"/>
            <a:ext cx="544032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 access to a restricted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a franchise in a new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market stability (e.g., establishing standa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6C3C3-F8BD-4178-AE53-0C39E356BC60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asons for Strategic Allian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219320"/>
            <a:ext cx="195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121932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908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Fast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1908000"/>
            <a:ext cx="5410440" cy="40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up development of new goods o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up new market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market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n industry technology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risky R&amp;D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come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F8F1A-7711-4887-A1B1-E4931A7A9D8B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asons for Strategic Allian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21932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98760" y="121932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1851120"/>
            <a:ext cx="28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Standard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98760" y="1851120"/>
            <a:ext cx="521172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market power (reduce industry overcapac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access to complementary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economies of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come trade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 competitive challenges from other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l resources for very large capit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new business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C88B2-435B-420C-91F9-7640C51648D8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9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-Level Cooperative Strategi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57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90680" y="1333440"/>
            <a:ext cx="636264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7FCE9-BDA2-426B-B928-6F3D9D02CA64}" type="slidenum">
              <a:t>13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usiness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05280" y="1371600"/>
            <a:ext cx="4781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bine partner firms’ assets in complementary ways to create new valu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clude distribution, supplier or outsourcing alliances where firms rely on upstream or downstream partners to build competitive advant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1371600"/>
            <a:ext cx="838440" cy="2819520"/>
          </a:xfrm>
          <a:custGeom>
            <a:avLst/>
            <a:gdLst>
              <a:gd name="textAreaLeft" fmla="*/ 535680 w 838440"/>
              <a:gd name="textAreaRight" fmla="*/ 838800 w 83844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892"/>
                </a:lnTo>
                <a:cubicBezTo>
                  <a:pt x="10800" y="3892"/>
                  <a:pt x="5400" y="3892"/>
                  <a:pt x="0" y="3892"/>
                </a:cubicBezTo>
                <a:cubicBezTo>
                  <a:pt x="5400" y="3892"/>
                  <a:pt x="10800" y="3892"/>
                  <a:pt x="10800" y="3892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9360" y="1332000"/>
            <a:ext cx="2955960" cy="1030320"/>
            <a:chOff x="549360" y="1332000"/>
            <a:chExt cx="2955960" cy="1030320"/>
          </a:xfrm>
        </p:grpSpPr>
        <p:sp>
          <p:nvSpPr>
            <p:cNvPr id="164" name=""/>
            <p:cNvSpPr/>
            <p:nvPr/>
          </p:nvSpPr>
          <p:spPr>
            <a:xfrm>
              <a:off x="549360" y="1332000"/>
              <a:ext cx="2955960" cy="1030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5520" y="1390680"/>
              <a:ext cx="2842920" cy="9129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FC5EB-3EF8-4E02-95B5-5058B15974F5}" type="slidenum">
              <a:t>14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70200" y="304920"/>
            <a:ext cx="5445000" cy="6019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rcRect l="686" t="0" r="3416" b="0"/>
          <a:stretch/>
        </p:blipFill>
        <p:spPr>
          <a:xfrm>
            <a:off x="6578640" y="4572000"/>
            <a:ext cx="2066760" cy="16765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934320" y="4686480"/>
            <a:ext cx="1752480" cy="149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9.2</a:t>
            </a:r>
            <a:r>
              <a:rPr b="1" i="1" lang="en-US" sz="1200" spc="-1" strike="noStrike">
                <a:solidFill>
                  <a:srgbClr val="cc33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tical and Horizontal Complementary Strategic Alliance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6856560" y="471816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627960" y="501480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BA3F7-C9F1-46E8-A766-C3F0559FE01A}" type="slidenum">
              <a:t>15</a:t>
            </a:fld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lementary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3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Vertical Complementary Strategic Allia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ormed between firms that agree to use their skills and capabilities in different stages of the value chain to create value for both firm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sourcing is one example of this type of alli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3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rizontal Complementary Strategic Allia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ormed when partners who agree to combine their resources and skills to create value in the same stage of the value chain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is on long-term product development and distribution opportun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rtners may become competitors which requires a great deal of trust between the partn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28957-5FE7-4793-9CEB-C00EF364C1FA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on Respons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062240" y="1409400"/>
            <a:ext cx="462456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81520" indent="-281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Occur when firms join forces to respond to a strategic action of another competitor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1520" indent="-281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ecause they can be difficult to reverse and expensive to operate, strategic alliances are primarily formed to respond to strategic rather than tactical ac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1447920"/>
            <a:ext cx="838080" cy="335268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352680"/>
              <a:gd name="textAreaBottom" fmla="*/ 335304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299"/>
                </a:lnTo>
                <a:cubicBezTo>
                  <a:pt x="10800" y="10299"/>
                  <a:pt x="5400" y="10299"/>
                  <a:pt x="0" y="10299"/>
                </a:cubicBezTo>
                <a:cubicBezTo>
                  <a:pt x="5400" y="10299"/>
                  <a:pt x="10800" y="10299"/>
                  <a:pt x="10800" y="1029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20560" y="1407960"/>
            <a:ext cx="3124440" cy="1106280"/>
            <a:chOff x="520560" y="1407960"/>
            <a:chExt cx="3124440" cy="1106280"/>
          </a:xfrm>
        </p:grpSpPr>
        <p:sp>
          <p:nvSpPr>
            <p:cNvPr id="177" name=""/>
            <p:cNvSpPr/>
            <p:nvPr/>
          </p:nvSpPr>
          <p:spPr>
            <a:xfrm>
              <a:off x="520560" y="14079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9960" y="14709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33520" y="2548080"/>
            <a:ext cx="3124080" cy="1053720"/>
            <a:chOff x="533520" y="2548080"/>
            <a:chExt cx="3124080" cy="1053720"/>
          </a:xfrm>
        </p:grpSpPr>
        <p:sp>
          <p:nvSpPr>
            <p:cNvPr id="180" name=""/>
            <p:cNvSpPr/>
            <p:nvPr/>
          </p:nvSpPr>
          <p:spPr>
            <a:xfrm>
              <a:off x="533520" y="2548080"/>
              <a:ext cx="312408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2920" y="2607840"/>
              <a:ext cx="300492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ompetition 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sponse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A24B9-299A-4051-9B66-C4D20B4F25A1}" type="slidenum">
              <a:t>17</a:t>
            </a:fld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Uncertainty-Reducing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062240" y="1379520"/>
            <a:ext cx="45468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e used to hedge against risk and uncertaint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se alliances are most noticed in fast-cycle marke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n alliance may be formed to reduce the uncertainty associated with developing new product or technology standard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1447920"/>
            <a:ext cx="838080" cy="34290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6930"/>
                </a:lnTo>
                <a:cubicBezTo>
                  <a:pt x="10800" y="16930"/>
                  <a:pt x="5400" y="16930"/>
                  <a:pt x="0" y="16930"/>
                </a:cubicBezTo>
                <a:cubicBezTo>
                  <a:pt x="5400" y="16930"/>
                  <a:pt x="10800" y="16930"/>
                  <a:pt x="10800" y="1693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186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33520" y="2560680"/>
            <a:ext cx="3124080" cy="1053720"/>
            <a:chOff x="533520" y="2560680"/>
            <a:chExt cx="3124080" cy="1053720"/>
          </a:xfrm>
        </p:grpSpPr>
        <p:sp>
          <p:nvSpPr>
            <p:cNvPr id="189" name=""/>
            <p:cNvSpPr/>
            <p:nvPr/>
          </p:nvSpPr>
          <p:spPr>
            <a:xfrm>
              <a:off x="533520" y="2560680"/>
              <a:ext cx="312408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2920" y="2620440"/>
              <a:ext cx="300492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etition 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sponse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33520" y="3643200"/>
            <a:ext cx="3124080" cy="1066680"/>
            <a:chOff x="533520" y="3643200"/>
            <a:chExt cx="3124080" cy="1066680"/>
          </a:xfrm>
        </p:grpSpPr>
        <p:sp>
          <p:nvSpPr>
            <p:cNvPr id="192" name=""/>
            <p:cNvSpPr/>
            <p:nvPr/>
          </p:nvSpPr>
          <p:spPr>
            <a:xfrm>
              <a:off x="533520" y="3643200"/>
              <a:ext cx="312408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2920" y="3703680"/>
              <a:ext cx="300492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Uncertainty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ducing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5FA2F-5972-4AEA-A442-99B0ECF883A3}" type="slidenum">
              <a:t>18</a:t>
            </a:fld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Competition-Reducing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38480" y="2161800"/>
            <a:ext cx="464832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reated to avoid destructive or excessive competitio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Explicit collusion: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when firms directly negotiate production output and pricing agreements in order to reduce competition (illegal)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Tacit collusion: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when firms in an industry indirectly coordinate their production and pricing decisions by observing other firm’s actions and respons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2127240"/>
            <a:ext cx="838080" cy="36576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657600"/>
              <a:gd name="textAreaBottom" fmla="*/ 36579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8703"/>
                </a:lnTo>
                <a:cubicBezTo>
                  <a:pt x="10800" y="18703"/>
                  <a:pt x="5400" y="18703"/>
                  <a:pt x="0" y="18703"/>
                </a:cubicBezTo>
                <a:cubicBezTo>
                  <a:pt x="5400" y="18703"/>
                  <a:pt x="10800" y="18703"/>
                  <a:pt x="10800" y="18703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198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33520" y="2560680"/>
            <a:ext cx="3124080" cy="1053720"/>
            <a:chOff x="533520" y="2560680"/>
            <a:chExt cx="3124080" cy="1053720"/>
          </a:xfrm>
        </p:grpSpPr>
        <p:sp>
          <p:nvSpPr>
            <p:cNvPr id="201" name=""/>
            <p:cNvSpPr/>
            <p:nvPr/>
          </p:nvSpPr>
          <p:spPr>
            <a:xfrm>
              <a:off x="533520" y="2560680"/>
              <a:ext cx="312408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2920" y="2620440"/>
              <a:ext cx="300492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etition 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sponse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33520" y="3643200"/>
            <a:ext cx="3124080" cy="1066680"/>
            <a:chOff x="533520" y="3643200"/>
            <a:chExt cx="3124080" cy="1066680"/>
          </a:xfrm>
        </p:grpSpPr>
        <p:sp>
          <p:nvSpPr>
            <p:cNvPr id="204" name=""/>
            <p:cNvSpPr/>
            <p:nvPr/>
          </p:nvSpPr>
          <p:spPr>
            <a:xfrm>
              <a:off x="533520" y="3643200"/>
              <a:ext cx="312408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2920" y="3703680"/>
              <a:ext cx="300492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certaint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ducing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33520" y="4724280"/>
            <a:ext cx="3124080" cy="1066680"/>
            <a:chOff x="533520" y="4724280"/>
            <a:chExt cx="3124080" cy="1066680"/>
          </a:xfrm>
        </p:grpSpPr>
        <p:sp>
          <p:nvSpPr>
            <p:cNvPr id="207" name=""/>
            <p:cNvSpPr/>
            <p:nvPr/>
          </p:nvSpPr>
          <p:spPr>
            <a:xfrm>
              <a:off x="533520" y="4724280"/>
              <a:ext cx="312408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2920" y="4784760"/>
              <a:ext cx="300492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ompetition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ducing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D017E-F0F8-446E-B5F5-C5CB9C01AB0F}" type="slidenum">
              <a:t>19</a:t>
            </a:fld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cooperative strategies and explain why firms use the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d discuss three types of strategic allianc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the business-level cooperative strategies and describe their us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use of corporate-level cooperative strategies in diversified fir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importance of cross-border strategic alliances as an international cooperative strateg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92E1D-9283-4EDB-8134-5FEF4E907A61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ssessment of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plementary business-level strategic alliances, especially the vertical ones, have the greatest probability of creating a sustainable competitive advant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rizontal complementary alliances are sometimes difficult to maintain because they are often between rival competitor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petitive advantages gained from competition and uncertainty reducing strategies tend to be temporar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51723-76EE-40BA-993E-BE22994D8CBE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463680"/>
            <a:ext cx="79344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9.3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porate-Level Cooperative Strategie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14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523880" y="1576440"/>
            <a:ext cx="6043680" cy="310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FB08F-08DE-4E7F-BCF8-EBA4B3F42563}" type="slidenum">
              <a:t>21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Cooperativ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lp the firm diversify in terms of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s offered to th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rkets it s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 fewer resource commitme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mit greater flexibility in terms of efforts to diversify partners’ oper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44D4F-0450-4C98-BAD4-36C1E1CAB130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Diversifying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09680" y="1447920"/>
            <a:ext cx="45464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llows a firm to expand into new product or market areas without completing a merger or an acquisition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rovides some of the potential synergistic benefits of a merger or acquisition, but with less risk and greater levels of flexibilit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ermits a “test” of whether a future merger between the partners would benefit both parti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05320" y="1447920"/>
            <a:ext cx="838080" cy="358128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255"/>
                </a:lnTo>
                <a:cubicBezTo>
                  <a:pt x="10800" y="3255"/>
                  <a:pt x="5400" y="3255"/>
                  <a:pt x="0" y="3255"/>
                </a:cubicBezTo>
                <a:cubicBezTo>
                  <a:pt x="5400" y="3255"/>
                  <a:pt x="10800" y="3255"/>
                  <a:pt x="10800" y="3255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20560" y="1422360"/>
            <a:ext cx="3124440" cy="1066320"/>
            <a:chOff x="520560" y="1422360"/>
            <a:chExt cx="3124440" cy="1066320"/>
          </a:xfrm>
        </p:grpSpPr>
        <p:sp>
          <p:nvSpPr>
            <p:cNvPr id="223" name=""/>
            <p:cNvSpPr/>
            <p:nvPr/>
          </p:nvSpPr>
          <p:spPr>
            <a:xfrm>
              <a:off x="520560" y="1422360"/>
              <a:ext cx="3124440" cy="1066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9960" y="1482840"/>
              <a:ext cx="3005280" cy="945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Diversifying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AA13F-1C52-4EB3-95FA-1FAD3BC73AE3}" type="slidenum">
              <a:t>23</a:t>
            </a:fld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Synergistic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62160" y="1483920"/>
            <a:ext cx="4546440" cy="27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reates joint economies of scope between two or more fir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7280" indent="-2872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reates synergy across multiple functions or multiple businesses between partner fir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05320" y="1447920"/>
            <a:ext cx="838080" cy="27432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2743200"/>
              <a:gd name="textAreaBottom" fmla="*/ 274356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2850"/>
                </a:lnTo>
                <a:cubicBezTo>
                  <a:pt x="10800" y="12850"/>
                  <a:pt x="5400" y="12850"/>
                  <a:pt x="0" y="12850"/>
                </a:cubicBezTo>
                <a:cubicBezTo>
                  <a:pt x="5400" y="12850"/>
                  <a:pt x="10800" y="12850"/>
                  <a:pt x="10800" y="1285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229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versifying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20560" y="2552760"/>
            <a:ext cx="3124440" cy="1066320"/>
            <a:chOff x="520560" y="2552760"/>
            <a:chExt cx="3124440" cy="1066320"/>
          </a:xfrm>
        </p:grpSpPr>
        <p:sp>
          <p:nvSpPr>
            <p:cNvPr id="232" name=""/>
            <p:cNvSpPr/>
            <p:nvPr/>
          </p:nvSpPr>
          <p:spPr>
            <a:xfrm>
              <a:off x="520560" y="2552760"/>
              <a:ext cx="3124440" cy="1066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9960" y="2613240"/>
              <a:ext cx="3005280" cy="945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ynergistic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2CA99-F844-4418-A341-607B50609874}" type="slidenum">
              <a:t>24</a:t>
            </a:fld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Franchis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62240" y="1430280"/>
            <a:ext cx="45468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preads risks and uses resources, capabilities, and competencies without merging or acquiring another compan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contractual relationship (the franchise) is developed between two parties, the franchisee and the franchisor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n alternative to pursuing growth through mergers and acquisition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505320" y="1447920"/>
            <a:ext cx="838080" cy="327636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276360"/>
              <a:gd name="textAreaBottom" fmla="*/ 3276720 h 32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7916"/>
                </a:lnTo>
                <a:cubicBezTo>
                  <a:pt x="10800" y="17916"/>
                  <a:pt x="5400" y="17916"/>
                  <a:pt x="0" y="17916"/>
                </a:cubicBezTo>
                <a:cubicBezTo>
                  <a:pt x="5400" y="17916"/>
                  <a:pt x="10800" y="17916"/>
                  <a:pt x="10800" y="17916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238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versifying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20560" y="2560680"/>
            <a:ext cx="3124440" cy="1053720"/>
            <a:chOff x="520560" y="2560680"/>
            <a:chExt cx="3124440" cy="1053720"/>
          </a:xfrm>
        </p:grpSpPr>
        <p:sp>
          <p:nvSpPr>
            <p:cNvPr id="241" name=""/>
            <p:cNvSpPr/>
            <p:nvPr/>
          </p:nvSpPr>
          <p:spPr>
            <a:xfrm>
              <a:off x="520560" y="2560680"/>
              <a:ext cx="312444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9960" y="2620440"/>
              <a:ext cx="300528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nergistic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20560" y="3643200"/>
            <a:ext cx="3124440" cy="1066680"/>
            <a:chOff x="520560" y="3643200"/>
            <a:chExt cx="3124440" cy="1066680"/>
          </a:xfrm>
        </p:grpSpPr>
        <p:sp>
          <p:nvSpPr>
            <p:cNvPr id="244" name=""/>
            <p:cNvSpPr/>
            <p:nvPr/>
          </p:nvSpPr>
          <p:spPr>
            <a:xfrm>
              <a:off x="520560" y="3643200"/>
              <a:ext cx="312444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9960" y="3703680"/>
              <a:ext cx="300528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ranchi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09EBB-01E1-42F0-B64C-5BCF9D0FDB64}" type="slidenum">
              <a:t>25</a:t>
            </a:fld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ssessment of Corporate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82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ared to business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roader in scope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More complex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re costl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22120" indent="-2221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an lead to competitive advantage and value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ccessful alliance experiences are intern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 uses such strategies to develop useful knowledge about how to succeed in the futur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54B87-C4CD-4BA5-8530-E4E7F0A2510F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oss-border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trategy in which firms with headquarters in different nations combine their resources and capabilities to create a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irm may form cross-border strategic alliances to leverage core competencies that are the foundation of its domestic success to expand into international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936EE-814F-4A22-9E21-DDBC6F520D7B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ynergistic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risk sharing by reducing financial invest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st partner knows local market and custom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tional alliances can be difficult to manage due to differences in management styles, cultures or regulatory constrai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st gauge partner’s strategic intent such that the partner does not gain access to important technology and become a competito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15591-2B23-493A-B534-CA558B5770BD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Network Cooperativ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cooperative strategy wherein several firms agree to form multiple partnerships to achieve shared objectiv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able alliance net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ynamic alliance net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ocial relationships and interactions among partners are keys to a successful network cooperative strateg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0F1D5-638F-4F82-B43C-8DFE22D86DA2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cooperative strategies’ risks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wo approaches used to manage cooperative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DD970-4C6A-4A75-9E3C-CE3920AE1BE5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Network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1528920"/>
            <a:ext cx="4495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ng term relationships that often appear in mature industries where demand is relatively constant and predic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table networks are built for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exploitation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of the economies (scale and/or scope) available between the fi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505320" y="1523880"/>
            <a:ext cx="838080" cy="34290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890"/>
                </a:lnTo>
                <a:cubicBezTo>
                  <a:pt x="10800" y="2890"/>
                  <a:pt x="5400" y="2890"/>
                  <a:pt x="0" y="2890"/>
                </a:cubicBezTo>
                <a:cubicBezTo>
                  <a:pt x="5400" y="2890"/>
                  <a:pt x="10800" y="2890"/>
                  <a:pt x="10800" y="289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20560" y="1419120"/>
            <a:ext cx="3124440" cy="1066680"/>
            <a:chOff x="520560" y="1419120"/>
            <a:chExt cx="3124440" cy="1066680"/>
          </a:xfrm>
        </p:grpSpPr>
        <p:sp>
          <p:nvSpPr>
            <p:cNvPr id="259" name=""/>
            <p:cNvSpPr/>
            <p:nvPr/>
          </p:nvSpPr>
          <p:spPr>
            <a:xfrm>
              <a:off x="520560" y="1419120"/>
              <a:ext cx="312444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9960" y="1479600"/>
              <a:ext cx="300528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table Alliance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C15D3-70DD-4D4C-938A-E55D6AFB86F5}" type="slidenum">
              <a:t>30</a:t>
            </a:fld>
          </a:p>
        </p:txBody>
      </p:sp>
    </p:spTree>
  </p:cSld>
  <p:transition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Network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1479600"/>
            <a:ext cx="441972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rangements that evolve in industries with rapid technological change leading to short product life cy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marily used to stimulate rapid, value-creating product innovation and subsequent successful market e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urpose is often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exploration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of new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505320" y="1447920"/>
            <a:ext cx="838080" cy="41148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4114800"/>
              <a:gd name="textAreaBottom" fmla="*/ 411516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8542"/>
                </a:lnTo>
                <a:cubicBezTo>
                  <a:pt x="10800" y="8542"/>
                  <a:pt x="5400" y="8542"/>
                  <a:pt x="0" y="8542"/>
                </a:cubicBezTo>
                <a:cubicBezTo>
                  <a:pt x="5400" y="8542"/>
                  <a:pt x="10800" y="8542"/>
                  <a:pt x="10800" y="8542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20560" y="1407960"/>
            <a:ext cx="3124440" cy="1106280"/>
            <a:chOff x="520560" y="1407960"/>
            <a:chExt cx="3124440" cy="1106280"/>
          </a:xfrm>
        </p:grpSpPr>
        <p:sp>
          <p:nvSpPr>
            <p:cNvPr id="265" name=""/>
            <p:cNvSpPr/>
            <p:nvPr/>
          </p:nvSpPr>
          <p:spPr>
            <a:xfrm>
              <a:off x="520560" y="14079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9960" y="14709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able Allianc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20560" y="2552760"/>
            <a:ext cx="3124440" cy="1066320"/>
            <a:chOff x="520560" y="2552760"/>
            <a:chExt cx="3124440" cy="1066320"/>
          </a:xfrm>
        </p:grpSpPr>
        <p:sp>
          <p:nvSpPr>
            <p:cNvPr id="268" name=""/>
            <p:cNvSpPr/>
            <p:nvPr/>
          </p:nvSpPr>
          <p:spPr>
            <a:xfrm>
              <a:off x="520560" y="2552760"/>
              <a:ext cx="3124440" cy="1066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9960" y="2613240"/>
              <a:ext cx="3005280" cy="945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Dynamic Alliance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1A0B7-54AC-437B-8946-53AED98D0967}" type="slidenum">
              <a:t>31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ve Risks of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ners may act opportunisticall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ners may misrepresent competencies brought to the partnership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ners fail to make committed resources and capabilities available to other partn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ne partner may make investments that are specific to the alliance while its partner does no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D7DFD-95A4-47EB-885C-A1C068BA30A6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9.4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naging Competitive Risks in Cooperative Strategi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7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76960" cy="27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72FD6-5316-41E3-9414-0F51BBAEFCCD}" type="slidenum">
              <a:t>33</a:t>
            </a:fld>
          </a:p>
        </p:txBody>
      </p:sp>
    </p:spTree>
  </p:cSld>
  <p:transition>
    <p:random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ing Risks in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670200" y="5724360"/>
            <a:ext cx="243072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reating valu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777960" y="4038480"/>
            <a:ext cx="2727360" cy="1295280"/>
            <a:chOff x="777960" y="4038480"/>
            <a:chExt cx="2727360" cy="1295280"/>
          </a:xfrm>
        </p:grpSpPr>
        <p:sp>
          <p:nvSpPr>
            <p:cNvPr id="281" name=""/>
            <p:cNvSpPr/>
            <p:nvPr/>
          </p:nvSpPr>
          <p:spPr>
            <a:xfrm>
              <a:off x="777960" y="4038480"/>
              <a:ext cx="2727360" cy="129528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29800" y="4112640"/>
              <a:ext cx="2623320" cy="1147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isk and Asset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nagement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pproach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777960" y="5562720"/>
            <a:ext cx="2727360" cy="609480"/>
            <a:chOff x="777960" y="5562720"/>
            <a:chExt cx="2727360" cy="609480"/>
          </a:xfrm>
        </p:grpSpPr>
        <p:sp>
          <p:nvSpPr>
            <p:cNvPr id="284" name=""/>
            <p:cNvSpPr/>
            <p:nvPr/>
          </p:nvSpPr>
          <p:spPr>
            <a:xfrm>
              <a:off x="777960" y="5562720"/>
              <a:ext cx="2727360" cy="60948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29800" y="5597280"/>
              <a:ext cx="2623320" cy="5400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sired Outco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777960" y="1425600"/>
            <a:ext cx="2727360" cy="2231280"/>
            <a:chOff x="777960" y="1425600"/>
            <a:chExt cx="2727360" cy="2231280"/>
          </a:xfrm>
        </p:grpSpPr>
        <p:sp>
          <p:nvSpPr>
            <p:cNvPr id="287" name=""/>
            <p:cNvSpPr/>
            <p:nvPr/>
          </p:nvSpPr>
          <p:spPr>
            <a:xfrm>
              <a:off x="777960" y="1425600"/>
              <a:ext cx="2727360" cy="223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29800" y="1552680"/>
              <a:ext cx="2623320" cy="1977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etitiv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is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9" name=""/>
          <p:cNvCxnSpPr>
            <a:stCxn id="287" idx="2"/>
            <a:endCxn id="281" idx="0"/>
          </p:cNvCxnSpPr>
          <p:nvPr/>
        </p:nvCxnSpPr>
        <p:spPr>
          <a:xfrm>
            <a:off x="2141280" y="3657600"/>
            <a:ext cx="1080" cy="381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90" name=""/>
          <p:cNvCxnSpPr>
            <a:stCxn id="281" idx="2"/>
            <a:endCxn id="284" idx="0"/>
          </p:cNvCxnSpPr>
          <p:nvPr/>
        </p:nvCxnSpPr>
        <p:spPr>
          <a:xfrm>
            <a:off x="2141280" y="5333760"/>
            <a:ext cx="10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291" name=""/>
          <p:cNvSpPr/>
          <p:nvPr/>
        </p:nvSpPr>
        <p:spPr>
          <a:xfrm>
            <a:off x="3598920" y="4114800"/>
            <a:ext cx="48592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etailed contracts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eveloping trusting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598920" y="1495440"/>
            <a:ext cx="4859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nadequate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isrepresentation of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artners fail to use their complementary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olding alliance partner’s specific investments ho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0AD34-1668-43E0-9B26-4AD74811439A}" type="slidenum">
              <a:t>34</a:t>
            </a:fld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ing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st Minimization Management Approach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formal contracts with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y how strategy is to be monito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y how partner behavior is to be controll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t goals that minimize costs and to prevent opportunistic behavior by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7215D-C598-47BD-8CEE-E0F9E0D8F2B7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ing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portunity Maximization Approach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ximize partnership’s value-creation opportun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rn from each oth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lore additional marketplace pos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intain less formal contracts, fewer constrai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BFE6E-B2EE-4FFD-A861-BD251E696473}" type="slidenum">
              <a:t>36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operativ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operative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trategy in which firms work together to achieve a shared objecti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operating with other firms is a strategy tha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s value for a custom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ceeds the cost of constructing customer value in other way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es a favorable position relative to 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DD6CA-8774-4F8D-AC28-D26D9E03873C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Alli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primary type of cooperative strategy in which firms combine some of their resources and capabilities to create a mutual competitive advantag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volves the exchange and sharing of resources and capabilities to co-develop or distribute goods and servi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s cooperative behavior from all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689AB-272A-4084-973A-55350FF535C7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Alliance Behavi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amples of cooperative behavior known to contribute to alliance succes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ely solving problem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ing trustworth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stently pursuing ways to combine partners’ resources and capabilities to create valu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llaborative (Relational) Advantag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mpetitive advantage developed through a cooperative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47B46-AD68-4E74-A055-88FA037EA632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Alli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021120" y="3057480"/>
            <a:ext cx="3105000" cy="1736640"/>
            <a:chOff x="3021120" y="3057480"/>
            <a:chExt cx="3105000" cy="1736640"/>
          </a:xfrm>
        </p:grpSpPr>
        <p:sp>
          <p:nvSpPr>
            <p:cNvPr id="111" name=""/>
            <p:cNvSpPr/>
            <p:nvPr/>
          </p:nvSpPr>
          <p:spPr>
            <a:xfrm>
              <a:off x="3021120" y="3057480"/>
              <a:ext cx="3105000" cy="173664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79800" y="3122280"/>
              <a:ext cx="2987640" cy="1605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Comb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907920" y="2157480"/>
            <a:ext cx="2725920" cy="1330200"/>
            <a:chOff x="907920" y="2157480"/>
            <a:chExt cx="2725920" cy="1330200"/>
          </a:xfrm>
        </p:grpSpPr>
        <p:sp>
          <p:nvSpPr>
            <p:cNvPr id="114" name=""/>
            <p:cNvSpPr/>
            <p:nvPr/>
          </p:nvSpPr>
          <p:spPr>
            <a:xfrm>
              <a:off x="907920" y="2157480"/>
              <a:ext cx="2725920" cy="13302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66960" y="2215800"/>
              <a:ext cx="2608200" cy="12124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662440" y="2155680"/>
            <a:ext cx="2725920" cy="1330200"/>
            <a:chOff x="5662440" y="2155680"/>
            <a:chExt cx="2725920" cy="1330200"/>
          </a:xfrm>
        </p:grpSpPr>
        <p:sp>
          <p:nvSpPr>
            <p:cNvPr id="117" name=""/>
            <p:cNvSpPr/>
            <p:nvPr/>
          </p:nvSpPr>
          <p:spPr>
            <a:xfrm>
              <a:off x="5662440" y="2155680"/>
              <a:ext cx="2725920" cy="133020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21480" y="2214360"/>
              <a:ext cx="2608200" cy="12128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139920" y="1449360"/>
            <a:ext cx="1409760" cy="1409760"/>
            <a:chOff x="3139920" y="1449360"/>
            <a:chExt cx="1409760" cy="1409760"/>
          </a:xfrm>
        </p:grpSpPr>
        <p:sp>
          <p:nvSpPr>
            <p:cNvPr id="120" name=""/>
            <p:cNvSpPr/>
            <p:nvPr/>
          </p:nvSpPr>
          <p:spPr>
            <a:xfrm>
              <a:off x="3139920" y="1449360"/>
              <a:ext cx="1409760" cy="14097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98960" y="1508040"/>
              <a:ext cx="1292040" cy="12924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irm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595760" y="1447920"/>
            <a:ext cx="1409760" cy="1409760"/>
            <a:chOff x="4595760" y="1447920"/>
            <a:chExt cx="1409760" cy="1409760"/>
          </a:xfrm>
        </p:grpSpPr>
        <p:sp>
          <p:nvSpPr>
            <p:cNvPr id="123" name=""/>
            <p:cNvSpPr/>
            <p:nvPr/>
          </p:nvSpPr>
          <p:spPr>
            <a:xfrm>
              <a:off x="4595760" y="1447920"/>
              <a:ext cx="1409760" cy="1409760"/>
            </a:xfrm>
            <a:prstGeom prst="ellipse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54440" y="1506600"/>
              <a:ext cx="1292400" cy="129204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irm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312920" y="5191200"/>
            <a:ext cx="6521400" cy="965160"/>
            <a:chOff x="1312920" y="5191200"/>
            <a:chExt cx="6521400" cy="965160"/>
          </a:xfrm>
        </p:grpSpPr>
        <p:sp>
          <p:nvSpPr>
            <p:cNvPr id="126" name=""/>
            <p:cNvSpPr/>
            <p:nvPr/>
          </p:nvSpPr>
          <p:spPr>
            <a:xfrm>
              <a:off x="1312920" y="5191200"/>
              <a:ext cx="6521400" cy="965160"/>
            </a:xfrm>
            <a:prstGeom prst="rect">
              <a:avLst/>
            </a:prstGeom>
            <a:gradFill rotWithShape="0">
              <a:gsLst>
                <a:gs pos="0">
                  <a:srgbClr val="8643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63680" y="5249880"/>
              <a:ext cx="6418080" cy="8478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864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utual interests in designing, manufacturing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 distributing goods or serv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8" name=""/>
          <p:cNvCxnSpPr>
            <a:stCxn id="111" idx="2"/>
            <a:endCxn id="126" idx="0"/>
          </p:cNvCxnSpPr>
          <p:nvPr/>
        </p:nvCxnSpPr>
        <p:spPr>
          <a:xfrm>
            <a:off x="4573080" y="4793760"/>
            <a:ext cx="1080" cy="3978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lg" type="stealth" w="lg"/>
          </a:ln>
        </p:spPr>
      </p:cxnSp>
      <p:grpSp>
        <p:nvGrpSpPr>
          <p:cNvPr id="129" name=""/>
          <p:cNvGrpSpPr/>
          <p:nvPr/>
        </p:nvGrpSpPr>
        <p:grpSpPr>
          <a:xfrm>
            <a:off x="2260440" y="3483000"/>
            <a:ext cx="4613400" cy="453600"/>
            <a:chOff x="2260440" y="3483000"/>
            <a:chExt cx="4613400" cy="453600"/>
          </a:xfrm>
        </p:grpSpPr>
        <p:sp>
          <p:nvSpPr>
            <p:cNvPr id="130" name=""/>
            <p:cNvSpPr/>
            <p:nvPr/>
          </p:nvSpPr>
          <p:spPr>
            <a:xfrm>
              <a:off x="2260440" y="3487680"/>
              <a:ext cx="0" cy="44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73840" y="3483000"/>
              <a:ext cx="0" cy="44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260440" y="3921120"/>
            <a:ext cx="4613400" cy="4680"/>
            <a:chOff x="2260440" y="3921120"/>
            <a:chExt cx="4613400" cy="4680"/>
          </a:xfrm>
        </p:grpSpPr>
        <p:sp>
          <p:nvSpPr>
            <p:cNvPr id="133" name=""/>
            <p:cNvSpPr/>
            <p:nvPr/>
          </p:nvSpPr>
          <p:spPr>
            <a:xfrm>
              <a:off x="2260440" y="3925800"/>
              <a:ext cx="75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6114960" y="3921120"/>
              <a:ext cx="75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4542C-E2E3-4CBB-9C71-7856F930B3E6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e Types of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oint Ven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firms create a legally independent company by sharing some of their resources and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quity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artners who own different percentages of equity in a separate company they have form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onequity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firms develop a contractual relationship to share some of their unique resources and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5FA57-B954-47C2-9F3C-EC45FB09709D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9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s for Strategic Alliances by Market Type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60360" y="1219320"/>
            <a:ext cx="840276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90680" indent="-2290680"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0680" indent="-22906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w-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Gain access to a restricted mark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Establish a franchise in a new mark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Maintain market stability (e.g., establishing standar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0680" indent="-22906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-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Speed up development of new goods or servi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Speed up new market ent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Maintain market leadersh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Form an industry technology standar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Share risky R&amp;D expens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Overcome 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0680" indent="-22906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-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Gain market power (reduce industry overcapacit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Gain access to complementary resour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Establish better economies of sca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Overcome trade barrie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Meet competitive challenges from other competito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Pool resources for very large capital proj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Learn new business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46864-2ECA-4227-B76B-61ECFCFDC387}" type="slidenum">
              <a:t>9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dii</cp:lastModifiedBy>
  <dcterms:modified xsi:type="dcterms:W3CDTF">2007-06-12T13:38:31Z</dcterms:modified>
  <cp:revision>41</cp:revision>
  <dc:subject>Chapter 9</dc:subject>
  <dc:title>Strategic Management 7e.</dc:title>
</cp:coreProperties>
</file>