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7D795-31FF-4D4A-9203-9306FCEE1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876B6-2347-4E04-AE0A-E103D311D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1FFE-01DC-428A-95A1-DFC73D994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F5C78-022E-4FF4-B26B-36016149D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55DF-2E07-42C8-88A5-043AF1063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3FBC-5F8B-4F8A-8969-43FC4AC46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97F2-F4F1-4F7B-9320-A92AA29A3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952B-C106-4533-9DD5-BEE1A5B66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50192-6A83-45D6-91E2-DE0F3ED1E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0663-4763-4D11-84C2-02997ED52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1EA6-CA77-4223-9EC6-699C11D5E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90FEE-8E54-4EB5-B8A8-389F65765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8C08-9455-430A-9788-FB856EC14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3761-637C-409B-BA5C-D5032E8F8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1C0C5-5E75-40BF-8180-23E5F66F3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91D6-1163-4AFE-8816-12488BA49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F45D3-9601-41A6-93BA-CCEDA9CAF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59F4-AC61-4B14-A569-102751E72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EECE-6C48-44A2-B462-8478230F4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0053-4C7A-4CE0-A797-7EA8389A0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7A16D-4E85-4268-9DC7-6CD939B12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C8931-D586-42FA-9E9C-C9E0BA081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AF96-4677-4005-B8B2-89CBE0D28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5393-38B6-4FD6-ABB5-59E9943B7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8CA6-25DA-4A29-AA14-70B02D0E1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98F7-F28B-4E0F-87E0-FBF389554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83DB-3265-40DF-834E-9A4AD4E0C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E1CF-90BC-4955-B5E1-B90D89C85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942CF-1D2C-471B-A5F5-FDFC5FE81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6078-8D99-4A5B-9D8D-44BEA9F13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28C8-72E0-46AA-84B8-845FF5046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C813-CBDD-4519-819B-83CDE6012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13A6-5CBF-4BE7-96F5-B668D9984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44161-CC56-45B5-B3EA-54618F2B0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9500-D32C-4A6E-B539-BD19A38E3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64DEEF-D1C4-40E5-942F-655BB651E5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BBDF32-7092-451A-A8DE-C447F23C84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9312EB-88FB-4FB7-BCF2-EDC27A387E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0DC83A-97BA-4809-B947-3BF7E23C0F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EBDD05-D6E4-48D8-9208-584F290EE0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642CC9-73BA-4F0D-9468-5A674E022A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AC9A5C-3328-4DD8-8599-8F218BC76A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746E99-C7F3-4810-9C1F-BB1E0DD7AF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F92331-BF0C-4705-AEAB-D5BCE51094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FCD6D7-77D5-4CB6-B2BF-CA9649C25B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D01130-905F-4B0A-84D2-8220EC57F9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4F1646-C7DF-43B5-B89E-011B1C775D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FEE40256-6828-41DD-8D1D-055B674FED25}"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DB88580B-1073-4181-B91C-D28DE174BAB9}"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F788569-BA6E-405D-909B-2C7E0D36767F}"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C18C9A0-8DFA-451F-9607-8A94E28A0122}"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035D093-C256-4017-8F5E-117C938E9B2B}"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80AD359-58C7-48EB-87D5-C220A0573B3B}"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9D91E53B-FF28-44E4-9518-6C84C15160CC}"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AC5A8E51-C7C4-400B-B98A-E86E17CD27FC}"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FF4D06E-6DB2-47C1-A88C-4CBE313453E2}"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4DDAB2BB-4AB9-478D-AE5F-B7359722A07E}"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A02BFE9C-F3C4-4CFD-81F9-280A36DDFEDE}"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81C521-3543-43FA-AFEB-D3A8CDA9DBE3}"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0B4B4216-E1D2-495C-816A-3FE17A41EF1B}"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D3BFECE-D4CB-42B2-850C-9D322D8F1483}"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78A9169F-D0B7-4365-BF2C-543E68FC9B12}"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45E742A1-6D7F-476B-AD90-DE120DA1BBE9}"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3BF76691-DEE8-4F8D-A495-9B0E0ADF572D}"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13FA4EF1-BD6C-4DC5-BA08-CB0D981548B7}"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059DC9B-8333-4BBC-AF87-A97E79E3D2AE}"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A8DEE491-9E28-4F39-8055-C436411E8D6D}"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38AA5D9C-CBF2-47F6-BE25-DFC2C4D36553}"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596CF7B9-86F2-4521-A362-D68A93C4CC13}"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E48DBC-A963-4517-8872-8809D2E72476}"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25B0F67-A5E6-4461-9978-5FAD37C7D64C}"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8CD00935-577E-44D5-96DA-29B2027CD3E7}"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B4F3F13-64AA-40FC-B3EB-7EBCA2534C19}"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435F10B-42D3-44C2-A4F8-177C411687F9}"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7DDD0DB-CB72-4806-B02D-45E5AE9CE472}"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0C18C4F-4F0D-4F22-BACF-CAF6D6680791}"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3F2B2FD0-A80D-49DE-A562-C219B5A68482}"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4503DF6A-B8C6-4F57-911A-2F0458E86667}"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AA0D700-1DC5-467B-BDD5-789C56E0F5AD}"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B343AB53-C860-4A92-BFFF-2DC141A17957}"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EBB5DA5E-7B79-4208-AA9C-BCD29D48B390}"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F6AEB5E-8547-43B3-A0BB-784E9BA32480}"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F6E0CAD-0C5B-4342-9CA8-48B22E546B7D}"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4ACFEDEC-AC11-47F8-ADB4-5C586FE9C7BE}"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01AA82E-8B4B-4638-9F6F-9EBFACDD1FF3}"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3029333E-05A2-4F0B-81B1-58FDEDA56674}"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70F800A-4B05-4E24-A9D0-A40BC260B185}"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4376C3C-1A91-4D43-B6BB-6107E361A6BF}"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086DA61-AE9F-465C-AC59-978650FC8F9F}"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AAA78C2-FE3B-4BAC-89C6-F11AFD05F4D1}"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1A67B9A7-FB60-435E-A2FC-9AE5A39FB36D}"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5277680-4B0D-4C13-A9FD-8EC7C2E1B093}"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CF3720CA-5D18-4ED0-A06C-8A30032EEDDF}"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1BBF941B-5D47-40AC-807B-71AB265E4838}"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41771EB-4752-4C15-8EE3-0A0CB704CB5E}"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05351A18-EF48-4804-9BA2-D8D49D6935DE}"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dii</cp:lastModifiedBy>
  <dcterms:modified xsi:type="dcterms:W3CDTF">2007-06-12T13:35:05Z</dcterms:modified>
  <cp:revision>49</cp:revision>
  <dc:subject>Chapter 3</dc:subject>
  <dc:title>Strategic Management 7e.</dc:title>
</cp:coreProperties>
</file>