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16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6.jpeg" ContentType="image/jpeg"/>
  <Override PartName="/ppt/media/image12.wmf" ContentType="image/x-wmf"/>
  <Override PartName="/ppt/media/image4.png" ContentType="image/png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6645C-D4C0-46B8-BBB4-10F1C57D1E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753C9-8240-4632-8A22-011D2CC357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75FE2-8940-414F-B59F-AB93C3EDA2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2754A-02F4-4F8C-AD63-3F2C9350E6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56E58-44FD-4003-B6BC-45902AD6E1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83DD3-FECF-41DD-9863-96B131697E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98871-9FE4-44D3-83EE-E1A28075E4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07B45-FFF6-4A1B-AB25-7455CBE337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D5608-CAF7-4736-AF91-39AC771609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686F4-B450-4A52-9145-F006B30421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5EB7D-AE7C-4150-AA1B-F61A9D3C08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696E9-2B3F-44E5-B122-B6C22FAF24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0C880-B7B4-4DFB-A283-B94A53B586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CC041-44DB-4439-BFCB-594238D871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04B39-302A-4415-866F-DD9282340C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35DCF-9977-4C6F-B8B3-20F6A5D86A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6FBAD-E3D8-442E-8B5F-9948577988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DEEEB-D649-4AA5-B761-8F31CDC24D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56067-70A5-41BD-AF62-6D1A675D2E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0AE55-5147-4B6E-9B24-A943B27C8A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CF47F-6D12-41E8-B78D-7D5F452AB9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938D2-8773-4C9B-89B7-1B1D49080A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DD9F0-9C9D-408E-8579-1B6F685FCB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1EBDB-DA4F-4B5D-8238-92970B25BA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E4A64-FCCD-4952-A407-14FF7C6A3B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D4F87-6E9D-44F1-BC2A-9DF78BA1A3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56DCC-DD46-46FA-B793-421BA2386D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B3EEC-B969-43EA-99AE-93AD442C42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89CEC-056F-439A-9CF9-CF2DCD0E87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C9118-2063-4F16-9129-3C208FEBE4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F3ED6-F835-4430-B97D-1BB47ACA68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89490-F92B-4039-8286-142289AB42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23655-ED97-4A2C-BFBA-F13301F0B4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0A6E2-3A60-4AF8-98C6-BB58C53C8E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E43A4-4A4A-40C4-A006-A7F15990F4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62854-9868-48F5-90BB-1C1C025AA8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26E90-4F5E-4A7E-911A-8FA8A0236F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8F6DD-9813-4E9B-BD8D-7C8B30908C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BFB9F-4D94-48FC-9384-2D877D54E3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C07A8-2620-483F-B5BE-9F71A1AA85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EB341-3AC7-40D9-AAAA-2B78D011CD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FA87A-7334-4BAC-8FFA-9ECC80E861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2877A-B301-4A9F-BDC3-79B8C158F3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160" y="6400440"/>
            <a:ext cx="5715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295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–</a:t>
            </a:r>
            <a:fld id="{6F734515-90CC-43CA-8B97-0CEF2FFCD03E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4328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48080" y="609588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3048120"/>
            <a:ext cx="213372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AGEME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666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00400" y="1197000"/>
            <a:ext cx="556272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CHAPTER 2</a:t>
            </a:r>
            <a:br>
              <a:rPr sz="2800"/>
            </a:b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 External Environment: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Opportunities, Threats,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dustry Competition,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nd Competitor Analysis</a:t>
            </a:r>
            <a:endParaRPr b="0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560" y="426600"/>
            <a:ext cx="838188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1941480" indent="0">
              <a:buNone/>
              <a:tabLst>
                <a:tab algn="l" pos="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ahoma"/>
              </a:rPr>
              <a:t>TABLE</a:t>
            </a:r>
            <a:r>
              <a:rPr b="0" lang="en-US" sz="18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2.2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onents of the External Environmental Analysi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1378080"/>
            <a:ext cx="8458200" cy="48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405160" indent="-2405160">
              <a:spcBef>
                <a:spcPts val="1049"/>
              </a:spcBef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an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ing early signals of environmental changes and tr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5160" indent="-2405160">
              <a:spcBef>
                <a:spcPts val="1049"/>
              </a:spcBef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itor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cting meaning through ongoing observations of environmental changes and tr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5160" indent="-2405160">
              <a:spcBef>
                <a:spcPts val="1049"/>
              </a:spcBef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ecas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ing projections of anticipated outcomes based on monitored changes and tr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5160" indent="-2405160">
              <a:spcBef>
                <a:spcPts val="1049"/>
              </a:spcBef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ess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ing the timing and importance of environmental changes and trends for firms’ strategies and their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86396-054E-40C2-8096-B8957A5B1152}" type="slidenum">
              <a:t>10</a:t>
            </a:fld>
          </a:p>
        </p:txBody>
      </p:sp>
    </p:spTree>
  </p:cSld>
  <p:transition>
    <p:random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pportunities and Threat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53341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pportunit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condition in the general environment that, if exploited, helps a company achieve strategic competitiven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re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condition in the general environment that may hinder a company’s efforts to achieve strategic competitiven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486400" y="1731960"/>
            <a:ext cx="3048120" cy="2840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A151F-1329-4406-975A-056C5AFB6848}" type="slidenum">
              <a:t>11</a:t>
            </a:fld>
          </a:p>
        </p:txBody>
      </p:sp>
    </p:spTree>
  </p:cSld>
  <p:transition>
    <p:random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Aft>
                <a:spcPts val="1400"/>
              </a:spcAft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Demographic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opulation siz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ge struc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Geographic distribu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thnic mix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ome distribu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952880" y="2322360"/>
            <a:ext cx="3311640" cy="3316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C50D2-99CA-4EE2-A629-39E58F30CE54}" type="slidenum">
              <a:t>12</a:t>
            </a:fld>
          </a:p>
        </p:txBody>
      </p:sp>
    </p:spTree>
  </p:cSld>
  <p:transition>
    <p:random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5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5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Aft>
                <a:spcPts val="1400"/>
              </a:spcAft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Economic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flation ra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rest ra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rade deficits or surplus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dget deficits or surplus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ersonal savings rat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siness savings ra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Gross domestic product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410080" y="2286000"/>
            <a:ext cx="2880000" cy="286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068E2-8B77-4B6B-B313-857245BF76F6}" type="slidenum">
              <a:t>13</a:t>
            </a:fld>
          </a:p>
        </p:txBody>
      </p:sp>
    </p:spTree>
  </p:cSld>
  <p:transition>
    <p:random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500"/>
                            </p:stCondLst>
                            <p:childTnLst>
                              <p:par>
                                <p:cTn id="2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5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300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35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52578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Aft>
                <a:spcPts val="1400"/>
              </a:spcAft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Political/Legal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titrust law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axation law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regulation philosoph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abor training law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ducational philosophies and polic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097680" y="4089240"/>
            <a:ext cx="2436840" cy="208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8CE5C-203C-4F9B-AA6D-6AF6F483F48C}" type="slidenum">
              <a:t>14</a:t>
            </a:fld>
          </a:p>
        </p:txBody>
      </p:sp>
    </p:spTree>
  </p:cSld>
  <p:transition>
    <p:random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500"/>
                            </p:stCondLst>
                            <p:childTnLst>
                              <p:par>
                                <p:cTn id="2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500"/>
                            </p:stCondLst>
                            <p:childTnLst>
                              <p:par>
                                <p:cTn id="2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Aft>
                <a:spcPts val="1400"/>
              </a:spcAft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Sociocultural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omen in the workplac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orkforce diversi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ttitudes about quality of worklif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cerns about environment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hifts in work and career preferen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hifts in product and service preferen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B2A6E-680C-4FCD-8AEB-AD23CC391EA3}" type="slidenum">
              <a:t>15</a:t>
            </a:fld>
          </a:p>
        </p:txBody>
      </p:sp>
    </p:spTree>
  </p:cSld>
  <p:transition>
    <p:random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5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5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30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Aft>
                <a:spcPts val="1400"/>
              </a:spcAft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Technological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innovat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pplications of knowledg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 of private and government-supported R&amp;D expenditur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New communication technolo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00F1C-5161-4F63-A932-8BFCC60757D4}" type="slidenum">
              <a:t>16</a:t>
            </a:fld>
          </a:p>
        </p:txBody>
      </p:sp>
    </p:spTree>
  </p:cSld>
  <p:transition>
    <p:random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5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000"/>
                            </p:stCondLst>
                            <p:childTnLst>
                              <p:par>
                                <p:cTn id="3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563868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Global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mportant political even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ritical global marke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Newly industrialized countr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fferent cultural and institutional attribu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735520" y="4284720"/>
            <a:ext cx="2646360" cy="1827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102B6-BC80-4CCB-B71D-4FC6D0C8B520}" type="slidenum">
              <a:t>17</a:t>
            </a:fld>
          </a:p>
        </p:txBody>
      </p:sp>
    </p:spTree>
  </p:cSld>
  <p:transition>
    <p:random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500"/>
                            </p:stCondLst>
                            <p:childTnLst>
                              <p:par>
                                <p:cTn id="3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00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y Environment Analysi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dustry Defined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group of firms producing products that are close substitu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ms that influence one 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a rich mix of competitive strategies that companies use in pursuing strategic competitiveness and above-average retu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A613F-94A8-49DA-B29E-39E046721A33}" type="slidenum">
              <a:t>18</a:t>
            </a:fld>
          </a:p>
        </p:txBody>
      </p:sp>
    </p:spTree>
  </p:cSld>
  <p:transition>
    <p:random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466200"/>
            <a:ext cx="800100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2.2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Five Forces of Competition Model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447840"/>
            <a:ext cx="8229600" cy="46656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46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009880" y="1181160"/>
            <a:ext cx="5124240" cy="51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4DB3F-3EA0-4C8C-833C-00D5C6D05EE9}" type="slidenum">
              <a:t>19</a:t>
            </a:fld>
          </a:p>
        </p:txBody>
      </p:sp>
    </p:spTree>
  </p:cSld>
  <p:transition>
    <p:random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2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42670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7840" y="190512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-463680">
              <a:spcBef>
                <a:spcPts val="60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importance of analyzing and understanding the firm’s external environment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3680" indent="-463680">
              <a:spcBef>
                <a:spcPts val="60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nd describe the general environment and the industry environment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3680" indent="-463680">
              <a:spcBef>
                <a:spcPts val="60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four activities of the external environmental analysis proces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3680" indent="-463680">
              <a:spcBef>
                <a:spcPts val="60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 and describe the general environment’s six segment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3680" indent="-463680">
              <a:spcBef>
                <a:spcPts val="60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five competitive forces and explain how they determine an industry’s profit potential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104760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58F78-3EFC-438B-9769-9D21D7BC9913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reat of New Entrants: Barriers to Entr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conomies of scal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oduct differenti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apital requirement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witching cost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ccess to distribution channel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st disadvantages independent of scal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overnment polic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xpected retali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6287F-FBD2-4DD5-8191-1B7167475E42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000"/>
                            </p:stCondLst>
                            <p:childTnLst>
                              <p:par>
                                <p:cTn id="4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5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25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3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3500"/>
                            </p:stCondLst>
                            <p:childTnLst>
                              <p:par>
                                <p:cTn id="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4000"/>
                            </p:stCondLst>
                            <p:childTnLst>
                              <p:par>
                                <p:cTn id="4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Barriers to Entr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conomies of Scal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rginal improvements in efficiency that a firm experiences as it incrementally increases its siz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actors (advantages and disadvantages) related to large- and small-scale entr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lexibility in pricing and market sha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sts related to scale econom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itor retali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4C9B8-E31A-4FD9-BC8A-6245D0662DD7}" type="slidenum">
              <a:t>21</a:t>
            </a:fld>
          </a:p>
        </p:txBody>
      </p:sp>
    </p:spTree>
  </p:cSld>
  <p:transition>
    <p:random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Barriers to Entr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Product differentiation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Unique product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Customer loyalty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oducts at competitive pric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apital Requirement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hysical faciliti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Inventori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Marketing activiti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Availability of capital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343040" y="1219320"/>
            <a:ext cx="43434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8640" indent="-27864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witching Cost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One-time costs customers incur when they buy from a different supplier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raining employ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ychic costs of ending a relation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8640" indent="-27864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ccess to Distribution Channel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tocking or shelf space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ice break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Cooperative advertising allowanc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CAC16-1599-4351-AEE0-1FDC70CD741D}" type="slidenum">
              <a:t>22</a:t>
            </a:fld>
          </a:p>
        </p:txBody>
      </p:sp>
    </p:spTree>
  </p:cSld>
  <p:transition>
    <p:random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000"/>
                            </p:stCondLst>
                            <p:childTnLst>
                              <p:par>
                                <p:cTn id="5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500"/>
                            </p:stCondLst>
                            <p:childTnLst>
                              <p:par>
                                <p:cTn id="5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000"/>
                            </p:stCondLst>
                            <p:childTnLst>
                              <p:par>
                                <p:cTn id="5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Barriers to Entr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ost Disadvantages Independent of Scal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oprietary product technology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Favorable access to raw material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Desirable location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Government policy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Licensing and permit requirement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Deregulation of industri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Expected retaliation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Responses by existing competitors may depend on a firm’s present stake in the industry (available business options)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290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46A05-05B5-4443-8D88-3D1334CF8C22}" type="slidenum">
              <a:t>23</a:t>
            </a:fld>
          </a:p>
        </p:txBody>
      </p:sp>
    </p:spTree>
  </p:cSld>
  <p:transition>
    <p:random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000"/>
                            </p:stCondLst>
                            <p:childTnLst>
                              <p:par>
                                <p:cTn id="5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500"/>
                            </p:stCondLst>
                            <p:childTnLst>
                              <p:par>
                                <p:cTn id="5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4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500"/>
                            </p:stCondLst>
                            <p:childTnLst>
                              <p:par>
                                <p:cTn id="6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Bargaining Power of Suppli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upplier power increases whe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liers are large and few in numbe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itable substitute products are not availabl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dividual buyers are not large customers of suppliers and there are many of them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liers’ goods are critical to the buyers’ marketplace succ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liers’ products create high switching cos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liers pose a threat to integrate forward into buyers’ industr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376D4-AA28-47EF-8B90-57EA1F3F2674}" type="slidenum">
              <a:t>24</a:t>
            </a:fld>
          </a:p>
        </p:txBody>
      </p:sp>
    </p:spTree>
  </p:cSld>
  <p:transition>
    <p:random/>
  </p:transition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0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5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Bargaining Power of Buy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Buyer power increases whe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 are large and few in numbe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 purchase a large portion of an industry’s total outpu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’ purchases are a significant portion of a supplier’s annual revenu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’ switching costs are low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 can pose threat to integrate backward into the sellers’ industr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472E8-7604-476F-82B3-FB697C9B65F1}" type="slidenum">
              <a:t>25</a:t>
            </a:fld>
          </a:p>
        </p:txBody>
      </p:sp>
    </p:spTree>
  </p:cSld>
  <p:transition>
    <p:random/>
  </p:transition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0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2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5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reat of Substitute Product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threat of substitute products increases whe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 face few switching cos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substitute product’s price is lowe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bstitute product’s quality and performance are equal to or greater than the existing produc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fferentiated industry products that are valued by customers reduce this threat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2A66F-0E0F-4041-8642-90259D6E7BC7}" type="slidenum">
              <a:t>26</a:t>
            </a:fld>
          </a:p>
        </p:txBody>
      </p:sp>
    </p:spTree>
  </p:cSld>
  <p:transition>
    <p:random/>
  </p:transition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0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nsity of Rivalry Among Competito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dustry rivalry increases whe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re are numerous or equally balanced competit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dustry growth slows or declin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re are high fixed costs or high storage cos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re is a lack of differentiation opportunities or low switching cos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hen the strategic stakes are high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hen high exit barriers prevent competitors from leaving the industr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33EBD-843D-484D-8E21-58FB1165399A}" type="slidenum">
              <a:t>27</a:t>
            </a:fld>
          </a:p>
        </p:txBody>
      </p:sp>
    </p:spTree>
  </p:cSld>
  <p:transition>
    <p:random/>
  </p:transition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0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1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971640" y="1606680"/>
            <a:ext cx="299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entry b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preting Industry Analys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4871880" y="2633760"/>
            <a:ext cx="3538440" cy="2000160"/>
            <a:chOff x="4871880" y="2633760"/>
            <a:chExt cx="3538440" cy="2000160"/>
          </a:xfrm>
        </p:grpSpPr>
        <p:sp>
          <p:nvSpPr>
            <p:cNvPr id="170" name=""/>
            <p:cNvSpPr/>
            <p:nvPr/>
          </p:nvSpPr>
          <p:spPr>
            <a:xfrm>
              <a:off x="4871880" y="2633760"/>
              <a:ext cx="3538440" cy="200016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974840" y="2754360"/>
              <a:ext cx="3330720" cy="1758960"/>
            </a:xfrm>
            <a:prstGeom prst="ellipse">
              <a:avLst/>
            </a:prstGeom>
            <a:gradFill rotWithShape="0">
              <a:gsLst>
                <a:gs pos="0">
                  <a:srgbClr val="5e1700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Tahoma"/>
                </a:rPr>
                <a:t>Unattractive</a:t>
              </a:r>
              <a:br>
                <a:rPr sz="3200"/>
              </a:br>
              <a:r>
                <a:rPr b="0" lang="en-US" sz="3200" spc="-1" strike="noStrike">
                  <a:solidFill>
                    <a:srgbClr val="ffffcc"/>
                  </a:solidFill>
                  <a:latin typeface="Tahoma"/>
                </a:rPr>
                <a:t>Indust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609480" y="2414520"/>
            <a:ext cx="32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iers and buyers have strong po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43040" y="3618000"/>
            <a:ext cx="28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ong threats from substitute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309680" y="4773600"/>
            <a:ext cx="28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nse rivalry among compet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027760" y="4956120"/>
            <a:ext cx="32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Low profit pot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86320" y="1935000"/>
            <a:ext cx="1761840" cy="1017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592440" y="2865600"/>
            <a:ext cx="138420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3568680" y="3735000"/>
            <a:ext cx="1314360" cy="352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3603600" y="4167000"/>
            <a:ext cx="1552680" cy="896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426CF-99E7-40CC-9C5B-5FDED23B1385}" type="slidenum">
              <a:t>28</a:t>
            </a:fld>
          </a:p>
        </p:txBody>
      </p:sp>
    </p:spTree>
  </p:cSld>
  <p:transition>
    <p:random/>
  </p:transition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0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500"/>
                            </p:stCondLst>
                            <p:childTnLst>
                              <p:par>
                                <p:cTn id="7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500"/>
                            </p:stCondLst>
                            <p:childTnLst>
                              <p:par>
                                <p:cTn id="7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500"/>
                            </p:stCondLst>
                            <p:childTnLst>
                              <p:par>
                                <p:cTn id="7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500"/>
                            </p:stCondLst>
                            <p:childTnLst>
                              <p:par>
                                <p:cTn id="8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1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preting Industry Analys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4871880" y="2637000"/>
            <a:ext cx="3538440" cy="2000160"/>
            <a:chOff x="4871880" y="2637000"/>
            <a:chExt cx="3538440" cy="2000160"/>
          </a:xfrm>
        </p:grpSpPr>
        <p:sp>
          <p:nvSpPr>
            <p:cNvPr id="182" name=""/>
            <p:cNvSpPr/>
            <p:nvPr/>
          </p:nvSpPr>
          <p:spPr>
            <a:xfrm>
              <a:off x="4871880" y="2637000"/>
              <a:ext cx="3538440" cy="20001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974840" y="2757600"/>
              <a:ext cx="3330720" cy="1758960"/>
            </a:xfrm>
            <a:prstGeom prst="ellipse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Tahoma"/>
                </a:rPr>
                <a:t>Attractive</a:t>
              </a:r>
              <a:br>
                <a:rPr sz="3200"/>
              </a:br>
              <a:r>
                <a:rPr b="0" lang="en-US" sz="3200" spc="-1" strike="noStrike">
                  <a:solidFill>
                    <a:srgbClr val="ffffcc"/>
                  </a:solidFill>
                  <a:latin typeface="Tahoma"/>
                </a:rPr>
                <a:t>Indust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880920" y="1600200"/>
            <a:ext cx="28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entry b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1120" y="2394000"/>
            <a:ext cx="32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iers and buyers have weak po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42840" y="3749760"/>
            <a:ext cx="28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 threats from substitute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262160" y="4740120"/>
            <a:ext cx="28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rivalry among compet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027760" y="4959360"/>
            <a:ext cx="32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High profit pot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586320" y="1938240"/>
            <a:ext cx="1761840" cy="1017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18000" y="2868480"/>
            <a:ext cx="138420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3568680" y="3738240"/>
            <a:ext cx="1314360" cy="352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45000" y="4208400"/>
            <a:ext cx="1552320" cy="897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94B50-88C0-4D2E-9CA3-4F3E9469CB1F}" type="slidenum">
              <a:t>29</a:t>
            </a:fld>
          </a:p>
        </p:txBody>
      </p:sp>
    </p:spTree>
  </p:cSld>
  <p:transition>
    <p:random/>
  </p:transition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0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500"/>
                            </p:stCondLst>
                            <p:childTnLst>
                              <p:par>
                                <p:cTn id="8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500"/>
                            </p:stCondLst>
                            <p:childTnLst>
                              <p:par>
                                <p:cTn id="8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500"/>
                            </p:stCondLst>
                            <p:childTnLst>
                              <p:par>
                                <p:cTn id="8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500"/>
                            </p:stCondLst>
                            <p:childTnLst>
                              <p:par>
                                <p:cTn id="8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1000"/>
                            </p:stCondLst>
                            <p:childTnLst>
                              <p:par>
                                <p:cTn id="859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51814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 </a:t>
            </a: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(cont’d)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7840" y="1904760"/>
            <a:ext cx="8229600" cy="42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-463680">
              <a:spcBef>
                <a:spcPts val="1500"/>
              </a:spcBef>
              <a:buClr>
                <a:srgbClr val="0066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strategic groups and describe their influence on the firm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3680" indent="-463680">
              <a:spcBef>
                <a:spcPts val="1500"/>
              </a:spcBef>
              <a:buClr>
                <a:srgbClr val="0066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what firms need to know about their competitors and different methods (including ethical standards) used to collect intelligence about them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960" y="104472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FD56F-12CD-45DB-B31A-577ED578E724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Group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Group Defined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set of firms emphasizing similar strategic dimensions and using similar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l competition between strategic group firms is greater than between firms outside that strategic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more heterogeneity in the performance of firms within strategic grou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6666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Similar market positions</a:t>
            </a:r>
            <a:endParaRPr b="0" lang="en-US" sz="2400" spc="-1" strike="noStrike">
              <a:solidFill>
                <a:srgbClr val="6666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6666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Similar products</a:t>
            </a:r>
            <a:endParaRPr b="0" lang="en-US" sz="2400" spc="-1" strike="noStrike">
              <a:solidFill>
                <a:srgbClr val="6666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6666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Similar strategic actions</a:t>
            </a:r>
            <a:endParaRPr b="0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882E8-3C9C-465F-B846-9DA1AD5AF3A1}" type="slidenum">
              <a:t>30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500"/>
                            </p:stCondLst>
                            <p:childTnLst>
                              <p:par>
                                <p:cTn id="8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8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8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1" dur="5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4" dur="5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500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Group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Dimension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tent of technological leadership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quali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icing Polic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stribution channe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ustomer servic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02D56-8653-4AF5-816C-DF7B62F6A76F}" type="slidenum">
              <a:t>31</a:t>
            </a:fld>
          </a:p>
        </p:txBody>
      </p:sp>
    </p:spTree>
  </p:cSld>
  <p:transition>
    <p:random/>
  </p:transition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fill="hold">
                      <p:stCondLst>
                        <p:cond delay="0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9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4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9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4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9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4" dur="5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mpetitor Intelligenc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ethical gathering of needed information and data that provides insight into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etitor’s direction (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future objective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etitor’s capabilities and intentions (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current strateg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etitor’s beliefs about the industry (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i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assump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etitor’s 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cap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9D6DA-90A3-44F6-864B-3F4EA992CC0E}" type="slidenum">
              <a:t>32</a:t>
            </a:fld>
          </a:p>
        </p:txBody>
      </p:sp>
    </p:spTree>
  </p:cSld>
  <p:transition>
    <p:random/>
  </p:transition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fill="hold">
                      <p:stCondLst>
                        <p:cond delay="0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6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1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6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1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6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1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8324640" cy="56070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6324480" y="457200"/>
            <a:ext cx="2156040" cy="153828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934320" y="597960"/>
            <a:ext cx="1752480" cy="1343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2.2</a:t>
            </a:r>
            <a:r>
              <a:rPr b="1" i="1" lang="en-US" sz="1200" spc="-1" strike="noStrike">
                <a:solidFill>
                  <a:srgbClr val="cc6600"/>
                </a:solidFill>
                <a:latin typeface="Tahoma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etitor Analysis Component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2" name=""/>
          <p:cNvSpPr/>
          <p:nvPr/>
        </p:nvSpPr>
        <p:spPr>
          <a:xfrm>
            <a:off x="6781680" y="622440"/>
            <a:ext cx="0" cy="47916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553080" y="92880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4F9B7-3378-4D09-B76B-64A6EBA0F8D8}" type="slidenum">
              <a:t>33</a:t>
            </a:fld>
          </a:p>
        </p:txBody>
      </p:sp>
    </p:spTree>
  </p:cSld>
  <p:transition>
    <p:random/>
  </p:transition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fill="hold">
                      <p:stCondLst>
                        <p:cond delay="0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4419720" y="1600200"/>
            <a:ext cx="3916080" cy="26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w do our goals compare with our competitors’ goal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ere will the emphasis be placed in the fu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at is the attitude toward ris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561960" y="1492200"/>
            <a:ext cx="3400200" cy="932040"/>
            <a:chOff x="561960" y="1492200"/>
            <a:chExt cx="3400200" cy="932040"/>
          </a:xfrm>
        </p:grpSpPr>
        <p:sp>
          <p:nvSpPr>
            <p:cNvPr id="207" name=""/>
            <p:cNvSpPr/>
            <p:nvPr/>
          </p:nvSpPr>
          <p:spPr>
            <a:xfrm>
              <a:off x="561960" y="1492200"/>
              <a:ext cx="3400200" cy="9320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89400" y="1595520"/>
              <a:ext cx="3144960" cy="7239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Future Objec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3962520" y="1523880"/>
            <a:ext cx="838080" cy="2895840"/>
          </a:xfrm>
          <a:custGeom>
            <a:avLst/>
            <a:gdLst>
              <a:gd name="textAreaLeft" fmla="*/ 535320 w 838080"/>
              <a:gd name="textAreaRight" fmla="*/ 838440 w 838080"/>
              <a:gd name="textAreaTop" fmla="*/ 1440 h 2895840"/>
              <a:gd name="textAreaBottom" fmla="*/ 2894400 h 289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"/>
                  <a:pt x="10800" y="42"/>
                </a:cubicBezTo>
                <a:lnTo>
                  <a:pt x="10800" y="3297"/>
                </a:lnTo>
                <a:cubicBezTo>
                  <a:pt x="10800" y="3318"/>
                  <a:pt x="5400" y="3339"/>
                  <a:pt x="0" y="3339"/>
                </a:cubicBezTo>
                <a:cubicBezTo>
                  <a:pt x="5400" y="3339"/>
                  <a:pt x="10800" y="3360"/>
                  <a:pt x="10800" y="3381"/>
                </a:cubicBezTo>
                <a:lnTo>
                  <a:pt x="10800" y="21558"/>
                </a:lnTo>
                <a:cubicBezTo>
                  <a:pt x="10800" y="2157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A85BD-DE2D-4A0B-AD73-D27427C0EDE3}" type="slidenum">
              <a:t>34</a:t>
            </a:fld>
          </a:p>
        </p:txBody>
      </p:sp>
    </p:spTree>
  </p:cSld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fill="hold">
                      <p:stCondLst>
                        <p:cond delay="0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8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500"/>
                            </p:stCondLst>
                            <p:childTnLst>
                              <p:par>
                                <p:cTn id="9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4397400" y="2055960"/>
            <a:ext cx="3881520" cy="20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w are we currently compet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oes this strategy support changes in the competitive struc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539640" y="1481040"/>
            <a:ext cx="3422520" cy="932040"/>
            <a:chOff x="539640" y="1481040"/>
            <a:chExt cx="3422520" cy="932040"/>
          </a:xfrm>
        </p:grpSpPr>
        <p:sp>
          <p:nvSpPr>
            <p:cNvPr id="213" name=""/>
            <p:cNvSpPr/>
            <p:nvPr/>
          </p:nvSpPr>
          <p:spPr>
            <a:xfrm>
              <a:off x="539640" y="148104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67800" y="1584360"/>
              <a:ext cx="3165840" cy="7239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uture Objec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539640" y="2496960"/>
            <a:ext cx="3422520" cy="932040"/>
            <a:chOff x="539640" y="2496960"/>
            <a:chExt cx="3422520" cy="932040"/>
          </a:xfrm>
        </p:grpSpPr>
        <p:sp>
          <p:nvSpPr>
            <p:cNvPr id="216" name=""/>
            <p:cNvSpPr/>
            <p:nvPr/>
          </p:nvSpPr>
          <p:spPr>
            <a:xfrm>
              <a:off x="539640" y="249696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68520" y="26002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Current Strateg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3962520" y="1981080"/>
            <a:ext cx="838080" cy="2133720"/>
          </a:xfrm>
          <a:custGeom>
            <a:avLst/>
            <a:gdLst>
              <a:gd name="textAreaLeft" fmla="*/ 535320 w 838080"/>
              <a:gd name="textAreaRight" fmla="*/ 838440 w 838080"/>
              <a:gd name="textAreaTop" fmla="*/ 1080 h 2133720"/>
              <a:gd name="textAreaBottom" fmla="*/ 213264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"/>
                  <a:pt x="10800" y="42"/>
                </a:cubicBezTo>
                <a:lnTo>
                  <a:pt x="10800" y="9938"/>
                </a:lnTo>
                <a:cubicBezTo>
                  <a:pt x="10800" y="9959"/>
                  <a:pt x="5400" y="9980"/>
                  <a:pt x="0" y="9980"/>
                </a:cubicBezTo>
                <a:cubicBezTo>
                  <a:pt x="5400" y="9980"/>
                  <a:pt x="10800" y="10001"/>
                  <a:pt x="10800" y="10022"/>
                </a:cubicBezTo>
                <a:lnTo>
                  <a:pt x="10800" y="21558"/>
                </a:lnTo>
                <a:cubicBezTo>
                  <a:pt x="10800" y="2157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8B5C6-0199-476D-AFEE-9D5F15279D38}" type="slidenum">
              <a:t>35</a:t>
            </a:fld>
          </a:p>
        </p:txBody>
      </p:sp>
    </p:spTree>
  </p:cSld>
  <p:timing>
    <p:tnLst>
      <p:par>
        <p:cTn id="994" dur="indefinite" restart="never" nodeType="tmRoot">
          <p:childTnLst>
            <p:seq>
              <p:cTn id="995" dur="indefinite" nodeType="mainSeq">
                <p:childTnLst>
                  <p:par>
                    <p:cTn id="996" fill="hold">
                      <p:stCondLst>
                        <p:cond delay="0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0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0" name=""/>
          <p:cNvSpPr/>
          <p:nvPr/>
        </p:nvSpPr>
        <p:spPr>
          <a:xfrm>
            <a:off x="4427640" y="2514600"/>
            <a:ext cx="39164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o we assume the future will be volati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re we operating under a status qu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at assumptions do our competitors hold about the industry and themselv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533520" y="1486080"/>
            <a:ext cx="3422160" cy="931680"/>
            <a:chOff x="533520" y="1486080"/>
            <a:chExt cx="3422160" cy="931680"/>
          </a:xfrm>
        </p:grpSpPr>
        <p:sp>
          <p:nvSpPr>
            <p:cNvPr id="222" name=""/>
            <p:cNvSpPr/>
            <p:nvPr/>
          </p:nvSpPr>
          <p:spPr>
            <a:xfrm>
              <a:off x="533520" y="1486080"/>
              <a:ext cx="3422160" cy="9316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61680" y="1589040"/>
              <a:ext cx="3165480" cy="72360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uture Objec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39640" y="2496960"/>
            <a:ext cx="3422520" cy="932040"/>
            <a:chOff x="539640" y="2496960"/>
            <a:chExt cx="3422520" cy="932040"/>
          </a:xfrm>
        </p:grpSpPr>
        <p:sp>
          <p:nvSpPr>
            <p:cNvPr id="225" name=""/>
            <p:cNvSpPr/>
            <p:nvPr/>
          </p:nvSpPr>
          <p:spPr>
            <a:xfrm>
              <a:off x="539640" y="249696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68520" y="26002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urrent Strateg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533520" y="3519360"/>
            <a:ext cx="3422160" cy="932040"/>
            <a:chOff x="533520" y="3519360"/>
            <a:chExt cx="3422160" cy="932040"/>
          </a:xfrm>
        </p:grpSpPr>
        <p:sp>
          <p:nvSpPr>
            <p:cNvPr id="228" name=""/>
            <p:cNvSpPr/>
            <p:nvPr/>
          </p:nvSpPr>
          <p:spPr>
            <a:xfrm>
              <a:off x="533520" y="3519360"/>
              <a:ext cx="3422160" cy="93204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2040" y="36226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1700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Assump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3962520" y="2514600"/>
            <a:ext cx="838080" cy="3124080"/>
          </a:xfrm>
          <a:custGeom>
            <a:avLst/>
            <a:gdLst>
              <a:gd name="textAreaLeft" fmla="*/ 535320 w 838080"/>
              <a:gd name="textAreaRight" fmla="*/ 838440 w 838080"/>
              <a:gd name="textAreaTop" fmla="*/ 1800 h 3124080"/>
              <a:gd name="textAreaBottom" fmla="*/ 3122280 h 3124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"/>
                  <a:pt x="10800" y="42"/>
                </a:cubicBezTo>
                <a:lnTo>
                  <a:pt x="10800" y="10140"/>
                </a:lnTo>
                <a:cubicBezTo>
                  <a:pt x="10800" y="10161"/>
                  <a:pt x="5400" y="10182"/>
                  <a:pt x="0" y="10182"/>
                </a:cubicBezTo>
                <a:cubicBezTo>
                  <a:pt x="5400" y="10182"/>
                  <a:pt x="10800" y="10203"/>
                  <a:pt x="10800" y="10224"/>
                </a:cubicBezTo>
                <a:lnTo>
                  <a:pt x="10800" y="21558"/>
                </a:lnTo>
                <a:cubicBezTo>
                  <a:pt x="10800" y="2157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CEE96-AC21-4516-8977-9202B7BB4F8A}" type="slidenum">
              <a:t>36</a:t>
            </a:fld>
          </a:p>
        </p:txBody>
      </p:sp>
    </p:spTree>
  </p:cSld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fill="hold">
                      <p:stCondLst>
                        <p:cond delay="0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1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500"/>
                            </p:stCondLst>
                            <p:childTnLst>
                              <p:par>
                                <p:cTn id="10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2" name=""/>
          <p:cNvSpPr/>
          <p:nvPr/>
        </p:nvSpPr>
        <p:spPr>
          <a:xfrm>
            <a:off x="4438800" y="3962520"/>
            <a:ext cx="39211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at are our strengths and weakn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w do we rate compared to our competito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539640" y="1481040"/>
            <a:ext cx="3422520" cy="932040"/>
            <a:chOff x="539640" y="1481040"/>
            <a:chExt cx="3422520" cy="932040"/>
          </a:xfrm>
        </p:grpSpPr>
        <p:sp>
          <p:nvSpPr>
            <p:cNvPr id="234" name=""/>
            <p:cNvSpPr/>
            <p:nvPr/>
          </p:nvSpPr>
          <p:spPr>
            <a:xfrm>
              <a:off x="539640" y="148104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67800" y="1584360"/>
              <a:ext cx="3165840" cy="7239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uture Objec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539640" y="2496960"/>
            <a:ext cx="3422520" cy="932040"/>
            <a:chOff x="539640" y="2496960"/>
            <a:chExt cx="3422520" cy="932040"/>
          </a:xfrm>
        </p:grpSpPr>
        <p:sp>
          <p:nvSpPr>
            <p:cNvPr id="237" name=""/>
            <p:cNvSpPr/>
            <p:nvPr/>
          </p:nvSpPr>
          <p:spPr>
            <a:xfrm>
              <a:off x="539640" y="249696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68520" y="26002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urrent Strateg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533520" y="3519360"/>
            <a:ext cx="3422160" cy="932040"/>
            <a:chOff x="533520" y="3519360"/>
            <a:chExt cx="3422160" cy="932040"/>
          </a:xfrm>
        </p:grpSpPr>
        <p:sp>
          <p:nvSpPr>
            <p:cNvPr id="240" name=""/>
            <p:cNvSpPr/>
            <p:nvPr/>
          </p:nvSpPr>
          <p:spPr>
            <a:xfrm>
              <a:off x="533520" y="3519360"/>
              <a:ext cx="3422160" cy="93204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62040" y="36226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1700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ssump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533520" y="4540320"/>
            <a:ext cx="3422160" cy="931680"/>
            <a:chOff x="533520" y="4540320"/>
            <a:chExt cx="3422160" cy="931680"/>
          </a:xfrm>
        </p:grpSpPr>
        <p:sp>
          <p:nvSpPr>
            <p:cNvPr id="243" name=""/>
            <p:cNvSpPr/>
            <p:nvPr/>
          </p:nvSpPr>
          <p:spPr>
            <a:xfrm>
              <a:off x="533520" y="4540320"/>
              <a:ext cx="3422160" cy="93168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100000">
                  <a:srgbClr val="462f1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62040" y="4643280"/>
              <a:ext cx="3165120" cy="723600"/>
            </a:xfrm>
            <a:prstGeom prst="rect">
              <a:avLst/>
            </a:prstGeom>
            <a:gradFill rotWithShape="0">
              <a:gsLst>
                <a:gs pos="0">
                  <a:srgbClr val="462f17"/>
                </a:gs>
                <a:gs pos="100000">
                  <a:srgbClr val="9966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Capabiliti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3962520" y="3886200"/>
            <a:ext cx="838080" cy="2133720"/>
          </a:xfrm>
          <a:custGeom>
            <a:avLst/>
            <a:gdLst>
              <a:gd name="textAreaLeft" fmla="*/ 535320 w 838080"/>
              <a:gd name="textAreaRight" fmla="*/ 838440 w 838080"/>
              <a:gd name="textAreaTop" fmla="*/ 1080 h 2133720"/>
              <a:gd name="textAreaBottom" fmla="*/ 213264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"/>
                  <a:pt x="10800" y="42"/>
                </a:cubicBezTo>
                <a:lnTo>
                  <a:pt x="10800" y="11142"/>
                </a:lnTo>
                <a:cubicBezTo>
                  <a:pt x="10800" y="11163"/>
                  <a:pt x="5400" y="11184"/>
                  <a:pt x="0" y="11184"/>
                </a:cubicBezTo>
                <a:cubicBezTo>
                  <a:pt x="5400" y="11184"/>
                  <a:pt x="10800" y="11205"/>
                  <a:pt x="10800" y="11226"/>
                </a:cubicBezTo>
                <a:lnTo>
                  <a:pt x="10800" y="21558"/>
                </a:lnTo>
                <a:cubicBezTo>
                  <a:pt x="10800" y="2157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FE041-FA28-42A0-856F-DB11B10AA80F}" type="slidenum">
              <a:t>37</a:t>
            </a:fld>
          </a:p>
        </p:txBody>
      </p:sp>
    </p:spTree>
  </p:cSld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fill="hold">
                      <p:stCondLst>
                        <p:cond delay="0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3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500"/>
                            </p:stCondLst>
                            <p:childTnLst>
                              <p:par>
                                <p:cTn id="10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4800600" y="2514600"/>
            <a:ext cx="3619440" cy="36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at will our competitors do in the fu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ere do we hold an advantage over our competito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w will this change our relationship with our competito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091120" y="1447920"/>
            <a:ext cx="3002040" cy="931680"/>
            <a:chOff x="5091120" y="1447920"/>
            <a:chExt cx="3002040" cy="931680"/>
          </a:xfrm>
        </p:grpSpPr>
        <p:sp>
          <p:nvSpPr>
            <p:cNvPr id="249" name=""/>
            <p:cNvSpPr/>
            <p:nvPr/>
          </p:nvSpPr>
          <p:spPr>
            <a:xfrm>
              <a:off x="5091120" y="1447920"/>
              <a:ext cx="3002040" cy="93168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03800" y="1550880"/>
              <a:ext cx="2776680" cy="723600"/>
            </a:xfrm>
            <a:prstGeom prst="rect">
              <a:avLst/>
            </a:prstGeom>
            <a:gradFill rotWithShape="0">
              <a:gsLst>
                <a:gs pos="0">
                  <a:srgbClr val="754617"/>
                </a:gs>
                <a:gs pos="100000">
                  <a:srgbClr val="ff99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Respon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3948120" y="1709640"/>
            <a:ext cx="1143360" cy="3242520"/>
            <a:chOff x="3948120" y="1709640"/>
            <a:chExt cx="1143360" cy="3242520"/>
          </a:xfrm>
        </p:grpSpPr>
        <p:cxnSp>
          <p:nvCxnSpPr>
            <p:cNvPr id="252" name=""/>
            <p:cNvCxnSpPr/>
            <p:nvPr/>
          </p:nvCxnSpPr>
          <p:spPr>
            <a:xfrm flipV="1">
              <a:off x="3951360" y="2154960"/>
              <a:ext cx="1140480" cy="2797560"/>
            </a:xfrm>
            <a:prstGeom prst="bentConnector3">
              <a:avLst>
                <a:gd name="adj1" fmla="val 39090"/>
              </a:avLst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</p:cxnSp>
        <p:cxnSp>
          <p:nvCxnSpPr>
            <p:cNvPr id="253" name=""/>
            <p:cNvCxnSpPr/>
            <p:nvPr/>
          </p:nvCxnSpPr>
          <p:spPr>
            <a:xfrm flipV="1">
              <a:off x="3951360" y="2004480"/>
              <a:ext cx="1140480" cy="1896840"/>
            </a:xfrm>
            <a:prstGeom prst="bentConnector3">
              <a:avLst>
                <a:gd name="adj1" fmla="val 27123"/>
              </a:avLst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</p:cxnSp>
        <p:cxnSp>
          <p:nvCxnSpPr>
            <p:cNvPr id="254" name=""/>
            <p:cNvCxnSpPr/>
            <p:nvPr/>
          </p:nvCxnSpPr>
          <p:spPr>
            <a:xfrm flipV="1">
              <a:off x="3951360" y="1866600"/>
              <a:ext cx="1140480" cy="995400"/>
            </a:xfrm>
            <a:prstGeom prst="bentConnector3">
              <a:avLst>
                <a:gd name="adj1" fmla="val 15219"/>
              </a:avLst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</p:cxnSp>
        <p:sp>
          <p:nvSpPr>
            <p:cNvPr id="255" name=""/>
            <p:cNvSpPr/>
            <p:nvPr/>
          </p:nvSpPr>
          <p:spPr>
            <a:xfrm>
              <a:off x="3948120" y="1709640"/>
              <a:ext cx="1140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539640" y="1481040"/>
            <a:ext cx="3422520" cy="932040"/>
            <a:chOff x="539640" y="1481040"/>
            <a:chExt cx="3422520" cy="932040"/>
          </a:xfrm>
        </p:grpSpPr>
        <p:sp>
          <p:nvSpPr>
            <p:cNvPr id="257" name=""/>
            <p:cNvSpPr/>
            <p:nvPr/>
          </p:nvSpPr>
          <p:spPr>
            <a:xfrm>
              <a:off x="539640" y="148104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67800" y="1584360"/>
              <a:ext cx="3165840" cy="7239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uture Objec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539640" y="2496960"/>
            <a:ext cx="3422520" cy="932040"/>
            <a:chOff x="539640" y="2496960"/>
            <a:chExt cx="3422520" cy="932040"/>
          </a:xfrm>
        </p:grpSpPr>
        <p:sp>
          <p:nvSpPr>
            <p:cNvPr id="260" name=""/>
            <p:cNvSpPr/>
            <p:nvPr/>
          </p:nvSpPr>
          <p:spPr>
            <a:xfrm>
              <a:off x="539640" y="249696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68520" y="26002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urrent Strateg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533520" y="3519360"/>
            <a:ext cx="3422160" cy="932040"/>
            <a:chOff x="533520" y="3519360"/>
            <a:chExt cx="3422160" cy="932040"/>
          </a:xfrm>
        </p:grpSpPr>
        <p:sp>
          <p:nvSpPr>
            <p:cNvPr id="263" name=""/>
            <p:cNvSpPr/>
            <p:nvPr/>
          </p:nvSpPr>
          <p:spPr>
            <a:xfrm>
              <a:off x="533520" y="3519360"/>
              <a:ext cx="3422160" cy="93204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62040" y="36226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1700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ssump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533520" y="4538520"/>
            <a:ext cx="3422160" cy="932040"/>
            <a:chOff x="533520" y="4538520"/>
            <a:chExt cx="3422160" cy="932040"/>
          </a:xfrm>
        </p:grpSpPr>
        <p:sp>
          <p:nvSpPr>
            <p:cNvPr id="266" name=""/>
            <p:cNvSpPr/>
            <p:nvPr/>
          </p:nvSpPr>
          <p:spPr>
            <a:xfrm>
              <a:off x="533520" y="4538520"/>
              <a:ext cx="3422160" cy="93204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100000">
                  <a:srgbClr val="462f1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62040" y="464184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462f17"/>
                </a:gs>
                <a:gs pos="100000">
                  <a:srgbClr val="9966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apabiliti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8C22B-F13B-4EFA-9712-889EBCB6D5C2}" type="slidenum">
              <a:t>38</a:t>
            </a:fld>
          </a:p>
        </p:txBody>
      </p:sp>
    </p:spTree>
  </p:cSld>
  <p:timing>
    <p:tnLst>
      <p:par>
        <p:cTn id="1042" dur="indefinite" restart="never" nodeType="tmRoot">
          <p:childTnLst>
            <p:seq>
              <p:cTn id="1043" dur="indefinite" nodeType="mainSeq">
                <p:childTnLst>
                  <p:par>
                    <p:cTn id="1044" fill="hold">
                      <p:stCondLst>
                        <p:cond delay="0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4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fill="hold">
                            <p:stCondLst>
                              <p:cond delay="500"/>
                            </p:stCondLst>
                            <p:childTnLst>
                              <p:par>
                                <p:cTn id="10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lemento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mplementor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network of companies that sell complementary products or services or are compatible with the focal firm’s own product or servic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complementor’s product or service adds value to the sale of the focal firm’s product or service, it is likely to create value for the focal fi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if a complementor’s product or service is in a market into which the focal firm intends to expand, the complementor can represent a formidable competi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731C4-B0C0-43DF-B47E-E638331EDE4A}" type="slidenum">
              <a:t>39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479520"/>
            <a:ext cx="800100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2.1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xternal Environment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495360"/>
            <a:ext cx="8229600" cy="46656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06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523880" y="1295280"/>
            <a:ext cx="6324840" cy="5059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11AC1-8B0D-4D8F-B841-C71A985A37C7}" type="slidenum">
              <a:t>4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thical Consideratio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actices considered both legal and ethical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btaining publicly available inform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ttending trade fairs and shows to obtain competitors’ brochures, view their exhibits, and listen to discussions about their produc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actices considered both unethical and illegal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lackmai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respassing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avesdropping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ealing drawings, samples, or documen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79469-467B-454F-8315-558843667E15}" type="slidenum">
              <a:t>40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eneral Environmen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mensions in the broader society that influence an industry and the firms within it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mographic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conomic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olitical/lega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ociocultura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chnologica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Globa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40ED3-08CC-4585-AE3C-783F544C1440}" type="slidenum">
              <a:t>5</a:t>
            </a:fld>
          </a:p>
        </p:txBody>
      </p:sp>
    </p:spTree>
  </p:cSld>
  <p:transition>
    <p:random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50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560" y="426600"/>
            <a:ext cx="838188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1941480" indent="0">
              <a:buNone/>
              <a:tabLst>
                <a:tab algn="l" pos="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TABLE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2.1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General Environment: Segments and Element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80880" y="1143000"/>
            <a:ext cx="8382240" cy="5165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71289-85B6-4A79-9F58-45606196F85C}" type="slidenum">
              <a:t>6</a:t>
            </a:fld>
          </a:p>
        </p:txBody>
      </p:sp>
    </p:spTree>
  </p:cSld>
  <p:transition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y Environmen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set of factors directly influencing a firm and its competitive actions and competitive respons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reat of new entran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ower of suppli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ower of buy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reat of product substitu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nsity of rivalry among competito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BFF21-59A5-4510-B8F6-4E3F2BB4B214}" type="slidenum">
              <a:t>7</a:t>
            </a:fld>
          </a:p>
        </p:txBody>
      </p:sp>
    </p:spTree>
  </p:cSld>
  <p:transition>
    <p:random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8769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athering and interpreting information about all of the companies that the firm competes against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nderstanding the firm’s competitor environment complements the insights provided by studying the general and industry environment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486400" y="1343160"/>
            <a:ext cx="3124080" cy="3381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D409F-7F6A-432C-A2F2-5BC319F049BE}" type="slidenum">
              <a:t>8</a:t>
            </a:fld>
          </a:p>
        </p:txBody>
      </p:sp>
    </p:spTree>
  </p:cSld>
  <p:transition>
    <p:random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Analysis of the External Environment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eneral environ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ed on the fu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dustry environ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ed on factors and conditions influencing a firm’s profitability within an indus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mpetitor environ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ed on predicting the dynamics of competitors’ actions, responses and intent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25A4B-5E00-4C1F-B04F-6BB304DF1A49}" type="slidenum">
              <a:t>9</a:t>
            </a:fld>
          </a:p>
        </p:txBody>
      </p:sp>
    </p:spTree>
  </p:cSld>
  <p:transition>
    <p:random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University of West Alabama</dc:creator>
  <dc:description/>
  <dc:language>en-US</dc:language>
  <cp:lastModifiedBy>dii</cp:lastModifiedBy>
  <dcterms:modified xsi:type="dcterms:W3CDTF">2007-06-12T13:34:20Z</dcterms:modified>
  <cp:revision>44</cp:revision>
  <dc:subject>Chapter 2</dc:subject>
  <dc:title>Strategic Management 7e.</dc:title>
</cp:coreProperties>
</file>