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46D8-02E9-4217-8AC3-AB641785B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33B4-E501-448E-8CBF-BAAA23122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A829-D2A7-425B-9232-AE3660397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9EA9-BBF6-421B-B9CA-F519D6FCD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4454-AA90-4536-91DA-562D0785F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8F48-7156-4B9E-B523-6C2BC0FF2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10F0-2446-46EC-A730-285B6DC34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6408-0D68-4D5C-B79A-FEDCD9391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31C5-C05C-4D0C-853D-7E5605488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105F-A806-4337-BE76-EF04F71DD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55EE-572B-4E5C-8A48-5F932EAB7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9E4B-B399-40A3-A00D-621CDCF20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FD0E-239D-444D-B39D-CF2F98768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EFCA-BB27-4D63-B10B-A910901F7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B24D-CFDA-4831-92CE-01BF9EF5A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16E3-6B65-4B95-BF0F-28553D185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6793-A440-4756-B768-E2B65DC23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D983-9129-4833-AD2A-4FAA3025C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FC4E-7432-47A3-A59C-678BF3D1B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3DB9-AB55-4328-96BE-08915B250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766D-1FCA-4C67-AD87-40A1B195C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AEC6-2FE4-4151-BA54-370DB9196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C3BF-739A-4F92-97EB-39D5FFA56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FD6C-579B-46B1-8F2A-030FA80BA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C200-BF91-406B-A5D2-40C968700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5C49-97BB-4024-AE87-5E25A187D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5E45-C0E4-40DA-9ACF-4A7E1762E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E170-B604-40D0-B29D-3894409A4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B17F-1ED1-4527-BDD9-6054D431D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2941-4F58-45F0-8E5C-4A970A6EB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692F-17BC-4AF9-8BC2-4167BC574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4FF79-D98B-48D0-A988-B9383EE90A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2A1FB-99B8-42AA-819E-D856A7097D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43A28-CD59-480A-BE9A-4C76BF2E1E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96E2F-1479-43D2-B021-85E2054D77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D43A3-C906-4053-BA56-839DF65F3B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B31FD-70DB-4F68-A5BC-F79FBE94D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E0FD9-3453-4C69-9240-BB6440262D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DFF20-9C5F-4B21-BA50-494E886C32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19459-EDE6-47C6-8A2A-A03F50C3E0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65ABA-4E3E-476C-A864-D34742005B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5EAC4-E1DE-404E-8C2A-17B7C081E0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77458-6FC2-4BC2-81D5-56C52AA013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–</a:t>
            </a:r>
            <a:fld id="{6C5B8095-408E-47A1-A39D-A4009C055B5C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1197000"/>
            <a:ext cx="556272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2</a:t>
            </a:r>
            <a:br>
              <a:rPr sz="28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 External Environment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pportunities, Threats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dustry Competition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d Competitor Analysis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2.2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nents of the External Environmental Analysi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378080"/>
            <a:ext cx="8458200" cy="48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early signal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ng meaning through ongoing observation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eca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projections of anticipated outcomes based on monitored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ng the timing and importance of environmental changes and trends for firms’ strategies and thei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41F31-3E95-4635-9F72-8B468799FEB0}" type="slidenum">
              <a:t>10</a:t>
            </a:fld>
          </a:p>
        </p:txBody>
      </p:sp>
    </p:spTree>
  </p:cSld>
  <p:transition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pportunities and Threa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334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portun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, if exploited, helps a company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 may hinder a company’s efforts to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86400" y="1731960"/>
            <a:ext cx="3048120" cy="284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B34CD-D9C8-4EE7-910B-5D5EB0FE6E67}" type="slidenum">
              <a:t>11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emograph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pulation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g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eographic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thnic mix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ome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952880" y="2322360"/>
            <a:ext cx="3311640" cy="33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F44E1-1F8C-4514-B896-ECCBAECEECD3}" type="slidenum">
              <a:t>12</a:t>
            </a:fld>
          </a:p>
        </p:txBody>
      </p:sp>
    </p:spTree>
  </p:cSld>
  <p:transition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Econom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lation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est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ade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dget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savings rat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savings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ross domestic produc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2880000" cy="286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A8406-3140-4E9F-B38C-6FC3D1F3FBC1}" type="slidenum">
              <a:t>13</a:t>
            </a:fld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257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Political/Leg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trust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axation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regulation philosoph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bor training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ducational philosophies and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097680" y="4089240"/>
            <a:ext cx="2436840" cy="208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CDCE7-705A-46C6-8079-66799E4C63FD}" type="slidenum">
              <a:t>14</a:t>
            </a:fld>
          </a:p>
        </p:txBody>
      </p:sp>
    </p:spTree>
  </p:cSld>
  <p:transition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ociocultur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men in the workpla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kforce divers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itudes about quality of worklif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s about environ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work and career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product and service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75FE9-3578-4EEC-A010-048B8CDEB2FE}" type="slidenum">
              <a:t>15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echnologic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innov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lications of knowled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f private and government-supported R&amp;D expenditur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communication 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30773-FDF6-48E7-9F95-13FB8F7D81C1}" type="slidenum">
              <a:t>16</a:t>
            </a:fld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6386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Glob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ortant political ev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itical global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ly industrialized countr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 cultural and institutional attrib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735520" y="4284720"/>
            <a:ext cx="2646360" cy="182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81365-88C2-4023-A791-A0C16C799680}" type="slidenum">
              <a:t>17</a:t>
            </a:fld>
          </a:p>
        </p:txBody>
      </p:sp>
    </p:spTree>
  </p:cSld>
  <p:transition>
    <p:random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producing products that are close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ms that influence one 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a rich mix of competitive strategies that companies use in pursuing strategic competitiveness and above-average 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BEA6C-6630-4D32-ACDE-174BDA7DB326}" type="slidenum">
              <a:t>18</a:t>
            </a:fld>
          </a:p>
        </p:txBody>
      </p:sp>
    </p:spTree>
  </p:cSld>
  <p:transition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46620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ve Forces of Competition Model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44784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4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09880" y="1181160"/>
            <a:ext cx="5124240" cy="51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5D8C5-4903-468B-93AC-4AF52A3C4F9E}" type="slidenum">
              <a:t>19</a:t>
            </a:fld>
          </a:p>
        </p:txBody>
      </p:sp>
    </p:spTree>
  </p:cSld>
  <p:transition>
    <p:random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analyzing and understanding the firm’s external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d describe the general environment and the industry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our activities of the external environmental analysis pro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and describe the general environment’s six segmen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five competitive forces and explain how they determine an industry’s profit potenti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A187C-2A59-4415-96E0-44943AAB84A0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New Entrants: 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D5331-4627-48F2-B01A-B0DC604AB95A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ginal improvements in efficiency that a firm experiences as it incrementally increases its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(advantages and disadvantages) related to large- and small-scale entr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 in pricing and market sha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s related to scale econom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or retal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4598B-DAC7-4109-9A55-ACC8641A14D8}" type="slidenum">
              <a:t>21</a:t>
            </a:fld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Unique produc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ustomer loyalt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s at competitive pri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hysical facil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nvento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arketing activ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vailability of capital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43040" y="1219320"/>
            <a:ext cx="4343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ne-time costs customers incur when they buy from a different supplier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aining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ic costs of ending a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ocking or shelf spac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ice break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ooperative advertising allowan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282DD-638A-4B38-B881-E73A8FD364D2}" type="slidenum">
              <a:t>22</a:t>
            </a:fld>
          </a:p>
        </p:txBody>
      </p:sp>
    </p:spTree>
  </p:cSld>
  <p:transition>
    <p:random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prietary product technolog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avorable access to raw material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sirable loca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icensing and permit requiremen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regulation of indust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Responses by existing competitors may depend on a firm’s present stake in the industry (available business options)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464F6-182E-489D-880A-41C27FD40B76}" type="slidenum">
              <a:t>23</a:t>
            </a:fld>
          </a:p>
        </p:txBody>
      </p:sp>
    </p:spTree>
  </p:cSld>
  <p:transition>
    <p:random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Suppli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li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itable substitute products are not avail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vidual buyers are not large customers of suppliers and there are many of the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goods are critical to the buyers’ marketplace suc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products create high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pose a threat to integrate forward into buy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86CB8-1187-4FAC-991F-88D205A5F7E8}" type="slidenum">
              <a:t>24</a:t>
            </a:fld>
          </a:p>
        </p:txBody>
      </p:sp>
    </p:spTree>
  </p:cSld>
  <p:transition>
    <p:random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Buy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y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purchase a large portion of an industry’s total outpu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purchases are a significant portion of a supplier’s annual reven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switching costs are low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can pose threat to integrate backward into the sell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5CA51-9905-43DC-A05B-8C550B288729}" type="slidenum">
              <a:t>25</a:t>
            </a:fld>
          </a:p>
        </p:txBody>
      </p:sp>
    </p:spTree>
  </p:cSld>
  <p:transition>
    <p:random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Substitute Produc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hreat of substitute products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face fe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ubstitute product’s price is l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bstitute product’s quality and performance are equal to or greater than the existing pro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iated industry products that are valued by customers reduce this threa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22287-8F62-407A-B4F3-01AF153AF993}" type="slidenum">
              <a:t>26</a:t>
            </a:fld>
          </a:p>
        </p:txBody>
      </p:sp>
    </p:spTree>
  </p:cSld>
  <p:transition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nsity of Rivalry Among Competi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rivalry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numerous or equally balanced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ustry growth slows or declin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high fixed costs or high storage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is a lack of differentiation opportunities or lo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the strategic stakes are high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high exit barriers prevent competitors from leaving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638D1-EAF8-4439-9A7F-EDB90CB161B5}" type="slidenum">
              <a:t>27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71640" y="160668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871880" y="2633760"/>
            <a:ext cx="3538440" cy="2000160"/>
            <a:chOff x="4871880" y="2633760"/>
            <a:chExt cx="3538440" cy="2000160"/>
          </a:xfrm>
        </p:grpSpPr>
        <p:sp>
          <p:nvSpPr>
            <p:cNvPr id="170" name=""/>
            <p:cNvSpPr/>
            <p:nvPr/>
          </p:nvSpPr>
          <p:spPr>
            <a:xfrm>
              <a:off x="4871880" y="263376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74840" y="275436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Un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09480" y="241452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strong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3040" y="36180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09680" y="477360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ns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27760" y="495612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Low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6320" y="193500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2440" y="2865600"/>
            <a:ext cx="13842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568680" y="373500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603600" y="4167000"/>
            <a:ext cx="1552680" cy="89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A8A88-6A43-4D6D-96D8-27C4B6F581C4}" type="slidenum">
              <a:t>28</a:t>
            </a:fld>
          </a:p>
        </p:txBody>
      </p:sp>
    </p:spTree>
  </p:cSld>
  <p:transition>
    <p:random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871880" y="2637000"/>
            <a:ext cx="3538440" cy="2000160"/>
            <a:chOff x="4871880" y="2637000"/>
            <a:chExt cx="3538440" cy="2000160"/>
          </a:xfrm>
        </p:grpSpPr>
        <p:sp>
          <p:nvSpPr>
            <p:cNvPr id="182" name=""/>
            <p:cNvSpPr/>
            <p:nvPr/>
          </p:nvSpPr>
          <p:spPr>
            <a:xfrm>
              <a:off x="4871880" y="263700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74840" y="275760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880920" y="160020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1120" y="239400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weak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42840" y="374976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62160" y="474012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27760" y="495936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High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86320" y="193824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18000" y="2868480"/>
            <a:ext cx="13842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568680" y="373824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45000" y="4208400"/>
            <a:ext cx="1552320" cy="89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7DB13-80B0-4D00-B77A-D2042785B170}" type="slidenum">
              <a:t>29</a:t>
            </a:fld>
          </a:p>
        </p:txBody>
      </p:sp>
    </p:spTree>
  </p:cSld>
  <p:transition>
    <p:random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groups and describe their influence on the fir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at firms need to know about their competitors and different methods (including ethical standards) used to collect intelligence about the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44B8D-D924-4AEE-A344-9D9FC67DDF10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Group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et of firms emphasizing similar strategic dimensions and using simila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competition between strategic group firms is greater than between firms outside that strategic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more heterogeneity in the performance of firms within strategic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market posi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product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strategic ac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B5B56-D427-447F-BF3B-16E8DE86A7B2}" type="slidenum">
              <a:t>30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Dimen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nt of technological leadership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qua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ing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tribution channe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 servi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F6C59-1C28-43EC-A26A-48D45DBDADF2}" type="slidenum">
              <a:t>31</a:t>
            </a:fld>
          </a:p>
        </p:txBody>
      </p:sp>
    </p:spTree>
  </p:cSld>
  <p:transition>
    <p:random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Intellige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ethical gathering of needed information and data that provides insight into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direction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future objectiv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capabilities and intentions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urrent strateg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beliefs about the industry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assump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745AF-C3CF-4D84-8470-0DD19856988B}" type="slidenum">
              <a:t>32</a:t>
            </a:fld>
          </a:p>
        </p:txBody>
      </p:sp>
    </p:spTree>
  </p:cSld>
  <p:transition>
    <p:random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324640" cy="5607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324480" y="457200"/>
            <a:ext cx="2156040" cy="15382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934320" y="597960"/>
            <a:ext cx="17524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etitor Analysis Compon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62244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92880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17D97-1403-4BBD-8F3F-442A584DAA04}" type="slidenum">
              <a:t>33</a:t>
            </a:fld>
          </a:p>
        </p:txBody>
      </p:sp>
    </p:spTree>
  </p:cSld>
  <p:transition>
    <p:random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1600200"/>
            <a:ext cx="39160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our goals compare with our competitors’ go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will the emphasis be placed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is the attitude toward ri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61960" y="1492200"/>
            <a:ext cx="3400200" cy="932040"/>
            <a:chOff x="561960" y="1492200"/>
            <a:chExt cx="3400200" cy="932040"/>
          </a:xfrm>
        </p:grpSpPr>
        <p:sp>
          <p:nvSpPr>
            <p:cNvPr id="207" name=""/>
            <p:cNvSpPr/>
            <p:nvPr/>
          </p:nvSpPr>
          <p:spPr>
            <a:xfrm>
              <a:off x="561960" y="1492200"/>
              <a:ext cx="340020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9400" y="1595520"/>
              <a:ext cx="314496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1523880"/>
            <a:ext cx="838080" cy="2895840"/>
          </a:xfrm>
          <a:custGeom>
            <a:avLst/>
            <a:gdLst>
              <a:gd name="textAreaLeft" fmla="*/ 535320 w 838080"/>
              <a:gd name="textAreaRight" fmla="*/ 838440 w 838080"/>
              <a:gd name="textAreaTop" fmla="*/ 1440 h 2895840"/>
              <a:gd name="textAreaBottom" fmla="*/ 28944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3297"/>
                </a:lnTo>
                <a:cubicBezTo>
                  <a:pt x="10800" y="3318"/>
                  <a:pt x="5400" y="3339"/>
                  <a:pt x="0" y="3339"/>
                </a:cubicBezTo>
                <a:cubicBezTo>
                  <a:pt x="5400" y="3339"/>
                  <a:pt x="10800" y="3360"/>
                  <a:pt x="10800" y="3381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ADA35-94AC-4B10-8E65-1C0A246F1409}" type="slidenum">
              <a:t>34</a:t>
            </a:fld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4397400" y="2055960"/>
            <a:ext cx="388152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are we currently compe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es this strategy support changes in the competitive stru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13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16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962520" y="198108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9938"/>
                </a:lnTo>
                <a:cubicBezTo>
                  <a:pt x="10800" y="9959"/>
                  <a:pt x="5400" y="9980"/>
                  <a:pt x="0" y="9980"/>
                </a:cubicBezTo>
                <a:cubicBezTo>
                  <a:pt x="5400" y="9980"/>
                  <a:pt x="10800" y="10001"/>
                  <a:pt x="10800" y="10022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43159-E386-4943-9ACC-ADC0DF3EDE54}" type="slidenum">
              <a:t>35</a:t>
            </a:fld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4427640" y="2514600"/>
            <a:ext cx="3916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 we assume the future will be volat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e we operating under a status qu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ssumptions do our competitors hold about the industry and themsel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33520" y="1486080"/>
            <a:ext cx="3422160" cy="931680"/>
            <a:chOff x="533520" y="1486080"/>
            <a:chExt cx="3422160" cy="931680"/>
          </a:xfrm>
        </p:grpSpPr>
        <p:sp>
          <p:nvSpPr>
            <p:cNvPr id="222" name=""/>
            <p:cNvSpPr/>
            <p:nvPr/>
          </p:nvSpPr>
          <p:spPr>
            <a:xfrm>
              <a:off x="533520" y="148608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1680" y="1589040"/>
              <a:ext cx="3165480" cy="7236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25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28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962520" y="2514600"/>
            <a:ext cx="838080" cy="3124080"/>
          </a:xfrm>
          <a:custGeom>
            <a:avLst/>
            <a:gdLst>
              <a:gd name="textAreaLeft" fmla="*/ 535320 w 838080"/>
              <a:gd name="textAreaRight" fmla="*/ 838440 w 838080"/>
              <a:gd name="textAreaTop" fmla="*/ 1800 h 3124080"/>
              <a:gd name="textAreaBottom" fmla="*/ 312228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0140"/>
                </a:lnTo>
                <a:cubicBezTo>
                  <a:pt x="10800" y="10161"/>
                  <a:pt x="5400" y="10182"/>
                  <a:pt x="0" y="10182"/>
                </a:cubicBezTo>
                <a:cubicBezTo>
                  <a:pt x="5400" y="10182"/>
                  <a:pt x="10800" y="10203"/>
                  <a:pt x="10800" y="10224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80DED-88E1-40BA-BF39-AD33F4DBC6D3}" type="slidenum">
              <a:t>36</a:t>
            </a:fld>
          </a:p>
        </p:txBody>
      </p:sp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0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4438800" y="3962520"/>
            <a:ext cx="3921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re our strengths and weakn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we rate compared to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34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37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40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33520" y="4540320"/>
            <a:ext cx="3422160" cy="931680"/>
            <a:chOff x="533520" y="4540320"/>
            <a:chExt cx="3422160" cy="931680"/>
          </a:xfrm>
        </p:grpSpPr>
        <p:sp>
          <p:nvSpPr>
            <p:cNvPr id="243" name=""/>
            <p:cNvSpPr/>
            <p:nvPr/>
          </p:nvSpPr>
          <p:spPr>
            <a:xfrm>
              <a:off x="533520" y="454032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2040" y="4643280"/>
              <a:ext cx="3165120" cy="72360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962520" y="388620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1142"/>
                </a:lnTo>
                <a:cubicBezTo>
                  <a:pt x="10800" y="11163"/>
                  <a:pt x="5400" y="11184"/>
                  <a:pt x="0" y="11184"/>
                </a:cubicBezTo>
                <a:cubicBezTo>
                  <a:pt x="5400" y="11184"/>
                  <a:pt x="10800" y="11205"/>
                  <a:pt x="10800" y="11226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599CD-39DA-4C81-8D98-56A08613ED75}" type="slidenum">
              <a:t>37</a:t>
            </a:fld>
          </a:p>
        </p:txBody>
      </p:sp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2514600"/>
            <a:ext cx="3619440" cy="36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will our competitors do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do we hold an advantage over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will this change our relationship with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091120" y="1447920"/>
            <a:ext cx="3002040" cy="931680"/>
            <a:chOff x="5091120" y="1447920"/>
            <a:chExt cx="3002040" cy="931680"/>
          </a:xfrm>
        </p:grpSpPr>
        <p:sp>
          <p:nvSpPr>
            <p:cNvPr id="249" name=""/>
            <p:cNvSpPr/>
            <p:nvPr/>
          </p:nvSpPr>
          <p:spPr>
            <a:xfrm>
              <a:off x="5091120" y="1447920"/>
              <a:ext cx="3002040" cy="93168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03800" y="1550880"/>
              <a:ext cx="2776680" cy="723600"/>
            </a:xfrm>
            <a:prstGeom prst="rect">
              <a:avLst/>
            </a:prstGeom>
            <a:gradFill rotWithShape="0">
              <a:gsLst>
                <a:gs pos="0">
                  <a:srgbClr val="754617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948120" y="1709640"/>
            <a:ext cx="1143360" cy="3242520"/>
            <a:chOff x="3948120" y="1709640"/>
            <a:chExt cx="1143360" cy="3242520"/>
          </a:xfrm>
        </p:grpSpPr>
        <p:cxnSp>
          <p:nvCxnSpPr>
            <p:cNvPr id="252" name=""/>
            <p:cNvCxnSpPr/>
            <p:nvPr/>
          </p:nvCxnSpPr>
          <p:spPr>
            <a:xfrm flipV="1">
              <a:off x="3951360" y="2154960"/>
              <a:ext cx="1140480" cy="2797560"/>
            </a:xfrm>
            <a:prstGeom prst="bentConnector3">
              <a:avLst>
                <a:gd name="adj1" fmla="val 39090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3951360" y="2004480"/>
              <a:ext cx="1140480" cy="1896840"/>
            </a:xfrm>
            <a:prstGeom prst="bentConnector3">
              <a:avLst>
                <a:gd name="adj1" fmla="val 27123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4" name=""/>
            <p:cNvCxnSpPr/>
            <p:nvPr/>
          </p:nvCxnSpPr>
          <p:spPr>
            <a:xfrm flipV="1">
              <a:off x="3951360" y="1866600"/>
              <a:ext cx="1140480" cy="995400"/>
            </a:xfrm>
            <a:prstGeom prst="bentConnector3">
              <a:avLst>
                <a:gd name="adj1" fmla="val 15219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sp>
          <p:nvSpPr>
            <p:cNvPr id="255" name=""/>
            <p:cNvSpPr/>
            <p:nvPr/>
          </p:nvSpPr>
          <p:spPr>
            <a:xfrm>
              <a:off x="3948120" y="1709640"/>
              <a:ext cx="114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57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60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63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33520" y="4538520"/>
            <a:ext cx="3422160" cy="932040"/>
            <a:chOff x="533520" y="4538520"/>
            <a:chExt cx="3422160" cy="932040"/>
          </a:xfrm>
        </p:grpSpPr>
        <p:sp>
          <p:nvSpPr>
            <p:cNvPr id="266" name=""/>
            <p:cNvSpPr/>
            <p:nvPr/>
          </p:nvSpPr>
          <p:spPr>
            <a:xfrm>
              <a:off x="533520" y="453852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040" y="464184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27F7A-4AC2-4207-B77F-A1B31983EA97}" type="slidenum">
              <a:t>38</a:t>
            </a:fld>
          </a:p>
        </p:txBody>
      </p:sp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00"/>
                            </p:stCondLst>
                            <p:childTnLst>
                              <p:par>
                                <p:cTn id="10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lemen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lemento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network of companies that sell complementary products or services or are compatible with the focal firm’s own product or serv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complementor’s product or service adds value to the sale of the focal firm’s product or service, it is likely to create value for the focal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f a complementor’s product or service is in a market into which the focal firm intends to expand, the complementor can represent a formidable competi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8A34E-9058-435E-86EA-97A959F75A8B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47952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xternal Environment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9536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0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324840" cy="505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78B76-E7BD-4709-9120-F32038B057CC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Considera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legal and ethic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btaining publicly available inform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ending trade fairs and shows to obtain competitors’ brochures, view their exhibits, and listen to discussions about their produc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unethical and illeg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lackmai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espass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vesdropp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ealing drawings, samples, or docu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67AAB-7851-46B5-BEF4-DE169D49B724}" type="slidenum">
              <a:t>40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mensions in the broader society that influence an industry and the firms within i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graph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litical/leg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ciocultur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c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1AA82-1CF5-4BAC-85A6-75294E52385E}" type="slidenum">
              <a:t>5</a:t>
            </a:fld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2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l Environment: Segments and Elem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382240" cy="516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C4B91-3178-4E33-BC64-89C1799343F5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et of factors directly influencing a firm and its competitive actions and competitive respons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new entra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nsity of rivalry among competito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5C301-7C4A-45F7-9E83-73E24B25578F}" type="slidenum">
              <a:t>7</a:t>
            </a:fld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876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athering and interpreting information about all of the companies that the firm competes agains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derstanding the firm’s competitor environment complements the insights provided by studying the general and industry environment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86400" y="1343160"/>
            <a:ext cx="31240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92603-5194-4DC1-8861-8D1D883CD318}" type="slidenum">
              <a:t>8</a:t>
            </a:fld>
          </a:p>
        </p:txBody>
      </p:sp>
    </p:spTree>
  </p:cSld>
  <p:transition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nalysis of the External Environmen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eneral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factors and conditions influencing a firm’s profitability within an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predicting the dynamics of competitors’ actions, responses and inten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2F87E-0035-48DD-B6B6-91FEE647A870}" type="slidenum">
              <a:t>9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dii</cp:lastModifiedBy>
  <dcterms:modified xsi:type="dcterms:W3CDTF">2007-06-12T13:34:20Z</dcterms:modified>
  <cp:revision>44</cp:revision>
  <dc:subject>Chapter 2</dc:subject>
  <dc:title>Strategic Management 7e.</dc:title>
</cp:coreProperties>
</file>