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89F9D-9776-46FC-8676-6043E3B8DC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23C0C-AB27-493B-893D-F4E270FF7AA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C2503-F26C-4270-AC34-6208EDACBB3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ED2A4-DCB2-4D40-B0EE-518FA1D3623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4FA59-851C-4868-A1FA-10B8E61257C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F7435-9264-4BEF-A46C-8B64FC9AE7E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0B78C-A3EF-4714-B1D5-4E501BC7927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5D1FF-BAE1-43AB-A3BE-F6C05D420FE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0B046-F4D6-48CB-BBEB-FB6EF91C9A0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9E61F-F6C5-4B3D-B603-C3793FF761C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AAFB0-5051-46F2-9EF5-2264C48BD3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A1ACD-3976-48E0-894D-B8B9876B75B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AACF9-0516-4408-A150-C1951AD322B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58DCB-265D-43CA-9513-2477EDB15CA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571B2-0B0F-4BC8-81D0-28FFD28C262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EB497-1D10-4A72-86DF-7941FD0D7CCD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BE954-0339-4162-BD3A-DBCA09CA47A1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AA173-0B30-47D6-AAC4-3C0A6B0F3452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ADA03-E871-44AF-A030-897DE005FBC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50157-54CA-4877-B52C-3CE2CD76927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7925E-1046-47EF-91A5-C86F703DCD27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C3A7B-62FF-4A0F-9046-E8063F771E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6A4FA-C4CD-4386-B066-1FE938C184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A0AB7-F4BF-411A-BBC0-125F9DCC500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9F97D-4D7F-46FF-BEF3-2D1B8493876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14095-8BFB-4E4B-B015-3AC974790F6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06DBE-5E15-4B45-B850-531E504AB8B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8796F-683E-4160-B2EA-BD28DBE7A96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54B25-6730-4F63-A3BC-0654A5AB343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1FB9A-FB48-4D97-BCCA-F9F9D268F6A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C4D57-F194-464C-8BF3-3B68A3E90EC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5ED0B-C372-4D0A-9118-A5CF691B3DD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34FFB-1FA7-445F-81E5-EFEBC7403B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6DE09-B39A-4C6D-A866-CA0E69FC9ED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7C43D-375C-4CE9-ABF8-21BD557E093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08F56-6A6C-409E-887C-32745FBA2C8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F0E4-933D-4DD4-9E7D-5A1B3CC025E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1678-3D95-4387-940F-FA74C485EF3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FAAA-7BA7-4A72-8123-4FA4BEE72A9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1F71-7749-471E-8097-78F483E1CEC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C1BA-629F-4F72-97D5-DE7B90A7EF9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68A5-2C76-46F4-9834-275C99977EA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D7F7-4546-4D8A-B525-86331BED88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019F-46F8-4BFC-B5E2-995E794BA3F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0A21-47E8-46A3-85C4-14E8E5188F1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AE13-D279-4B70-A58B-8E5A68F8924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A8EC-654F-4A79-877E-F731A5C460B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F8C9-AE25-40B3-8A9E-80DB412C7A9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03320" y="3683160"/>
            <a:ext cx="7416720" cy="185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5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03320" y="5524560"/>
            <a:ext cx="741672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marL="102600" indent="-10260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3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 marL="222840" indent="-85680"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3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 marL="342720" indent="-6840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3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 marL="479880" indent="-68400"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3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 marL="617040" indent="-68400">
              <a:buClr>
                <a:srgbClr val="5483a6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3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 marL="617040" indent="-6840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3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 marL="617040" indent="-6840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3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marL="388440" indent="-388440">
              <a:spcBef>
                <a:spcPts val="22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1" marL="742680" indent="-3884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2" marL="1143000" indent="-38880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3" marL="1542960" indent="-38880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4" marL="1942920" indent="-3884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5" marL="1942920" indent="-388440">
              <a:spcBef>
                <a:spcPts val="22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6" marL="1942920" indent="-388440">
              <a:spcBef>
                <a:spcPts val="22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sldNum" idx="4"/>
          </p:nvPr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9E64-1E56-4553-82EB-C5FF6F202FB8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03320" y="2514240"/>
            <a:ext cx="741672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5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34" name="Line 2"/>
          <p:cNvSpPr/>
          <p:nvPr/>
        </p:nvSpPr>
        <p:spPr>
          <a:xfrm>
            <a:off x="195120" y="5880240"/>
            <a:ext cx="875988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254160" y="6337440"/>
            <a:ext cx="7619760" cy="3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marL="41040" indent="-4104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 marL="88920" indent="-34200"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 marL="137160" indent="-2736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 marL="191880" indent="-27360"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 marL="246600" indent="-27360">
              <a:buClr>
                <a:srgbClr val="5483a6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title"/>
          </p:nvPr>
        </p:nvSpPr>
        <p:spPr>
          <a:xfrm>
            <a:off x="254160" y="5879880"/>
            <a:ext cx="7619760" cy="46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2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74" name="Line 2"/>
          <p:cNvSpPr/>
          <p:nvPr/>
        </p:nvSpPr>
        <p:spPr>
          <a:xfrm>
            <a:off x="195120" y="5880240"/>
            <a:ext cx="875988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254160" y="6337440"/>
            <a:ext cx="7619760" cy="3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marL="41040" indent="-4104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 marL="88920" indent="-34200"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 marL="137160" indent="-2736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 marL="191880" indent="-27360"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 marL="246600" indent="-27360">
              <a:buClr>
                <a:srgbClr val="5483a6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title"/>
          </p:nvPr>
        </p:nvSpPr>
        <p:spPr>
          <a:xfrm>
            <a:off x="254160" y="5879880"/>
            <a:ext cx="7619760" cy="46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2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14" name="Line 2"/>
          <p:cNvSpPr/>
          <p:nvPr/>
        </p:nvSpPr>
        <p:spPr>
          <a:xfrm>
            <a:off x="195120" y="5880240"/>
            <a:ext cx="875988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body"/>
          </p:nvPr>
        </p:nvSpPr>
        <p:spPr>
          <a:xfrm>
            <a:off x="254160" y="6337440"/>
            <a:ext cx="7619760" cy="3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marL="41040" indent="-4104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 marL="88920" indent="-34200">
              <a:buClr>
                <a:srgbClr val="4a7594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 marL="137160" indent="-27360">
              <a:buClr>
                <a:srgbClr val="4a7594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 marL="191880" indent="-27360">
              <a:buClr>
                <a:srgbClr val="4a7594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254160" y="5879880"/>
            <a:ext cx="7619760" cy="46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2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54" name="Line 2"/>
          <p:cNvSpPr/>
          <p:nvPr/>
        </p:nvSpPr>
        <p:spPr>
          <a:xfrm>
            <a:off x="195120" y="5880240"/>
            <a:ext cx="875988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254160" y="6337440"/>
            <a:ext cx="7619760" cy="3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marL="41040" indent="-4104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 marL="88920" indent="-34200"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 marL="137160" indent="-2736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 marL="191880" indent="-27360"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 marL="246600" indent="-27360">
              <a:buClr>
                <a:srgbClr val="5483a6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254160" y="5879880"/>
            <a:ext cx="7619760" cy="46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2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body"/>
          </p:nvPr>
        </p:nvSpPr>
        <p:spPr>
          <a:xfrm>
            <a:off x="1002960" y="5702400"/>
            <a:ext cx="7620120" cy="52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marL="41040" indent="-41040">
              <a:buClr>
                <a:srgbClr val="d5d4d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Click to edit the outline text format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1" marL="88920" indent="-34200">
              <a:buClr>
                <a:srgbClr val="d5d4d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Second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2" marL="137160" indent="-27360">
              <a:buClr>
                <a:srgbClr val="d5d4d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Third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3" marL="191880" indent="-27360">
              <a:buClr>
                <a:srgbClr val="d5d4d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Fourth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4" marL="246600" indent="-27360">
              <a:buClr>
                <a:srgbClr val="d5d4d6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Fifth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5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Sixth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6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Seventh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94" name="Rectangle 2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95" name="Line 3"/>
          <p:cNvSpPr/>
          <p:nvPr/>
        </p:nvSpPr>
        <p:spPr>
          <a:xfrm>
            <a:off x="195120" y="6273720"/>
            <a:ext cx="875988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96" name="Line 4"/>
          <p:cNvSpPr/>
          <p:nvPr/>
        </p:nvSpPr>
        <p:spPr>
          <a:xfrm>
            <a:off x="3695760" y="6261120"/>
            <a:ext cx="0" cy="41904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97" name="Line 5"/>
          <p:cNvSpPr/>
          <p:nvPr/>
        </p:nvSpPr>
        <p:spPr>
          <a:xfrm>
            <a:off x="195120" y="5054760"/>
            <a:ext cx="875988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title"/>
          </p:nvPr>
        </p:nvSpPr>
        <p:spPr>
          <a:xfrm>
            <a:off x="1002960" y="4990680"/>
            <a:ext cx="7620120" cy="72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5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body"/>
          </p:nvPr>
        </p:nvSpPr>
        <p:spPr>
          <a:xfrm>
            <a:off x="1002960" y="5702400"/>
            <a:ext cx="7620120" cy="52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marL="41040" indent="-41040">
              <a:buClr>
                <a:srgbClr val="d5d4d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Click to edit the outline text format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1" marL="88920" indent="-34200">
              <a:buClr>
                <a:srgbClr val="d5d4d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Second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2" marL="137160" indent="-27360">
              <a:buClr>
                <a:srgbClr val="d5d4d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Third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3" marL="191880" indent="-27360">
              <a:buClr>
                <a:srgbClr val="d5d4d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Fourth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4" marL="246600" indent="-27360">
              <a:buClr>
                <a:srgbClr val="d5d4d6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Fifth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5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Sixth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6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Seventh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36" name="Rectangle 2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37" name="Line 3"/>
          <p:cNvSpPr/>
          <p:nvPr/>
        </p:nvSpPr>
        <p:spPr>
          <a:xfrm>
            <a:off x="195120" y="6273720"/>
            <a:ext cx="875988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38" name="Line 4"/>
          <p:cNvSpPr/>
          <p:nvPr/>
        </p:nvSpPr>
        <p:spPr>
          <a:xfrm>
            <a:off x="3695760" y="6261120"/>
            <a:ext cx="0" cy="41904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39" name="Line 5"/>
          <p:cNvSpPr/>
          <p:nvPr/>
        </p:nvSpPr>
        <p:spPr>
          <a:xfrm>
            <a:off x="195120" y="5054760"/>
            <a:ext cx="875988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title"/>
          </p:nvPr>
        </p:nvSpPr>
        <p:spPr>
          <a:xfrm>
            <a:off x="1002960" y="4990680"/>
            <a:ext cx="7620120" cy="72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5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78" name="Line 2"/>
          <p:cNvSpPr/>
          <p:nvPr/>
        </p:nvSpPr>
        <p:spPr>
          <a:xfrm>
            <a:off x="195120" y="5880240"/>
            <a:ext cx="875988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body"/>
          </p:nvPr>
        </p:nvSpPr>
        <p:spPr>
          <a:xfrm>
            <a:off x="254160" y="6337440"/>
            <a:ext cx="7619760" cy="3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marL="41040" indent="-4104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 marL="88920" indent="-34200"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 marL="137160" indent="-2736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 marL="191880" indent="-27360"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 marL="246600" indent="-27360">
              <a:buClr>
                <a:srgbClr val="5483a6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title"/>
          </p:nvPr>
        </p:nvSpPr>
        <p:spPr>
          <a:xfrm>
            <a:off x="254160" y="5879880"/>
            <a:ext cx="7619760" cy="46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2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388440" indent="-388440">
              <a:spcBef>
                <a:spcPts val="22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1" marL="742680" indent="-3884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2" marL="1143000" indent="-38880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3" marL="1542960" indent="-38880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4" marL="1942920" indent="-3884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5" marL="1942920" indent="-388440">
              <a:spcBef>
                <a:spcPts val="22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6" marL="1942920" indent="-388440">
              <a:spcBef>
                <a:spcPts val="22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1"/>
          </p:nvPr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1974-036C-4373-9C39-0FE479976251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36200" y="1942920"/>
            <a:ext cx="374652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5000"/>
          </a:bodyPr>
          <a:p>
            <a:pPr marL="323640" indent="-3236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1" marL="618840" indent="-3236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2" marL="952560" indent="-32400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3" marL="1285920" indent="-32400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4" marL="1618920" indent="-3236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5" marL="1618920" indent="-323640">
              <a:spcBef>
                <a:spcPts val="22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6" marL="1618920" indent="-323640">
              <a:spcBef>
                <a:spcPts val="22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36200" y="1422000"/>
            <a:ext cx="3746520" cy="201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5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36200" y="3429000"/>
            <a:ext cx="3746520" cy="20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6000"/>
          </a:bodyPr>
          <a:p>
            <a:pPr marL="226080" indent="-226080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 marL="490320" indent="-188640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 marL="754200" indent="-150840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 marL="1055880" indent="-150840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 marL="1357560" indent="-150840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 marL="1357560" indent="-150840">
              <a:lnSpc>
                <a:spcPct val="110000"/>
              </a:lnSpc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 marL="1357560" indent="-150840">
              <a:lnSpc>
                <a:spcPct val="110000"/>
              </a:lnSpc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660560" y="1942920"/>
            <a:ext cx="374652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5000"/>
          </a:bodyPr>
          <a:p>
            <a:pPr marL="323640" indent="-3236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1" marL="618840" indent="-3236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2" marL="952560" indent="-32400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3" marL="1285920" indent="-32400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4" marL="1618920" indent="-3236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5" marL="1618920" indent="-323640">
              <a:spcBef>
                <a:spcPts val="22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6" marL="1618920" indent="-323640">
              <a:spcBef>
                <a:spcPts val="22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736200" y="1041480"/>
            <a:ext cx="7683480" cy="478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392760" indent="-392760">
              <a:spcBef>
                <a:spcPts val="33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1" marL="750960" indent="-392760">
              <a:spcBef>
                <a:spcPts val="33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2" marL="1155600" indent="-393120">
              <a:spcBef>
                <a:spcPts val="33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3" marL="1560240" indent="-393120">
              <a:spcBef>
                <a:spcPts val="33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4" marL="1964520" indent="-392760">
              <a:spcBef>
                <a:spcPts val="33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5" marL="1964520" indent="-392760">
              <a:spcBef>
                <a:spcPts val="3399"/>
              </a:spcBef>
              <a:buClr>
                <a:srgbClr val="4a7594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6" marL="1964520" indent="-392760">
              <a:spcBef>
                <a:spcPts val="3399"/>
              </a:spcBef>
              <a:buClr>
                <a:srgbClr val="4a7594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ldNum" idx="2"/>
          </p:nvPr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9903-4A98-44CC-BC78-769D8B25D962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Num" idx="3"/>
          </p:nvPr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D8D9-34E9-4E25-9B1F-804C89EB523A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36200" y="1942920"/>
            <a:ext cx="374652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5000"/>
          </a:bodyPr>
          <a:p>
            <a:pPr marL="323640" indent="-3236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1" marL="618840" indent="-3236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2" marL="952560" indent="-32400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3" marL="1285920" indent="-32400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4" marL="1618920" indent="-3236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5" marL="1618920" indent="-323640">
              <a:spcBef>
                <a:spcPts val="22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6" marL="1618920" indent="-323640">
              <a:spcBef>
                <a:spcPts val="22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36200" y="2577600"/>
            <a:ext cx="7683480" cy="1714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98680" y="3568320"/>
            <a:ext cx="74167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d5d4d6"/>
                </a:solidFill>
                <a:latin typeface="Helvetica Neue Bold Condensed"/>
              </a:rPr>
              <a:t>Rediseño de Procesos</a:t>
            </a:r>
            <a:endParaRPr b="0" lang="en-US" sz="5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689120" y="5257800"/>
            <a:ext cx="4216320" cy="123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83a6"/>
                </a:solidFill>
                <a:latin typeface="Helvetica Neue Bold Condensed"/>
              </a:rPr>
              <a:t>Sistemas de Información Administrativos</a:t>
            </a:r>
            <a:endParaRPr b="0" lang="en-US" sz="1800" spc="-1" strike="noStrike">
              <a:solidFill>
                <a:srgbClr val="5483a6"/>
              </a:solidFill>
              <a:latin typeface="Helvetica Neue Bold Condensed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Departamento de Ingeniería Industria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Universidad de Chile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83a6"/>
                </a:solidFill>
                <a:latin typeface="Helvetica Neue Bold Condensed"/>
              </a:rPr>
              <a:t>Derechos Reservados (c)</a:t>
            </a:r>
            <a:endParaRPr b="0" lang="en-US" sz="1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181B-5767-4BD7-94C3-9537DCA63693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6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7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8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Nivel operativo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2299"/>
              </a:spcBef>
              <a:buSzPct val="1749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SI que hacen al seguimiento de las actividades y las transacciones elementales de la organización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¿Que cantidad del producto SKU 12-45-89 hay en la bodega 6?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¿Que ocurrió con el pago de...?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34A0-9368-4434-97C4-78B624D526C5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02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03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04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Nivel de manejo de información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SI en los que se apoyan a los trabajadores con el conocimiento y de la información de la institución.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1" marL="782640" indent="-285840"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¿Que tal si agregamos el producto.....?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lvl="1" marL="782640" indent="-285840"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¿Que tal si modificamos la presentación del producto....?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79CC-81CA-4ACA-880C-2DABCF9B9E6D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08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09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10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/>
          </p:nvPr>
        </p:nvSpPr>
        <p:spPr>
          <a:xfrm>
            <a:off x="437760" y="1663560"/>
            <a:ext cx="8255160" cy="457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2299"/>
              </a:spcBef>
              <a:buSzPct val="17473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I en los que se apoya el seguimiento, control, toma de decisiones y actividades de la organización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</a:rPr>
              <a:t>¿Todo marcha bien?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</a:rPr>
              <a:t>¿Cómo estamos con respecto al mes-bimestre-semestre-año... Anterior?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</a:rPr>
              <a:t>¿Qué pasa si...?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</a:rPr>
              <a:t>¿Cuál seria el impacto sobre el Dpto. de producción si se duplican las ventas?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</a:rPr>
              <a:t>Es necesario crear una nueva area de...?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Nivel de gestión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5381-116D-4E9B-9153-C3B27FDF94BA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14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15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16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2299"/>
              </a:spcBef>
              <a:buSzPct val="17473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I que apoya a las actividades de plantación a largo plazo de los niveles de dirección de la institución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</a:rPr>
              <a:t>¿Cuáles serian los niveles de empleo en 5 años?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</a:rPr>
              <a:t>¿Cuáles serán las tendencias de costo en un plazo de 5 años?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</a:rPr>
              <a:t>¿Qué producto estaremos fabricando en 5 años?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Nivel estratégico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4F46-C887-4F9B-8216-99CAA0D54029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20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21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22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01240" y="76320"/>
            <a:ext cx="8877240" cy="193032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Autofit/>
          </a:bodyPr>
          <a:p>
            <a:pPr marL="4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a7594"/>
                </a:solidFill>
                <a:latin typeface="Helvetica Neue Light"/>
              </a:rPr>
              <a:t>Funciones Básicas de Administración en la Organización</a:t>
            </a:r>
            <a:endParaRPr b="0" lang="en-US" sz="46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09120" y="227304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rmAutofit/>
          </a:bodyPr>
          <a:p>
            <a:pPr marL="384120" indent="-34272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1"/>
                </a:solidFill>
                <a:latin typeface="Helvetica Neue"/>
              </a:rPr>
              <a:t>Planificación:</a:t>
            </a: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 es el establecimiento de objetivos funcionales y subfuncionales de la organización, con su correspondiente seguimiento, y determinación de cursos de acción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1" marL="784080" indent="-285480"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</a:rPr>
              <a:t>Niveles de Planificación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  <a:p>
            <a:pPr lvl="1" marL="784080" indent="-285480"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</a:rPr>
              <a:t>Iteración de Procesos de Planificación 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transition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86D7-4661-47EC-8A49-E79357D19CB9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26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27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28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766800" y="205920"/>
            <a:ext cx="781056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Autofit/>
          </a:bodyPr>
          <a:p>
            <a:pPr marL="4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Funciones Básicas II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30040" y="3733560"/>
            <a:ext cx="8661600" cy="261612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rmAutofit/>
          </a:bodyPr>
          <a:p>
            <a:pPr marL="384120" indent="-34272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1"/>
                </a:solidFill>
                <a:latin typeface="Helvetica Neue"/>
              </a:rPr>
              <a:t>Estructura:</a:t>
            </a: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 esquema formal de relaciones entre las componentes de una organización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84120" indent="-342720">
              <a:spcBef>
                <a:spcPts val="22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46461"/>
                </a:solidFill>
                <a:latin typeface="Helvetica Neue"/>
              </a:rPr>
              <a:t>                 </a:t>
            </a:r>
            <a:r>
              <a:rPr b="0" lang="en-US" sz="1700" spc="-1" strike="noStrike">
                <a:solidFill>
                  <a:srgbClr val="646461"/>
                </a:solidFill>
                <a:latin typeface="Helvetica Neue"/>
              </a:rPr>
              <a:t>Descomposición Funcional o de Proceso de la Organización</a:t>
            </a:r>
            <a:endParaRPr b="0" lang="en-US" sz="17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831" name="Oval 6"/>
          <p:cNvSpPr/>
          <p:nvPr/>
        </p:nvSpPr>
        <p:spPr>
          <a:xfrm>
            <a:off x="4299120" y="1231920"/>
            <a:ext cx="368280" cy="368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32" name="Oval 7"/>
          <p:cNvSpPr/>
          <p:nvPr/>
        </p:nvSpPr>
        <p:spPr>
          <a:xfrm>
            <a:off x="2470320" y="2146320"/>
            <a:ext cx="368280" cy="291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33" name="Oval 8"/>
          <p:cNvSpPr/>
          <p:nvPr/>
        </p:nvSpPr>
        <p:spPr>
          <a:xfrm>
            <a:off x="4222800" y="2146320"/>
            <a:ext cx="444600" cy="291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34" name="Oval 9"/>
          <p:cNvSpPr/>
          <p:nvPr/>
        </p:nvSpPr>
        <p:spPr>
          <a:xfrm>
            <a:off x="5823000" y="2146320"/>
            <a:ext cx="444600" cy="291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35" name="Oval 10"/>
          <p:cNvSpPr/>
          <p:nvPr/>
        </p:nvSpPr>
        <p:spPr>
          <a:xfrm>
            <a:off x="1555920" y="3060720"/>
            <a:ext cx="368280" cy="368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36" name="Oval 11"/>
          <p:cNvSpPr/>
          <p:nvPr/>
        </p:nvSpPr>
        <p:spPr>
          <a:xfrm>
            <a:off x="3003480" y="3060720"/>
            <a:ext cx="368280" cy="368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37" name="Oval 12"/>
          <p:cNvSpPr/>
          <p:nvPr/>
        </p:nvSpPr>
        <p:spPr>
          <a:xfrm>
            <a:off x="5289480" y="3060720"/>
            <a:ext cx="368280" cy="368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38" name="Oval 13"/>
          <p:cNvSpPr/>
          <p:nvPr/>
        </p:nvSpPr>
        <p:spPr>
          <a:xfrm>
            <a:off x="6280200" y="3060720"/>
            <a:ext cx="368280" cy="368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39" name="Line 14"/>
          <p:cNvSpPr/>
          <p:nvPr/>
        </p:nvSpPr>
        <p:spPr>
          <a:xfrm flipH="1">
            <a:off x="2768400" y="1530360"/>
            <a:ext cx="1523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40" name="Line 15"/>
          <p:cNvSpPr/>
          <p:nvPr/>
        </p:nvSpPr>
        <p:spPr>
          <a:xfrm>
            <a:off x="4673520" y="1530360"/>
            <a:ext cx="12193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41" name="Line 16"/>
          <p:cNvSpPr/>
          <p:nvPr/>
        </p:nvSpPr>
        <p:spPr>
          <a:xfrm flipH="1">
            <a:off x="1854360" y="2444760"/>
            <a:ext cx="7617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42" name="Line 17"/>
          <p:cNvSpPr/>
          <p:nvPr/>
        </p:nvSpPr>
        <p:spPr>
          <a:xfrm>
            <a:off x="2616120" y="244476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43" name="Line 18"/>
          <p:cNvSpPr/>
          <p:nvPr/>
        </p:nvSpPr>
        <p:spPr>
          <a:xfrm>
            <a:off x="4444920" y="1606680"/>
            <a:ext cx="180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44" name="Line 19"/>
          <p:cNvSpPr/>
          <p:nvPr/>
        </p:nvSpPr>
        <p:spPr>
          <a:xfrm flipH="1">
            <a:off x="5587920" y="2444760"/>
            <a:ext cx="4572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45" name="Line 20"/>
          <p:cNvSpPr/>
          <p:nvPr/>
        </p:nvSpPr>
        <p:spPr>
          <a:xfrm>
            <a:off x="6045120" y="2444760"/>
            <a:ext cx="3812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46" name="Rectangle 21"/>
          <p:cNvSpPr/>
          <p:nvPr/>
        </p:nvSpPr>
        <p:spPr>
          <a:xfrm>
            <a:off x="6874920" y="1336680"/>
            <a:ext cx="1528200" cy="21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1400" tIns="0" bIns="0" anchor="t">
            <a:sp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Sistema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Subsistema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Subsistema 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Elemental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ABD9-333D-4474-8331-234DFF1E490C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48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49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50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pic>
        <p:nvPicPr>
          <p:cNvPr id="851" name="Picture 4" descr=""/>
          <p:cNvPicPr/>
          <p:nvPr/>
        </p:nvPicPr>
        <p:blipFill>
          <a:blip r:embed="rId1"/>
          <a:stretch/>
        </p:blipFill>
        <p:spPr>
          <a:xfrm>
            <a:off x="1332000" y="1622520"/>
            <a:ext cx="7173720" cy="4441680"/>
          </a:xfrm>
          <a:prstGeom prst="rect">
            <a:avLst/>
          </a:prstGeom>
          <a:ln w="0">
            <a:noFill/>
          </a:ln>
        </p:spPr>
      </p:pic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82520" y="231480"/>
            <a:ext cx="781056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Autofit/>
          </a:bodyPr>
          <a:p>
            <a:pPr marL="4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Estructura Funcional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59E3-B0F6-4828-AB1C-F02B439667C1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54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55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56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pic>
        <p:nvPicPr>
          <p:cNvPr id="857" name="Picture 4" descr=""/>
          <p:cNvPicPr/>
          <p:nvPr/>
        </p:nvPicPr>
        <p:blipFill>
          <a:blip r:embed="rId1"/>
          <a:stretch/>
        </p:blipFill>
        <p:spPr>
          <a:xfrm>
            <a:off x="1403280" y="1763640"/>
            <a:ext cx="6883560" cy="4353120"/>
          </a:xfrm>
          <a:prstGeom prst="rect">
            <a:avLst/>
          </a:prstGeom>
          <a:ln w="0">
            <a:noFill/>
          </a:ln>
        </p:spPr>
      </p:pic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58480" y="168120"/>
            <a:ext cx="862308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Autofit/>
          </a:bodyPr>
          <a:p>
            <a:pPr marL="4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Estructura de Proceso de Negocio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3FFC-6532-4104-A493-7DEFC7F8CBC2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60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61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62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12360" y="365040"/>
            <a:ext cx="7583400" cy="140832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Autofit/>
          </a:bodyPr>
          <a:p>
            <a:pPr marL="4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Funciones Básicas III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96800" y="1544760"/>
            <a:ext cx="83822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rmAutofit/>
          </a:bodyPr>
          <a:p>
            <a:pPr marL="384120" indent="-342720">
              <a:lnSpc>
                <a:spcPct val="90000"/>
              </a:lnSpc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46461"/>
                </a:solidFill>
                <a:latin typeface="Helvetica Neue"/>
              </a:rPr>
              <a:t>Control:</a:t>
            </a: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 es la observación y medición dinámica del desempeño de las diferentes actividades de la organización, con su correspondiente definición de acciones correctivas</a:t>
            </a:r>
            <a:r>
              <a:rPr b="0" lang="en-US" sz="2600" spc="-1" strike="noStrike">
                <a:solidFill>
                  <a:srgbClr val="336699"/>
                </a:solidFill>
                <a:latin typeface="Helvetica Neue"/>
              </a:rPr>
              <a:t>  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865" name="Rectangle 6"/>
          <p:cNvSpPr/>
          <p:nvPr/>
        </p:nvSpPr>
        <p:spPr>
          <a:xfrm>
            <a:off x="6653160" y="3505320"/>
            <a:ext cx="1663920" cy="1638360"/>
          </a:xfrm>
          <a:prstGeom prst="rect">
            <a:avLst/>
          </a:prstGeom>
          <a:solidFill>
            <a:srgbClr val="2e6ffd"/>
          </a:solidFill>
          <a:ln w="38160">
            <a:solidFill>
              <a:srgbClr val="000000">
                <a:alpha val="0"/>
              </a:srgbClr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41400" tIns="0" bIns="0" anchor="t">
            <a:no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LIDAS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Información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Energía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Recursos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Materiales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66" name="Rectangle 7"/>
          <p:cNvSpPr/>
          <p:nvPr/>
        </p:nvSpPr>
        <p:spPr>
          <a:xfrm>
            <a:off x="3284640" y="4057560"/>
            <a:ext cx="2438280" cy="444600"/>
          </a:xfrm>
          <a:prstGeom prst="rect">
            <a:avLst/>
          </a:prstGeom>
          <a:solidFill>
            <a:srgbClr val="fe4940"/>
          </a:solidFill>
          <a:ln w="38160">
            <a:solidFill>
              <a:srgbClr val="cc00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41400" tIns="0" bIns="0" anchor="t">
            <a:no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PROCESAMENTO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67" name="Rectangle 8"/>
          <p:cNvSpPr/>
          <p:nvPr/>
        </p:nvSpPr>
        <p:spPr>
          <a:xfrm>
            <a:off x="3222720" y="5983200"/>
            <a:ext cx="2730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RETROALIMENTACION</a:t>
            </a: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68" name="Line 9"/>
          <p:cNvSpPr/>
          <p:nvPr/>
        </p:nvSpPr>
        <p:spPr>
          <a:xfrm>
            <a:off x="5946840" y="4264200"/>
            <a:ext cx="708120" cy="14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69" name="Line 10"/>
          <p:cNvSpPr/>
          <p:nvPr/>
        </p:nvSpPr>
        <p:spPr>
          <a:xfrm>
            <a:off x="2155680" y="4322880"/>
            <a:ext cx="974880" cy="9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70" name="Rectangle 11"/>
          <p:cNvSpPr/>
          <p:nvPr/>
        </p:nvSpPr>
        <p:spPr>
          <a:xfrm>
            <a:off x="493560" y="3443400"/>
            <a:ext cx="1663920" cy="1638360"/>
          </a:xfrm>
          <a:prstGeom prst="rect">
            <a:avLst/>
          </a:prstGeom>
          <a:solidFill>
            <a:srgbClr val="2e6ffd"/>
          </a:solidFill>
          <a:ln w="38160">
            <a:solidFill>
              <a:srgbClr val="000000">
                <a:alpha val="0"/>
              </a:srgbClr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41400" tIns="0" bIns="0" anchor="t">
            <a:no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DA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Información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Energía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Recursos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Materiales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grpSp>
        <p:nvGrpSpPr>
          <p:cNvPr id="871" name="Group 12"/>
          <p:cNvGrpSpPr/>
          <p:nvPr/>
        </p:nvGrpSpPr>
        <p:grpSpPr>
          <a:xfrm>
            <a:off x="1057320" y="5227560"/>
            <a:ext cx="6517800" cy="755640"/>
            <a:chOff x="1057320" y="5227560"/>
            <a:chExt cx="6517800" cy="755640"/>
          </a:xfrm>
        </p:grpSpPr>
        <p:sp>
          <p:nvSpPr>
            <p:cNvPr id="872" name="AutoShape 13"/>
            <p:cNvSpPr/>
            <p:nvPr/>
          </p:nvSpPr>
          <p:spPr>
            <a:xfrm>
              <a:off x="1057320" y="5227560"/>
              <a:ext cx="423720" cy="75564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755640"/>
                <a:gd name="textAreaBottom" fmla="*/ 756000 h 7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5400" y="5400"/>
                  </a:lnTo>
                  <a:lnTo>
                    <a:pt x="5400" y="21600"/>
                  </a:lnTo>
                  <a:lnTo>
                    <a:pt x="16200" y="21600"/>
                  </a:lnTo>
                  <a:lnTo>
                    <a:pt x="16200" y="5400"/>
                  </a:lnTo>
                  <a:lnTo>
                    <a:pt x="21600" y="5400"/>
                  </a:lnTo>
                  <a:lnTo>
                    <a:pt x="10800" y="0"/>
                  </a:lnTo>
                  <a:lnTo>
                    <a:pt x="0" y="5400"/>
                  </a:lnTo>
                  <a:close/>
                  <a:moveTo>
                    <a:pt x="0" y="5400"/>
                  </a:moveTo>
                </a:path>
              </a:pathLst>
            </a:custGeom>
            <a:solidFill>
              <a:srgbClr val="ff9900"/>
            </a:solidFill>
            <a:ln cap="sq"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873" name="Rectangle 14"/>
            <p:cNvSpPr/>
            <p:nvPr/>
          </p:nvSpPr>
          <p:spPr>
            <a:xfrm>
              <a:off x="1198440" y="5776920"/>
              <a:ext cx="6307200" cy="206280"/>
            </a:xfrm>
            <a:prstGeom prst="rect">
              <a:avLst/>
            </a:prstGeom>
            <a:solidFill>
              <a:srgbClr val="ff9900"/>
            </a:solidFill>
            <a:ln cap="sq"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874" name="Rectangle 15"/>
            <p:cNvSpPr/>
            <p:nvPr/>
          </p:nvSpPr>
          <p:spPr>
            <a:xfrm flipH="1" rot="5400000">
              <a:off x="7158600" y="5567040"/>
              <a:ext cx="619200" cy="212760"/>
            </a:xfrm>
            <a:prstGeom prst="rect">
              <a:avLst/>
            </a:prstGeom>
            <a:solidFill>
              <a:srgbClr val="ff9900"/>
            </a:solidFill>
            <a:ln cap="sq"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9A4C-2B00-42F0-91DB-3EFACAC3855B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76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77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78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82160" y="231480"/>
            <a:ext cx="843300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Autofit/>
          </a:bodyPr>
          <a:p>
            <a:pPr marL="4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Estructura de Control de Gestión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80" name="AutoShape 5"/>
          <p:cNvSpPr/>
          <p:nvPr/>
        </p:nvSpPr>
        <p:spPr>
          <a:xfrm>
            <a:off x="2627280" y="2017800"/>
            <a:ext cx="4889520" cy="32925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3292560"/>
              <a:gd name="textAreaBottom" fmla="*/ 3292920 h 3292560"/>
            </a:gdLst>
            <a:ahLst/>
            <a:rect l="textAreaLeft" t="textAreaTop" r="textAreaRight" b="textAreaBottom"/>
            <a:pathLst>
              <a:path w="21600" h="21600">
                <a:moveTo>
                  <a:pt x="10796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10796" y="0"/>
                </a:lnTo>
                <a:close/>
                <a:moveTo>
                  <a:pt x="10796" y="0"/>
                </a:move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grpSp>
        <p:nvGrpSpPr>
          <p:cNvPr id="881" name="Group 6"/>
          <p:cNvGrpSpPr/>
          <p:nvPr/>
        </p:nvGrpSpPr>
        <p:grpSpPr>
          <a:xfrm>
            <a:off x="2668680" y="5796000"/>
            <a:ext cx="4873680" cy="695160"/>
            <a:chOff x="2668680" y="5796000"/>
            <a:chExt cx="4873680" cy="695160"/>
          </a:xfrm>
        </p:grpSpPr>
        <p:sp>
          <p:nvSpPr>
            <p:cNvPr id="882" name="Rectangle 7"/>
            <p:cNvSpPr/>
            <p:nvPr/>
          </p:nvSpPr>
          <p:spPr>
            <a:xfrm>
              <a:off x="2668680" y="5796000"/>
              <a:ext cx="4873680" cy="6951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883" name="Rectangle 8"/>
            <p:cNvSpPr/>
            <p:nvPr/>
          </p:nvSpPr>
          <p:spPr>
            <a:xfrm>
              <a:off x="4184280" y="5869080"/>
              <a:ext cx="1840680" cy="5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1400" tIns="0" bIns="0" anchor="ctr">
              <a:spAutoFit/>
            </a:bodyPr>
            <a:p>
              <a:pPr marL="414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PRODUCCION</a:t>
              </a:r>
              <a:endParaRPr b="0" lang="en-US" sz="20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(RECURSOS)</a:t>
              </a:r>
              <a:endParaRPr b="0" lang="en-US" sz="16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  <p:sp>
        <p:nvSpPr>
          <p:cNvPr id="884" name="Rectangle 9"/>
          <p:cNvSpPr/>
          <p:nvPr/>
        </p:nvSpPr>
        <p:spPr>
          <a:xfrm>
            <a:off x="3876840" y="2867040"/>
            <a:ext cx="24382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CONTROL ESTRATEGICO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85" name="Rectangle 10"/>
          <p:cNvSpPr/>
          <p:nvPr/>
        </p:nvSpPr>
        <p:spPr>
          <a:xfrm>
            <a:off x="3581280" y="3624120"/>
            <a:ext cx="30481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control tactico, administrativo</a:t>
            </a:r>
            <a:r>
              <a:rPr b="1" lang="en-US" sz="20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O DE GESTION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86" name="Rectangle 11"/>
          <p:cNvSpPr/>
          <p:nvPr/>
        </p:nvSpPr>
        <p:spPr>
          <a:xfrm>
            <a:off x="3583080" y="4511520"/>
            <a:ext cx="2971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Control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OPERACIONAL</a:t>
            </a: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87" name="Line 12"/>
          <p:cNvSpPr/>
          <p:nvPr/>
        </p:nvSpPr>
        <p:spPr>
          <a:xfrm>
            <a:off x="1192320" y="2119320"/>
            <a:ext cx="14040" cy="1135080"/>
          </a:xfrm>
          <a:prstGeom prst="line">
            <a:avLst/>
          </a:prstGeom>
          <a:ln w="25560">
            <a:solidFill>
              <a:srgbClr val="ff33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88" name="Rectangle 13"/>
          <p:cNvSpPr/>
          <p:nvPr/>
        </p:nvSpPr>
        <p:spPr>
          <a:xfrm>
            <a:off x="216000" y="3355920"/>
            <a:ext cx="22096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a7594"/>
                </a:solidFill>
                <a:latin typeface="Times New Roman"/>
                <a:ea typeface="Times New Roman"/>
              </a:rPr>
              <a:t>ADMINISTRACION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89" name="Line 14"/>
          <p:cNvSpPr/>
          <p:nvPr/>
        </p:nvSpPr>
        <p:spPr>
          <a:xfrm>
            <a:off x="1181160" y="3801960"/>
            <a:ext cx="1440" cy="141444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90" name="Rectangle 15"/>
          <p:cNvSpPr/>
          <p:nvPr/>
        </p:nvSpPr>
        <p:spPr>
          <a:xfrm>
            <a:off x="355680" y="5680080"/>
            <a:ext cx="19177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a7594"/>
                </a:solidFill>
                <a:latin typeface="Times New Roman"/>
                <a:ea typeface="Times New Roman"/>
              </a:rPr>
              <a:t>OPERACIONES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91" name="Rectangle 16"/>
          <p:cNvSpPr/>
          <p:nvPr/>
        </p:nvSpPr>
        <p:spPr>
          <a:xfrm>
            <a:off x="7647120" y="5831640"/>
            <a:ext cx="1269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1400" tIns="0" bIns="0" anchor="ctr">
            <a:sp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PRODUCTOS: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BIENE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SERVICIO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92" name="Rectangle 17"/>
          <p:cNvSpPr/>
          <p:nvPr/>
        </p:nvSpPr>
        <p:spPr>
          <a:xfrm>
            <a:off x="1635120" y="6043320"/>
            <a:ext cx="914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1400" tIns="0" bIns="0" anchor="ctr">
            <a:sp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INSUMO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93" name="AutoShape 18"/>
          <p:cNvSpPr/>
          <p:nvPr/>
        </p:nvSpPr>
        <p:spPr>
          <a:xfrm>
            <a:off x="3228840" y="5381640"/>
            <a:ext cx="360360" cy="369720"/>
          </a:xfrm>
          <a:custGeom>
            <a:avLst/>
            <a:gdLst>
              <a:gd name="textAreaLeft" fmla="*/ 0 w 360360"/>
              <a:gd name="textAreaRight" fmla="*/ 360720 w 36036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5400" y="5400"/>
                </a:lnTo>
                <a:lnTo>
                  <a:pt x="5400" y="21600"/>
                </a:lnTo>
                <a:lnTo>
                  <a:pt x="16200" y="21600"/>
                </a:lnTo>
                <a:lnTo>
                  <a:pt x="16200" y="5400"/>
                </a:lnTo>
                <a:lnTo>
                  <a:pt x="21600" y="5400"/>
                </a:lnTo>
                <a:lnTo>
                  <a:pt x="10800" y="0"/>
                </a:lnTo>
                <a:lnTo>
                  <a:pt x="0" y="5400"/>
                </a:lnTo>
                <a:close/>
                <a:moveTo>
                  <a:pt x="0" y="5400"/>
                </a:move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94" name="AutoShape 19"/>
          <p:cNvSpPr/>
          <p:nvPr/>
        </p:nvSpPr>
        <p:spPr>
          <a:xfrm>
            <a:off x="6443640" y="5381640"/>
            <a:ext cx="360360" cy="369720"/>
          </a:xfrm>
          <a:custGeom>
            <a:avLst/>
            <a:gdLst>
              <a:gd name="textAreaLeft" fmla="*/ 0 w 360360"/>
              <a:gd name="textAreaRight" fmla="*/ 360720 w 36036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lnTo>
                  <a:pt x="5400" y="16200"/>
                </a:lnTo>
                <a:lnTo>
                  <a:pt x="5400" y="0"/>
                </a:lnTo>
                <a:lnTo>
                  <a:pt x="16200" y="0"/>
                </a:lnTo>
                <a:lnTo>
                  <a:pt x="16200" y="16200"/>
                </a:lnTo>
                <a:lnTo>
                  <a:pt x="21600" y="16200"/>
                </a:lnTo>
                <a:lnTo>
                  <a:pt x="10800" y="21600"/>
                </a:lnTo>
                <a:lnTo>
                  <a:pt x="0" y="16200"/>
                </a:lnTo>
                <a:close/>
                <a:moveTo>
                  <a:pt x="0" y="16200"/>
                </a:move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95" name="Line 20"/>
          <p:cNvSpPr/>
          <p:nvPr/>
        </p:nvSpPr>
        <p:spPr>
          <a:xfrm>
            <a:off x="3246480" y="4503600"/>
            <a:ext cx="3681360" cy="648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96" name="Line 21"/>
          <p:cNvSpPr/>
          <p:nvPr/>
        </p:nvSpPr>
        <p:spPr>
          <a:xfrm>
            <a:off x="3971880" y="3505320"/>
            <a:ext cx="2205000" cy="936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transition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75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75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75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75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8880-33F8-4EB2-A3BF-D11B0FC62670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1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0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1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2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9640" y="150480"/>
            <a:ext cx="7850160" cy="162252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Autofit/>
          </a:bodyPr>
          <a:p>
            <a:pPr marL="4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La Organización como Sistema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723960" y="1790640"/>
            <a:ext cx="7683480" cy="43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31640" indent="-431640">
              <a:lnSpc>
                <a:spcPct val="100000"/>
              </a:lnSpc>
              <a:spcBef>
                <a:spcPts val="1100"/>
              </a:spcBef>
              <a:buSzPct val="1592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  <a:ea typeface="Helvetica Neue"/>
              </a:rPr>
              <a:t>Organización: tipo especial de sistema que presenta actividad o comportamientoElementos de la Organización: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lvl="1" marL="876240" indent="-43164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  <a:ea typeface="Helvetica Neue"/>
              </a:rPr>
              <a:t>componentes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lvl="1" marL="876240" indent="-43164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  <a:ea typeface="Helvetica Neue"/>
              </a:rPr>
              <a:t>estructura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lvl="1" marL="876240" indent="-43164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  <a:ea typeface="Helvetica Neue"/>
              </a:rPr>
              <a:t>información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lvl="1" marL="876240" indent="-43164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  <a:ea typeface="Helvetica Neue"/>
              </a:rPr>
              <a:t>comunicación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lvl="1" marL="876240" indent="-43164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  <a:ea typeface="Helvetica Neue"/>
              </a:rPr>
              <a:t>decisiones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lvl="1" marL="876240" indent="-43164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  <a:ea typeface="Helvetica Neue"/>
              </a:rPr>
              <a:t>control y retroalimentación dinámica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E248-29C6-426B-82E9-C0607DACDA33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98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99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00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87080" y="301320"/>
            <a:ext cx="7404120" cy="92700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Autofit/>
          </a:bodyPr>
          <a:p>
            <a:pPr marL="4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Funciones Básicas IV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2528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rmAutofit fontScale="98000"/>
          </a:bodyPr>
          <a:p>
            <a:pPr marL="376200" indent="-33552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46461"/>
                </a:solidFill>
                <a:latin typeface="Helvetica Neue"/>
              </a:rPr>
              <a:t>Toma de Decisiones: </a:t>
            </a: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es el establecimiento de los procesos que permitirán la elección entre los diferentes cursos de acción alternativos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  <a:p>
            <a:pPr lvl="1" marL="768240" indent="-279720"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1"/>
                </a:solidFill>
                <a:latin typeface="Helvetica Neue"/>
              </a:rPr>
              <a:t>3 aspectos: la decisión, el proceso de toma de decisiones (reglas, datos, etc.) y el tomador de decisiones</a:t>
            </a:r>
            <a:endParaRPr b="0" lang="en-US" sz="2200" spc="-1" strike="noStrike">
              <a:solidFill>
                <a:srgbClr val="646461"/>
              </a:solidFill>
              <a:latin typeface="Helvetica Neue"/>
            </a:endParaRPr>
          </a:p>
          <a:p>
            <a:pPr lvl="1" marL="768240" indent="-279720"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1"/>
                </a:solidFill>
                <a:latin typeface="Helvetica Neue"/>
              </a:rPr>
              <a:t>Decisiones programables y no programables</a:t>
            </a:r>
            <a:endParaRPr b="0" lang="en-US" sz="2200" spc="-1" strike="noStrike">
              <a:solidFill>
                <a:srgbClr val="646461"/>
              </a:solidFill>
              <a:latin typeface="Helvetica Neue"/>
            </a:endParaRPr>
          </a:p>
          <a:p>
            <a:pPr lvl="1" marL="768240" indent="-279720"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1"/>
                </a:solidFill>
                <a:latin typeface="Helvetica Neue"/>
              </a:rPr>
              <a:t>Asociada a la decisión existe un grupo de información que comunica el resultado</a:t>
            </a:r>
            <a:endParaRPr b="0" lang="en-US" sz="22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transition>
    <p:fade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1388-3D24-40B5-9269-C8986EACC021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04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05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06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266400" y="279360"/>
            <a:ext cx="768348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Tipos de decisiones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0760" y="1773000"/>
            <a:ext cx="7708680" cy="4305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Decisiones Estructuradas o Programables: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  <a:p>
            <a:pPr lvl="1" marL="782640" indent="-285840"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1"/>
                </a:solidFill>
                <a:latin typeface="Helvetica Neue"/>
              </a:rPr>
              <a:t>Son aquellas que pueden ser tomadas de acuerdo a una regla (si se cumple un conjunto de condiciones se ejecuta un conjunto de acciones).</a:t>
            </a:r>
            <a:endParaRPr b="0" lang="en-US" sz="22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Decisiones No Estructuradas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  <a:p>
            <a:pPr lvl="1" marL="782640" indent="-285840"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1"/>
                </a:solidFill>
                <a:latin typeface="Helvetica Neue"/>
              </a:rPr>
              <a:t>Son aquellas que no es posible tomar de acuerdo a una regla ya que hay factores subjetivos o riesgo asociado al cumplimiento de las condiciones.</a:t>
            </a:r>
            <a:endParaRPr b="0" lang="en-US" sz="22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0A67-CC94-427D-83C1-97BF2171F3CE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10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11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12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Decisiones por Nivel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212400" y="1201320"/>
            <a:ext cx="424188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1"/>
                </a:solidFill>
                <a:latin typeface="Helvetica Neue"/>
              </a:rPr>
              <a:t>Estratégico</a:t>
            </a:r>
            <a:endParaRPr b="0" lang="en-US" sz="2200" spc="-1" strike="noStrike">
              <a:solidFill>
                <a:srgbClr val="646461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1"/>
                </a:solidFill>
                <a:latin typeface="Verdana"/>
                <a:ea typeface="ＭＳ Ｐゴシック"/>
              </a:rPr>
              <a:t>Tipo: No estructuradas</a:t>
            </a:r>
            <a:endParaRPr b="0" lang="en-US" sz="1800" spc="-1" strike="noStrike">
              <a:solidFill>
                <a:srgbClr val="646461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1"/>
                </a:solidFill>
                <a:latin typeface="Verdana"/>
                <a:ea typeface="ＭＳ Ｐゴシック"/>
              </a:rPr>
              <a:t>Horizonte: Largo Plazo</a:t>
            </a:r>
            <a:endParaRPr b="0" lang="en-US" sz="18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1"/>
                </a:solidFill>
                <a:latin typeface="Helvetica Neue"/>
              </a:rPr>
              <a:t>Control de Gestión</a:t>
            </a:r>
            <a:endParaRPr b="0" lang="en-US" sz="2200" spc="-1" strike="noStrike">
              <a:solidFill>
                <a:srgbClr val="646461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1"/>
                </a:solidFill>
                <a:latin typeface="Verdana"/>
                <a:ea typeface="ＭＳ Ｐゴシック"/>
              </a:rPr>
              <a:t>Tipo: Semi Estructuradas</a:t>
            </a:r>
            <a:endParaRPr b="0" lang="en-US" sz="1800" spc="-1" strike="noStrike">
              <a:solidFill>
                <a:srgbClr val="646461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1"/>
                </a:solidFill>
                <a:latin typeface="Verdana"/>
                <a:ea typeface="ＭＳ Ｐゴシック"/>
              </a:rPr>
              <a:t>Horizonte: Mediano Plazo</a:t>
            </a:r>
            <a:endParaRPr b="0" lang="en-US" sz="18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1"/>
                </a:solidFill>
                <a:latin typeface="Helvetica Neue"/>
              </a:rPr>
              <a:t>Operacional</a:t>
            </a:r>
            <a:endParaRPr b="0" lang="en-US" sz="2200" spc="-1" strike="noStrike">
              <a:solidFill>
                <a:srgbClr val="646461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1"/>
                </a:solidFill>
                <a:latin typeface="Verdana"/>
                <a:ea typeface="ＭＳ Ｐゴシック"/>
              </a:rPr>
              <a:t>Tipo: Estructuradas</a:t>
            </a:r>
            <a:endParaRPr b="0" lang="en-US" sz="1800" spc="-1" strike="noStrike">
              <a:solidFill>
                <a:srgbClr val="646461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1"/>
                </a:solidFill>
                <a:latin typeface="Verdana"/>
                <a:ea typeface="ＭＳ Ｐゴシック"/>
              </a:rPr>
              <a:t>Horizonte: Corto Plazo</a:t>
            </a:r>
            <a:endParaRPr b="0" lang="en-US" sz="18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15" name="Rectangle 6"/>
          <p:cNvSpPr/>
          <p:nvPr/>
        </p:nvSpPr>
        <p:spPr>
          <a:xfrm>
            <a:off x="4416480" y="2014560"/>
            <a:ext cx="4572000" cy="38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82680" indent="-343080">
              <a:lnSpc>
                <a:spcPct val="100000"/>
              </a:lnSpc>
              <a:spcBef>
                <a:spcPts val="53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Verdana"/>
              </a:rPr>
              <a:t>ESTRATÉGICO</a:t>
            </a: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82680" indent="-343080">
              <a:lnSpc>
                <a:spcPct val="100000"/>
              </a:lnSpc>
              <a:spcBef>
                <a:spcPts val="437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ORIGEN: PRINCIPALMENTE EXTERNA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82680" indent="-343080">
              <a:lnSpc>
                <a:spcPct val="100000"/>
              </a:lnSpc>
              <a:spcBef>
                <a:spcPts val="437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VOLUMEN: SELECTIVA Y AGREGADA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82680" indent="-343080">
              <a:lnSpc>
                <a:spcPct val="100000"/>
              </a:lnSpc>
              <a:spcBef>
                <a:spcPts val="53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Verdana"/>
              </a:rPr>
              <a:t>CONTROL DE GESTIÓN</a:t>
            </a: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82680" indent="-343080">
              <a:lnSpc>
                <a:spcPct val="100000"/>
              </a:lnSpc>
              <a:spcBef>
                <a:spcPts val="437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ORIGEN: INTERNO Y EXTERNO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82680" indent="-343080">
              <a:lnSpc>
                <a:spcPct val="100000"/>
              </a:lnSpc>
              <a:spcBef>
                <a:spcPts val="437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VOLUMEN: SEMI AGREGADO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82680" indent="-343080">
              <a:lnSpc>
                <a:spcPct val="100000"/>
              </a:lnSpc>
              <a:spcBef>
                <a:spcPts val="53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Verdana"/>
              </a:rPr>
              <a:t>OPERACIONAL</a:t>
            </a: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82680" indent="-343080">
              <a:lnSpc>
                <a:spcPct val="100000"/>
              </a:lnSpc>
              <a:spcBef>
                <a:spcPts val="437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ORIGEN: INTERNO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82680" indent="-343080">
              <a:lnSpc>
                <a:spcPct val="100000"/>
              </a:lnSpc>
              <a:spcBef>
                <a:spcPts val="437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VOLUMEN: MASIVA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878C-EF55-4A76-A001-76AC80E9A3FF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17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18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19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9640" y="173160"/>
            <a:ext cx="7631280" cy="174312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Autofit/>
          </a:bodyPr>
          <a:p>
            <a:pPr marL="4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Funciones Básicas V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69800" y="1941480"/>
            <a:ext cx="8204400" cy="389880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rmAutofit/>
          </a:bodyPr>
          <a:p>
            <a:pPr marL="384120" indent="-34272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1"/>
                </a:solidFill>
                <a:latin typeface="Helvetica Neue"/>
              </a:rPr>
              <a:t>Comunicación:</a:t>
            </a: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 es la identificación y establecimiento de los flujos de información que son necesarios para que las diferentes funciones y componentes de la organización aseguren que se logre la programación adecuada para alcanzar sus respectivos objetivos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78FA-89F2-4BDB-AA6A-9C04B4D3DC60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23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24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25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pic>
        <p:nvPicPr>
          <p:cNvPr id="926" name="Picture 4" descr=""/>
          <p:cNvPicPr/>
          <p:nvPr/>
        </p:nvPicPr>
        <p:blipFill>
          <a:blip r:embed="rId1"/>
          <a:stretch/>
        </p:blipFill>
        <p:spPr>
          <a:xfrm>
            <a:off x="925560" y="1900080"/>
            <a:ext cx="7318440" cy="4832640"/>
          </a:xfrm>
          <a:prstGeom prst="rect">
            <a:avLst/>
          </a:prstGeom>
          <a:ln w="0">
            <a:noFill/>
          </a:ln>
        </p:spPr>
      </p:pic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703440" y="236160"/>
            <a:ext cx="773424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Autofit/>
          </a:bodyPr>
          <a:p>
            <a:pPr marL="4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Medios de Comunicación Formales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2645-37C9-4BED-896A-6C61C6BC3C0A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29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30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31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El rol de los SI en la empresa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2299"/>
              </a:spcBef>
              <a:buSzPct val="17494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Lo que una empresa desea hacer dentro de 5 años, depende a menudo de lo que los sistemas sean capaces de hacer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2299"/>
              </a:spcBef>
              <a:buSzPct val="17494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Existe una interdependencia creciente en la estrategia de negocios y los SI (alineamiento)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2299"/>
              </a:spcBef>
              <a:buSzPct val="17494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Complejidad creciente de los SI y la visión de los proyectos de sistemas y sus aplicaciones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96B2-CF2B-4B09-BE9F-C210CF47ECC4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35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36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37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38" name="Line 4"/>
          <p:cNvSpPr/>
          <p:nvPr/>
        </p:nvSpPr>
        <p:spPr>
          <a:xfrm flipV="1">
            <a:off x="1843200" y="1870200"/>
            <a:ext cx="5689440" cy="417672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Enfoque moderno de SIA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40" name="Rectangle 6"/>
          <p:cNvSpPr/>
          <p:nvPr/>
        </p:nvSpPr>
        <p:spPr>
          <a:xfrm>
            <a:off x="1843200" y="1870200"/>
            <a:ext cx="5689440" cy="4176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grpSp>
        <p:nvGrpSpPr>
          <p:cNvPr id="941" name="Group 7"/>
          <p:cNvGrpSpPr/>
          <p:nvPr/>
        </p:nvGrpSpPr>
        <p:grpSpPr>
          <a:xfrm>
            <a:off x="3643200" y="3022560"/>
            <a:ext cx="2305080" cy="1944720"/>
            <a:chOff x="3643200" y="3022560"/>
            <a:chExt cx="2305080" cy="1944720"/>
          </a:xfrm>
        </p:grpSpPr>
        <p:sp>
          <p:nvSpPr>
            <p:cNvPr id="942" name="Oval 8"/>
            <p:cNvSpPr/>
            <p:nvPr/>
          </p:nvSpPr>
          <p:spPr>
            <a:xfrm>
              <a:off x="3643200" y="3022560"/>
              <a:ext cx="2305080" cy="19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943" name="Rectangle 9"/>
            <p:cNvSpPr/>
            <p:nvPr/>
          </p:nvSpPr>
          <p:spPr>
            <a:xfrm>
              <a:off x="4259880" y="3818520"/>
              <a:ext cx="106956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78120" tIns="38160" bIns="38160" anchor="ctr">
              <a:spAutoFit/>
            </a:bodyPr>
            <a:p>
              <a:pPr marL="1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a7594"/>
                  </a:solidFill>
                  <a:latin typeface="Verdana"/>
                  <a:ea typeface="Verdana"/>
                </a:rPr>
                <a:t>SIA - MIS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  <p:sp>
        <p:nvSpPr>
          <p:cNvPr id="944" name="Rectangle 10"/>
          <p:cNvSpPr/>
          <p:nvPr/>
        </p:nvSpPr>
        <p:spPr>
          <a:xfrm>
            <a:off x="1913040" y="4168080"/>
            <a:ext cx="17427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CIENCIAS DE LA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ADMINISTRACIÓN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45" name="Rectangle 11"/>
          <p:cNvSpPr/>
          <p:nvPr/>
        </p:nvSpPr>
        <p:spPr>
          <a:xfrm>
            <a:off x="2404080" y="2347200"/>
            <a:ext cx="14925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CIENCIA DE LA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COMPUTACIÓN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46" name="Rectangle 12"/>
          <p:cNvSpPr/>
          <p:nvPr/>
        </p:nvSpPr>
        <p:spPr>
          <a:xfrm>
            <a:off x="4518000" y="1941480"/>
            <a:ext cx="195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INVESTIGACIÓN Y GESTIÓN DE OPERACIONES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47" name="Rectangle 13"/>
          <p:cNvSpPr/>
          <p:nvPr/>
        </p:nvSpPr>
        <p:spPr>
          <a:xfrm>
            <a:off x="540000" y="1886760"/>
            <a:ext cx="10612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ENFOQUES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TÉCNICOS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48" name="Rectangle 14"/>
          <p:cNvSpPr/>
          <p:nvPr/>
        </p:nvSpPr>
        <p:spPr>
          <a:xfrm>
            <a:off x="6058800" y="3319920"/>
            <a:ext cx="1236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SOCIOLOGÍA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49" name="Rectangle 15"/>
          <p:cNvSpPr/>
          <p:nvPr/>
        </p:nvSpPr>
        <p:spPr>
          <a:xfrm>
            <a:off x="5418720" y="5126760"/>
            <a:ext cx="8953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CIENCIA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POLÍTICA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50" name="Rectangle 16"/>
          <p:cNvSpPr/>
          <p:nvPr/>
        </p:nvSpPr>
        <p:spPr>
          <a:xfrm>
            <a:off x="2949480" y="5488200"/>
            <a:ext cx="1200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PSICOLOGÍA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51" name="Rectangle 17"/>
          <p:cNvSpPr/>
          <p:nvPr/>
        </p:nvSpPr>
        <p:spPr>
          <a:xfrm>
            <a:off x="6491160" y="6048360"/>
            <a:ext cx="2222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ENFOQUES DEL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COMPORTAMIENTO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1FC9-04A6-4632-BF9E-A13E22DCD7FC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53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54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55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Comentarios Finales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506520" y="2192400"/>
            <a:ext cx="8115120" cy="35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374760" indent="-3358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La organización es un caso especial de sistemas, que posee una estructura y comportamiento especial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74760" indent="-3358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Existen diferentes funciones básicas que caracterizan el comportamiento de una organización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74760" indent="-3358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Las oportunidades de rediseño surgen de un buen entendimiento del modelo de una organización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6F70-7D20-46A6-A4BF-A4A1ECB3A6A8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59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60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61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Competencias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64840" y="2093760"/>
            <a:ext cx="8001000" cy="3695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2299"/>
              </a:spcBef>
              <a:buSzPct val="17473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Entender lo que es un sistema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2299"/>
              </a:spcBef>
              <a:buSzPct val="17473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Distinguir SI, SIA, SCG y SPD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2299"/>
              </a:spcBef>
              <a:buSzPct val="17473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Conocer las funciones básicas de administración en la organización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2299"/>
              </a:spcBef>
              <a:buSzPct val="17473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Distinguir los distintos tipos de decisiones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0814-D4A5-4644-B9AB-2876ADA57EE5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6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7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8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Sistemas existentes en la Organización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grpSp>
        <p:nvGrpSpPr>
          <p:cNvPr id="730" name="Group 5"/>
          <p:cNvGrpSpPr/>
          <p:nvPr/>
        </p:nvGrpSpPr>
        <p:grpSpPr>
          <a:xfrm>
            <a:off x="838080" y="2565360"/>
            <a:ext cx="7467480" cy="3797280"/>
            <a:chOff x="838080" y="2565360"/>
            <a:chExt cx="7467480" cy="3797280"/>
          </a:xfrm>
        </p:grpSpPr>
        <p:sp>
          <p:nvSpPr>
            <p:cNvPr id="731" name="AutoShape 6"/>
            <p:cNvSpPr/>
            <p:nvPr/>
          </p:nvSpPr>
          <p:spPr>
            <a:xfrm>
              <a:off x="838080" y="2565360"/>
              <a:ext cx="7467480" cy="3797280"/>
            </a:xfrm>
            <a:prstGeom prst="roundRect">
              <a:avLst>
                <a:gd name="adj" fmla="val 5014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  <a:effectLst>
              <a:outerShdw dist="177643" dir="2389226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32" name="Rectangle 7"/>
            <p:cNvSpPr/>
            <p:nvPr/>
          </p:nvSpPr>
          <p:spPr>
            <a:xfrm>
              <a:off x="2266560" y="2702160"/>
              <a:ext cx="4617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elvetica Neue Bold Condensed"/>
                  <a:ea typeface="Helvetica Neue Bold Condensed"/>
                </a:rPr>
                <a:t>SISTEMA DE ADMINISTRACIÓN (SA)</a:t>
              </a: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  <p:grpSp>
        <p:nvGrpSpPr>
          <p:cNvPr id="733" name="Group 8"/>
          <p:cNvGrpSpPr/>
          <p:nvPr/>
        </p:nvGrpSpPr>
        <p:grpSpPr>
          <a:xfrm>
            <a:off x="880920" y="3276720"/>
            <a:ext cx="4110840" cy="2895480"/>
            <a:chOff x="880920" y="3276720"/>
            <a:chExt cx="4110840" cy="2895480"/>
          </a:xfrm>
        </p:grpSpPr>
        <p:sp>
          <p:nvSpPr>
            <p:cNvPr id="734" name="AutoShape 9"/>
            <p:cNvSpPr/>
            <p:nvPr/>
          </p:nvSpPr>
          <p:spPr>
            <a:xfrm>
              <a:off x="1104840" y="3276720"/>
              <a:ext cx="3657600" cy="2895480"/>
            </a:xfrm>
            <a:prstGeom prst="roundRect">
              <a:avLst>
                <a:gd name="adj" fmla="val 6579"/>
              </a:avLst>
            </a:prstGeom>
            <a:solidFill>
              <a:srgbClr val="ffdbcd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35" name="Rectangle 10"/>
            <p:cNvSpPr/>
            <p:nvPr/>
          </p:nvSpPr>
          <p:spPr>
            <a:xfrm>
              <a:off x="880920" y="3413520"/>
              <a:ext cx="4110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9b2c01"/>
                  </a:solidFill>
                  <a:latin typeface="Helvetica Neue Bold Condensed"/>
                  <a:ea typeface="Helvetica Neue Bold Condensed"/>
                </a:rPr>
                <a:t>SISTEMA DE INFORMACION (SI)</a:t>
              </a: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  <p:grpSp>
        <p:nvGrpSpPr>
          <p:cNvPr id="736" name="Group 11"/>
          <p:cNvGrpSpPr/>
          <p:nvPr/>
        </p:nvGrpSpPr>
        <p:grpSpPr>
          <a:xfrm>
            <a:off x="1327320" y="4038480"/>
            <a:ext cx="3530520" cy="2006640"/>
            <a:chOff x="1327320" y="4038480"/>
            <a:chExt cx="3530520" cy="2006640"/>
          </a:xfrm>
        </p:grpSpPr>
        <p:sp>
          <p:nvSpPr>
            <p:cNvPr id="737" name="AutoShape 12"/>
            <p:cNvSpPr/>
            <p:nvPr/>
          </p:nvSpPr>
          <p:spPr>
            <a:xfrm>
              <a:off x="1535400" y="4038480"/>
              <a:ext cx="3124080" cy="2006640"/>
            </a:xfrm>
            <a:prstGeom prst="roundRect">
              <a:avLst>
                <a:gd name="adj" fmla="val 9491"/>
              </a:avLst>
            </a:prstGeom>
            <a:solidFill>
              <a:srgbClr val="d9eaca"/>
            </a:solidFill>
            <a:ln w="25560">
              <a:solidFill>
                <a:srgbClr val="3f691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38" name="Rectangle 13"/>
            <p:cNvSpPr/>
            <p:nvPr/>
          </p:nvSpPr>
          <p:spPr>
            <a:xfrm>
              <a:off x="1327320" y="4133880"/>
              <a:ext cx="35305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f691e"/>
                  </a:solidFill>
                  <a:latin typeface="Helvetica Neue Bold Condensed"/>
                  <a:ea typeface="Helvetica Neue Bold Condensed"/>
                </a:rPr>
                <a:t>SISTEMA DE INFORMACION ADMINISTRATIVO (SIA)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  <p:sp>
        <p:nvSpPr>
          <p:cNvPr id="739" name="AutoShape 14"/>
          <p:cNvSpPr/>
          <p:nvPr/>
        </p:nvSpPr>
        <p:spPr>
          <a:xfrm>
            <a:off x="2603520" y="4927680"/>
            <a:ext cx="1905120" cy="990360"/>
          </a:xfrm>
          <a:prstGeom prst="roundRect">
            <a:avLst>
              <a:gd name="adj" fmla="val 19227"/>
            </a:avLst>
          </a:prstGeom>
          <a:solidFill>
            <a:srgbClr val="c0edfe"/>
          </a:solidFill>
          <a:ln w="25560">
            <a:solidFill>
              <a:srgbClr val="2e6ff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2067"/>
                </a:solidFill>
                <a:latin typeface="Helvetica Neue"/>
                <a:ea typeface="Helvetica Neue"/>
              </a:rPr>
              <a:t>SISTEMA DE PROCESAMIENTO DE DATOS (SPD)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0" name="AutoShape 15"/>
          <p:cNvSpPr/>
          <p:nvPr/>
        </p:nvSpPr>
        <p:spPr>
          <a:xfrm>
            <a:off x="5626080" y="3289320"/>
            <a:ext cx="2158920" cy="2870280"/>
          </a:xfrm>
          <a:custGeom>
            <a:avLst/>
            <a:gdLst>
              <a:gd name="textAreaLeft" fmla="*/ 55440 w 2158920"/>
              <a:gd name="textAreaRight" fmla="*/ 2103480 w 2158920"/>
              <a:gd name="textAreaTop" fmla="*/ 55440 h 2870280"/>
              <a:gd name="textAreaBottom" fmla="*/ 2814840 h 2870280"/>
            </a:gdLst>
            <a:ahLst/>
            <a:rect l="textAreaLeft" t="textAreaTop" r="textAreaRight" b="textAreaBottom"/>
            <a:pathLst>
              <a:path w="21600" h="28716">
                <a:moveTo>
                  <a:pt x="1905" y="0"/>
                </a:moveTo>
                <a:arcTo wR="1905" hR="1905" stAng="16200000" swAng="-5400000"/>
                <a:lnTo>
                  <a:pt x="0" y="26811"/>
                </a:lnTo>
                <a:arcTo wR="1905" hR="1905" stAng="10800000" swAng="-5400000"/>
                <a:lnTo>
                  <a:pt x="19695" y="28716"/>
                </a:lnTo>
                <a:arcTo wR="1905" hR="1905" stAng="5400000" swAng="-5400000"/>
                <a:lnTo>
                  <a:pt x="21600" y="1905"/>
                </a:lnTo>
                <a:arcTo wR="1905" hR="1905" stAng="0" swAng="-5400000"/>
                <a:close/>
              </a:path>
            </a:pathLst>
          </a:custGeom>
          <a:solidFill>
            <a:srgbClr val="2e6ffd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SISTEMA DE CONTROL DE GESTION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D375-BE21-457C-A7ED-BD53C3DB0167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2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3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4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8160" y="177840"/>
            <a:ext cx="906768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Sistemas de Administración (SA)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60360" y="1405080"/>
            <a:ext cx="8415360" cy="5084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Es un conjunto interrelacionado de </a:t>
            </a:r>
            <a:r>
              <a:rPr b="1" lang="en-US" sz="2600" spc="-1" strike="noStrike">
                <a:solidFill>
                  <a:srgbClr val="646461"/>
                </a:solidFill>
                <a:latin typeface="Helvetica Neue"/>
              </a:rPr>
              <a:t>métodos, procedimientos, decisiones, etc</a:t>
            </a: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., mediante los que la organización </a:t>
            </a:r>
            <a:r>
              <a:rPr b="1" lang="en-US" sz="2600" spc="-1" strike="noStrike">
                <a:solidFill>
                  <a:srgbClr val="646461"/>
                </a:solidFill>
                <a:latin typeface="Helvetica Neue"/>
              </a:rPr>
              <a:t>planifica, ejecuta y controla</a:t>
            </a: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 las actividades por las cuales alcanza sus metas y objetivos.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Sus objetivos se confunden con los objetivos de la organización (negocio).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Medioambiente corresponde a otros SA</a:t>
            </a:r>
            <a:r>
              <a:rPr b="0" lang="ja-JP" sz="2600" spc="-1" strike="noStrike">
                <a:solidFill>
                  <a:srgbClr val="646461"/>
                </a:solidFill>
                <a:latin typeface="Helvetica Neue"/>
              </a:rPr>
              <a:t>’</a:t>
            </a: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s dentro y fuera de la organización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F586-C2DB-468E-A8BC-7668D017A907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8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9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50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Sistema de Información (SI)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10760" y="2136600"/>
            <a:ext cx="8356680" cy="363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Es un sistema que maneja toda la información de apoyo a un SA (formal e informal, estructurada y no estructurada)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El objetivo es apoyar con información al SA relevante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Medioambiente es el SA correspondiente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B78D-FFDB-4846-8F1E-256FFB4820F3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54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55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56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48840" y="317520"/>
            <a:ext cx="8425080" cy="1450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Sistema de Info. Adminstrativo (SIA)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8534160" cy="346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Es un sistema que maneja la información </a:t>
            </a:r>
            <a:r>
              <a:rPr b="1" lang="en-US" sz="2400" spc="-1" strike="noStrike">
                <a:solidFill>
                  <a:srgbClr val="646461"/>
                </a:solidFill>
                <a:latin typeface="Verdana"/>
                <a:ea typeface="Verdana"/>
              </a:rPr>
              <a:t>formal</a:t>
            </a: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 de apoyo a un SA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El objetivo es la </a:t>
            </a:r>
            <a:r>
              <a:rPr b="1" lang="en-US" sz="2400" spc="-1" strike="noStrike">
                <a:solidFill>
                  <a:srgbClr val="646461"/>
                </a:solidFill>
                <a:latin typeface="Helvetica Neue"/>
              </a:rPr>
              <a:t>identificación, manipulación</a:t>
            </a: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 (recolección, almacenamiento, actualización, recuperación, etc.) y difusión de la información de apoyo al SA relevante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Medioambiente es el SA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3614-1F56-406F-B4A0-32A9CB2C4A09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60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61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62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29840" y="329760"/>
            <a:ext cx="8280360" cy="141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Sistema de Procesamiento de Datos (SPD)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30120" y="2377800"/>
            <a:ext cx="8483760" cy="313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Es un sistema </a:t>
            </a:r>
            <a:r>
              <a:rPr b="1" lang="en-US" sz="2400" spc="-1" strike="noStrike">
                <a:solidFill>
                  <a:srgbClr val="646461"/>
                </a:solidFill>
                <a:latin typeface="Verdana"/>
                <a:ea typeface="Verdana"/>
              </a:rPr>
              <a:t>mecanizado</a:t>
            </a: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 que maneja parte de la información </a:t>
            </a:r>
            <a:r>
              <a:rPr b="1" lang="en-US" sz="2400" spc="-1" strike="noStrike">
                <a:solidFill>
                  <a:srgbClr val="646461"/>
                </a:solidFill>
                <a:latin typeface="Verdana"/>
                <a:ea typeface="Verdana"/>
              </a:rPr>
              <a:t>estructurada</a:t>
            </a: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 de apoyo a un SA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El objetivo es apoyar con información estructurada al SA relevante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Medioambiente es el SIA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16F1-90CE-4253-BD25-F16A89EA500F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66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67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68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11280" y="342720"/>
            <a:ext cx="791208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Sistema de Control de Gestión (SCG)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31640" y="2082600"/>
            <a:ext cx="8267760" cy="353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Es un sistema que </a:t>
            </a:r>
            <a:r>
              <a:rPr b="1" lang="en-US" sz="2400" spc="-1" strike="noStrike">
                <a:solidFill>
                  <a:srgbClr val="646461"/>
                </a:solidFill>
                <a:latin typeface="Helvetica Neue"/>
              </a:rPr>
              <a:t>monitorea</a:t>
            </a: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 y </a:t>
            </a:r>
            <a:r>
              <a:rPr b="1" lang="en-US" sz="2400" spc="-1" strike="noStrike">
                <a:solidFill>
                  <a:srgbClr val="646461"/>
                </a:solidFill>
                <a:latin typeface="Helvetica Neue"/>
              </a:rPr>
              <a:t>mide indicadores de gestión</a:t>
            </a: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 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1"/>
                </a:solidFill>
                <a:latin typeface="Helvetica Neue"/>
              </a:rPr>
              <a:t>Toma acciones</a:t>
            </a: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 en caso de ser necesario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u objetivo es mantener a un sistema dentro de las especificaciones definidas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Medioambiente es el sistema que es controlado. 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7976-DED5-4125-91FB-A9AACC3AFF19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2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3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4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5" name="AutoShape 4"/>
          <p:cNvSpPr/>
          <p:nvPr/>
        </p:nvSpPr>
        <p:spPr>
          <a:xfrm>
            <a:off x="2627280" y="2017800"/>
            <a:ext cx="4889520" cy="32925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3292560"/>
              <a:gd name="textAreaBottom" fmla="*/ 3292920 h 3292560"/>
            </a:gdLst>
            <a:ahLst/>
            <a:rect l="textAreaLeft" t="textAreaTop" r="textAreaRight" b="textAreaBottom"/>
            <a:pathLst>
              <a:path w="21600" h="21600">
                <a:moveTo>
                  <a:pt x="10796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10796" y="0"/>
                </a:lnTo>
                <a:close/>
                <a:moveTo>
                  <a:pt x="10796" y="0"/>
                </a:move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grpSp>
        <p:nvGrpSpPr>
          <p:cNvPr id="776" name="Group 5"/>
          <p:cNvGrpSpPr/>
          <p:nvPr/>
        </p:nvGrpSpPr>
        <p:grpSpPr>
          <a:xfrm>
            <a:off x="2668680" y="5796000"/>
            <a:ext cx="4873680" cy="695160"/>
            <a:chOff x="2668680" y="5796000"/>
            <a:chExt cx="4873680" cy="695160"/>
          </a:xfrm>
        </p:grpSpPr>
        <p:sp>
          <p:nvSpPr>
            <p:cNvPr id="777" name="Rectangle 6"/>
            <p:cNvSpPr/>
            <p:nvPr/>
          </p:nvSpPr>
          <p:spPr>
            <a:xfrm>
              <a:off x="2668680" y="5796000"/>
              <a:ext cx="4873680" cy="6951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78" name="Rectangle 7"/>
            <p:cNvSpPr/>
            <p:nvPr/>
          </p:nvSpPr>
          <p:spPr>
            <a:xfrm>
              <a:off x="4184280" y="5869080"/>
              <a:ext cx="1840680" cy="5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1400" tIns="0" bIns="0" anchor="ctr">
              <a:spAutoFit/>
            </a:bodyPr>
            <a:p>
              <a:pPr marL="414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PRODUCCION</a:t>
              </a:r>
              <a:endParaRPr b="0" lang="en-US" sz="20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(RECURSOS)</a:t>
              </a:r>
              <a:endParaRPr b="0" lang="en-US" sz="16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  <p:sp>
        <p:nvSpPr>
          <p:cNvPr id="779" name="Rectangle 8"/>
          <p:cNvSpPr/>
          <p:nvPr/>
        </p:nvSpPr>
        <p:spPr>
          <a:xfrm>
            <a:off x="3851280" y="2905200"/>
            <a:ext cx="24382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ESTRATEGICO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0" name="Rectangle 9"/>
          <p:cNvSpPr/>
          <p:nvPr/>
        </p:nvSpPr>
        <p:spPr>
          <a:xfrm>
            <a:off x="3581280" y="3478320"/>
            <a:ext cx="30481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ADMINISTRATIVO</a:t>
            </a:r>
            <a:r>
              <a:rPr b="1" lang="en-US" sz="20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O DE GESTION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1" name="Rectangle 10"/>
          <p:cNvSpPr/>
          <p:nvPr/>
        </p:nvSpPr>
        <p:spPr>
          <a:xfrm>
            <a:off x="3544920" y="486108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OPERACIONAL</a:t>
            </a: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2" name="Line 11"/>
          <p:cNvSpPr/>
          <p:nvPr/>
        </p:nvSpPr>
        <p:spPr>
          <a:xfrm>
            <a:off x="1192320" y="2119320"/>
            <a:ext cx="14040" cy="1135080"/>
          </a:xfrm>
          <a:prstGeom prst="line">
            <a:avLst/>
          </a:prstGeom>
          <a:ln w="25560">
            <a:solidFill>
              <a:srgbClr val="ff33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3" name="Rectangle 12"/>
          <p:cNvSpPr/>
          <p:nvPr/>
        </p:nvSpPr>
        <p:spPr>
          <a:xfrm>
            <a:off x="216000" y="3355920"/>
            <a:ext cx="22096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a7594"/>
                </a:solidFill>
                <a:latin typeface="Times New Roman"/>
                <a:ea typeface="Times New Roman"/>
              </a:rPr>
              <a:t>ADMINISTRACION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4" name="Line 13"/>
          <p:cNvSpPr/>
          <p:nvPr/>
        </p:nvSpPr>
        <p:spPr>
          <a:xfrm>
            <a:off x="1181160" y="3801960"/>
            <a:ext cx="1440" cy="141444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5" name="Rectangle 14"/>
          <p:cNvSpPr/>
          <p:nvPr/>
        </p:nvSpPr>
        <p:spPr>
          <a:xfrm>
            <a:off x="355680" y="5680080"/>
            <a:ext cx="19177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a7594"/>
                </a:solidFill>
                <a:latin typeface="Times New Roman"/>
                <a:ea typeface="Times New Roman"/>
              </a:rPr>
              <a:t>OPERACIONES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6" name="Rectangle 15"/>
          <p:cNvSpPr/>
          <p:nvPr/>
        </p:nvSpPr>
        <p:spPr>
          <a:xfrm>
            <a:off x="7647120" y="5831640"/>
            <a:ext cx="1269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1400" tIns="0" bIns="0" anchor="ctr">
            <a:sp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PRODUCTOS: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BIENE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SERVICIO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7" name="Rectangle 16"/>
          <p:cNvSpPr/>
          <p:nvPr/>
        </p:nvSpPr>
        <p:spPr>
          <a:xfrm>
            <a:off x="1635120" y="6043320"/>
            <a:ext cx="914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1400" tIns="0" bIns="0" anchor="ctr">
            <a:sp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INSUMO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8" name="AutoShape 17"/>
          <p:cNvSpPr/>
          <p:nvPr/>
        </p:nvSpPr>
        <p:spPr>
          <a:xfrm>
            <a:off x="3228840" y="5381640"/>
            <a:ext cx="360360" cy="369720"/>
          </a:xfrm>
          <a:custGeom>
            <a:avLst/>
            <a:gdLst>
              <a:gd name="textAreaLeft" fmla="*/ 0 w 360360"/>
              <a:gd name="textAreaRight" fmla="*/ 360720 w 36036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5400" y="5400"/>
                </a:lnTo>
                <a:lnTo>
                  <a:pt x="5400" y="21600"/>
                </a:lnTo>
                <a:lnTo>
                  <a:pt x="16200" y="21600"/>
                </a:lnTo>
                <a:lnTo>
                  <a:pt x="16200" y="5400"/>
                </a:lnTo>
                <a:lnTo>
                  <a:pt x="21600" y="5400"/>
                </a:lnTo>
                <a:lnTo>
                  <a:pt x="10800" y="0"/>
                </a:lnTo>
                <a:lnTo>
                  <a:pt x="0" y="5400"/>
                </a:lnTo>
                <a:close/>
                <a:moveTo>
                  <a:pt x="0" y="5400"/>
                </a:move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9" name="AutoShape 18"/>
          <p:cNvSpPr/>
          <p:nvPr/>
        </p:nvSpPr>
        <p:spPr>
          <a:xfrm>
            <a:off x="6443640" y="5381640"/>
            <a:ext cx="360360" cy="369720"/>
          </a:xfrm>
          <a:custGeom>
            <a:avLst/>
            <a:gdLst>
              <a:gd name="textAreaLeft" fmla="*/ 0 w 360360"/>
              <a:gd name="textAreaRight" fmla="*/ 360720 w 36036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lnTo>
                  <a:pt x="5400" y="16200"/>
                </a:lnTo>
                <a:lnTo>
                  <a:pt x="5400" y="0"/>
                </a:lnTo>
                <a:lnTo>
                  <a:pt x="16200" y="0"/>
                </a:lnTo>
                <a:lnTo>
                  <a:pt x="16200" y="16200"/>
                </a:lnTo>
                <a:lnTo>
                  <a:pt x="21600" y="16200"/>
                </a:lnTo>
                <a:lnTo>
                  <a:pt x="10800" y="21600"/>
                </a:lnTo>
                <a:lnTo>
                  <a:pt x="0" y="16200"/>
                </a:lnTo>
                <a:close/>
                <a:moveTo>
                  <a:pt x="0" y="16200"/>
                </a:move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0" name="Rectangle 19"/>
          <p:cNvSpPr/>
          <p:nvPr/>
        </p:nvSpPr>
        <p:spPr>
          <a:xfrm>
            <a:off x="3057480" y="4241880"/>
            <a:ext cx="39625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MANEJO DE INFORMACION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1" name="Line 20"/>
          <p:cNvSpPr/>
          <p:nvPr/>
        </p:nvSpPr>
        <p:spPr>
          <a:xfrm>
            <a:off x="3060720" y="4753080"/>
            <a:ext cx="4032360" cy="144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2" name="Line 21"/>
          <p:cNvSpPr/>
          <p:nvPr/>
        </p:nvSpPr>
        <p:spPr>
          <a:xfrm>
            <a:off x="3564000" y="4033800"/>
            <a:ext cx="3024000" cy="180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3" name="Line 22"/>
          <p:cNvSpPr/>
          <p:nvPr/>
        </p:nvSpPr>
        <p:spPr>
          <a:xfrm>
            <a:off x="4140360" y="3313080"/>
            <a:ext cx="1871640" cy="180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Modelo de Uso de Información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75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75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75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75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a Varas</dc:creator>
  <dc:description/>
  <cp:keywords/>
  <dc:language>en-US</dc:language>
  <cp:lastModifiedBy>nn nn</cp:lastModifiedBy>
  <dcterms:modified xsi:type="dcterms:W3CDTF">2011-12-05T13:46:18Z</dcterms:modified>
  <cp:revision>2</cp:revision>
  <dc:subject/>
  <dc:title>Introducción al Análisis de los Sistemas de Información Administrativos</dc:title>
</cp:coreProperties>
</file>