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736200" y="177840"/>
            <a:ext cx="76834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33432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93208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73620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33432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593208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A3ED1C-BB62-4CA6-96AA-59F6B5C916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CA5664-25AD-48DE-B238-788A8B75F40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1B97E1-DEDD-4BD9-BF73-D390DA975DB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95EC4E-6466-49DD-AA91-A429A5FA3DB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A49FA4-189E-4F83-B20F-9E6AE95B19B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736200" y="177840"/>
            <a:ext cx="76834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6507C7-4044-4001-87D6-568A2BEE39E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EB1FC2-0299-47B2-91D4-C312CFE0D86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B79F48-800E-4DE9-B82A-12A4C1D4AB5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CC44A4-10BF-4043-A57F-4F87579A46C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4E6833-0838-4917-9323-46E2080D59C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252790-3771-4D52-B252-35EB011DFB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432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3208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3620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432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3208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33432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93208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73620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33432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593208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06342E-0E37-4364-9AAD-185AE890B1F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736200" y="177840"/>
            <a:ext cx="76834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07DDB-0A59-45B7-9640-0908E3A0B907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33432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93208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73620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33432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593208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736200" y="177840"/>
            <a:ext cx="76834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3785A-D0DF-4006-B323-4DDA55027FB8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33432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93208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73620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33432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93208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6E375-52FE-4C81-93F4-9E46E1F1246D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736200" y="177840"/>
            <a:ext cx="76834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33432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3208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73620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33432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3208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BB5F4-A74D-4C75-8DE3-73F1D7CF73AB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736200" y="177840"/>
            <a:ext cx="76834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33432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593208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73620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33432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593208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DC17F-3A73-4CAC-B574-D7ACAD877743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736200" y="177840"/>
            <a:ext cx="76834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736200" y="177840"/>
            <a:ext cx="76834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B7B35-D63C-43EC-A2B8-389F224F759F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33432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93208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73620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33432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593208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736200" y="177840"/>
            <a:ext cx="76834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F67F0-BD75-4CE0-8A36-983D68FAF346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33432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593208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73620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33432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593208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ubTitle"/>
          </p:nvPr>
        </p:nvSpPr>
        <p:spPr>
          <a:xfrm>
            <a:off x="736200" y="177840"/>
            <a:ext cx="76834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0DB15-9C18-4E61-80AF-887C82AE661A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333432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3208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73620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/>
          </p:nvPr>
        </p:nvSpPr>
        <p:spPr>
          <a:xfrm>
            <a:off x="333432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76" name="PlaceHolder 7"/>
          <p:cNvSpPr>
            <a:spLocks noGrp="1"/>
          </p:cNvSpPr>
          <p:nvPr>
            <p:ph/>
          </p:nvPr>
        </p:nvSpPr>
        <p:spPr>
          <a:xfrm>
            <a:off x="593208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subTitle"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7EF64-F885-440C-8CBD-E17218FB0E1E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ubTitle"/>
          </p:nvPr>
        </p:nvSpPr>
        <p:spPr>
          <a:xfrm>
            <a:off x="736200" y="177840"/>
            <a:ext cx="76834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333432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593208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73620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15" name="PlaceHolder 6"/>
          <p:cNvSpPr>
            <a:spLocks noGrp="1"/>
          </p:cNvSpPr>
          <p:nvPr>
            <p:ph/>
          </p:nvPr>
        </p:nvSpPr>
        <p:spPr>
          <a:xfrm>
            <a:off x="333432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16" name="PlaceHolder 7"/>
          <p:cNvSpPr>
            <a:spLocks noGrp="1"/>
          </p:cNvSpPr>
          <p:nvPr>
            <p:ph/>
          </p:nvPr>
        </p:nvSpPr>
        <p:spPr>
          <a:xfrm>
            <a:off x="593208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259B3-68F9-417B-ACD5-146CB86A396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42192-6472-4DE6-A2CB-E996B9220ED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3432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3208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73620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3432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3208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F8C23-B1E6-4445-BB5A-FED53C1B37C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736200" y="177840"/>
            <a:ext cx="76834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3432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3208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73620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3432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3208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736200" y="177840"/>
            <a:ext cx="76834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33432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93208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73620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33432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93208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736200" y="177840"/>
            <a:ext cx="76834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36200" y="177840"/>
            <a:ext cx="76834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33432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93208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73620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33432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593208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AC4DA-3776-479B-91B4-70060054FEC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9D6EF-BC15-4E86-9E39-F281E56C850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5C2B5-AB42-4CE8-B5A9-0F7E979D896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72DA5-1458-4740-9D43-7E55D965EC1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90D59-D818-4AB2-B75D-D6AEAB04B34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736200" y="177840"/>
            <a:ext cx="76834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48273-7A41-4CE0-9C48-0E688D99772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E0860-8E16-439F-BE5D-6234F103632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B2578-5E83-4C19-BCE1-A19A2BBE645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1A771-C9E3-4D41-A18F-F13269288B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5FDC4-8945-4312-BD3A-54CFB577D28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97F84-165F-4EBC-B1A1-DF86661E83A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33432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93208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73620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33432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593208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A6EC1-8E47-430F-B75C-FDF51521CB9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D79D-1AA2-44DA-94C4-3DD8BA0FA6B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4BFF-49D6-4DD5-8756-B9CE1C0D536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C4F0-322F-4F0A-B750-FEEC8FC8F9A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38D7-3D18-4445-885C-FFF4FF60CA4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0C2F-5FAC-4519-96BA-AD6E5A972C6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736200" y="177840"/>
            <a:ext cx="76834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D72D-5D2E-470F-ABC5-5C8E35FFA80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3975-33E3-4505-838E-D2AD269965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25AD-B7CE-4248-9CA9-452F1BA98AA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932F-1236-4435-9F97-1D18ADC3B3F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2C30-E162-48AD-9663-E9D8BE867BF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AB95-EC75-4BBD-B3FF-8B3B68C0F57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33432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93208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73620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33432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593208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9ED8-F808-40F3-A7BA-C8D8236A293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736200" y="177840"/>
            <a:ext cx="76834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33432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93208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73620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33432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93208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03320" y="3683160"/>
            <a:ext cx="7416720" cy="185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52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03320" y="5524560"/>
            <a:ext cx="741672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0000"/>
          </a:bodyPr>
          <a:p>
            <a:pPr marL="102600" indent="-102600">
              <a:buClr>
                <a:srgbClr val="5483a6"/>
              </a:buClr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32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 marL="222840" indent="-85680">
              <a:buClr>
                <a:srgbClr val="5483a6"/>
              </a:buClr>
              <a:buFont typeface="Helvetica Neue Bol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32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 marL="342720" indent="-68400">
              <a:buClr>
                <a:srgbClr val="5483a6"/>
              </a:buClr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32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 marL="479880" indent="-68400">
              <a:buClr>
                <a:srgbClr val="5483a6"/>
              </a:buClr>
              <a:buFont typeface="Helvetica Neue Bol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32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 marL="617040" indent="-68400">
              <a:buClr>
                <a:srgbClr val="5483a6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32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 marL="617040" indent="-68400">
              <a:buClr>
                <a:srgbClr val="4a7594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32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 marL="617040" indent="-68400">
              <a:buClr>
                <a:srgbClr val="4a7594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3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0000"/>
          </a:bodyPr>
          <a:p>
            <a:pPr marL="388440" indent="-388440">
              <a:spcBef>
                <a:spcPts val="2299"/>
              </a:spcBef>
              <a:buClr>
                <a:srgbClr val="646461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1" marL="742680" indent="-38844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2" marL="1143000" indent="-38880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3" marL="1542960" indent="-38880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4" marL="1942920" indent="-38844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5" marL="1942920" indent="-388440">
              <a:spcBef>
                <a:spcPts val="2299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6" marL="1942920" indent="-388440">
              <a:spcBef>
                <a:spcPts val="2299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sldNum" idx="4"/>
          </p:nvPr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4A7E5-7BCC-4C2F-8384-2A808D27D9B7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357" name="Rectangle 5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358" name="Rectangle 6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03320" y="2514240"/>
            <a:ext cx="741672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52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34" name="Line 2"/>
          <p:cNvSpPr/>
          <p:nvPr/>
        </p:nvSpPr>
        <p:spPr>
          <a:xfrm>
            <a:off x="195120" y="5880240"/>
            <a:ext cx="875988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body"/>
          </p:nvPr>
        </p:nvSpPr>
        <p:spPr>
          <a:xfrm>
            <a:off x="254160" y="6337440"/>
            <a:ext cx="7619760" cy="3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marL="41040" indent="-41040">
              <a:buClr>
                <a:srgbClr val="5483a6"/>
              </a:buClr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 marL="88920" indent="-34200">
              <a:buClr>
                <a:srgbClr val="5483a6"/>
              </a:buClr>
              <a:buFont typeface="Helvetica Neue Bol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 marL="137160" indent="-27360">
              <a:buClr>
                <a:srgbClr val="5483a6"/>
              </a:buClr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 marL="191880" indent="-27360">
              <a:buClr>
                <a:srgbClr val="5483a6"/>
              </a:buClr>
              <a:buFont typeface="Helvetica Neue Bol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 marL="246600" indent="-27360">
              <a:buClr>
                <a:srgbClr val="5483a6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 marL="246600" indent="-27360">
              <a:buClr>
                <a:srgbClr val="4a7594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 marL="246600" indent="-27360">
              <a:buClr>
                <a:srgbClr val="4a7594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title"/>
          </p:nvPr>
        </p:nvSpPr>
        <p:spPr>
          <a:xfrm>
            <a:off x="254160" y="5879880"/>
            <a:ext cx="7619760" cy="46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2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74" name="Line 2"/>
          <p:cNvSpPr/>
          <p:nvPr/>
        </p:nvSpPr>
        <p:spPr>
          <a:xfrm>
            <a:off x="195120" y="5880240"/>
            <a:ext cx="875988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body"/>
          </p:nvPr>
        </p:nvSpPr>
        <p:spPr>
          <a:xfrm>
            <a:off x="254160" y="6337440"/>
            <a:ext cx="7619760" cy="3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marL="41040" indent="-41040">
              <a:buClr>
                <a:srgbClr val="5483a6"/>
              </a:buClr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 marL="88920" indent="-34200">
              <a:buClr>
                <a:srgbClr val="5483a6"/>
              </a:buClr>
              <a:buFont typeface="Helvetica Neue Bol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 marL="137160" indent="-27360">
              <a:buClr>
                <a:srgbClr val="5483a6"/>
              </a:buClr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 marL="191880" indent="-27360">
              <a:buClr>
                <a:srgbClr val="5483a6"/>
              </a:buClr>
              <a:buFont typeface="Helvetica Neue Bol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 marL="246600" indent="-27360">
              <a:buClr>
                <a:srgbClr val="5483a6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 marL="246600" indent="-27360">
              <a:buClr>
                <a:srgbClr val="4a7594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 marL="246600" indent="-27360">
              <a:buClr>
                <a:srgbClr val="4a7594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title"/>
          </p:nvPr>
        </p:nvSpPr>
        <p:spPr>
          <a:xfrm>
            <a:off x="254160" y="5879880"/>
            <a:ext cx="7619760" cy="46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2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14" name="Line 2"/>
          <p:cNvSpPr/>
          <p:nvPr/>
        </p:nvSpPr>
        <p:spPr>
          <a:xfrm>
            <a:off x="195120" y="5880240"/>
            <a:ext cx="875988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body"/>
          </p:nvPr>
        </p:nvSpPr>
        <p:spPr>
          <a:xfrm>
            <a:off x="254160" y="6337440"/>
            <a:ext cx="7619760" cy="3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marL="41040" indent="-41040">
              <a:buClr>
                <a:srgbClr val="5483a6"/>
              </a:buClr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 marL="88920" indent="-34200">
              <a:buClr>
                <a:srgbClr val="4a7594"/>
              </a:buClr>
              <a:buFont typeface="Helvetica Neue Bol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 marL="137160" indent="-27360">
              <a:buClr>
                <a:srgbClr val="4a7594"/>
              </a:buClr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 marL="191880" indent="-27360">
              <a:buClr>
                <a:srgbClr val="4a7594"/>
              </a:buClr>
              <a:buFont typeface="Helvetica Neue Bol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 marL="246600" indent="-27360">
              <a:buClr>
                <a:srgbClr val="4a7594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 marL="246600" indent="-27360">
              <a:buClr>
                <a:srgbClr val="4a7594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 marL="246600" indent="-27360">
              <a:buClr>
                <a:srgbClr val="4a7594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254160" y="5879880"/>
            <a:ext cx="7619760" cy="46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2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54" name="Line 2"/>
          <p:cNvSpPr/>
          <p:nvPr/>
        </p:nvSpPr>
        <p:spPr>
          <a:xfrm>
            <a:off x="195120" y="5880240"/>
            <a:ext cx="875988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body"/>
          </p:nvPr>
        </p:nvSpPr>
        <p:spPr>
          <a:xfrm>
            <a:off x="254160" y="6337440"/>
            <a:ext cx="7619760" cy="3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marL="41040" indent="-41040">
              <a:buClr>
                <a:srgbClr val="5483a6"/>
              </a:buClr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 marL="88920" indent="-34200">
              <a:buClr>
                <a:srgbClr val="5483a6"/>
              </a:buClr>
              <a:buFont typeface="Helvetica Neue Bol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 marL="137160" indent="-27360">
              <a:buClr>
                <a:srgbClr val="5483a6"/>
              </a:buClr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 marL="191880" indent="-27360">
              <a:buClr>
                <a:srgbClr val="5483a6"/>
              </a:buClr>
              <a:buFont typeface="Helvetica Neue Bol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 marL="246600" indent="-27360">
              <a:buClr>
                <a:srgbClr val="5483a6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 marL="246600" indent="-27360">
              <a:buClr>
                <a:srgbClr val="4a7594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 marL="246600" indent="-27360">
              <a:buClr>
                <a:srgbClr val="4a7594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254160" y="5879880"/>
            <a:ext cx="7619760" cy="46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2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body"/>
          </p:nvPr>
        </p:nvSpPr>
        <p:spPr>
          <a:xfrm>
            <a:off x="1002960" y="5702400"/>
            <a:ext cx="7620120" cy="52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marL="41040" indent="-41040">
              <a:buClr>
                <a:srgbClr val="d5d4d6"/>
              </a:buClr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d4d6"/>
                </a:solidFill>
                <a:latin typeface="Helvetica Neue Bold Condensed"/>
              </a:rPr>
              <a:t>Click to edit the outline text format</a:t>
            </a:r>
            <a:endParaRPr b="0" lang="en-US" sz="32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1" marL="88920" indent="-34200">
              <a:buClr>
                <a:srgbClr val="d5d4d6"/>
              </a:buClr>
              <a:buFont typeface="Helvetica Neue Bol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d4d6"/>
                </a:solidFill>
                <a:latin typeface="Helvetica Neue Bold Condensed"/>
              </a:rPr>
              <a:t>Second Outline Level</a:t>
            </a:r>
            <a:endParaRPr b="0" lang="en-US" sz="32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2" marL="137160" indent="-27360">
              <a:buClr>
                <a:srgbClr val="d5d4d6"/>
              </a:buClr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d4d6"/>
                </a:solidFill>
                <a:latin typeface="Helvetica Neue Bold Condensed"/>
              </a:rPr>
              <a:t>Third Outline Level</a:t>
            </a:r>
            <a:endParaRPr b="0" lang="en-US" sz="32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3" marL="191880" indent="-27360">
              <a:buClr>
                <a:srgbClr val="d5d4d6"/>
              </a:buClr>
              <a:buFont typeface="Helvetica Neue Bol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d4d6"/>
                </a:solidFill>
                <a:latin typeface="Helvetica Neue Bold Condensed"/>
              </a:rPr>
              <a:t>Fourth Outline Level</a:t>
            </a:r>
            <a:endParaRPr b="0" lang="en-US" sz="32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4" marL="246600" indent="-27360">
              <a:buClr>
                <a:srgbClr val="d5d4d6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d4d6"/>
                </a:solidFill>
                <a:latin typeface="Helvetica Neue Bold Condensed"/>
              </a:rPr>
              <a:t>Fifth Outline Level</a:t>
            </a:r>
            <a:endParaRPr b="0" lang="en-US" sz="32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5" marL="246600" indent="-27360">
              <a:buClr>
                <a:srgbClr val="4a7594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d4d6"/>
                </a:solidFill>
                <a:latin typeface="Helvetica Neue Bold Condensed"/>
              </a:rPr>
              <a:t>Sixth Outline Level</a:t>
            </a:r>
            <a:endParaRPr b="0" lang="en-US" sz="32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6" marL="246600" indent="-27360">
              <a:buClr>
                <a:srgbClr val="4a7594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d4d6"/>
                </a:solidFill>
                <a:latin typeface="Helvetica Neue Bold Condensed"/>
              </a:rPr>
              <a:t>Seventh Outline Level</a:t>
            </a:r>
            <a:endParaRPr b="0" lang="en-US" sz="32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594" name="Rectangle 2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95" name="Line 3"/>
          <p:cNvSpPr/>
          <p:nvPr/>
        </p:nvSpPr>
        <p:spPr>
          <a:xfrm>
            <a:off x="195120" y="6273720"/>
            <a:ext cx="875988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96" name="Line 4"/>
          <p:cNvSpPr/>
          <p:nvPr/>
        </p:nvSpPr>
        <p:spPr>
          <a:xfrm>
            <a:off x="3695760" y="6261120"/>
            <a:ext cx="0" cy="41904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97" name="Line 5"/>
          <p:cNvSpPr/>
          <p:nvPr/>
        </p:nvSpPr>
        <p:spPr>
          <a:xfrm>
            <a:off x="195120" y="5054760"/>
            <a:ext cx="875988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title"/>
          </p:nvPr>
        </p:nvSpPr>
        <p:spPr>
          <a:xfrm>
            <a:off x="1002960" y="4990680"/>
            <a:ext cx="7620120" cy="723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52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body"/>
          </p:nvPr>
        </p:nvSpPr>
        <p:spPr>
          <a:xfrm>
            <a:off x="1002960" y="5702400"/>
            <a:ext cx="7620120" cy="52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marL="41040" indent="-41040">
              <a:buClr>
                <a:srgbClr val="d5d4d6"/>
              </a:buClr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d4d6"/>
                </a:solidFill>
                <a:latin typeface="Helvetica Neue Bold Condensed"/>
              </a:rPr>
              <a:t>Click to edit the outline text format</a:t>
            </a:r>
            <a:endParaRPr b="0" lang="en-US" sz="32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1" marL="88920" indent="-34200">
              <a:buClr>
                <a:srgbClr val="d5d4d6"/>
              </a:buClr>
              <a:buFont typeface="Helvetica Neue Bol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d4d6"/>
                </a:solidFill>
                <a:latin typeface="Helvetica Neue Bold Condensed"/>
              </a:rPr>
              <a:t>Second Outline Level</a:t>
            </a:r>
            <a:endParaRPr b="0" lang="en-US" sz="32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2" marL="137160" indent="-27360">
              <a:buClr>
                <a:srgbClr val="d5d4d6"/>
              </a:buClr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d4d6"/>
                </a:solidFill>
                <a:latin typeface="Helvetica Neue Bold Condensed"/>
              </a:rPr>
              <a:t>Third Outline Level</a:t>
            </a:r>
            <a:endParaRPr b="0" lang="en-US" sz="32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3" marL="191880" indent="-27360">
              <a:buClr>
                <a:srgbClr val="d5d4d6"/>
              </a:buClr>
              <a:buFont typeface="Helvetica Neue Bol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d4d6"/>
                </a:solidFill>
                <a:latin typeface="Helvetica Neue Bold Condensed"/>
              </a:rPr>
              <a:t>Fourth Outline Level</a:t>
            </a:r>
            <a:endParaRPr b="0" lang="en-US" sz="32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4" marL="246600" indent="-27360">
              <a:buClr>
                <a:srgbClr val="d5d4d6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d4d6"/>
                </a:solidFill>
                <a:latin typeface="Helvetica Neue Bold Condensed"/>
              </a:rPr>
              <a:t>Fifth Outline Level</a:t>
            </a:r>
            <a:endParaRPr b="0" lang="en-US" sz="32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5" marL="246600" indent="-27360">
              <a:buClr>
                <a:srgbClr val="4a7594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d4d6"/>
                </a:solidFill>
                <a:latin typeface="Helvetica Neue Bold Condensed"/>
              </a:rPr>
              <a:t>Sixth Outline Level</a:t>
            </a:r>
            <a:endParaRPr b="0" lang="en-US" sz="32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6" marL="246600" indent="-27360">
              <a:buClr>
                <a:srgbClr val="4a7594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d4d6"/>
                </a:solidFill>
                <a:latin typeface="Helvetica Neue Bold Condensed"/>
              </a:rPr>
              <a:t>Seventh Outline Level</a:t>
            </a:r>
            <a:endParaRPr b="0" lang="en-US" sz="32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36" name="Rectangle 2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37" name="Line 3"/>
          <p:cNvSpPr/>
          <p:nvPr/>
        </p:nvSpPr>
        <p:spPr>
          <a:xfrm>
            <a:off x="195120" y="6273720"/>
            <a:ext cx="875988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38" name="Line 4"/>
          <p:cNvSpPr/>
          <p:nvPr/>
        </p:nvSpPr>
        <p:spPr>
          <a:xfrm>
            <a:off x="3695760" y="6261120"/>
            <a:ext cx="0" cy="41904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39" name="Line 5"/>
          <p:cNvSpPr/>
          <p:nvPr/>
        </p:nvSpPr>
        <p:spPr>
          <a:xfrm>
            <a:off x="195120" y="5054760"/>
            <a:ext cx="875988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title"/>
          </p:nvPr>
        </p:nvSpPr>
        <p:spPr>
          <a:xfrm>
            <a:off x="1002960" y="4990680"/>
            <a:ext cx="7620120" cy="723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52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78" name="Line 2"/>
          <p:cNvSpPr/>
          <p:nvPr/>
        </p:nvSpPr>
        <p:spPr>
          <a:xfrm>
            <a:off x="195120" y="5880240"/>
            <a:ext cx="875988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body"/>
          </p:nvPr>
        </p:nvSpPr>
        <p:spPr>
          <a:xfrm>
            <a:off x="254160" y="6337440"/>
            <a:ext cx="7619760" cy="3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marL="41040" indent="-41040">
              <a:buClr>
                <a:srgbClr val="5483a6"/>
              </a:buClr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 marL="88920" indent="-34200">
              <a:buClr>
                <a:srgbClr val="5483a6"/>
              </a:buClr>
              <a:buFont typeface="Helvetica Neue Bol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 marL="137160" indent="-27360">
              <a:buClr>
                <a:srgbClr val="5483a6"/>
              </a:buClr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 marL="191880" indent="-27360">
              <a:buClr>
                <a:srgbClr val="5483a6"/>
              </a:buClr>
              <a:buFont typeface="Helvetica Neue Bol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 marL="246600" indent="-27360">
              <a:buClr>
                <a:srgbClr val="5483a6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 marL="246600" indent="-27360">
              <a:buClr>
                <a:srgbClr val="4a7594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 marL="246600" indent="-27360">
              <a:buClr>
                <a:srgbClr val="4a7594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title"/>
          </p:nvPr>
        </p:nvSpPr>
        <p:spPr>
          <a:xfrm>
            <a:off x="254160" y="5879880"/>
            <a:ext cx="7619760" cy="46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2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0000"/>
          </a:bodyPr>
          <a:p>
            <a:pPr marL="388440" indent="-388440">
              <a:spcBef>
                <a:spcPts val="2299"/>
              </a:spcBef>
              <a:buClr>
                <a:srgbClr val="646461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1" marL="742680" indent="-38844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2" marL="1143000" indent="-38880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3" marL="1542960" indent="-38880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4" marL="1942920" indent="-38844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5" marL="1942920" indent="-388440">
              <a:spcBef>
                <a:spcPts val="2299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6" marL="1942920" indent="-388440">
              <a:spcBef>
                <a:spcPts val="2299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1"/>
          </p:nvPr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2F1F2-43BA-40F3-8DEF-C6B92837596B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36200" y="1942920"/>
            <a:ext cx="374652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5000"/>
          </a:bodyPr>
          <a:p>
            <a:pPr marL="323640" indent="-32364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1" marL="618840" indent="-32364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2" marL="952560" indent="-32400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3" marL="1285920" indent="-32400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4" marL="1618920" indent="-32364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5" marL="1618920" indent="-323640">
              <a:spcBef>
                <a:spcPts val="2299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6" marL="1618920" indent="-323640">
              <a:spcBef>
                <a:spcPts val="2299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36200" y="1422000"/>
            <a:ext cx="3746520" cy="2019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5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36200" y="3429000"/>
            <a:ext cx="3746520" cy="20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6000"/>
          </a:bodyPr>
          <a:p>
            <a:pPr marL="226080" indent="-226080">
              <a:lnSpc>
                <a:spcPct val="110000"/>
              </a:lnSpc>
              <a:buClr>
                <a:srgbClr val="5483a6"/>
              </a:buClr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 marL="490320" indent="-188640">
              <a:lnSpc>
                <a:spcPct val="110000"/>
              </a:lnSpc>
              <a:buClr>
                <a:srgbClr val="5483a6"/>
              </a:buClr>
              <a:buFont typeface="Helvetica Neue Bol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 marL="754200" indent="-150840">
              <a:lnSpc>
                <a:spcPct val="110000"/>
              </a:lnSpc>
              <a:buClr>
                <a:srgbClr val="5483a6"/>
              </a:buClr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 marL="1055880" indent="-150840">
              <a:lnSpc>
                <a:spcPct val="110000"/>
              </a:lnSpc>
              <a:buClr>
                <a:srgbClr val="5483a6"/>
              </a:buClr>
              <a:buFont typeface="Helvetica Neue Bol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 marL="1357560" indent="-150840">
              <a:lnSpc>
                <a:spcPct val="110000"/>
              </a:lnSpc>
              <a:buClr>
                <a:srgbClr val="5483a6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 marL="1357560" indent="-150840">
              <a:lnSpc>
                <a:spcPct val="110000"/>
              </a:lnSpc>
              <a:buClr>
                <a:srgbClr val="4a7594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 marL="1357560" indent="-150840">
              <a:lnSpc>
                <a:spcPct val="110000"/>
              </a:lnSpc>
              <a:buClr>
                <a:srgbClr val="4a7594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660560" y="1942920"/>
            <a:ext cx="374652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5000"/>
          </a:bodyPr>
          <a:p>
            <a:pPr marL="323640" indent="-32364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1" marL="618840" indent="-32364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2" marL="952560" indent="-32400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3" marL="1285920" indent="-32400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4" marL="1618920" indent="-32364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5" marL="1618920" indent="-323640">
              <a:spcBef>
                <a:spcPts val="2299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6" marL="1618920" indent="-323640">
              <a:spcBef>
                <a:spcPts val="2299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736200" y="1041480"/>
            <a:ext cx="7683480" cy="4788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1000"/>
          </a:bodyPr>
          <a:p>
            <a:pPr marL="392760" indent="-392760">
              <a:spcBef>
                <a:spcPts val="3399"/>
              </a:spcBef>
              <a:buClr>
                <a:srgbClr val="646461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1" marL="750960" indent="-392760">
              <a:spcBef>
                <a:spcPts val="33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2" marL="1155600" indent="-393120">
              <a:spcBef>
                <a:spcPts val="3399"/>
              </a:spcBef>
              <a:buClr>
                <a:srgbClr val="646461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3" marL="1560240" indent="-393120">
              <a:spcBef>
                <a:spcPts val="3399"/>
              </a:spcBef>
              <a:buClr>
                <a:srgbClr val="646461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4" marL="1964520" indent="-392760">
              <a:spcBef>
                <a:spcPts val="3399"/>
              </a:spcBef>
              <a:buClr>
                <a:srgbClr val="646461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5" marL="1964520" indent="-392760">
              <a:spcBef>
                <a:spcPts val="3399"/>
              </a:spcBef>
              <a:buClr>
                <a:srgbClr val="4a7594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6" marL="1964520" indent="-392760">
              <a:spcBef>
                <a:spcPts val="3399"/>
              </a:spcBef>
              <a:buClr>
                <a:srgbClr val="4a7594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ldNum" idx="2"/>
          </p:nvPr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001F4-36C1-4F62-A768-243EF11BF570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Num" idx="3"/>
          </p:nvPr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75054-0D45-48AF-8CDD-49DC6942409C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736200" y="1942920"/>
            <a:ext cx="374652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5000"/>
          </a:bodyPr>
          <a:p>
            <a:pPr marL="323640" indent="-32364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1" marL="618840" indent="-32364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2" marL="952560" indent="-32400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3" marL="1285920" indent="-32400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4" marL="1618920" indent="-32364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5" marL="1618920" indent="-323640">
              <a:spcBef>
                <a:spcPts val="2299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6" marL="1618920" indent="-323640">
              <a:spcBef>
                <a:spcPts val="2299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36200" y="2577600"/>
            <a:ext cx="7683480" cy="1714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498680" y="3568320"/>
            <a:ext cx="74167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d5d4d6"/>
                </a:solidFill>
                <a:latin typeface="Helvetica Neue Bold Condensed"/>
              </a:rPr>
              <a:t>Rediseño de Procesos</a:t>
            </a:r>
            <a:endParaRPr b="0" lang="en-US" sz="52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689120" y="5257800"/>
            <a:ext cx="4216320" cy="123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83a6"/>
                </a:solidFill>
                <a:latin typeface="Helvetica Neue Bold Condensed"/>
              </a:rPr>
              <a:t>Sistemas de Información Administrativos</a:t>
            </a:r>
            <a:endParaRPr b="0" lang="en-US" sz="1800" spc="-1" strike="noStrike">
              <a:solidFill>
                <a:srgbClr val="5483a6"/>
              </a:solidFill>
              <a:latin typeface="Helvetica Neue Bold Condensed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Departamento de Ingeniería Industria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Universidad de Chile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83a6"/>
                </a:solidFill>
                <a:latin typeface="Helvetica Neue Bold Condensed"/>
              </a:rPr>
              <a:t>Derechos Reservados (c)</a:t>
            </a:r>
            <a:endParaRPr b="0" lang="en-US" sz="1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16E8D-2686-49B0-A1FA-9B5EC3C0CD60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96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97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98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Nivel operativo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spcBef>
                <a:spcPts val="2299"/>
              </a:spcBef>
              <a:buSzPct val="1749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SI que hacen al seguimiento de las actividades y las transacciones elementales de la organización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spcBef>
                <a:spcPts val="22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¿Que cantidad del producto SKU 12-45-89 hay en la bodega 6?</a:t>
            </a:r>
            <a:endParaRPr b="0" lang="en-US" sz="30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¿Que ocurrió con el pago de...?</a:t>
            </a:r>
            <a:endParaRPr b="0" lang="en-US" sz="30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A3F75-B33D-4ECC-9BFF-53686813C70D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02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03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04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Nivel de manejo de información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26440" cy="5105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SI en los que se apoyan a los trabajadores con el conocimiento y de la información de la institución.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  <a:p>
            <a:pPr lvl="1" marL="782640" indent="-285840">
              <a:spcBef>
                <a:spcPts val="2299"/>
              </a:spcBef>
              <a:buClr>
                <a:srgbClr val="cc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¿Que tal si agregamos el producto.....?</a:t>
            </a:r>
            <a:endParaRPr b="0" lang="en-US" sz="3000" spc="-1" strike="noStrike">
              <a:solidFill>
                <a:srgbClr val="646461"/>
              </a:solidFill>
              <a:latin typeface="Helvetica Neue"/>
            </a:endParaRPr>
          </a:p>
          <a:p>
            <a:pPr lvl="1" marL="782640" indent="-285840">
              <a:spcBef>
                <a:spcPts val="2299"/>
              </a:spcBef>
              <a:buClr>
                <a:srgbClr val="cc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¿Que tal si modificamos la presentación del producto....?</a:t>
            </a:r>
            <a:endParaRPr b="0" lang="en-US" sz="30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6DE17-BC77-4876-B3D1-67C8FEE08F3A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08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09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10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/>
          </p:nvPr>
        </p:nvSpPr>
        <p:spPr>
          <a:xfrm>
            <a:off x="437760" y="1663560"/>
            <a:ext cx="8255160" cy="457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spcBef>
                <a:spcPts val="2299"/>
              </a:spcBef>
              <a:buSzPct val="17473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I en los que se apoya el seguimiento, control, toma de decisiones y actividades de la organización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spcBef>
                <a:spcPts val="22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1"/>
                </a:solidFill>
                <a:latin typeface="Helvetica Neue"/>
              </a:rPr>
              <a:t>¿Todo marcha bien?</a:t>
            </a:r>
            <a:endParaRPr b="0" lang="en-US" sz="20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1"/>
                </a:solidFill>
                <a:latin typeface="Helvetica Neue"/>
              </a:rPr>
              <a:t>¿Cómo estamos con respecto al mes-bimestre-semestre-año... Anterior?</a:t>
            </a:r>
            <a:endParaRPr b="0" lang="en-US" sz="20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spcBef>
                <a:spcPts val="22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1"/>
                </a:solidFill>
                <a:latin typeface="Helvetica Neue"/>
              </a:rPr>
              <a:t>¿Qué pasa si...?</a:t>
            </a:r>
            <a:endParaRPr b="0" lang="en-US" sz="20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spcBef>
                <a:spcPts val="22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1"/>
                </a:solidFill>
                <a:latin typeface="Helvetica Neue"/>
              </a:rPr>
              <a:t>¿Cuál seria el impacto sobre el Dpto. de producción si se duplican las ventas?</a:t>
            </a:r>
            <a:endParaRPr b="0" lang="en-US" sz="20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spcBef>
                <a:spcPts val="22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1"/>
                </a:solidFill>
                <a:latin typeface="Helvetica Neue"/>
              </a:rPr>
              <a:t>Es necesario crear una nueva area de...?</a:t>
            </a:r>
            <a:endParaRPr b="0" lang="en-US" sz="20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Nivel de gestión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6A211-4BBC-4B95-8A07-1A1224D4D5B4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14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15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16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spcBef>
                <a:spcPts val="2299"/>
              </a:spcBef>
              <a:buSzPct val="17473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I que apoya a las actividades de plantación a largo plazo de los niveles de dirección de la institución.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spcBef>
                <a:spcPts val="22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1"/>
                </a:solidFill>
                <a:latin typeface="Helvetica Neue"/>
              </a:rPr>
              <a:t>¿Cuáles serian los niveles de empleo en 5 años?</a:t>
            </a:r>
            <a:endParaRPr b="0" lang="en-US" sz="20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1"/>
                </a:solidFill>
                <a:latin typeface="Helvetica Neue"/>
              </a:rPr>
              <a:t>¿Cuáles serán las tendencias de costo en un plazo de 5 años?</a:t>
            </a:r>
            <a:endParaRPr b="0" lang="en-US" sz="20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spcBef>
                <a:spcPts val="22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1"/>
                </a:solidFill>
                <a:latin typeface="Helvetica Neue"/>
              </a:rPr>
              <a:t>¿Qué producto estaremos fabricando en 5 años?</a:t>
            </a:r>
            <a:endParaRPr b="0" lang="en-US" sz="20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Nivel estratégico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EADB-A4AD-4B3F-AA08-2B38A73D6570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20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21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22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01240" y="76320"/>
            <a:ext cx="8877240" cy="1930320"/>
          </a:xfrm>
          <a:prstGeom prst="rect">
            <a:avLst/>
          </a:prstGeom>
          <a:noFill/>
          <a:ln w="0">
            <a:noFill/>
          </a:ln>
        </p:spPr>
        <p:txBody>
          <a:bodyPr lIns="50760" rIns="41400" tIns="50760" bIns="50760" anchor="ctr">
            <a:noAutofit/>
          </a:bodyPr>
          <a:p>
            <a:pPr marL="41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a7594"/>
                </a:solidFill>
                <a:latin typeface="Helvetica Neue Light"/>
              </a:rPr>
              <a:t>Funciones Básicas de Administración en la Organización</a:t>
            </a:r>
            <a:endParaRPr b="0" lang="en-US" sz="46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09120" y="2273040"/>
            <a:ext cx="8077320" cy="3352680"/>
          </a:xfrm>
          <a:prstGeom prst="rect">
            <a:avLst/>
          </a:prstGeom>
          <a:noFill/>
          <a:ln w="0">
            <a:noFill/>
          </a:ln>
        </p:spPr>
        <p:txBody>
          <a:bodyPr lIns="50760" rIns="41400" tIns="50760" bIns="50760" anchor="ctr">
            <a:normAutofit/>
          </a:bodyPr>
          <a:p>
            <a:pPr marL="384120" indent="-34272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1"/>
                </a:solidFill>
                <a:latin typeface="Helvetica Neue"/>
              </a:rPr>
              <a:t>Planificación:</a:t>
            </a: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 es el establecimiento de objetivos funcionales y subfuncionales de la organización, con su correspondiente seguimiento, y determinación de cursos de acción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1" marL="784080" indent="-285480">
              <a:spcBef>
                <a:spcPts val="2299"/>
              </a:spcBef>
              <a:buClr>
                <a:srgbClr val="cc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1"/>
                </a:solidFill>
                <a:latin typeface="Helvetica Neue"/>
              </a:rPr>
              <a:t>Niveles de Planificación</a:t>
            </a:r>
            <a:endParaRPr b="0" lang="en-US" sz="2000" spc="-1" strike="noStrike">
              <a:solidFill>
                <a:srgbClr val="646461"/>
              </a:solidFill>
              <a:latin typeface="Helvetica Neue"/>
            </a:endParaRPr>
          </a:p>
          <a:p>
            <a:pPr lvl="1" marL="784080" indent="-285480">
              <a:spcBef>
                <a:spcPts val="2299"/>
              </a:spcBef>
              <a:buClr>
                <a:srgbClr val="cc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1"/>
                </a:solidFill>
                <a:latin typeface="Helvetica Neue"/>
              </a:rPr>
              <a:t>Iteración de Procesos de Planificación </a:t>
            </a:r>
            <a:endParaRPr b="0" lang="en-US" sz="20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transition>
    <p:fade thruBlk="true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8E6FD-59F4-492D-80DA-01372C511F22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26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27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28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766800" y="205920"/>
            <a:ext cx="781056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41400" tIns="50760" bIns="50760" anchor="ctr">
            <a:noAutofit/>
          </a:bodyPr>
          <a:p>
            <a:pPr marL="41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a7594"/>
                </a:solidFill>
                <a:latin typeface="Helvetica Neue Light"/>
              </a:rPr>
              <a:t>Funciones Básicas II</a:t>
            </a:r>
            <a:endParaRPr b="0" lang="en-US" sz="4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30040" y="3733560"/>
            <a:ext cx="8661600" cy="2616120"/>
          </a:xfrm>
          <a:prstGeom prst="rect">
            <a:avLst/>
          </a:prstGeom>
          <a:noFill/>
          <a:ln w="0">
            <a:noFill/>
          </a:ln>
        </p:spPr>
        <p:txBody>
          <a:bodyPr lIns="50760" rIns="41400" tIns="50760" bIns="50760" anchor="ctr">
            <a:normAutofit/>
          </a:bodyPr>
          <a:p>
            <a:pPr marL="384120" indent="-34272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1"/>
                </a:solidFill>
                <a:latin typeface="Helvetica Neue"/>
              </a:rPr>
              <a:t>Estructura:</a:t>
            </a: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 esquema formal de relaciones entre las componentes de una organización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marL="384120" indent="-342720">
              <a:spcBef>
                <a:spcPts val="2299"/>
              </a:spcBef>
              <a:buClr>
                <a:srgbClr val="646461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46461"/>
                </a:solidFill>
                <a:latin typeface="Helvetica Neue"/>
              </a:rPr>
              <a:t>                 </a:t>
            </a:r>
            <a:r>
              <a:rPr b="0" lang="en-US" sz="1700" spc="-1" strike="noStrike">
                <a:solidFill>
                  <a:srgbClr val="646461"/>
                </a:solidFill>
                <a:latin typeface="Helvetica Neue"/>
              </a:rPr>
              <a:t>Descomposición Funcional o de Proceso de la Organización</a:t>
            </a:r>
            <a:endParaRPr b="0" lang="en-US" sz="17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831" name="Oval 6"/>
          <p:cNvSpPr/>
          <p:nvPr/>
        </p:nvSpPr>
        <p:spPr>
          <a:xfrm>
            <a:off x="4299120" y="1231920"/>
            <a:ext cx="368280" cy="368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32" name="Oval 7"/>
          <p:cNvSpPr/>
          <p:nvPr/>
        </p:nvSpPr>
        <p:spPr>
          <a:xfrm>
            <a:off x="2470320" y="2146320"/>
            <a:ext cx="368280" cy="291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33" name="Oval 8"/>
          <p:cNvSpPr/>
          <p:nvPr/>
        </p:nvSpPr>
        <p:spPr>
          <a:xfrm>
            <a:off x="4222800" y="2146320"/>
            <a:ext cx="444600" cy="291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34" name="Oval 9"/>
          <p:cNvSpPr/>
          <p:nvPr/>
        </p:nvSpPr>
        <p:spPr>
          <a:xfrm>
            <a:off x="5823000" y="2146320"/>
            <a:ext cx="444600" cy="291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35" name="Oval 10"/>
          <p:cNvSpPr/>
          <p:nvPr/>
        </p:nvSpPr>
        <p:spPr>
          <a:xfrm>
            <a:off x="1555920" y="3060720"/>
            <a:ext cx="368280" cy="368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36" name="Oval 11"/>
          <p:cNvSpPr/>
          <p:nvPr/>
        </p:nvSpPr>
        <p:spPr>
          <a:xfrm>
            <a:off x="3003480" y="3060720"/>
            <a:ext cx="368280" cy="368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37" name="Oval 12"/>
          <p:cNvSpPr/>
          <p:nvPr/>
        </p:nvSpPr>
        <p:spPr>
          <a:xfrm>
            <a:off x="5289480" y="3060720"/>
            <a:ext cx="368280" cy="368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38" name="Oval 13"/>
          <p:cNvSpPr/>
          <p:nvPr/>
        </p:nvSpPr>
        <p:spPr>
          <a:xfrm>
            <a:off x="6280200" y="3060720"/>
            <a:ext cx="368280" cy="368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39" name="Line 14"/>
          <p:cNvSpPr/>
          <p:nvPr/>
        </p:nvSpPr>
        <p:spPr>
          <a:xfrm flipH="1">
            <a:off x="2768400" y="1530360"/>
            <a:ext cx="152388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40" name="Line 15"/>
          <p:cNvSpPr/>
          <p:nvPr/>
        </p:nvSpPr>
        <p:spPr>
          <a:xfrm>
            <a:off x="4673520" y="1530360"/>
            <a:ext cx="12193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41" name="Line 16"/>
          <p:cNvSpPr/>
          <p:nvPr/>
        </p:nvSpPr>
        <p:spPr>
          <a:xfrm flipH="1">
            <a:off x="1854360" y="2444760"/>
            <a:ext cx="76176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42" name="Line 17"/>
          <p:cNvSpPr/>
          <p:nvPr/>
        </p:nvSpPr>
        <p:spPr>
          <a:xfrm>
            <a:off x="2616120" y="2444760"/>
            <a:ext cx="5335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43" name="Line 18"/>
          <p:cNvSpPr/>
          <p:nvPr/>
        </p:nvSpPr>
        <p:spPr>
          <a:xfrm>
            <a:off x="4444920" y="1606680"/>
            <a:ext cx="180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44" name="Line 19"/>
          <p:cNvSpPr/>
          <p:nvPr/>
        </p:nvSpPr>
        <p:spPr>
          <a:xfrm flipH="1">
            <a:off x="5587920" y="2444760"/>
            <a:ext cx="4572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45" name="Line 20"/>
          <p:cNvSpPr/>
          <p:nvPr/>
        </p:nvSpPr>
        <p:spPr>
          <a:xfrm>
            <a:off x="6045120" y="2444760"/>
            <a:ext cx="38124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46" name="Rectangle 21"/>
          <p:cNvSpPr/>
          <p:nvPr/>
        </p:nvSpPr>
        <p:spPr>
          <a:xfrm>
            <a:off x="6874920" y="1336680"/>
            <a:ext cx="1528200" cy="21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1400" tIns="0" bIns="0" anchor="t">
            <a:spAutoFit/>
          </a:bodyPr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Sistema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Subsistema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Subsistema 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Elemental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1971-9F79-4526-9DF4-962553ABAC09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48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49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50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pic>
        <p:nvPicPr>
          <p:cNvPr id="851" name="Picture 4" descr=""/>
          <p:cNvPicPr/>
          <p:nvPr/>
        </p:nvPicPr>
        <p:blipFill>
          <a:blip r:embed="rId1"/>
          <a:stretch/>
        </p:blipFill>
        <p:spPr>
          <a:xfrm>
            <a:off x="1332000" y="1622520"/>
            <a:ext cx="7173720" cy="4441680"/>
          </a:xfrm>
          <a:prstGeom prst="rect">
            <a:avLst/>
          </a:prstGeom>
          <a:ln w="0">
            <a:noFill/>
          </a:ln>
        </p:spPr>
      </p:pic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82520" y="231480"/>
            <a:ext cx="781056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41400" tIns="50760" bIns="50760" anchor="ctr">
            <a:noAutofit/>
          </a:bodyPr>
          <a:p>
            <a:pPr marL="41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a7594"/>
                </a:solidFill>
                <a:latin typeface="Helvetica Neue Light"/>
              </a:rPr>
              <a:t>Estructura Funcional</a:t>
            </a:r>
            <a:endParaRPr b="0" lang="en-US" sz="4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DC0B3-830C-4956-96B3-8EBD52A99CDD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54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55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56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pic>
        <p:nvPicPr>
          <p:cNvPr id="857" name="Picture 4" descr=""/>
          <p:cNvPicPr/>
          <p:nvPr/>
        </p:nvPicPr>
        <p:blipFill>
          <a:blip r:embed="rId1"/>
          <a:stretch/>
        </p:blipFill>
        <p:spPr>
          <a:xfrm>
            <a:off x="1403280" y="1763640"/>
            <a:ext cx="6883560" cy="4353120"/>
          </a:xfrm>
          <a:prstGeom prst="rect">
            <a:avLst/>
          </a:prstGeom>
          <a:ln w="0">
            <a:noFill/>
          </a:ln>
        </p:spPr>
      </p:pic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58480" y="168120"/>
            <a:ext cx="862308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41400" tIns="50760" bIns="50760" anchor="ctr">
            <a:noAutofit/>
          </a:bodyPr>
          <a:p>
            <a:pPr marL="41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a7594"/>
                </a:solidFill>
                <a:latin typeface="Helvetica Neue Light"/>
              </a:rPr>
              <a:t>Estructura de Proceso de Negocio</a:t>
            </a:r>
            <a:endParaRPr b="0" lang="en-US" sz="4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73F10-45D6-4054-9F19-BC5660DDB43E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60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61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62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12360" y="365040"/>
            <a:ext cx="7583400" cy="1408320"/>
          </a:xfrm>
          <a:prstGeom prst="rect">
            <a:avLst/>
          </a:prstGeom>
          <a:noFill/>
          <a:ln w="0">
            <a:noFill/>
          </a:ln>
        </p:spPr>
        <p:txBody>
          <a:bodyPr lIns="50760" rIns="41400" tIns="50760" bIns="50760" anchor="ctr">
            <a:noAutofit/>
          </a:bodyPr>
          <a:p>
            <a:pPr marL="41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a7594"/>
                </a:solidFill>
                <a:latin typeface="Helvetica Neue Light"/>
              </a:rPr>
              <a:t>Funciones Básicas III</a:t>
            </a:r>
            <a:endParaRPr b="0" lang="en-US" sz="4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96800" y="1544760"/>
            <a:ext cx="83822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41400" tIns="50760" bIns="50760" anchor="ctr">
            <a:normAutofit/>
          </a:bodyPr>
          <a:p>
            <a:pPr marL="384120" indent="-342720">
              <a:lnSpc>
                <a:spcPct val="90000"/>
              </a:lnSpc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46461"/>
                </a:solidFill>
                <a:latin typeface="Helvetica Neue"/>
              </a:rPr>
              <a:t>Control:</a:t>
            </a:r>
            <a:r>
              <a:rPr b="0" lang="en-US" sz="2600" spc="-1" strike="noStrike">
                <a:solidFill>
                  <a:srgbClr val="646461"/>
                </a:solidFill>
                <a:latin typeface="Helvetica Neue"/>
              </a:rPr>
              <a:t> es la observación y medición dinámica del desempeño de las diferentes actividades de la organización, con su correspondiente definición de acciones correctivas</a:t>
            </a:r>
            <a:r>
              <a:rPr b="0" lang="en-US" sz="2600" spc="-1" strike="noStrike">
                <a:solidFill>
                  <a:srgbClr val="336699"/>
                </a:solidFill>
                <a:latin typeface="Helvetica Neue"/>
              </a:rPr>
              <a:t>  </a:t>
            </a:r>
            <a:endParaRPr b="0" lang="en-US" sz="2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865" name="Rectangle 6"/>
          <p:cNvSpPr/>
          <p:nvPr/>
        </p:nvSpPr>
        <p:spPr>
          <a:xfrm>
            <a:off x="6653160" y="3505320"/>
            <a:ext cx="1663920" cy="1638360"/>
          </a:xfrm>
          <a:prstGeom prst="rect">
            <a:avLst/>
          </a:prstGeom>
          <a:solidFill>
            <a:srgbClr val="2e6ffd"/>
          </a:solidFill>
          <a:ln w="38160">
            <a:solidFill>
              <a:srgbClr val="000000">
                <a:alpha val="0"/>
              </a:srgbClr>
            </a:solidFill>
            <a:miter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41400" tIns="0" bIns="0" anchor="t">
            <a:noAutofit/>
          </a:bodyPr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LIDAS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Información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Energía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Recursos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Materiales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66" name="Rectangle 7"/>
          <p:cNvSpPr/>
          <p:nvPr/>
        </p:nvSpPr>
        <p:spPr>
          <a:xfrm>
            <a:off x="3284640" y="4057560"/>
            <a:ext cx="2438280" cy="444600"/>
          </a:xfrm>
          <a:prstGeom prst="rect">
            <a:avLst/>
          </a:prstGeom>
          <a:solidFill>
            <a:srgbClr val="fe4940"/>
          </a:solidFill>
          <a:ln w="38160">
            <a:solidFill>
              <a:srgbClr val="cc0000"/>
            </a:solidFill>
            <a:miter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41400" tIns="0" bIns="0" anchor="t">
            <a:noAutofit/>
          </a:bodyPr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PROCESAMENTO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67" name="Rectangle 8"/>
          <p:cNvSpPr/>
          <p:nvPr/>
        </p:nvSpPr>
        <p:spPr>
          <a:xfrm>
            <a:off x="3222720" y="5983200"/>
            <a:ext cx="2730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1400" tIns="0" bIns="0" anchor="ctr">
            <a:noAutofit/>
          </a:bodyPr>
          <a:p>
            <a:pPr marL="414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RETROALIMENTACION</a:t>
            </a: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68" name="Line 9"/>
          <p:cNvSpPr/>
          <p:nvPr/>
        </p:nvSpPr>
        <p:spPr>
          <a:xfrm>
            <a:off x="5946840" y="4264200"/>
            <a:ext cx="708120" cy="144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69" name="Line 10"/>
          <p:cNvSpPr/>
          <p:nvPr/>
        </p:nvSpPr>
        <p:spPr>
          <a:xfrm>
            <a:off x="2155680" y="4322880"/>
            <a:ext cx="974880" cy="93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70" name="Rectangle 11"/>
          <p:cNvSpPr/>
          <p:nvPr/>
        </p:nvSpPr>
        <p:spPr>
          <a:xfrm>
            <a:off x="493560" y="3443400"/>
            <a:ext cx="1663920" cy="1638360"/>
          </a:xfrm>
          <a:prstGeom prst="rect">
            <a:avLst/>
          </a:prstGeom>
          <a:solidFill>
            <a:srgbClr val="2e6ffd"/>
          </a:solidFill>
          <a:ln w="38160">
            <a:solidFill>
              <a:srgbClr val="000000">
                <a:alpha val="0"/>
              </a:srgbClr>
            </a:solidFill>
            <a:miter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41400" tIns="0" bIns="0" anchor="t">
            <a:noAutofit/>
          </a:bodyPr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DA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Información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Energía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Recursos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Materiales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grpSp>
        <p:nvGrpSpPr>
          <p:cNvPr id="871" name="Group 12"/>
          <p:cNvGrpSpPr/>
          <p:nvPr/>
        </p:nvGrpSpPr>
        <p:grpSpPr>
          <a:xfrm>
            <a:off x="1057320" y="5227560"/>
            <a:ext cx="6517800" cy="755640"/>
            <a:chOff x="1057320" y="5227560"/>
            <a:chExt cx="6517800" cy="755640"/>
          </a:xfrm>
        </p:grpSpPr>
        <p:sp>
          <p:nvSpPr>
            <p:cNvPr id="872" name="AutoShape 13"/>
            <p:cNvSpPr/>
            <p:nvPr/>
          </p:nvSpPr>
          <p:spPr>
            <a:xfrm>
              <a:off x="1057320" y="5227560"/>
              <a:ext cx="423720" cy="75564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755640"/>
                <a:gd name="textAreaBottom" fmla="*/ 756000 h 75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5400" y="5400"/>
                  </a:lnTo>
                  <a:lnTo>
                    <a:pt x="5400" y="21600"/>
                  </a:lnTo>
                  <a:lnTo>
                    <a:pt x="16200" y="21600"/>
                  </a:lnTo>
                  <a:lnTo>
                    <a:pt x="16200" y="5400"/>
                  </a:lnTo>
                  <a:lnTo>
                    <a:pt x="21600" y="5400"/>
                  </a:lnTo>
                  <a:lnTo>
                    <a:pt x="10800" y="0"/>
                  </a:lnTo>
                  <a:lnTo>
                    <a:pt x="0" y="5400"/>
                  </a:lnTo>
                  <a:close/>
                  <a:moveTo>
                    <a:pt x="0" y="5400"/>
                  </a:moveTo>
                </a:path>
              </a:pathLst>
            </a:custGeom>
            <a:solidFill>
              <a:srgbClr val="ff9900"/>
            </a:solidFill>
            <a:ln cap="sq"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  <p:sp>
          <p:nvSpPr>
            <p:cNvPr id="873" name="Rectangle 14"/>
            <p:cNvSpPr/>
            <p:nvPr/>
          </p:nvSpPr>
          <p:spPr>
            <a:xfrm>
              <a:off x="1198440" y="5776920"/>
              <a:ext cx="6307200" cy="206280"/>
            </a:xfrm>
            <a:prstGeom prst="rect">
              <a:avLst/>
            </a:prstGeom>
            <a:solidFill>
              <a:srgbClr val="ff9900"/>
            </a:solidFill>
            <a:ln cap="sq"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  <p:sp>
          <p:nvSpPr>
            <p:cNvPr id="874" name="Rectangle 15"/>
            <p:cNvSpPr/>
            <p:nvPr/>
          </p:nvSpPr>
          <p:spPr>
            <a:xfrm flipH="1" rot="5400000">
              <a:off x="7158600" y="5567040"/>
              <a:ext cx="619200" cy="212760"/>
            </a:xfrm>
            <a:prstGeom prst="rect">
              <a:avLst/>
            </a:prstGeom>
            <a:solidFill>
              <a:srgbClr val="ff9900"/>
            </a:solidFill>
            <a:ln cap="sq"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</p:grp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6878A-B708-4FDF-8EB2-7936F995B9A6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76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77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78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82160" y="231480"/>
            <a:ext cx="843300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41400" tIns="50760" bIns="50760" anchor="ctr">
            <a:noAutofit/>
          </a:bodyPr>
          <a:p>
            <a:pPr marL="41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a7594"/>
                </a:solidFill>
                <a:latin typeface="Helvetica Neue Light"/>
              </a:rPr>
              <a:t>Estructura de Control de Gestión</a:t>
            </a:r>
            <a:endParaRPr b="0" lang="en-US" sz="4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80" name="AutoShape 5"/>
          <p:cNvSpPr/>
          <p:nvPr/>
        </p:nvSpPr>
        <p:spPr>
          <a:xfrm>
            <a:off x="2627280" y="2017800"/>
            <a:ext cx="4889520" cy="3292560"/>
          </a:xfrm>
          <a:custGeom>
            <a:avLst/>
            <a:gdLst>
              <a:gd name="textAreaLeft" fmla="*/ 0 w 4889520"/>
              <a:gd name="textAreaRight" fmla="*/ 4889880 w 4889520"/>
              <a:gd name="textAreaTop" fmla="*/ 0 h 3292560"/>
              <a:gd name="textAreaBottom" fmla="*/ 3292920 h 3292560"/>
            </a:gdLst>
            <a:ahLst/>
            <a:rect l="textAreaLeft" t="textAreaTop" r="textAreaRight" b="textAreaBottom"/>
            <a:pathLst>
              <a:path w="21600" h="21600">
                <a:moveTo>
                  <a:pt x="10796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10796" y="0"/>
                </a:lnTo>
                <a:close/>
                <a:moveTo>
                  <a:pt x="10796" y="0"/>
                </a:moveTo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grpSp>
        <p:nvGrpSpPr>
          <p:cNvPr id="881" name="Group 6"/>
          <p:cNvGrpSpPr/>
          <p:nvPr/>
        </p:nvGrpSpPr>
        <p:grpSpPr>
          <a:xfrm>
            <a:off x="2668680" y="5796000"/>
            <a:ext cx="4873680" cy="695160"/>
            <a:chOff x="2668680" y="5796000"/>
            <a:chExt cx="4873680" cy="695160"/>
          </a:xfrm>
        </p:grpSpPr>
        <p:sp>
          <p:nvSpPr>
            <p:cNvPr id="882" name="Rectangle 7"/>
            <p:cNvSpPr/>
            <p:nvPr/>
          </p:nvSpPr>
          <p:spPr>
            <a:xfrm>
              <a:off x="2668680" y="5796000"/>
              <a:ext cx="4873680" cy="6951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  <p:sp>
          <p:nvSpPr>
            <p:cNvPr id="883" name="Rectangle 8"/>
            <p:cNvSpPr/>
            <p:nvPr/>
          </p:nvSpPr>
          <p:spPr>
            <a:xfrm>
              <a:off x="4184280" y="5869080"/>
              <a:ext cx="1840680" cy="54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1400" tIns="0" bIns="0" anchor="ctr">
              <a:spAutoFit/>
            </a:bodyPr>
            <a:p>
              <a:pPr marL="414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PRODUCCION</a:t>
              </a:r>
              <a:endParaRPr b="0" lang="en-US" sz="2000" spc="-1" strike="noStrike">
                <a:solidFill>
                  <a:srgbClr val="4a7594"/>
                </a:solidFill>
                <a:latin typeface="Helvetica Neue Bold Condensed"/>
              </a:endParaRPr>
            </a:p>
            <a:p>
              <a:pPr marL="414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(RECURSOS)</a:t>
              </a:r>
              <a:endParaRPr b="0" lang="en-US" sz="16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</p:grpSp>
      <p:sp>
        <p:nvSpPr>
          <p:cNvPr id="884" name="Rectangle 9"/>
          <p:cNvSpPr/>
          <p:nvPr/>
        </p:nvSpPr>
        <p:spPr>
          <a:xfrm>
            <a:off x="3876840" y="2867040"/>
            <a:ext cx="24382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1400" tIns="0" bIns="0" anchor="ctr">
            <a:noAutofit/>
          </a:bodyPr>
          <a:p>
            <a:pPr marL="41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CONTROL ESTRATEGICO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85" name="Rectangle 10"/>
          <p:cNvSpPr/>
          <p:nvPr/>
        </p:nvSpPr>
        <p:spPr>
          <a:xfrm>
            <a:off x="3581280" y="3624120"/>
            <a:ext cx="30481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1400" tIns="0" bIns="0" anchor="ctr">
            <a:noAutofit/>
          </a:bodyPr>
          <a:p>
            <a:pPr marL="414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control tactico, administrativo</a:t>
            </a:r>
            <a:r>
              <a:rPr b="1" lang="en-US" sz="20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O DE GESTION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86" name="Rectangle 11"/>
          <p:cNvSpPr/>
          <p:nvPr/>
        </p:nvSpPr>
        <p:spPr>
          <a:xfrm>
            <a:off x="3583080" y="4511520"/>
            <a:ext cx="2971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1400" tIns="0" bIns="0" anchor="ctr">
            <a:noAutofit/>
          </a:bodyPr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Control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OPERACIONAL</a:t>
            </a:r>
            <a:r>
              <a:rPr b="1" lang="en-US" sz="1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87" name="Line 12"/>
          <p:cNvSpPr/>
          <p:nvPr/>
        </p:nvSpPr>
        <p:spPr>
          <a:xfrm>
            <a:off x="1192320" y="2119320"/>
            <a:ext cx="14040" cy="1135080"/>
          </a:xfrm>
          <a:prstGeom prst="line">
            <a:avLst/>
          </a:prstGeom>
          <a:ln w="25560">
            <a:solidFill>
              <a:srgbClr val="ff33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88" name="Rectangle 13"/>
          <p:cNvSpPr/>
          <p:nvPr/>
        </p:nvSpPr>
        <p:spPr>
          <a:xfrm>
            <a:off x="216000" y="3355920"/>
            <a:ext cx="220968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1400" tIns="0" bIns="0" anchor="ctr">
            <a:noAutofit/>
          </a:bodyPr>
          <a:p>
            <a:pPr marL="41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a7594"/>
                </a:solidFill>
                <a:latin typeface="Times New Roman"/>
                <a:ea typeface="Times New Roman"/>
              </a:rPr>
              <a:t>ADMINISTRACION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89" name="Line 14"/>
          <p:cNvSpPr/>
          <p:nvPr/>
        </p:nvSpPr>
        <p:spPr>
          <a:xfrm>
            <a:off x="1181160" y="3801960"/>
            <a:ext cx="1440" cy="1414440"/>
          </a:xfrm>
          <a:prstGeom prst="line">
            <a:avLst/>
          </a:prstGeom>
          <a:ln w="255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90" name="Rectangle 15"/>
          <p:cNvSpPr/>
          <p:nvPr/>
        </p:nvSpPr>
        <p:spPr>
          <a:xfrm>
            <a:off x="355680" y="5680080"/>
            <a:ext cx="191772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1400" tIns="0" bIns="0" anchor="ctr">
            <a:noAutofit/>
          </a:bodyPr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a7594"/>
                </a:solidFill>
                <a:latin typeface="Times New Roman"/>
                <a:ea typeface="Times New Roman"/>
              </a:rPr>
              <a:t>OPERACIONES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91" name="Rectangle 16"/>
          <p:cNvSpPr/>
          <p:nvPr/>
        </p:nvSpPr>
        <p:spPr>
          <a:xfrm>
            <a:off x="7647120" y="5831640"/>
            <a:ext cx="12693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1400" tIns="0" bIns="0" anchor="ctr">
            <a:spAutoFit/>
          </a:bodyPr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7594"/>
                </a:solidFill>
                <a:latin typeface="Arial"/>
                <a:ea typeface="Arial"/>
              </a:rPr>
              <a:t>PRODUCTOS: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7594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4a7594"/>
                </a:solidFill>
                <a:latin typeface="Arial"/>
                <a:ea typeface="Arial"/>
              </a:rPr>
              <a:t>BIENES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7594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4a7594"/>
                </a:solidFill>
                <a:latin typeface="Arial"/>
                <a:ea typeface="Arial"/>
              </a:rPr>
              <a:t>SERVICIOS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92" name="Rectangle 17"/>
          <p:cNvSpPr/>
          <p:nvPr/>
        </p:nvSpPr>
        <p:spPr>
          <a:xfrm>
            <a:off x="1635120" y="6043320"/>
            <a:ext cx="914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1400" tIns="0" bIns="0" anchor="ctr">
            <a:spAutoFit/>
          </a:bodyPr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7594"/>
                </a:solidFill>
                <a:latin typeface="Arial"/>
                <a:ea typeface="Arial"/>
              </a:rPr>
              <a:t>INSUMOS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93" name="AutoShape 18"/>
          <p:cNvSpPr/>
          <p:nvPr/>
        </p:nvSpPr>
        <p:spPr>
          <a:xfrm>
            <a:off x="3228840" y="5381640"/>
            <a:ext cx="360360" cy="369720"/>
          </a:xfrm>
          <a:custGeom>
            <a:avLst/>
            <a:gdLst>
              <a:gd name="textAreaLeft" fmla="*/ 0 w 360360"/>
              <a:gd name="textAreaRight" fmla="*/ 360720 w 360360"/>
              <a:gd name="textAreaTop" fmla="*/ 0 h 369720"/>
              <a:gd name="textAreaBottom" fmla="*/ 370080 h 369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5400" y="5400"/>
                </a:lnTo>
                <a:lnTo>
                  <a:pt x="5400" y="21600"/>
                </a:lnTo>
                <a:lnTo>
                  <a:pt x="16200" y="21600"/>
                </a:lnTo>
                <a:lnTo>
                  <a:pt x="16200" y="5400"/>
                </a:lnTo>
                <a:lnTo>
                  <a:pt x="21600" y="5400"/>
                </a:lnTo>
                <a:lnTo>
                  <a:pt x="10800" y="0"/>
                </a:lnTo>
                <a:lnTo>
                  <a:pt x="0" y="5400"/>
                </a:lnTo>
                <a:close/>
                <a:moveTo>
                  <a:pt x="0" y="5400"/>
                </a:move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94" name="AutoShape 19"/>
          <p:cNvSpPr/>
          <p:nvPr/>
        </p:nvSpPr>
        <p:spPr>
          <a:xfrm>
            <a:off x="6443640" y="5381640"/>
            <a:ext cx="360360" cy="369720"/>
          </a:xfrm>
          <a:custGeom>
            <a:avLst/>
            <a:gdLst>
              <a:gd name="textAreaLeft" fmla="*/ 0 w 360360"/>
              <a:gd name="textAreaRight" fmla="*/ 360720 w 360360"/>
              <a:gd name="textAreaTop" fmla="*/ 0 h 369720"/>
              <a:gd name="textAreaBottom" fmla="*/ 370080 h 369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lnTo>
                  <a:pt x="5400" y="16200"/>
                </a:lnTo>
                <a:lnTo>
                  <a:pt x="5400" y="0"/>
                </a:lnTo>
                <a:lnTo>
                  <a:pt x="16200" y="0"/>
                </a:lnTo>
                <a:lnTo>
                  <a:pt x="16200" y="16200"/>
                </a:lnTo>
                <a:lnTo>
                  <a:pt x="21600" y="16200"/>
                </a:lnTo>
                <a:lnTo>
                  <a:pt x="10800" y="21600"/>
                </a:lnTo>
                <a:lnTo>
                  <a:pt x="0" y="16200"/>
                </a:lnTo>
                <a:close/>
                <a:moveTo>
                  <a:pt x="0" y="16200"/>
                </a:move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95" name="Line 20"/>
          <p:cNvSpPr/>
          <p:nvPr/>
        </p:nvSpPr>
        <p:spPr>
          <a:xfrm>
            <a:off x="3246480" y="4503600"/>
            <a:ext cx="3681360" cy="648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96" name="Line 21"/>
          <p:cNvSpPr/>
          <p:nvPr/>
        </p:nvSpPr>
        <p:spPr>
          <a:xfrm>
            <a:off x="3971880" y="3505320"/>
            <a:ext cx="2205000" cy="936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  <p:transition>
    <p:fade thruBlk="true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75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75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75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75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EA6E2-75BD-4834-8EC9-08A509DD01FE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1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20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21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22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39640" y="150480"/>
            <a:ext cx="7850160" cy="1622520"/>
          </a:xfrm>
          <a:prstGeom prst="rect">
            <a:avLst/>
          </a:prstGeom>
          <a:noFill/>
          <a:ln w="0">
            <a:noFill/>
          </a:ln>
        </p:spPr>
        <p:txBody>
          <a:bodyPr lIns="50760" rIns="41400" tIns="50760" bIns="50760" anchor="ctr">
            <a:noAutofit/>
          </a:bodyPr>
          <a:p>
            <a:pPr marL="41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La Organización como Sistema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723960" y="1790640"/>
            <a:ext cx="7683480" cy="43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31640" indent="-431640">
              <a:lnSpc>
                <a:spcPct val="100000"/>
              </a:lnSpc>
              <a:spcBef>
                <a:spcPts val="1100"/>
              </a:spcBef>
              <a:buSzPct val="1592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1"/>
                </a:solidFill>
                <a:latin typeface="Helvetica Neue"/>
                <a:ea typeface="Helvetica Neue"/>
              </a:rPr>
              <a:t>Organización: tipo especial de sistema que presenta actividad o comportamientoElementos de la Organización: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lvl="1" marL="876240" indent="-43164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1"/>
                </a:solidFill>
                <a:latin typeface="Helvetica Neue"/>
                <a:ea typeface="Helvetica Neue"/>
              </a:rPr>
              <a:t>componentes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lvl="1" marL="876240" indent="-43164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1"/>
                </a:solidFill>
                <a:latin typeface="Helvetica Neue"/>
                <a:ea typeface="Helvetica Neue"/>
              </a:rPr>
              <a:t>estructura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lvl="1" marL="876240" indent="-43164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1"/>
                </a:solidFill>
                <a:latin typeface="Helvetica Neue"/>
                <a:ea typeface="Helvetica Neue"/>
              </a:rPr>
              <a:t>información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lvl="1" marL="876240" indent="-43164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1"/>
                </a:solidFill>
                <a:latin typeface="Helvetica Neue"/>
                <a:ea typeface="Helvetica Neue"/>
              </a:rPr>
              <a:t>comunicación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lvl="1" marL="876240" indent="-43164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1"/>
                </a:solidFill>
                <a:latin typeface="Helvetica Neue"/>
                <a:ea typeface="Helvetica Neue"/>
              </a:rPr>
              <a:t>decisiones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lvl="1" marL="876240" indent="-43164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1"/>
                </a:solidFill>
                <a:latin typeface="Helvetica Neue"/>
                <a:ea typeface="Helvetica Neue"/>
              </a:rPr>
              <a:t>control y retroalimentación dinámica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C6183-52CA-45F9-B490-962E3D0A85B7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98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99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00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87080" y="301320"/>
            <a:ext cx="7404120" cy="927000"/>
          </a:xfrm>
          <a:prstGeom prst="rect">
            <a:avLst/>
          </a:prstGeom>
          <a:noFill/>
          <a:ln w="0">
            <a:noFill/>
          </a:ln>
        </p:spPr>
        <p:txBody>
          <a:bodyPr lIns="50760" rIns="41400" tIns="50760" bIns="50760" anchor="ctr">
            <a:noAutofit/>
          </a:bodyPr>
          <a:p>
            <a:pPr marL="41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a7594"/>
                </a:solidFill>
                <a:latin typeface="Helvetica Neue Light"/>
              </a:rPr>
              <a:t>Funciones Básicas IV</a:t>
            </a:r>
            <a:endParaRPr b="0" lang="en-US" sz="4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925280"/>
            <a:ext cx="8229600" cy="4025880"/>
          </a:xfrm>
          <a:prstGeom prst="rect">
            <a:avLst/>
          </a:prstGeom>
          <a:noFill/>
          <a:ln w="0">
            <a:noFill/>
          </a:ln>
        </p:spPr>
        <p:txBody>
          <a:bodyPr lIns="50760" rIns="41400" tIns="50760" bIns="50760" anchor="ctr">
            <a:normAutofit fontScale="98000"/>
          </a:bodyPr>
          <a:p>
            <a:pPr marL="376200" indent="-33552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46461"/>
                </a:solidFill>
                <a:latin typeface="Helvetica Neue"/>
              </a:rPr>
              <a:t>Toma de Decisiones: </a:t>
            </a:r>
            <a:r>
              <a:rPr b="0" lang="en-US" sz="2600" spc="-1" strike="noStrike">
                <a:solidFill>
                  <a:srgbClr val="646461"/>
                </a:solidFill>
                <a:latin typeface="Helvetica Neue"/>
              </a:rPr>
              <a:t>es el establecimiento de los procesos que permitirán la elección entre los diferentes cursos de acción alternativos</a:t>
            </a:r>
            <a:endParaRPr b="0" lang="en-US" sz="2600" spc="-1" strike="noStrike">
              <a:solidFill>
                <a:srgbClr val="646461"/>
              </a:solidFill>
              <a:latin typeface="Helvetica Neue"/>
            </a:endParaRPr>
          </a:p>
          <a:p>
            <a:pPr lvl="1" marL="768240" indent="-279720">
              <a:spcBef>
                <a:spcPts val="2299"/>
              </a:spcBef>
              <a:buClr>
                <a:srgbClr val="cc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1"/>
                </a:solidFill>
                <a:latin typeface="Helvetica Neue"/>
              </a:rPr>
              <a:t>3 aspectos: la decisión, el proceso de toma de decisiones (reglas, datos, etc.) y el tomador de decisiones</a:t>
            </a:r>
            <a:endParaRPr b="0" lang="en-US" sz="2200" spc="-1" strike="noStrike">
              <a:solidFill>
                <a:srgbClr val="646461"/>
              </a:solidFill>
              <a:latin typeface="Helvetica Neue"/>
            </a:endParaRPr>
          </a:p>
          <a:p>
            <a:pPr lvl="1" marL="768240" indent="-279720">
              <a:spcBef>
                <a:spcPts val="2299"/>
              </a:spcBef>
              <a:buClr>
                <a:srgbClr val="cc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1"/>
                </a:solidFill>
                <a:latin typeface="Helvetica Neue"/>
              </a:rPr>
              <a:t>Decisiones programables y no programables</a:t>
            </a:r>
            <a:endParaRPr b="0" lang="en-US" sz="2200" spc="-1" strike="noStrike">
              <a:solidFill>
                <a:srgbClr val="646461"/>
              </a:solidFill>
              <a:latin typeface="Helvetica Neue"/>
            </a:endParaRPr>
          </a:p>
          <a:p>
            <a:pPr lvl="1" marL="768240" indent="-279720">
              <a:spcBef>
                <a:spcPts val="2299"/>
              </a:spcBef>
              <a:buClr>
                <a:srgbClr val="cc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1"/>
                </a:solidFill>
                <a:latin typeface="Helvetica Neue"/>
              </a:rPr>
              <a:t>Asociada a la decisión existe un grupo de información que comunica el resultado</a:t>
            </a:r>
            <a:endParaRPr b="0" lang="en-US" sz="22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transition>
    <p:fade thruBlk="true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051FC-3860-4EEB-9497-C5790D38026E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04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05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06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266400" y="279360"/>
            <a:ext cx="768348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Tipos de decisiones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80760" y="1773000"/>
            <a:ext cx="7708680" cy="4305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461"/>
                </a:solidFill>
                <a:latin typeface="Helvetica Neue"/>
              </a:rPr>
              <a:t>Decisiones Estructuradas o Programables:</a:t>
            </a:r>
            <a:endParaRPr b="0" lang="en-US" sz="2600" spc="-1" strike="noStrike">
              <a:solidFill>
                <a:srgbClr val="646461"/>
              </a:solidFill>
              <a:latin typeface="Helvetica Neue"/>
            </a:endParaRPr>
          </a:p>
          <a:p>
            <a:pPr lvl="1" marL="782640" indent="-285840">
              <a:spcBef>
                <a:spcPts val="2299"/>
              </a:spcBef>
              <a:buClr>
                <a:srgbClr val="cc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1"/>
                </a:solidFill>
                <a:latin typeface="Helvetica Neue"/>
              </a:rPr>
              <a:t>Son aquellas que pueden ser tomadas de acuerdo a una regla (si se cumple un conjunto de condiciones se ejecuta un conjunto de acciones).</a:t>
            </a:r>
            <a:endParaRPr b="0" lang="en-US" sz="2200" spc="-1" strike="noStrike">
              <a:solidFill>
                <a:srgbClr val="646461"/>
              </a:solidFill>
              <a:latin typeface="Helvetica Neue"/>
            </a:endParaRPr>
          </a:p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461"/>
                </a:solidFill>
                <a:latin typeface="Helvetica Neue"/>
              </a:rPr>
              <a:t>Decisiones No Estructuradas</a:t>
            </a:r>
            <a:endParaRPr b="0" lang="en-US" sz="2600" spc="-1" strike="noStrike">
              <a:solidFill>
                <a:srgbClr val="646461"/>
              </a:solidFill>
              <a:latin typeface="Helvetica Neue"/>
            </a:endParaRPr>
          </a:p>
          <a:p>
            <a:pPr lvl="1" marL="782640" indent="-285840">
              <a:spcBef>
                <a:spcPts val="2299"/>
              </a:spcBef>
              <a:buClr>
                <a:srgbClr val="cc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1"/>
                </a:solidFill>
                <a:latin typeface="Helvetica Neue"/>
              </a:rPr>
              <a:t>Son aquellas que no es posible tomar de acuerdo a una regla ya que hay factores subjetivos o riesgo asociado al cumplimiento de las condiciones.</a:t>
            </a:r>
            <a:endParaRPr b="0" lang="en-US" sz="22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3361D-20D5-44BB-B75A-A5226753BC86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10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11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12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Decisiones por Nivel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212400" y="1201320"/>
            <a:ext cx="4241880" cy="5473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1"/>
                </a:solidFill>
                <a:latin typeface="Helvetica Neue"/>
              </a:rPr>
              <a:t>Estratégico</a:t>
            </a:r>
            <a:endParaRPr b="0" lang="en-US" sz="2200" spc="-1" strike="noStrike">
              <a:solidFill>
                <a:srgbClr val="646461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2299"/>
              </a:spcBef>
              <a:buClr>
                <a:srgbClr val="cc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1"/>
                </a:solidFill>
                <a:latin typeface="Verdana"/>
                <a:ea typeface="ＭＳ Ｐゴシック"/>
              </a:rPr>
              <a:t>Tipo: No estructuradas</a:t>
            </a:r>
            <a:endParaRPr b="0" lang="en-US" sz="1800" spc="-1" strike="noStrike">
              <a:solidFill>
                <a:srgbClr val="646461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2299"/>
              </a:spcBef>
              <a:buClr>
                <a:srgbClr val="cc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1"/>
                </a:solidFill>
                <a:latin typeface="Verdana"/>
                <a:ea typeface="ＭＳ Ｐゴシック"/>
              </a:rPr>
              <a:t>Horizonte: Largo Plazo</a:t>
            </a:r>
            <a:endParaRPr b="0" lang="en-US" sz="1800" spc="-1" strike="noStrike">
              <a:solidFill>
                <a:srgbClr val="646461"/>
              </a:solidFill>
              <a:latin typeface="Helvetica Neue"/>
            </a:endParaRPr>
          </a:p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1"/>
                </a:solidFill>
                <a:latin typeface="Helvetica Neue"/>
              </a:rPr>
              <a:t>Control de Gestión</a:t>
            </a:r>
            <a:endParaRPr b="0" lang="en-US" sz="2200" spc="-1" strike="noStrike">
              <a:solidFill>
                <a:srgbClr val="646461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2299"/>
              </a:spcBef>
              <a:buClr>
                <a:srgbClr val="cc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1"/>
                </a:solidFill>
                <a:latin typeface="Verdana"/>
                <a:ea typeface="ＭＳ Ｐゴシック"/>
              </a:rPr>
              <a:t>Tipo: Semi Estructuradas</a:t>
            </a:r>
            <a:endParaRPr b="0" lang="en-US" sz="1800" spc="-1" strike="noStrike">
              <a:solidFill>
                <a:srgbClr val="646461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2299"/>
              </a:spcBef>
              <a:buClr>
                <a:srgbClr val="cc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1"/>
                </a:solidFill>
                <a:latin typeface="Verdana"/>
                <a:ea typeface="ＭＳ Ｐゴシック"/>
              </a:rPr>
              <a:t>Horizonte: Mediano Plazo</a:t>
            </a:r>
            <a:endParaRPr b="0" lang="en-US" sz="1800" spc="-1" strike="noStrike">
              <a:solidFill>
                <a:srgbClr val="646461"/>
              </a:solidFill>
              <a:latin typeface="Helvetica Neue"/>
            </a:endParaRPr>
          </a:p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1"/>
                </a:solidFill>
                <a:latin typeface="Helvetica Neue"/>
              </a:rPr>
              <a:t>Operacional</a:t>
            </a:r>
            <a:endParaRPr b="0" lang="en-US" sz="2200" spc="-1" strike="noStrike">
              <a:solidFill>
                <a:srgbClr val="646461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2299"/>
              </a:spcBef>
              <a:buClr>
                <a:srgbClr val="cc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1"/>
                </a:solidFill>
                <a:latin typeface="Verdana"/>
                <a:ea typeface="ＭＳ Ｐゴシック"/>
              </a:rPr>
              <a:t>Tipo: Estructuradas</a:t>
            </a:r>
            <a:endParaRPr b="0" lang="en-US" sz="1800" spc="-1" strike="noStrike">
              <a:solidFill>
                <a:srgbClr val="646461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2299"/>
              </a:spcBef>
              <a:buClr>
                <a:srgbClr val="cc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1"/>
                </a:solidFill>
                <a:latin typeface="Verdana"/>
                <a:ea typeface="ＭＳ Ｐゴシック"/>
              </a:rPr>
              <a:t>Horizonte: Corto Plazo</a:t>
            </a:r>
            <a:endParaRPr b="0" lang="en-US" sz="18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15" name="Rectangle 6"/>
          <p:cNvSpPr/>
          <p:nvPr/>
        </p:nvSpPr>
        <p:spPr>
          <a:xfrm>
            <a:off x="4416480" y="2014560"/>
            <a:ext cx="4572000" cy="38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82680" indent="-343080">
              <a:lnSpc>
                <a:spcPct val="100000"/>
              </a:lnSpc>
              <a:spcBef>
                <a:spcPts val="53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Verdana"/>
              </a:rPr>
              <a:t>ESTRATÉGICO</a:t>
            </a: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82680" indent="-343080">
              <a:lnSpc>
                <a:spcPct val="100000"/>
              </a:lnSpc>
              <a:spcBef>
                <a:spcPts val="437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ORIGEN: PRINCIPALMENTE EXTERNA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82680" indent="-343080">
              <a:lnSpc>
                <a:spcPct val="100000"/>
              </a:lnSpc>
              <a:spcBef>
                <a:spcPts val="437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VOLUMEN: SELECTIVA Y AGREGADA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82680" indent="-343080">
              <a:lnSpc>
                <a:spcPct val="100000"/>
              </a:lnSpc>
              <a:spcBef>
                <a:spcPts val="53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Verdana"/>
              </a:rPr>
              <a:t>CONTROL DE GESTIÓN</a:t>
            </a: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82680" indent="-343080">
              <a:lnSpc>
                <a:spcPct val="100000"/>
              </a:lnSpc>
              <a:spcBef>
                <a:spcPts val="437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ORIGEN: INTERNO Y EXTERNO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82680" indent="-343080">
              <a:lnSpc>
                <a:spcPct val="100000"/>
              </a:lnSpc>
              <a:spcBef>
                <a:spcPts val="437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VOLUMEN: SEMI AGREGADO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82680" indent="-343080">
              <a:lnSpc>
                <a:spcPct val="100000"/>
              </a:lnSpc>
              <a:spcBef>
                <a:spcPts val="53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Verdana"/>
              </a:rPr>
              <a:t>OPERACIONAL</a:t>
            </a: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82680" indent="-343080">
              <a:lnSpc>
                <a:spcPct val="100000"/>
              </a:lnSpc>
              <a:spcBef>
                <a:spcPts val="437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ORIGEN: INTERNO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82680" indent="-343080">
              <a:lnSpc>
                <a:spcPct val="100000"/>
              </a:lnSpc>
              <a:spcBef>
                <a:spcPts val="437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VOLUMEN: MASIVA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E85A6-AEF3-4D3C-B7D1-D01E40E5E19F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17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18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19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39640" y="173160"/>
            <a:ext cx="7631280" cy="1743120"/>
          </a:xfrm>
          <a:prstGeom prst="rect">
            <a:avLst/>
          </a:prstGeom>
          <a:noFill/>
          <a:ln w="0">
            <a:noFill/>
          </a:ln>
        </p:spPr>
        <p:txBody>
          <a:bodyPr lIns="50760" rIns="41400" tIns="50760" bIns="50760" anchor="ctr">
            <a:noAutofit/>
          </a:bodyPr>
          <a:p>
            <a:pPr marL="41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Funciones Básicas V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69800" y="1941480"/>
            <a:ext cx="8204400" cy="3898800"/>
          </a:xfrm>
          <a:prstGeom prst="rect">
            <a:avLst/>
          </a:prstGeom>
          <a:noFill/>
          <a:ln w="0">
            <a:noFill/>
          </a:ln>
        </p:spPr>
        <p:txBody>
          <a:bodyPr lIns="50760" rIns="41400" tIns="50760" bIns="50760" anchor="ctr">
            <a:normAutofit/>
          </a:bodyPr>
          <a:p>
            <a:pPr marL="384120" indent="-34272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1"/>
                </a:solidFill>
                <a:latin typeface="Helvetica Neue"/>
              </a:rPr>
              <a:t>Comunicación:</a:t>
            </a: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 es la identificación y establecimiento de los flujos de información que son necesarios para que las diferentes funciones y componentes de la organización aseguren que se logre la programación adecuada para alcanzar sus respectivos objetivos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A3525-4B23-4D1A-A28A-537C10DF1DA4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23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24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25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pic>
        <p:nvPicPr>
          <p:cNvPr id="926" name="Picture 4" descr=""/>
          <p:cNvPicPr/>
          <p:nvPr/>
        </p:nvPicPr>
        <p:blipFill>
          <a:blip r:embed="rId1"/>
          <a:stretch/>
        </p:blipFill>
        <p:spPr>
          <a:xfrm>
            <a:off x="925560" y="1900080"/>
            <a:ext cx="7318440" cy="4832640"/>
          </a:xfrm>
          <a:prstGeom prst="rect">
            <a:avLst/>
          </a:prstGeom>
          <a:ln w="0">
            <a:noFill/>
          </a:ln>
        </p:spPr>
      </p:pic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703440" y="236160"/>
            <a:ext cx="773424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41400" tIns="50760" bIns="50760" anchor="ctr">
            <a:noAutofit/>
          </a:bodyPr>
          <a:p>
            <a:pPr marL="41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Medios de Comunicación Formales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97E17-9DCA-4289-B5F1-02AB9349C3FC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29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30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31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El rol de los SI en la empresa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spcBef>
                <a:spcPts val="2299"/>
              </a:spcBef>
              <a:buSzPct val="17494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461"/>
                </a:solidFill>
                <a:latin typeface="Helvetica Neue"/>
              </a:rPr>
              <a:t>Lo que una empresa desea hacer dentro de 5 años, depende a menudo de lo que los sistemas sean capaces de hacer</a:t>
            </a:r>
            <a:endParaRPr b="0" lang="en-US" sz="2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spcBef>
                <a:spcPts val="2299"/>
              </a:spcBef>
              <a:buSzPct val="17494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461"/>
                </a:solidFill>
                <a:latin typeface="Helvetica Neue"/>
              </a:rPr>
              <a:t>Existe una interdependencia creciente en la estrategia de negocios y los SI (alineamiento)</a:t>
            </a:r>
            <a:endParaRPr b="0" lang="en-US" sz="2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spcBef>
                <a:spcPts val="2299"/>
              </a:spcBef>
              <a:buSzPct val="17494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461"/>
                </a:solidFill>
                <a:latin typeface="Helvetica Neue"/>
              </a:rPr>
              <a:t>Complejidad creciente de los SI y la visión de los proyectos de sistemas y sus aplicaciones</a:t>
            </a:r>
            <a:endParaRPr b="0" lang="en-US" sz="2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D6B77-40BF-4174-8AD0-08C24357A786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35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36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37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38" name="Line 4"/>
          <p:cNvSpPr/>
          <p:nvPr/>
        </p:nvSpPr>
        <p:spPr>
          <a:xfrm flipV="1">
            <a:off x="1843200" y="1870200"/>
            <a:ext cx="5689440" cy="417672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Enfoque moderno de SIA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940" name="Rectangle 6"/>
          <p:cNvSpPr/>
          <p:nvPr/>
        </p:nvSpPr>
        <p:spPr>
          <a:xfrm>
            <a:off x="1843200" y="1870200"/>
            <a:ext cx="5689440" cy="4176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grpSp>
        <p:nvGrpSpPr>
          <p:cNvPr id="941" name="Group 7"/>
          <p:cNvGrpSpPr/>
          <p:nvPr/>
        </p:nvGrpSpPr>
        <p:grpSpPr>
          <a:xfrm>
            <a:off x="3643200" y="3022560"/>
            <a:ext cx="2305080" cy="1944720"/>
            <a:chOff x="3643200" y="3022560"/>
            <a:chExt cx="2305080" cy="1944720"/>
          </a:xfrm>
        </p:grpSpPr>
        <p:sp>
          <p:nvSpPr>
            <p:cNvPr id="942" name="Oval 8"/>
            <p:cNvSpPr/>
            <p:nvPr/>
          </p:nvSpPr>
          <p:spPr>
            <a:xfrm>
              <a:off x="3643200" y="3022560"/>
              <a:ext cx="2305080" cy="19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  <p:sp>
          <p:nvSpPr>
            <p:cNvPr id="943" name="Rectangle 9"/>
            <p:cNvSpPr/>
            <p:nvPr/>
          </p:nvSpPr>
          <p:spPr>
            <a:xfrm>
              <a:off x="4259880" y="3818520"/>
              <a:ext cx="106956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78120" tIns="38160" bIns="38160" anchor="ctr">
              <a:spAutoFit/>
            </a:bodyPr>
            <a:p>
              <a:pPr marL="14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a7594"/>
                  </a:solidFill>
                  <a:latin typeface="Verdana"/>
                  <a:ea typeface="Verdana"/>
                </a:rPr>
                <a:t>SIA - MIS</a:t>
              </a:r>
              <a:endParaRPr b="0" lang="en-US" sz="18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</p:grpSp>
      <p:sp>
        <p:nvSpPr>
          <p:cNvPr id="944" name="Rectangle 10"/>
          <p:cNvSpPr/>
          <p:nvPr/>
        </p:nvSpPr>
        <p:spPr>
          <a:xfrm>
            <a:off x="1913040" y="4168080"/>
            <a:ext cx="17427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7594"/>
                </a:solidFill>
                <a:latin typeface="Verdana"/>
                <a:ea typeface="Verdana"/>
              </a:rPr>
              <a:t>CIENCIAS DE LA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7594"/>
                </a:solidFill>
                <a:latin typeface="Verdana"/>
                <a:ea typeface="Verdana"/>
              </a:rPr>
              <a:t>ADMINISTRACIÓN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45" name="Rectangle 11"/>
          <p:cNvSpPr/>
          <p:nvPr/>
        </p:nvSpPr>
        <p:spPr>
          <a:xfrm>
            <a:off x="2404080" y="2347200"/>
            <a:ext cx="14925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7594"/>
                </a:solidFill>
                <a:latin typeface="Verdana"/>
                <a:ea typeface="Verdana"/>
              </a:rPr>
              <a:t>CIENCIA DE LA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7594"/>
                </a:solidFill>
                <a:latin typeface="Verdana"/>
                <a:ea typeface="Verdana"/>
              </a:rPr>
              <a:t>COMPUTACIÓN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46" name="Rectangle 12"/>
          <p:cNvSpPr/>
          <p:nvPr/>
        </p:nvSpPr>
        <p:spPr>
          <a:xfrm>
            <a:off x="4518000" y="1941480"/>
            <a:ext cx="195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7594"/>
                </a:solidFill>
                <a:latin typeface="Verdana"/>
                <a:ea typeface="Verdana"/>
              </a:rPr>
              <a:t>INVESTIGACIÓN Y GESTIÓN DE OPERACIONES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47" name="Rectangle 13"/>
          <p:cNvSpPr/>
          <p:nvPr/>
        </p:nvSpPr>
        <p:spPr>
          <a:xfrm>
            <a:off x="540000" y="1886760"/>
            <a:ext cx="10612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7594"/>
                </a:solidFill>
                <a:latin typeface="Verdana"/>
                <a:ea typeface="Verdana"/>
              </a:rPr>
              <a:t>ENFOQUES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7594"/>
                </a:solidFill>
                <a:latin typeface="Verdana"/>
                <a:ea typeface="Verdana"/>
              </a:rPr>
              <a:t>TÉCNICOS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48" name="Rectangle 14"/>
          <p:cNvSpPr/>
          <p:nvPr/>
        </p:nvSpPr>
        <p:spPr>
          <a:xfrm>
            <a:off x="6058800" y="3319920"/>
            <a:ext cx="1236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7594"/>
                </a:solidFill>
                <a:latin typeface="Verdana"/>
                <a:ea typeface="Verdana"/>
              </a:rPr>
              <a:t>SOCIOLOGÍA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49" name="Rectangle 15"/>
          <p:cNvSpPr/>
          <p:nvPr/>
        </p:nvSpPr>
        <p:spPr>
          <a:xfrm>
            <a:off x="5418720" y="5126760"/>
            <a:ext cx="8953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7594"/>
                </a:solidFill>
                <a:latin typeface="Verdana"/>
                <a:ea typeface="Verdana"/>
              </a:rPr>
              <a:t>CIENCIA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7594"/>
                </a:solidFill>
                <a:latin typeface="Verdana"/>
                <a:ea typeface="Verdana"/>
              </a:rPr>
              <a:t>POLÍTICA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50" name="Rectangle 16"/>
          <p:cNvSpPr/>
          <p:nvPr/>
        </p:nvSpPr>
        <p:spPr>
          <a:xfrm>
            <a:off x="2949480" y="5488200"/>
            <a:ext cx="1200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7594"/>
                </a:solidFill>
                <a:latin typeface="Verdana"/>
                <a:ea typeface="Verdana"/>
              </a:rPr>
              <a:t>PSICOLOGÍA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51" name="Rectangle 17"/>
          <p:cNvSpPr/>
          <p:nvPr/>
        </p:nvSpPr>
        <p:spPr>
          <a:xfrm>
            <a:off x="6491160" y="6048360"/>
            <a:ext cx="22226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7594"/>
                </a:solidFill>
                <a:latin typeface="Verdana"/>
                <a:ea typeface="Verdana"/>
              </a:rPr>
              <a:t>ENFOQUES DEL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7594"/>
                </a:solidFill>
                <a:latin typeface="Verdana"/>
                <a:ea typeface="Verdana"/>
              </a:rPr>
              <a:t>COMPORTAMIENTO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426D4-35DA-4BBB-AAA2-E30BCA943812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53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54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55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Comentarios Finales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506520" y="2192400"/>
            <a:ext cx="8115120" cy="35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8000"/>
          </a:bodyPr>
          <a:p>
            <a:pPr marL="374760" indent="-3358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La organización es un caso especial de sistemas, que posee una estructura y comportamiento especial.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marL="374760" indent="-3358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Existen diferentes funciones básicas que caracterizan el comportamiento de una organización.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marL="374760" indent="-3358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Las oportunidades de rediseño surgen de un buen entendimiento del modelo de una organización.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99862-ED42-4935-BF35-C0A67D51820F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59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60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61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Competencias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564840" y="2093760"/>
            <a:ext cx="8001000" cy="3695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spcBef>
                <a:spcPts val="2299"/>
              </a:spcBef>
              <a:buSzPct val="17473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Entender lo que es un sistema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spcBef>
                <a:spcPts val="2299"/>
              </a:spcBef>
              <a:buSzPct val="17473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Distinguir SI, SIA, SCG y SPD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spcBef>
                <a:spcPts val="2299"/>
              </a:spcBef>
              <a:buSzPct val="17473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Conocer las funciones básicas de administración en la organización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spcBef>
                <a:spcPts val="2299"/>
              </a:spcBef>
              <a:buSzPct val="17473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Distinguir los distintos tipos de decisiones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5ECEC-B0B9-4DC4-9BBF-910D59E6AFC7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26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27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28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Sistemas existentes en la Organización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grpSp>
        <p:nvGrpSpPr>
          <p:cNvPr id="730" name="Group 5"/>
          <p:cNvGrpSpPr/>
          <p:nvPr/>
        </p:nvGrpSpPr>
        <p:grpSpPr>
          <a:xfrm>
            <a:off x="838080" y="2565360"/>
            <a:ext cx="7467480" cy="3797280"/>
            <a:chOff x="838080" y="2565360"/>
            <a:chExt cx="7467480" cy="3797280"/>
          </a:xfrm>
        </p:grpSpPr>
        <p:sp>
          <p:nvSpPr>
            <p:cNvPr id="731" name="AutoShape 6"/>
            <p:cNvSpPr/>
            <p:nvPr/>
          </p:nvSpPr>
          <p:spPr>
            <a:xfrm>
              <a:off x="838080" y="2565360"/>
              <a:ext cx="7467480" cy="3797280"/>
            </a:xfrm>
            <a:prstGeom prst="roundRect">
              <a:avLst>
                <a:gd name="adj" fmla="val 5014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  <a:effectLst>
              <a:outerShdw dist="177643" dir="2389226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  <p:sp>
          <p:nvSpPr>
            <p:cNvPr id="732" name="Rectangle 7"/>
            <p:cNvSpPr/>
            <p:nvPr/>
          </p:nvSpPr>
          <p:spPr>
            <a:xfrm>
              <a:off x="2266560" y="2702160"/>
              <a:ext cx="4617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elvetica Neue Bold Condensed"/>
                  <a:ea typeface="Helvetica Neue Bold Condensed"/>
                </a:rPr>
                <a:t>SISTEMA DE ADMINISTRACIÓN (SA)</a:t>
              </a:r>
              <a:endParaRPr b="0" lang="en-US" sz="22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</p:grpSp>
      <p:grpSp>
        <p:nvGrpSpPr>
          <p:cNvPr id="733" name="Group 8"/>
          <p:cNvGrpSpPr/>
          <p:nvPr/>
        </p:nvGrpSpPr>
        <p:grpSpPr>
          <a:xfrm>
            <a:off x="880920" y="3276720"/>
            <a:ext cx="4110840" cy="2895480"/>
            <a:chOff x="880920" y="3276720"/>
            <a:chExt cx="4110840" cy="2895480"/>
          </a:xfrm>
        </p:grpSpPr>
        <p:sp>
          <p:nvSpPr>
            <p:cNvPr id="734" name="AutoShape 9"/>
            <p:cNvSpPr/>
            <p:nvPr/>
          </p:nvSpPr>
          <p:spPr>
            <a:xfrm>
              <a:off x="1104840" y="3276720"/>
              <a:ext cx="3657600" cy="2895480"/>
            </a:xfrm>
            <a:prstGeom prst="roundRect">
              <a:avLst>
                <a:gd name="adj" fmla="val 6579"/>
              </a:avLst>
            </a:prstGeom>
            <a:solidFill>
              <a:srgbClr val="ffdbcd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  <p:sp>
          <p:nvSpPr>
            <p:cNvPr id="735" name="Rectangle 10"/>
            <p:cNvSpPr/>
            <p:nvPr/>
          </p:nvSpPr>
          <p:spPr>
            <a:xfrm>
              <a:off x="880920" y="3413520"/>
              <a:ext cx="41108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9b2c01"/>
                  </a:solidFill>
                  <a:latin typeface="Helvetica Neue Bold Condensed"/>
                  <a:ea typeface="Helvetica Neue Bold Condensed"/>
                </a:rPr>
                <a:t>SISTEMA DE INFORMACION (SI)</a:t>
              </a:r>
              <a:endParaRPr b="0" lang="en-US" sz="22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</p:grpSp>
      <p:grpSp>
        <p:nvGrpSpPr>
          <p:cNvPr id="736" name="Group 11"/>
          <p:cNvGrpSpPr/>
          <p:nvPr/>
        </p:nvGrpSpPr>
        <p:grpSpPr>
          <a:xfrm>
            <a:off x="1327320" y="4038480"/>
            <a:ext cx="3530520" cy="2006640"/>
            <a:chOff x="1327320" y="4038480"/>
            <a:chExt cx="3530520" cy="2006640"/>
          </a:xfrm>
        </p:grpSpPr>
        <p:sp>
          <p:nvSpPr>
            <p:cNvPr id="737" name="AutoShape 12"/>
            <p:cNvSpPr/>
            <p:nvPr/>
          </p:nvSpPr>
          <p:spPr>
            <a:xfrm>
              <a:off x="1535400" y="4038480"/>
              <a:ext cx="3124080" cy="2006640"/>
            </a:xfrm>
            <a:prstGeom prst="roundRect">
              <a:avLst>
                <a:gd name="adj" fmla="val 9491"/>
              </a:avLst>
            </a:prstGeom>
            <a:solidFill>
              <a:srgbClr val="d9eaca"/>
            </a:solidFill>
            <a:ln w="25560">
              <a:solidFill>
                <a:srgbClr val="3f691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  <p:sp>
          <p:nvSpPr>
            <p:cNvPr id="738" name="Rectangle 13"/>
            <p:cNvSpPr/>
            <p:nvPr/>
          </p:nvSpPr>
          <p:spPr>
            <a:xfrm>
              <a:off x="1327320" y="4133880"/>
              <a:ext cx="353052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f691e"/>
                  </a:solidFill>
                  <a:latin typeface="Helvetica Neue Bold Condensed"/>
                  <a:ea typeface="Helvetica Neue Bold Condensed"/>
                </a:rPr>
                <a:t>SISTEMA DE INFORMACION ADMINISTRATIVO (SIA)</a:t>
              </a:r>
              <a:endParaRPr b="0" lang="en-US" sz="18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</p:grpSp>
      <p:sp>
        <p:nvSpPr>
          <p:cNvPr id="739" name="AutoShape 14"/>
          <p:cNvSpPr/>
          <p:nvPr/>
        </p:nvSpPr>
        <p:spPr>
          <a:xfrm>
            <a:off x="2603520" y="4927680"/>
            <a:ext cx="1905120" cy="990360"/>
          </a:xfrm>
          <a:prstGeom prst="roundRect">
            <a:avLst>
              <a:gd name="adj" fmla="val 19227"/>
            </a:avLst>
          </a:prstGeom>
          <a:solidFill>
            <a:srgbClr val="c0edfe"/>
          </a:solidFill>
          <a:ln w="25560">
            <a:solidFill>
              <a:srgbClr val="2e6ff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d2067"/>
                </a:solidFill>
                <a:latin typeface="Helvetica Neue"/>
                <a:ea typeface="Helvetica Neue"/>
              </a:rPr>
              <a:t>SISTEMA DE PROCESAMIENTO DE DATOS (SPD)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40" name="AutoShape 15"/>
          <p:cNvSpPr/>
          <p:nvPr/>
        </p:nvSpPr>
        <p:spPr>
          <a:xfrm>
            <a:off x="5626080" y="3289320"/>
            <a:ext cx="2158920" cy="2870280"/>
          </a:xfrm>
          <a:custGeom>
            <a:avLst/>
            <a:gdLst>
              <a:gd name="textAreaLeft" fmla="*/ 55440 w 2158920"/>
              <a:gd name="textAreaRight" fmla="*/ 2103480 w 2158920"/>
              <a:gd name="textAreaTop" fmla="*/ 55440 h 2870280"/>
              <a:gd name="textAreaBottom" fmla="*/ 2814840 h 2870280"/>
            </a:gdLst>
            <a:ahLst/>
            <a:rect l="textAreaLeft" t="textAreaTop" r="textAreaRight" b="textAreaBottom"/>
            <a:pathLst>
              <a:path w="21600" h="28716">
                <a:moveTo>
                  <a:pt x="1905" y="0"/>
                </a:moveTo>
                <a:arcTo wR="1905" hR="1905" stAng="16200000" swAng="-5400000"/>
                <a:lnTo>
                  <a:pt x="0" y="26811"/>
                </a:lnTo>
                <a:arcTo wR="1905" hR="1905" stAng="10800000" swAng="-5400000"/>
                <a:lnTo>
                  <a:pt x="19695" y="28716"/>
                </a:lnTo>
                <a:arcTo wR="1905" hR="1905" stAng="5400000" swAng="-5400000"/>
                <a:lnTo>
                  <a:pt x="21600" y="1905"/>
                </a:lnTo>
                <a:arcTo wR="1905" hR="1905" stAng="0" swAng="-5400000"/>
                <a:close/>
              </a:path>
            </a:pathLst>
          </a:custGeom>
          <a:solidFill>
            <a:srgbClr val="2e6ffd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SISTEMA DE CONTROL DE GESTION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F982F-7D70-41B1-ADF4-B4D98167C99D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42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43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44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8160" y="177840"/>
            <a:ext cx="906768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a7594"/>
                </a:solidFill>
                <a:latin typeface="Helvetica Neue Light"/>
              </a:rPr>
              <a:t>Sistemas de Administración (SA)</a:t>
            </a:r>
            <a:endParaRPr b="0" lang="en-US" sz="4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360360" y="1405080"/>
            <a:ext cx="8415360" cy="5084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461"/>
                </a:solidFill>
                <a:latin typeface="Helvetica Neue"/>
              </a:rPr>
              <a:t>Es un conjunto interrelacionado de </a:t>
            </a:r>
            <a:r>
              <a:rPr b="1" lang="en-US" sz="2600" spc="-1" strike="noStrike">
                <a:solidFill>
                  <a:srgbClr val="646461"/>
                </a:solidFill>
                <a:latin typeface="Helvetica Neue"/>
              </a:rPr>
              <a:t>métodos, procedimientos, decisiones, etc</a:t>
            </a:r>
            <a:r>
              <a:rPr b="0" lang="en-US" sz="2600" spc="-1" strike="noStrike">
                <a:solidFill>
                  <a:srgbClr val="646461"/>
                </a:solidFill>
                <a:latin typeface="Helvetica Neue"/>
              </a:rPr>
              <a:t>., mediante los que la organización </a:t>
            </a:r>
            <a:r>
              <a:rPr b="1" lang="en-US" sz="2600" spc="-1" strike="noStrike">
                <a:solidFill>
                  <a:srgbClr val="646461"/>
                </a:solidFill>
                <a:latin typeface="Helvetica Neue"/>
              </a:rPr>
              <a:t>planifica, ejecuta y controla</a:t>
            </a:r>
            <a:r>
              <a:rPr b="0" lang="en-US" sz="2600" spc="-1" strike="noStrike">
                <a:solidFill>
                  <a:srgbClr val="646461"/>
                </a:solidFill>
                <a:latin typeface="Helvetica Neue"/>
              </a:rPr>
              <a:t> las actividades por las cuales alcanza sus metas y objetivos.</a:t>
            </a:r>
            <a:endParaRPr b="0" lang="en-US" sz="2600" spc="-1" strike="noStrike">
              <a:solidFill>
                <a:srgbClr val="646461"/>
              </a:solidFill>
              <a:latin typeface="Helvetica Neue"/>
            </a:endParaRPr>
          </a:p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461"/>
                </a:solidFill>
                <a:latin typeface="Helvetica Neue"/>
              </a:rPr>
              <a:t>Sus objetivos se confunden con los objetivos de la organización (negocio).</a:t>
            </a:r>
            <a:endParaRPr b="0" lang="en-US" sz="2600" spc="-1" strike="noStrike">
              <a:solidFill>
                <a:srgbClr val="646461"/>
              </a:solidFill>
              <a:latin typeface="Helvetica Neue"/>
            </a:endParaRPr>
          </a:p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461"/>
                </a:solidFill>
                <a:latin typeface="Helvetica Neue"/>
              </a:rPr>
              <a:t>Medioambiente corresponde a otros SA</a:t>
            </a:r>
            <a:r>
              <a:rPr b="0" lang="ja-JP" sz="2600" spc="-1" strike="noStrike">
                <a:solidFill>
                  <a:srgbClr val="646461"/>
                </a:solidFill>
                <a:latin typeface="Helvetica Neue"/>
              </a:rPr>
              <a:t>’</a:t>
            </a:r>
            <a:r>
              <a:rPr b="0" lang="en-US" sz="2600" spc="-1" strike="noStrike">
                <a:solidFill>
                  <a:srgbClr val="646461"/>
                </a:solidFill>
                <a:latin typeface="Helvetica Neue"/>
              </a:rPr>
              <a:t>s dentro y fuera de la organización</a:t>
            </a:r>
            <a:endParaRPr b="0" lang="en-US" sz="2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6ACA3-99BA-4757-8F03-B23B0D0A26BF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48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49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50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Sistema de Información (SI)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10760" y="2136600"/>
            <a:ext cx="8356680" cy="363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Es un sistema que maneja toda la información de apoyo a un SA (formal e informal, estructurada y no estructurada).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El objetivo es apoyar con información al SA relevante.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Medioambiente es el SA correspondiente.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35162-9889-4F56-A8B7-A898C33583F1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54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55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56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48840" y="317520"/>
            <a:ext cx="8425080" cy="1450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a7594"/>
                </a:solidFill>
                <a:latin typeface="Helvetica Neue Light"/>
              </a:rPr>
              <a:t>Sistema de Info. Adminstrativo (SIA)</a:t>
            </a:r>
            <a:endParaRPr b="0" lang="en-US" sz="4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304920" y="2209320"/>
            <a:ext cx="8534160" cy="346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Es un sistema que maneja la información </a:t>
            </a:r>
            <a:r>
              <a:rPr b="1" lang="en-US" sz="2400" spc="-1" strike="noStrike">
                <a:solidFill>
                  <a:srgbClr val="646461"/>
                </a:solidFill>
                <a:latin typeface="Verdana"/>
                <a:ea typeface="Verdana"/>
              </a:rPr>
              <a:t>formal</a:t>
            </a: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 de apoyo a un SA.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El objetivo es la </a:t>
            </a:r>
            <a:r>
              <a:rPr b="1" lang="en-US" sz="2400" spc="-1" strike="noStrike">
                <a:solidFill>
                  <a:srgbClr val="646461"/>
                </a:solidFill>
                <a:latin typeface="Helvetica Neue"/>
              </a:rPr>
              <a:t>identificación, manipulación</a:t>
            </a: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 (recolección, almacenamiento, actualización, recuperación, etc.) y difusión de la información de apoyo al SA relevante.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Medioambiente es el SA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991D3-21D0-44EA-90DB-7D75BEB230C5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60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61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62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29840" y="329760"/>
            <a:ext cx="8280360" cy="141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a7594"/>
                </a:solidFill>
                <a:latin typeface="Helvetica Neue Light"/>
              </a:rPr>
              <a:t>Sistema de Procesamiento de Datos (SPD)</a:t>
            </a:r>
            <a:endParaRPr b="0" lang="en-US" sz="4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330120" y="2377800"/>
            <a:ext cx="8483760" cy="313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Es un sistema </a:t>
            </a:r>
            <a:r>
              <a:rPr b="1" lang="en-US" sz="2400" spc="-1" strike="noStrike">
                <a:solidFill>
                  <a:srgbClr val="646461"/>
                </a:solidFill>
                <a:latin typeface="Verdana"/>
                <a:ea typeface="Verdana"/>
              </a:rPr>
              <a:t>mecanizado</a:t>
            </a: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 que maneja parte de la información </a:t>
            </a:r>
            <a:r>
              <a:rPr b="1" lang="en-US" sz="2400" spc="-1" strike="noStrike">
                <a:solidFill>
                  <a:srgbClr val="646461"/>
                </a:solidFill>
                <a:latin typeface="Verdana"/>
                <a:ea typeface="Verdana"/>
              </a:rPr>
              <a:t>estructurada</a:t>
            </a: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 de apoyo a un SA.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El objetivo es apoyar con información estructurada al SA relevante.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Medioambiente es el SIA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81500-54FF-47EB-A53B-4CB90A81B928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66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67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68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11280" y="342720"/>
            <a:ext cx="7912080" cy="1384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a7594"/>
                </a:solidFill>
                <a:latin typeface="Helvetica Neue Light"/>
              </a:rPr>
              <a:t>Sistema de Control de Gestión (SCG)</a:t>
            </a:r>
            <a:endParaRPr b="0" lang="en-US" sz="4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31640" y="2082600"/>
            <a:ext cx="8267760" cy="353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Es un sistema que </a:t>
            </a:r>
            <a:r>
              <a:rPr b="1" lang="en-US" sz="2400" spc="-1" strike="noStrike">
                <a:solidFill>
                  <a:srgbClr val="646461"/>
                </a:solidFill>
                <a:latin typeface="Helvetica Neue"/>
              </a:rPr>
              <a:t>monitorea</a:t>
            </a: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 y </a:t>
            </a:r>
            <a:r>
              <a:rPr b="1" lang="en-US" sz="2400" spc="-1" strike="noStrike">
                <a:solidFill>
                  <a:srgbClr val="646461"/>
                </a:solidFill>
                <a:latin typeface="Helvetica Neue"/>
              </a:rPr>
              <a:t>mide indicadores de gestión</a:t>
            </a: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 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1"/>
                </a:solidFill>
                <a:latin typeface="Helvetica Neue"/>
              </a:rPr>
              <a:t>Toma acciones</a:t>
            </a: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 en caso de ser necesario.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u objetivo es mantener a un sistema dentro de las especificaciones definidas.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Medioambiente es el sistema que es controlado. 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DD218-9235-41D3-923E-9753521486E6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72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73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74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75" name="AutoShape 4"/>
          <p:cNvSpPr/>
          <p:nvPr/>
        </p:nvSpPr>
        <p:spPr>
          <a:xfrm>
            <a:off x="2627280" y="2017800"/>
            <a:ext cx="4889520" cy="3292560"/>
          </a:xfrm>
          <a:custGeom>
            <a:avLst/>
            <a:gdLst>
              <a:gd name="textAreaLeft" fmla="*/ 0 w 4889520"/>
              <a:gd name="textAreaRight" fmla="*/ 4889880 w 4889520"/>
              <a:gd name="textAreaTop" fmla="*/ 0 h 3292560"/>
              <a:gd name="textAreaBottom" fmla="*/ 3292920 h 3292560"/>
            </a:gdLst>
            <a:ahLst/>
            <a:rect l="textAreaLeft" t="textAreaTop" r="textAreaRight" b="textAreaBottom"/>
            <a:pathLst>
              <a:path w="21600" h="21600">
                <a:moveTo>
                  <a:pt x="10796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10796" y="0"/>
                </a:lnTo>
                <a:close/>
                <a:moveTo>
                  <a:pt x="10796" y="0"/>
                </a:moveTo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grpSp>
        <p:nvGrpSpPr>
          <p:cNvPr id="776" name="Group 5"/>
          <p:cNvGrpSpPr/>
          <p:nvPr/>
        </p:nvGrpSpPr>
        <p:grpSpPr>
          <a:xfrm>
            <a:off x="2668680" y="5796000"/>
            <a:ext cx="4873680" cy="695160"/>
            <a:chOff x="2668680" y="5796000"/>
            <a:chExt cx="4873680" cy="695160"/>
          </a:xfrm>
        </p:grpSpPr>
        <p:sp>
          <p:nvSpPr>
            <p:cNvPr id="777" name="Rectangle 6"/>
            <p:cNvSpPr/>
            <p:nvPr/>
          </p:nvSpPr>
          <p:spPr>
            <a:xfrm>
              <a:off x="2668680" y="5796000"/>
              <a:ext cx="4873680" cy="6951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  <p:sp>
          <p:nvSpPr>
            <p:cNvPr id="778" name="Rectangle 7"/>
            <p:cNvSpPr/>
            <p:nvPr/>
          </p:nvSpPr>
          <p:spPr>
            <a:xfrm>
              <a:off x="4184280" y="5869080"/>
              <a:ext cx="1840680" cy="54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1400" tIns="0" bIns="0" anchor="ctr">
              <a:spAutoFit/>
            </a:bodyPr>
            <a:p>
              <a:pPr marL="414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PRODUCCION</a:t>
              </a:r>
              <a:endParaRPr b="0" lang="en-US" sz="2000" spc="-1" strike="noStrike">
                <a:solidFill>
                  <a:srgbClr val="4a7594"/>
                </a:solidFill>
                <a:latin typeface="Helvetica Neue Bold Condensed"/>
              </a:endParaRPr>
            </a:p>
            <a:p>
              <a:pPr marL="414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(RECURSOS)</a:t>
              </a:r>
              <a:endParaRPr b="0" lang="en-US" sz="16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</p:grpSp>
      <p:sp>
        <p:nvSpPr>
          <p:cNvPr id="779" name="Rectangle 8"/>
          <p:cNvSpPr/>
          <p:nvPr/>
        </p:nvSpPr>
        <p:spPr>
          <a:xfrm>
            <a:off x="3851280" y="2905200"/>
            <a:ext cx="243828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1400" tIns="0" bIns="0" anchor="ctr">
            <a:noAutofit/>
          </a:bodyPr>
          <a:p>
            <a:pPr marL="41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ESTRATEGICO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80" name="Rectangle 9"/>
          <p:cNvSpPr/>
          <p:nvPr/>
        </p:nvSpPr>
        <p:spPr>
          <a:xfrm>
            <a:off x="3581280" y="3478320"/>
            <a:ext cx="30481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1400" tIns="0" bIns="0" anchor="ctr">
            <a:noAutofit/>
          </a:bodyPr>
          <a:p>
            <a:pPr marL="414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ADMINISTRATIVO</a:t>
            </a:r>
            <a:r>
              <a:rPr b="1" lang="en-US" sz="20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O DE GESTION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81" name="Rectangle 10"/>
          <p:cNvSpPr/>
          <p:nvPr/>
        </p:nvSpPr>
        <p:spPr>
          <a:xfrm>
            <a:off x="3544920" y="4861080"/>
            <a:ext cx="2971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1400" tIns="0" bIns="0" anchor="ctr">
            <a:noAutofit/>
          </a:bodyPr>
          <a:p>
            <a:pPr marL="41400" algn="ctr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OPERACIONAL</a:t>
            </a:r>
            <a:r>
              <a:rPr b="1" lang="en-US" sz="1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82" name="Line 11"/>
          <p:cNvSpPr/>
          <p:nvPr/>
        </p:nvSpPr>
        <p:spPr>
          <a:xfrm>
            <a:off x="1192320" y="2119320"/>
            <a:ext cx="14040" cy="1135080"/>
          </a:xfrm>
          <a:prstGeom prst="line">
            <a:avLst/>
          </a:prstGeom>
          <a:ln w="25560">
            <a:solidFill>
              <a:srgbClr val="ff33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83" name="Rectangle 12"/>
          <p:cNvSpPr/>
          <p:nvPr/>
        </p:nvSpPr>
        <p:spPr>
          <a:xfrm>
            <a:off x="216000" y="3355920"/>
            <a:ext cx="220968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1400" tIns="0" bIns="0" anchor="ctr">
            <a:noAutofit/>
          </a:bodyPr>
          <a:p>
            <a:pPr marL="41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a7594"/>
                </a:solidFill>
                <a:latin typeface="Times New Roman"/>
                <a:ea typeface="Times New Roman"/>
              </a:rPr>
              <a:t>ADMINISTRACION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84" name="Line 13"/>
          <p:cNvSpPr/>
          <p:nvPr/>
        </p:nvSpPr>
        <p:spPr>
          <a:xfrm>
            <a:off x="1181160" y="3801960"/>
            <a:ext cx="1440" cy="1414440"/>
          </a:xfrm>
          <a:prstGeom prst="line">
            <a:avLst/>
          </a:prstGeom>
          <a:ln w="255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85" name="Rectangle 14"/>
          <p:cNvSpPr/>
          <p:nvPr/>
        </p:nvSpPr>
        <p:spPr>
          <a:xfrm>
            <a:off x="355680" y="5680080"/>
            <a:ext cx="191772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1400" tIns="0" bIns="0" anchor="ctr">
            <a:noAutofit/>
          </a:bodyPr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a7594"/>
                </a:solidFill>
                <a:latin typeface="Times New Roman"/>
                <a:ea typeface="Times New Roman"/>
              </a:rPr>
              <a:t>OPERACIONES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86" name="Rectangle 15"/>
          <p:cNvSpPr/>
          <p:nvPr/>
        </p:nvSpPr>
        <p:spPr>
          <a:xfrm>
            <a:off x="7647120" y="5831640"/>
            <a:ext cx="12693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1400" tIns="0" bIns="0" anchor="ctr">
            <a:spAutoFit/>
          </a:bodyPr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7594"/>
                </a:solidFill>
                <a:latin typeface="Arial"/>
                <a:ea typeface="Arial"/>
              </a:rPr>
              <a:t>PRODUCTOS: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7594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4a7594"/>
                </a:solidFill>
                <a:latin typeface="Arial"/>
                <a:ea typeface="Arial"/>
              </a:rPr>
              <a:t>BIENES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7594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4a7594"/>
                </a:solidFill>
                <a:latin typeface="Arial"/>
                <a:ea typeface="Arial"/>
              </a:rPr>
              <a:t>SERVICIOS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87" name="Rectangle 16"/>
          <p:cNvSpPr/>
          <p:nvPr/>
        </p:nvSpPr>
        <p:spPr>
          <a:xfrm>
            <a:off x="1635120" y="6043320"/>
            <a:ext cx="914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1400" tIns="0" bIns="0" anchor="ctr">
            <a:spAutoFit/>
          </a:bodyPr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7594"/>
                </a:solidFill>
                <a:latin typeface="Arial"/>
                <a:ea typeface="Arial"/>
              </a:rPr>
              <a:t>INSUMOS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88" name="AutoShape 17"/>
          <p:cNvSpPr/>
          <p:nvPr/>
        </p:nvSpPr>
        <p:spPr>
          <a:xfrm>
            <a:off x="3228840" y="5381640"/>
            <a:ext cx="360360" cy="369720"/>
          </a:xfrm>
          <a:custGeom>
            <a:avLst/>
            <a:gdLst>
              <a:gd name="textAreaLeft" fmla="*/ 0 w 360360"/>
              <a:gd name="textAreaRight" fmla="*/ 360720 w 360360"/>
              <a:gd name="textAreaTop" fmla="*/ 0 h 369720"/>
              <a:gd name="textAreaBottom" fmla="*/ 370080 h 369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5400" y="5400"/>
                </a:lnTo>
                <a:lnTo>
                  <a:pt x="5400" y="21600"/>
                </a:lnTo>
                <a:lnTo>
                  <a:pt x="16200" y="21600"/>
                </a:lnTo>
                <a:lnTo>
                  <a:pt x="16200" y="5400"/>
                </a:lnTo>
                <a:lnTo>
                  <a:pt x="21600" y="5400"/>
                </a:lnTo>
                <a:lnTo>
                  <a:pt x="10800" y="0"/>
                </a:lnTo>
                <a:lnTo>
                  <a:pt x="0" y="5400"/>
                </a:lnTo>
                <a:close/>
                <a:moveTo>
                  <a:pt x="0" y="5400"/>
                </a:move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89" name="AutoShape 18"/>
          <p:cNvSpPr/>
          <p:nvPr/>
        </p:nvSpPr>
        <p:spPr>
          <a:xfrm>
            <a:off x="6443640" y="5381640"/>
            <a:ext cx="360360" cy="369720"/>
          </a:xfrm>
          <a:custGeom>
            <a:avLst/>
            <a:gdLst>
              <a:gd name="textAreaLeft" fmla="*/ 0 w 360360"/>
              <a:gd name="textAreaRight" fmla="*/ 360720 w 360360"/>
              <a:gd name="textAreaTop" fmla="*/ 0 h 369720"/>
              <a:gd name="textAreaBottom" fmla="*/ 370080 h 369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lnTo>
                  <a:pt x="5400" y="16200"/>
                </a:lnTo>
                <a:lnTo>
                  <a:pt x="5400" y="0"/>
                </a:lnTo>
                <a:lnTo>
                  <a:pt x="16200" y="0"/>
                </a:lnTo>
                <a:lnTo>
                  <a:pt x="16200" y="16200"/>
                </a:lnTo>
                <a:lnTo>
                  <a:pt x="21600" y="16200"/>
                </a:lnTo>
                <a:lnTo>
                  <a:pt x="10800" y="21600"/>
                </a:lnTo>
                <a:lnTo>
                  <a:pt x="0" y="16200"/>
                </a:lnTo>
                <a:close/>
                <a:moveTo>
                  <a:pt x="0" y="16200"/>
                </a:move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90" name="Rectangle 19"/>
          <p:cNvSpPr/>
          <p:nvPr/>
        </p:nvSpPr>
        <p:spPr>
          <a:xfrm>
            <a:off x="3057480" y="4241880"/>
            <a:ext cx="39625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1400" tIns="0" bIns="0" anchor="ctr">
            <a:noAutofit/>
          </a:bodyPr>
          <a:p>
            <a:pPr marL="41400"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MANEJO DE INFORMACION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91" name="Line 20"/>
          <p:cNvSpPr/>
          <p:nvPr/>
        </p:nvSpPr>
        <p:spPr>
          <a:xfrm>
            <a:off x="3060720" y="4753080"/>
            <a:ext cx="4032360" cy="144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92" name="Line 21"/>
          <p:cNvSpPr/>
          <p:nvPr/>
        </p:nvSpPr>
        <p:spPr>
          <a:xfrm>
            <a:off x="3564000" y="4033800"/>
            <a:ext cx="3024000" cy="180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93" name="Line 22"/>
          <p:cNvSpPr/>
          <p:nvPr/>
        </p:nvSpPr>
        <p:spPr>
          <a:xfrm>
            <a:off x="4140360" y="3313080"/>
            <a:ext cx="1871640" cy="180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Modelo de Uso de Información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  <p:transition>
    <p:zoom dir="ou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75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75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75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75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ula Varas</dc:creator>
  <dc:description/>
  <cp:keywords/>
  <dc:language>en-US</dc:language>
  <cp:lastModifiedBy>nn nn</cp:lastModifiedBy>
  <dcterms:modified xsi:type="dcterms:W3CDTF">2011-12-05T13:46:18Z</dcterms:modified>
  <cp:revision>2</cp:revision>
  <dc:subject/>
  <dc:title>Introducción al Análisis de los Sistemas de Información Administrativos</dc:title>
</cp:coreProperties>
</file>