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A07AA-3072-486E-9CD5-14BACB179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B1B6A-6A0C-4A72-B27F-B448B751B6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A3B18-12F5-4F1C-96A9-B2FF59D3592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F9B0C-345B-423F-8AD0-E53A979E7F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CA2A5-8110-4074-B9A9-C244391B97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663C1-5070-461E-A65F-68A315671A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CAF21-41C0-4837-A59D-175E8E8855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B0722-08BF-4D71-B2BB-6B519438BFC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3E240-95D2-4384-9971-851D62DA825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17C86-F3F7-4C74-9458-1D837CE660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EDAFF-4856-4627-98FF-E9B8BC468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D1B6C-F0C8-42B8-A347-7DE2AD1757F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A9A2-DA05-405F-B059-753E0409CE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3BDD-AC94-4ED7-A75B-99FB43D25DC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5401-256B-423C-B789-B1D3E52E6BE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EA7A-7C3C-4F6A-9ACA-623EEB532EE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7893-3076-4F6C-A3B2-3A5FCB4D26A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98EC-BD65-4A4D-A158-E43BC2CB06A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86FE-6F6F-4857-971D-9075FE3ADE5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D596-7F96-4744-88C1-249E793D57C5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04B6-2482-4371-BD5B-49444135CBF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B4948-5447-47D5-85EA-BDE9762D1D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53BF-F025-479A-A5CE-F0402DBE5F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24CB-D928-4877-81BB-08E7F4CC93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A6A6-741C-4E2A-97AE-8C25657FA9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C38B-DAE3-4BC1-AE87-C62D8376F5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B114-291A-473C-942B-7E9037B133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671E-DB45-495A-B6A1-3D23D0CB6B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BA12-8BD0-4B5C-91DA-708DB9A55DF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7364-6402-44B6-81A0-4C64013CDB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ECD7-E73F-453F-A5E5-1607D5A88C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E062-AB11-4AF8-9018-68D1345347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3E705-C1ED-4A0B-8979-E2AB4F02E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520F-CDB5-48E3-AE5A-67038320BD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0EF4-7172-4C23-A0F4-1C4273ADB2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B564-B1E7-43B0-B166-50C3BAD9CDB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1A88-A438-4A8B-93CF-D9FCEDAEBB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6AE-F086-4271-BE37-0D4BF6068B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696-6169-4B48-B5AE-00EDA3A085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803-0E56-4D86-8D65-0D3EB4E6F4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4E7-520D-449D-8F2D-C200EC49D8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BF6-1AA0-40F3-BDAD-008B858C8E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C6B-E6D5-45EF-96C1-72D104890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2EA-D64B-4D0E-92F6-0E359F89635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7E7-1313-4181-88F2-9B8A1941AB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08E-8617-440D-BFB9-BA9AB1ED14D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F98-BAF3-476E-AAFA-B322EF06960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C730-E1DD-42B4-A73A-5C98C8A2E3C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3320" y="3683160"/>
            <a:ext cx="7416720" cy="185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3320" y="5524560"/>
            <a:ext cx="7416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-1026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222840" indent="-8568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342720" indent="-684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479880" indent="-684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617040" indent="-6840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4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324-EA41-4B8A-BF0F-2311D8AA2CF1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3320" y="2514240"/>
            <a:ext cx="741672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8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DC3-3C1F-4355-AD10-B550A65E354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6200" y="1422000"/>
            <a:ext cx="3746520" cy="201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6200" y="3429000"/>
            <a:ext cx="37465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marL="226080" indent="-22608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490320" indent="-1886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75420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05588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135756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6056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36200" y="1041480"/>
            <a:ext cx="7683480" cy="47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39276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50960" indent="-392760">
              <a:spcBef>
                <a:spcPts val="33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5560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6024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6452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4F50-6BC2-41D2-900C-65F32C5638A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3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7B1C-D670-49F1-9D7D-1467563A7C7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6200" y="2577600"/>
            <a:ext cx="76834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98680" y="3568320"/>
            <a:ext cx="74167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Rediseño de Procesos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89120" y="5257800"/>
            <a:ext cx="421632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83a6"/>
                </a:solidFill>
                <a:latin typeface="Helvetica Neue Bold Condensed"/>
              </a:rPr>
              <a:t>Sistemas de Información Administrativos</a:t>
            </a:r>
            <a:endParaRPr b="0" lang="en-US" sz="18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Departamento de Ingeniería Industria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Universidad de Chile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83a6"/>
                </a:solidFill>
                <a:latin typeface="Helvetica Neue Bold Condensed"/>
              </a:rPr>
              <a:t>Derechos Reservados (c)</a:t>
            </a:r>
            <a:endParaRPr b="0" lang="en-US" sz="1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1229-6652-4BAD-B225-C06C33A3941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operativ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que hacen al seguimiento de las actividades y las transacciones elementales de la organización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cantidad del producto SKU 12-45-89 hay en la bodega 6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ocurrió con el pago de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199F-26F8-49EA-95D1-D2DB4481FA9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manej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en los que se apoyan a los trabajadores con el conocimiento y de la información de la institución.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agregamos el producto.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modificamos la presentación del producto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D29A-F872-491D-9344-71198C9D12D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437760" y="166356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en los que se apoya el seguimiento, control, toma de decisiones y actividades de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Todo marcha bien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ómo estamos con respecto al mes-bimestre-semestre-año... Anterior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asa si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 seria el impacto sobre el Dpto. de producción si se duplican las venta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Es necesario crear una nueva area de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gest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6E5-26D9-4D11-9CA9-56D245ACCFD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que apoya a las actividades de plantación a largo plazo de los niveles de dirección de la institu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ian los niveles de emple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án las tendencias de costo en un plazo de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roducto estaremos fabricand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estratégic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FCA7-76F5-473A-99B1-9C049013174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01240" y="76320"/>
            <a:ext cx="88772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a7594"/>
                </a:solidFill>
                <a:latin typeface="Helvetica Neue Light"/>
              </a:rPr>
              <a:t>Funciones Básicas de Administración en la Organización</a:t>
            </a:r>
            <a:endParaRPr b="0" lang="en-US" sz="4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2730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Planif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el establecimiento de objetivos funcionales y subfuncionales de la organización, con su correspondiente seguimiento, y determinación de cursos de ac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Niveles de Planificación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Iteración de Procesos de Planificación 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5D4-9FBB-4828-9BC0-E3F38F2F637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6800" y="20592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30040" y="3733560"/>
            <a:ext cx="8661600" cy="2616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Estructura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quema formal de relaciones entre las componentes de un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4272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                 </a:t>
            </a: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scomposición Funcional o de Proceso de la Organización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31" name="Oval 6"/>
          <p:cNvSpPr/>
          <p:nvPr/>
        </p:nvSpPr>
        <p:spPr>
          <a:xfrm>
            <a:off x="4299120" y="12319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2" name="Oval 7"/>
          <p:cNvSpPr/>
          <p:nvPr/>
        </p:nvSpPr>
        <p:spPr>
          <a:xfrm>
            <a:off x="2470320" y="2146320"/>
            <a:ext cx="36828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3" name="Oval 8"/>
          <p:cNvSpPr/>
          <p:nvPr/>
        </p:nvSpPr>
        <p:spPr>
          <a:xfrm>
            <a:off x="42228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4" name="Oval 9"/>
          <p:cNvSpPr/>
          <p:nvPr/>
        </p:nvSpPr>
        <p:spPr>
          <a:xfrm>
            <a:off x="58230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5" name="Oval 10"/>
          <p:cNvSpPr/>
          <p:nvPr/>
        </p:nvSpPr>
        <p:spPr>
          <a:xfrm>
            <a:off x="155592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6" name="Oval 11"/>
          <p:cNvSpPr/>
          <p:nvPr/>
        </p:nvSpPr>
        <p:spPr>
          <a:xfrm>
            <a:off x="3003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7" name="Oval 12"/>
          <p:cNvSpPr/>
          <p:nvPr/>
        </p:nvSpPr>
        <p:spPr>
          <a:xfrm>
            <a:off x="5289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8" name="Oval 13"/>
          <p:cNvSpPr/>
          <p:nvPr/>
        </p:nvSpPr>
        <p:spPr>
          <a:xfrm>
            <a:off x="628020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9" name="Line 14"/>
          <p:cNvSpPr/>
          <p:nvPr/>
        </p:nvSpPr>
        <p:spPr>
          <a:xfrm flipH="1">
            <a:off x="2768400" y="1530360"/>
            <a:ext cx="1523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4673520" y="1530360"/>
            <a:ext cx="1219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1" name="Line 16"/>
          <p:cNvSpPr/>
          <p:nvPr/>
        </p:nvSpPr>
        <p:spPr>
          <a:xfrm flipH="1">
            <a:off x="1854360" y="244476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2616120" y="244476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4444920" y="1606680"/>
            <a:ext cx="1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4" name="Line 19"/>
          <p:cNvSpPr/>
          <p:nvPr/>
        </p:nvSpPr>
        <p:spPr>
          <a:xfrm flipH="1">
            <a:off x="5587920" y="244476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5" name="Line 20"/>
          <p:cNvSpPr/>
          <p:nvPr/>
        </p:nvSpPr>
        <p:spPr>
          <a:xfrm>
            <a:off x="6045120" y="24447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6874920" y="1336680"/>
            <a:ext cx="15282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t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Elementa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3F9D-90D6-49EE-AA20-F02D7B9A644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1332000" y="1622520"/>
            <a:ext cx="7173720" cy="4441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520" y="23148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Funcional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A62-1943-4BA7-ABA7-8C0D0C39481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1"/>
          <a:stretch/>
        </p:blipFill>
        <p:spPr>
          <a:xfrm>
            <a:off x="1403280" y="1763640"/>
            <a:ext cx="6883560" cy="4353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8480" y="168120"/>
            <a:ext cx="862308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Proceso de Negocio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50C5-34AA-4AD5-8103-3721E19EF2C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2360" y="365040"/>
            <a:ext cx="7583400" cy="1408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6800" y="1544760"/>
            <a:ext cx="83822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lnSpc>
                <a:spcPct val="90000"/>
              </a:lnSpc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Control: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es la observación y medición dinámica del desempeño de las diferentes actividades de la organización, con su correspondiente definición de acciones correctivas</a:t>
            </a:r>
            <a:r>
              <a:rPr b="0" lang="en-US" sz="2600" spc="-1" strike="noStrike">
                <a:solidFill>
                  <a:srgbClr val="336699"/>
                </a:solidFill>
                <a:latin typeface="Helvetica Neue"/>
              </a:rPr>
              <a:t>  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6653160" y="350532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IDA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3284640" y="4057560"/>
            <a:ext cx="2438280" cy="444600"/>
          </a:xfrm>
          <a:prstGeom prst="rect">
            <a:avLst/>
          </a:prstGeom>
          <a:solidFill>
            <a:srgbClr val="fe4940"/>
          </a:solidFill>
          <a:ln w="38160">
            <a:solidFill>
              <a:srgbClr val="cc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OCESAMENTO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222720" y="5983200"/>
            <a:ext cx="273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RETROALIMENTACIO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5946840" y="4264200"/>
            <a:ext cx="708120" cy="1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2155680" y="4322880"/>
            <a:ext cx="974880" cy="9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493560" y="344340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D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71" name="Group 12"/>
          <p:cNvGrpSpPr/>
          <p:nvPr/>
        </p:nvGrpSpPr>
        <p:grpSpPr>
          <a:xfrm>
            <a:off x="1057320" y="5227560"/>
            <a:ext cx="6517800" cy="755640"/>
            <a:chOff x="1057320" y="5227560"/>
            <a:chExt cx="6517800" cy="755640"/>
          </a:xfrm>
        </p:grpSpPr>
        <p:sp>
          <p:nvSpPr>
            <p:cNvPr id="872" name="AutoShape 13"/>
            <p:cNvSpPr/>
            <p:nvPr/>
          </p:nvSpPr>
          <p:spPr>
            <a:xfrm>
              <a:off x="1057320" y="5227560"/>
              <a:ext cx="423720" cy="755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5400" y="5400"/>
                  </a:lnTo>
                  <a:lnTo>
                    <a:pt x="5400" y="21600"/>
                  </a:lnTo>
                  <a:lnTo>
                    <a:pt x="16200" y="21600"/>
                  </a:lnTo>
                  <a:lnTo>
                    <a:pt x="16200" y="5400"/>
                  </a:lnTo>
                  <a:lnTo>
                    <a:pt x="21600" y="5400"/>
                  </a:lnTo>
                  <a:lnTo>
                    <a:pt x="10800" y="0"/>
                  </a:lnTo>
                  <a:lnTo>
                    <a:pt x="0" y="5400"/>
                  </a:lnTo>
                  <a:close/>
                  <a:moveTo>
                    <a:pt x="0" y="5400"/>
                  </a:moveTo>
                </a:path>
              </a:pathLst>
            </a:cu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3" name="Rectangle 14"/>
            <p:cNvSpPr/>
            <p:nvPr/>
          </p:nvSpPr>
          <p:spPr>
            <a:xfrm>
              <a:off x="1198440" y="5776920"/>
              <a:ext cx="6307200" cy="2062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4" name="Rectangle 15"/>
            <p:cNvSpPr/>
            <p:nvPr/>
          </p:nvSpPr>
          <p:spPr>
            <a:xfrm flipH="1" rot="5400000">
              <a:off x="7158600" y="5567040"/>
              <a:ext cx="619200" cy="2127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B17F-FD73-4849-ADAD-EC0684EB41A4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82160" y="231480"/>
            <a:ext cx="84330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Control de Gestión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80" name="AutoShape 5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882" name="Rectangle 7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884" name="Rectangle 9"/>
          <p:cNvSpPr/>
          <p:nvPr/>
        </p:nvSpPr>
        <p:spPr>
          <a:xfrm>
            <a:off x="3876840" y="2867040"/>
            <a:ext cx="2438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5" name="Rectangle 10"/>
          <p:cNvSpPr/>
          <p:nvPr/>
        </p:nvSpPr>
        <p:spPr>
          <a:xfrm>
            <a:off x="3581280" y="3624120"/>
            <a:ext cx="3048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tactico, 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6" name="Rectangle 11"/>
          <p:cNvSpPr/>
          <p:nvPr/>
        </p:nvSpPr>
        <p:spPr>
          <a:xfrm>
            <a:off x="3583080" y="4511520"/>
            <a:ext cx="297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7" name="Line 12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8" name="Rectangle 13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9" name="Line 14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0" name="Rectangle 15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1" name="Rectangle 16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2" name="Rectangle 17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3" name="AutoShape 18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4" name="AutoShape 19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5" name="Line 20"/>
          <p:cNvSpPr/>
          <p:nvPr/>
        </p:nvSpPr>
        <p:spPr>
          <a:xfrm>
            <a:off x="3246480" y="4503600"/>
            <a:ext cx="3681360" cy="64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6" name="Line 21"/>
          <p:cNvSpPr/>
          <p:nvPr/>
        </p:nvSpPr>
        <p:spPr>
          <a:xfrm>
            <a:off x="3971880" y="3505320"/>
            <a:ext cx="2205000" cy="936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C67C-5122-41BD-9F8A-A389A20A11A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1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150480"/>
            <a:ext cx="7850160" cy="16225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La Organización como Sistem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723960" y="1790640"/>
            <a:ext cx="7683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1100"/>
              </a:spcBef>
              <a:buSzPct val="1592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Organización: tipo especial de sistema que presenta actividad o comportamientoElementos de la Organización: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ponent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estructur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unic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decision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ntrol y retroalimentación dinámic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69A5-42D6-469D-9FC1-38A078B1C79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87080" y="301320"/>
            <a:ext cx="7404120" cy="9270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V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 fontScale="98000"/>
          </a:bodyPr>
          <a:p>
            <a:pPr marL="376200" indent="-3355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Toma de Decisiones: 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el establecimiento de los procesos que permitirán la elección entre los diferentes cursos de acción alternativo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3 aspectos: la decisión, el proceso de toma de decisiones (reglas, datos, etc.) y el tomador de decision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Decisiones programables y no programabl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Asociada a la decisión existe un grupo de información que comunica el resultad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5872-83C3-467A-AADE-7C459E2ED52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66400" y="279360"/>
            <a:ext cx="768348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Tipos de decision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0760" y="1773000"/>
            <a:ext cx="770868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Estructuradas o Programables: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pueden ser tomadas de acuerdo a una regla (si se cumple un conjunto de condiciones se ejecuta un conjunto de acciones)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No Estructurada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no es posible tomar de acuerdo a una regla ya que hay factores subjetivos o riesgo asociado al cumplimiento de las condiciones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8F03-3620-4E8C-89BD-6901323172C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Decisiones por Nivel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12400" y="1201320"/>
            <a:ext cx="424188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Estratégic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No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Larg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Control de Gestión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Semi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Median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Operacional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Cort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4416480" y="2014560"/>
            <a:ext cx="4572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ESTRATÉGICO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PRINCIPALMENTE EXTERN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LECTIVA Y AGREGAD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CONTROL DE GESTIÓ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 Y EX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MI AGREGAD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OPERACIONAL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MASIV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0A53-2B1A-4A6F-8CD4-07C7FF45535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8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173160"/>
            <a:ext cx="7631280" cy="1743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Funciones Básicas V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69800" y="1941480"/>
            <a:ext cx="8204400" cy="38988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Comun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la identificación y establecimiento de los flujos de información que son necesarios para que las diferentes funciones y componentes de la organización aseguren que se logre la programación adecuada para alcanzar sus respectivos objetivo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055A-3D26-4603-ADD8-C24E01D6316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926" name="Picture 4" descr=""/>
          <p:cNvPicPr/>
          <p:nvPr/>
        </p:nvPicPr>
        <p:blipFill>
          <a:blip r:embed="rId1"/>
          <a:stretch/>
        </p:blipFill>
        <p:spPr>
          <a:xfrm>
            <a:off x="925560" y="1900080"/>
            <a:ext cx="7318440" cy="483264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03440" y="236160"/>
            <a:ext cx="77342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edios de Comunicación Form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F8A2-B9B7-44C1-98E0-A7B2FD4FA60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l rol de los SI en la empres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Lo que una empresa desea hacer dentro de 5 años, depende a menudo de lo que los sistemas sean capaces de hacer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xiste una interdependencia creciente en la estrategia de negocios y los SI (alineamiento)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Complejidad creciente de los SI y la visión de los proyectos de sistemas y sus aplicacione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C757-28CD-4263-B4BF-932DD72031E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6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8" name="Line 4"/>
          <p:cNvSpPr/>
          <p:nvPr/>
        </p:nvSpPr>
        <p:spPr>
          <a:xfrm flipV="1">
            <a:off x="1843200" y="1870200"/>
            <a:ext cx="5689440" cy="41767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nfoque moderno de SI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843200" y="1870200"/>
            <a:ext cx="5689440" cy="417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941" name="Group 7"/>
          <p:cNvGrpSpPr/>
          <p:nvPr/>
        </p:nvGrpSpPr>
        <p:grpSpPr>
          <a:xfrm>
            <a:off x="3643200" y="3022560"/>
            <a:ext cx="2305080" cy="1944720"/>
            <a:chOff x="3643200" y="3022560"/>
            <a:chExt cx="2305080" cy="1944720"/>
          </a:xfrm>
        </p:grpSpPr>
        <p:sp>
          <p:nvSpPr>
            <p:cNvPr id="942" name="Oval 8"/>
            <p:cNvSpPr/>
            <p:nvPr/>
          </p:nvSpPr>
          <p:spPr>
            <a:xfrm>
              <a:off x="3643200" y="3022560"/>
              <a:ext cx="2305080" cy="19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259880" y="3818520"/>
              <a:ext cx="1069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78120" tIns="38160" bIns="38160" anchor="ctr">
              <a:spAutoFit/>
            </a:bodyPr>
            <a:p>
              <a:pPr marL="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a7594"/>
                  </a:solidFill>
                  <a:latin typeface="Verdana"/>
                  <a:ea typeface="Verdana"/>
                </a:rPr>
                <a:t>SIA - MI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944" name="Rectangle 10"/>
          <p:cNvSpPr/>
          <p:nvPr/>
        </p:nvSpPr>
        <p:spPr>
          <a:xfrm>
            <a:off x="1913040" y="4168080"/>
            <a:ext cx="1742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S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ADMINISTR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2404080" y="2347200"/>
            <a:ext cx="1492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UT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6" name="Rectangle 12"/>
          <p:cNvSpPr/>
          <p:nvPr/>
        </p:nvSpPr>
        <p:spPr>
          <a:xfrm>
            <a:off x="4518000" y="1941480"/>
            <a:ext cx="19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INVESTIGACIÓN Y GESTIÓN DE 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7" name="Rectangle 13"/>
          <p:cNvSpPr/>
          <p:nvPr/>
        </p:nvSpPr>
        <p:spPr>
          <a:xfrm>
            <a:off x="540000" y="1886760"/>
            <a:ext cx="1061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TÉCNICO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6058800" y="3319920"/>
            <a:ext cx="123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SOCI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5418720" y="5126760"/>
            <a:ext cx="89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OLÍTIC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2949480" y="54882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SIC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6491160" y="6048360"/>
            <a:ext cx="2222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 DEL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ORTAMIENT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CDF8-D836-4D02-8838-96170C7284F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entarios Fin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6520" y="2192400"/>
            <a:ext cx="811512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 organización es un caso especial de sistemas, que posee una estructura y comportamiento especial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xisten diferentes funciones básicas que caracterizan el comportamient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s oportunidades de rediseño surgen de un buen entendimiento del model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B1A-2CD0-467F-B2F5-EF6AF2468717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petencia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4840" y="209376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ntender lo que es un sistem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SI, SIA, SCG y SPD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onocer las funciones básicas de administración en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los distintos tipos de decisione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F79B-2A2D-409A-9DF0-4CC5B7B68B7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s existentes en la Organiz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30" name="Group 5"/>
          <p:cNvGrpSpPr/>
          <p:nvPr/>
        </p:nvGrpSpPr>
        <p:grpSpPr>
          <a:xfrm>
            <a:off x="838080" y="2565360"/>
            <a:ext cx="7467480" cy="3797280"/>
            <a:chOff x="838080" y="2565360"/>
            <a:chExt cx="7467480" cy="3797280"/>
          </a:xfrm>
        </p:grpSpPr>
        <p:sp>
          <p:nvSpPr>
            <p:cNvPr id="731" name="AutoShape 6"/>
            <p:cNvSpPr/>
            <p:nvPr/>
          </p:nvSpPr>
          <p:spPr>
            <a:xfrm>
              <a:off x="838080" y="2565360"/>
              <a:ext cx="7467480" cy="3797280"/>
            </a:xfrm>
            <a:prstGeom prst="roundRect">
              <a:avLst>
                <a:gd name="adj" fmla="val 5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7643" dir="2389226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2266560" y="2702160"/>
              <a:ext cx="461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 Bold Condensed"/>
                  <a:ea typeface="Helvetica Neue Bold Condensed"/>
                </a:rPr>
                <a:t>SISTEMA DE ADMINISTRACIÓN (SA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3" name="Group 8"/>
          <p:cNvGrpSpPr/>
          <p:nvPr/>
        </p:nvGrpSpPr>
        <p:grpSpPr>
          <a:xfrm>
            <a:off x="880920" y="3276720"/>
            <a:ext cx="4110840" cy="2895480"/>
            <a:chOff x="880920" y="3276720"/>
            <a:chExt cx="4110840" cy="2895480"/>
          </a:xfrm>
        </p:grpSpPr>
        <p:sp>
          <p:nvSpPr>
            <p:cNvPr id="734" name="AutoShape 9"/>
            <p:cNvSpPr/>
            <p:nvPr/>
          </p:nvSpPr>
          <p:spPr>
            <a:xfrm>
              <a:off x="1104840" y="3276720"/>
              <a:ext cx="3657600" cy="2895480"/>
            </a:xfrm>
            <a:prstGeom prst="roundRect">
              <a:avLst>
                <a:gd name="adj" fmla="val 6579"/>
              </a:avLst>
            </a:prstGeom>
            <a:solidFill>
              <a:srgbClr val="ffdbcd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5" name="Rectangle 10"/>
            <p:cNvSpPr/>
            <p:nvPr/>
          </p:nvSpPr>
          <p:spPr>
            <a:xfrm>
              <a:off x="880920" y="3413520"/>
              <a:ext cx="411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b2c01"/>
                  </a:solidFill>
                  <a:latin typeface="Helvetica Neue Bold Condensed"/>
                  <a:ea typeface="Helvetica Neue Bold Condensed"/>
                </a:rPr>
                <a:t>SISTEMA DE INFORMACION (SI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6" name="Group 11"/>
          <p:cNvGrpSpPr/>
          <p:nvPr/>
        </p:nvGrpSpPr>
        <p:grpSpPr>
          <a:xfrm>
            <a:off x="1327320" y="4038480"/>
            <a:ext cx="3530520" cy="2006640"/>
            <a:chOff x="1327320" y="4038480"/>
            <a:chExt cx="3530520" cy="2006640"/>
          </a:xfrm>
        </p:grpSpPr>
        <p:sp>
          <p:nvSpPr>
            <p:cNvPr id="737" name="AutoShape 12"/>
            <p:cNvSpPr/>
            <p:nvPr/>
          </p:nvSpPr>
          <p:spPr>
            <a:xfrm>
              <a:off x="1535400" y="4038480"/>
              <a:ext cx="3124080" cy="2006640"/>
            </a:xfrm>
            <a:prstGeom prst="roundRect">
              <a:avLst>
                <a:gd name="adj" fmla="val 9491"/>
              </a:avLst>
            </a:prstGeom>
            <a:solidFill>
              <a:srgbClr val="d9eaca"/>
            </a:solidFill>
            <a:ln w="25560">
              <a:solidFill>
                <a:srgbClr val="3f691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Rectangle 13"/>
            <p:cNvSpPr/>
            <p:nvPr/>
          </p:nvSpPr>
          <p:spPr>
            <a:xfrm>
              <a:off x="1327320" y="4133880"/>
              <a:ext cx="3530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691e"/>
                  </a:solidFill>
                  <a:latin typeface="Helvetica Neue Bold Condensed"/>
                  <a:ea typeface="Helvetica Neue Bold Condensed"/>
                </a:rPr>
                <a:t>SISTEMA DE INFORMACION ADMINISTRATIVO (SIA)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39" name="AutoShape 14"/>
          <p:cNvSpPr/>
          <p:nvPr/>
        </p:nvSpPr>
        <p:spPr>
          <a:xfrm>
            <a:off x="2603520" y="4927680"/>
            <a:ext cx="1905120" cy="990360"/>
          </a:xfrm>
          <a:prstGeom prst="roundRect">
            <a:avLst>
              <a:gd name="adj" fmla="val 19227"/>
            </a:avLst>
          </a:prstGeom>
          <a:solidFill>
            <a:srgbClr val="c0edfe"/>
          </a:solidFill>
          <a:ln w="25560">
            <a:solidFill>
              <a:srgbClr val="2e6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2067"/>
                </a:solidFill>
                <a:latin typeface="Helvetica Neue"/>
                <a:ea typeface="Helvetica Neue"/>
              </a:rPr>
              <a:t>SISTEMA DE PROCESAMIENTO DE DATOS (SPD)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0" name="AutoShape 15"/>
          <p:cNvSpPr/>
          <p:nvPr/>
        </p:nvSpPr>
        <p:spPr>
          <a:xfrm>
            <a:off x="5626080" y="3289320"/>
            <a:ext cx="2158920" cy="2870280"/>
          </a:xfrm>
          <a:custGeom>
            <a:avLst/>
            <a:gdLst>
              <a:gd name="textAreaLeft" fmla="*/ 55440 w 2158920"/>
              <a:gd name="textAreaRight" fmla="*/ 2103480 w 2158920"/>
              <a:gd name="textAreaTop" fmla="*/ 55440 h 2870280"/>
              <a:gd name="textAreaBottom" fmla="*/ 2814840 h 2870280"/>
            </a:gdLst>
            <a:ahLst/>
            <a:rect l="textAreaLeft" t="textAreaTop" r="textAreaRight" b="textAreaBottom"/>
            <a:pathLst>
              <a:path w="21600" h="28716">
                <a:moveTo>
                  <a:pt x="1905" y="0"/>
                </a:moveTo>
                <a:arcTo wR="1905" hR="1905" stAng="16200000" swAng="-5400000"/>
                <a:lnTo>
                  <a:pt x="0" y="26811"/>
                </a:lnTo>
                <a:arcTo wR="1905" hR="1905" stAng="10800000" swAng="-5400000"/>
                <a:lnTo>
                  <a:pt x="19695" y="28716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solidFill>
            <a:srgbClr val="2e6ffd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STEMA DE CONTROL DE GESTIO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7660-D88F-4C66-A4F1-797E317701A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160" y="1778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s de Administración (S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60360" y="1405080"/>
            <a:ext cx="8415360" cy="508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un conjunto interrelacionado de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métodos, procedimientos, decisiones, etc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., mediante los que la organización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planifica, ejecuta y controla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las actividades por las cuales alcanza sus metas y objetivos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us objetivos se confunden con los objetivos de la organización (negocio)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Medioambiente corresponde a otros SA</a:t>
            </a:r>
            <a:r>
              <a:rPr b="0" lang="ja-JP" sz="2600" spc="-1" strike="noStrike">
                <a:solidFill>
                  <a:srgbClr val="646461"/>
                </a:solidFill>
                <a:latin typeface="Helvetica Neue"/>
              </a:rPr>
              <a:t>’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 dentro y fuera de la organización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7D43-00AC-4723-BFA6-FAA1304EFBAE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 de Información (SI)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0760" y="2136600"/>
            <a:ext cx="8356680" cy="363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toda la información de apoyo a un SA (formal e informal, estructurada y no estructurada)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 correspondie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79DF-A2C3-410C-ADF4-88EE5E56BA8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48840" y="317520"/>
            <a:ext cx="8425080" cy="145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Info. Adminstrativo (SI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formal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la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identificación, manipulac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(recolección, almacenamiento, actualización, recuperación, etc.) y difusión de la información de apoyo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8514-915B-4015-83F8-9C83FBF4007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29840" y="329760"/>
            <a:ext cx="8280360" cy="141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Procesamiento de Datos (SPD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30120" y="2377800"/>
            <a:ext cx="848376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mecanizado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que maneja parte de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estructurad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estructurada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DEDE-3473-4CD5-BF1B-1AE845F00BA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1208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Control de Gestión (SCG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31640" y="2082600"/>
            <a:ext cx="8267760" cy="353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onitore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y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ide indicadores de gest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Toma acciones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n caso de ser necesari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u objetivo es mantener a un sistema dentro de las especificaciones definidas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stema que es controlado.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0AA9-93EB-4CBA-BE7A-456A5CB6591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76" name="Group 5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777" name="Rectangle 6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79" name="Rectangle 8"/>
          <p:cNvSpPr/>
          <p:nvPr/>
        </p:nvSpPr>
        <p:spPr>
          <a:xfrm>
            <a:off x="3851280" y="2905200"/>
            <a:ext cx="2438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3581280" y="3478320"/>
            <a:ext cx="3048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3544920" y="486108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3" name="Rectangle 12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5" name="Rectangle 14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6" name="Rectangle 15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7" name="Rectangle 16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8" name="AutoShape 17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9" name="AutoShape 18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Rectangle 19"/>
          <p:cNvSpPr/>
          <p:nvPr/>
        </p:nvSpPr>
        <p:spPr>
          <a:xfrm>
            <a:off x="3057480" y="4241880"/>
            <a:ext cx="396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MANEJO DE INFORMAC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3060720" y="4753080"/>
            <a:ext cx="4032360" cy="14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3564000" y="4033800"/>
            <a:ext cx="302400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4140360" y="3313080"/>
            <a:ext cx="187164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odelo de Us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a Varas</dc:creator>
  <dc:description/>
  <cp:keywords/>
  <dc:language>en-US</dc:language>
  <cp:lastModifiedBy>nn nn</cp:lastModifiedBy>
  <dcterms:modified xsi:type="dcterms:W3CDTF">2011-12-05T13:46:18Z</dcterms:modified>
  <cp:revision>2</cp:revision>
  <dc:subject/>
  <dc:title>Introducción al Análisis de los Sistemas de Información Administrativos</dc:title>
</cp:coreProperties>
</file>