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07AF8-1A77-4C33-A9D7-19E07386F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CB552-21A9-4481-98B1-4B7131268C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E35D9-9570-4335-823D-1458996BAF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EAAF2-81FA-445A-8319-40BFF3A754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A0A2A-ADA7-43D1-87AD-FF59CBE576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9D4F9-BCF4-46CD-BF45-D5E3E745AF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671C-9F53-4BD5-B89D-6C298F5A3E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97153-5AE4-4182-B136-5F243EE835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1409-3F30-4B5D-BC96-E73D46436C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4358E-31C6-47DF-AFBB-BCCEB5098C8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10B93-6519-4E30-B4A9-0E065ECCD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E30E8-5E17-4869-9A37-252180F429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2C7B-355D-42B0-B6D7-18841E07B0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B63B-C95A-4492-91B1-066E364F840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C43B-FE28-4693-A55D-D943DAFB8D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8313-295C-424A-8C98-0E838DD4A62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EFDE-6721-438D-8E72-AE50D5AD191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6E2F-2995-4D75-9670-CCDB3B7617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0139-CE30-4F17-9D4F-8C9DD8068C6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D9A4-506F-497B-BC85-ADFC528206A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D3B8-76A9-4202-AFD7-A5F819C987A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5DA9-4876-4C2E-9717-6A7CBD7E66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1AB0-B9CA-493F-89CD-C4AEE70F8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56DE-4A6E-4E63-9861-82268294DD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409B-8CF5-4F9B-8461-C722E47A64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DEF0-DE15-4EED-B274-1BEB0D759C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EE17-4737-4B81-AC4A-CF3E75B81A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237A-4F96-4B3A-B70E-F8865A14F5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0B04-10C0-482E-90FF-1C22D9A4A5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C85B-B964-4DAE-A4A3-41E70E4A4B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172D-3114-4AC3-A39A-067DE98CF36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AF75-53D3-4986-85B8-975BDEA4F9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25C0-6EDD-4E98-94B6-EFBCA8773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02CC-8C20-4E71-90B7-8B91CBE732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1B60-CBD6-4F7E-BD20-CC47A370E0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19DC-6732-4BC9-BCC8-5AD1BF076A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483-8A07-4C45-9BD9-FC7729AC03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3AD-01CB-4EF1-8D9A-6A879EC995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F58-994F-4E7E-B02E-40A2ACD5FBE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31A-C290-4D6A-AFC6-5AF883CD66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E8A-20D9-4BD0-8CC3-D3A09159A8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9BB-07B0-4082-A96B-D850710FF5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CCB-BF7C-4E6F-B549-F16F99658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B81-D308-4D8C-8D56-C20E31FF68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D45-40B5-4099-8D6C-0D93033749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98E-B4E0-4242-B8EE-B39D6E3730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C4F-F409-46D2-A8D5-3257C0265D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9AE-7D5F-42CF-A436-355EBA8218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3320" y="3683160"/>
            <a:ext cx="7416720" cy="185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3320" y="5524560"/>
            <a:ext cx="7416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-1026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222840" indent="-8568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342720" indent="-684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479880" indent="-684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617040" indent="-6840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4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0D5-7842-4829-97DC-2005CF4E254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3320" y="2514240"/>
            <a:ext cx="741672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8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DF2-BFF7-4F8C-A4A2-A7EB61787485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1422000"/>
            <a:ext cx="374652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6200" y="3429000"/>
            <a:ext cx="3746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-22608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490320" indent="-1886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75420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05588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135756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6056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36200" y="1041480"/>
            <a:ext cx="768348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9276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50960" indent="-392760">
              <a:spcBef>
                <a:spcPts val="33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5560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6024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6452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CD23-6BA1-4EDB-8A28-CCBCE5DA46E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137-E8E4-4ED3-924B-B647AB21A54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6200" y="2577600"/>
            <a:ext cx="7683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98680" y="3568320"/>
            <a:ext cx="7416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Rediseño de Procesos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89120" y="5257800"/>
            <a:ext cx="42163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83a6"/>
                </a:solidFill>
                <a:latin typeface="Helvetica Neue Bold Condensed"/>
              </a:rPr>
              <a:t>Sistemas de Información Administrativos</a:t>
            </a:r>
            <a:endParaRPr b="0" lang="en-US" sz="18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Departamento de Ingeniería Industria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Universidad de Chile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83a6"/>
                </a:solidFill>
                <a:latin typeface="Helvetica Neue Bold Condensed"/>
              </a:rPr>
              <a:t>Derechos Reservados (c)</a:t>
            </a:r>
            <a:endParaRPr b="0" lang="en-US" sz="1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F753-4151-4F9F-8AF7-A6422187825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operativ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que hacen al seguimiento de las actividades y las transacciones elementales de la organizació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cantidad del producto SKU 12-45-89 hay en la bodega 6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ocurrió con el pago de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C4DE-C74E-4B8D-A018-DF1E309C479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manej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en los que se apoyan a los trabajadores con el conocimiento y de la información de la institución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agregamos el producto.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modificamos la presentación del producto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B22C-BCEA-43E4-A8F1-088ACEE9EA4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37760" y="166356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en los que se apoya el seguimiento, control, toma de decisiones y actividades de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Todo marcha bien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ómo estamos con respecto al mes-bimestre-semestre-año... Anterior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asa si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 seria el impacto sobre el Dpto. de producción si se duplican las venta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Es necesario crear una nueva area de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gest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94E-EBA9-441B-9573-058C26BAF86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que apoya a las actividades de plantación a largo plazo de los niveles de dirección de la institu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ian los niveles de emple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án las tendencias de costo en un plazo de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roducto estaremos fabricand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estratégic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EB8-EEA6-407E-AC1F-827D5718844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01240" y="76320"/>
            <a:ext cx="88772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a7594"/>
                </a:solidFill>
                <a:latin typeface="Helvetica Neue Light"/>
              </a:rPr>
              <a:t>Funciones Básicas de Administración en la Organización</a:t>
            </a:r>
            <a:endParaRPr b="0" lang="en-US" sz="4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2730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Planif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el establecimiento de objetivos funcionales y subfuncionales de la organización, con su correspondiente seguimiento, y determinación de cursos de ac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Niveles de Planificación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Iteración de Procesos de Planificación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02B-969B-48D3-B63B-1C337542FFA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6800" y="20592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30040" y="3733560"/>
            <a:ext cx="8661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Estructura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quema formal de relaciones entre las componentes de un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4272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                 </a:t>
            </a: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scomposición Funcional o de Proceso de la Organización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31" name="Oval 6"/>
          <p:cNvSpPr/>
          <p:nvPr/>
        </p:nvSpPr>
        <p:spPr>
          <a:xfrm>
            <a:off x="4299120" y="12319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2" name="Oval 7"/>
          <p:cNvSpPr/>
          <p:nvPr/>
        </p:nvSpPr>
        <p:spPr>
          <a:xfrm>
            <a:off x="2470320" y="2146320"/>
            <a:ext cx="36828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3" name="Oval 8"/>
          <p:cNvSpPr/>
          <p:nvPr/>
        </p:nvSpPr>
        <p:spPr>
          <a:xfrm>
            <a:off x="42228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4" name="Oval 9"/>
          <p:cNvSpPr/>
          <p:nvPr/>
        </p:nvSpPr>
        <p:spPr>
          <a:xfrm>
            <a:off x="58230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5" name="Oval 10"/>
          <p:cNvSpPr/>
          <p:nvPr/>
        </p:nvSpPr>
        <p:spPr>
          <a:xfrm>
            <a:off x="155592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3003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7" name="Oval 12"/>
          <p:cNvSpPr/>
          <p:nvPr/>
        </p:nvSpPr>
        <p:spPr>
          <a:xfrm>
            <a:off x="5289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8" name="Oval 13"/>
          <p:cNvSpPr/>
          <p:nvPr/>
        </p:nvSpPr>
        <p:spPr>
          <a:xfrm>
            <a:off x="628020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9" name="Line 14"/>
          <p:cNvSpPr/>
          <p:nvPr/>
        </p:nvSpPr>
        <p:spPr>
          <a:xfrm flipH="1">
            <a:off x="2768400" y="1530360"/>
            <a:ext cx="1523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4673520" y="153036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1" name="Line 16"/>
          <p:cNvSpPr/>
          <p:nvPr/>
        </p:nvSpPr>
        <p:spPr>
          <a:xfrm flipH="1">
            <a:off x="1854360" y="244476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2616120" y="244476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4444920" y="160668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4" name="Line 19"/>
          <p:cNvSpPr/>
          <p:nvPr/>
        </p:nvSpPr>
        <p:spPr>
          <a:xfrm flipH="1">
            <a:off x="5587920" y="244476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045120" y="24447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6874920" y="1336680"/>
            <a:ext cx="1528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t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Elementa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C46B-CE35-4F24-9F71-D9A17E5230D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332000" y="1622520"/>
            <a:ext cx="7173720" cy="4441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520" y="23148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Funcional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D95-9714-4B16-8C20-BDD78FA4A1E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1403280" y="1763640"/>
            <a:ext cx="6883560" cy="4353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8480" y="168120"/>
            <a:ext cx="862308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Proceso de Negocio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831-3834-4D3F-B208-0CCB438445C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7583400" cy="1408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6800" y="1544760"/>
            <a:ext cx="83822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lnSpc>
                <a:spcPct val="90000"/>
              </a:lnSpc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Control: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es la observación y medición dinámica del desempeño de las diferentes actividades de la organización, con su correspondiente definición de acciones correctivas</a:t>
            </a:r>
            <a:r>
              <a:rPr b="0" lang="en-US" sz="2600" spc="-1" strike="noStrike">
                <a:solidFill>
                  <a:srgbClr val="336699"/>
                </a:solidFill>
                <a:latin typeface="Helvetica Neue"/>
              </a:rPr>
              <a:t> 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6653160" y="350532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IDA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3284640" y="4057560"/>
            <a:ext cx="2438280" cy="444600"/>
          </a:xfrm>
          <a:prstGeom prst="rect">
            <a:avLst/>
          </a:prstGeom>
          <a:solidFill>
            <a:srgbClr val="fe4940"/>
          </a:solidFill>
          <a:ln w="38160">
            <a:solidFill>
              <a:srgbClr val="cc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OCESAMENTO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222720" y="5983200"/>
            <a:ext cx="273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RETROALIMENTACIO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5946840" y="4264200"/>
            <a:ext cx="70812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2155680" y="4322880"/>
            <a:ext cx="974880" cy="9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493560" y="344340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D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71" name="Group 12"/>
          <p:cNvGrpSpPr/>
          <p:nvPr/>
        </p:nvGrpSpPr>
        <p:grpSpPr>
          <a:xfrm>
            <a:off x="1057320" y="5227560"/>
            <a:ext cx="6517800" cy="755640"/>
            <a:chOff x="1057320" y="5227560"/>
            <a:chExt cx="6517800" cy="755640"/>
          </a:xfrm>
        </p:grpSpPr>
        <p:sp>
          <p:nvSpPr>
            <p:cNvPr id="872" name="AutoShape 13"/>
            <p:cNvSpPr/>
            <p:nvPr/>
          </p:nvSpPr>
          <p:spPr>
            <a:xfrm>
              <a:off x="1057320" y="5227560"/>
              <a:ext cx="423720" cy="755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5400" y="5400"/>
                  </a:lnTo>
                  <a:lnTo>
                    <a:pt x="5400" y="21600"/>
                  </a:lnTo>
                  <a:lnTo>
                    <a:pt x="16200" y="21600"/>
                  </a:lnTo>
                  <a:lnTo>
                    <a:pt x="16200" y="5400"/>
                  </a:lnTo>
                  <a:lnTo>
                    <a:pt x="21600" y="5400"/>
                  </a:lnTo>
                  <a:lnTo>
                    <a:pt x="10800" y="0"/>
                  </a:lnTo>
                  <a:lnTo>
                    <a:pt x="0" y="5400"/>
                  </a:lnTo>
                  <a:close/>
                  <a:moveTo>
                    <a:pt x="0" y="5400"/>
                  </a:moveTo>
                </a:path>
              </a:pathLst>
            </a:cu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1198440" y="5776920"/>
              <a:ext cx="6307200" cy="2062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 flipH="1" rot="5400000">
              <a:off x="7158600" y="5567040"/>
              <a:ext cx="619200" cy="2127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82B-E058-4619-9A4D-37040931486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82160" y="231480"/>
            <a:ext cx="84330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Control de Gestión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80" name="AutoShape 5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882" name="Rectangle 7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84" name="Rectangle 9"/>
          <p:cNvSpPr/>
          <p:nvPr/>
        </p:nvSpPr>
        <p:spPr>
          <a:xfrm>
            <a:off x="3876840" y="2867040"/>
            <a:ext cx="2438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3581280" y="3624120"/>
            <a:ext cx="3048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tactico, 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3583080" y="4511520"/>
            <a:ext cx="297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9" name="Line 14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0" name="Rectangle 15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1" name="Rectangle 16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2" name="Rectangle 17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3" name="AutoShape 18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4" name="AutoShape 19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5" name="Line 20"/>
          <p:cNvSpPr/>
          <p:nvPr/>
        </p:nvSpPr>
        <p:spPr>
          <a:xfrm>
            <a:off x="3246480" y="4503600"/>
            <a:ext cx="3681360" cy="64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6" name="Line 21"/>
          <p:cNvSpPr/>
          <p:nvPr/>
        </p:nvSpPr>
        <p:spPr>
          <a:xfrm>
            <a:off x="3971880" y="3505320"/>
            <a:ext cx="2205000" cy="936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4E2-1137-46F9-8999-50361E42D19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1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150480"/>
            <a:ext cx="785016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La Organización como Sistem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723960" y="1790640"/>
            <a:ext cx="7683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1100"/>
              </a:spcBef>
              <a:buSzPct val="1592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Organización: tipo especial de sistema que presenta actividad o comportamientoElementos de la Organización: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ponent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estructur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unic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decision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ntrol y retroalimentación dinámic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A56D-5B16-4078-8817-DA5DFD6EEB2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87080" y="30132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V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 fontScale="98000"/>
          </a:bodyPr>
          <a:p>
            <a:pPr marL="376200" indent="-3355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Toma de Decisiones: 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el establecimiento de los procesos que permitirán la elección entre los diferentes cursos de acción alternativo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3 aspectos: la decisión, el proceso de toma de decisiones (reglas, datos, etc.) y el tomador de decision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Decisiones programables y no programabl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Asociada a la decisión existe un grupo de información que comunica el resultad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3CB9-8A8C-465E-8B23-45F0368417F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6400" y="279360"/>
            <a:ext cx="76834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Tipos de decision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0760" y="1773000"/>
            <a:ext cx="770868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Estructuradas o Programables: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pueden ser tomadas de acuerdo a una regla (si se cumple un conjunto de condiciones se ejecuta un conjunto de acciones)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No Estructurada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no es posible tomar de acuerdo a una regla ya que hay factores subjetivos o riesgo asociado al cumplimiento de las condiciones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ECA-1E65-4CA1-8C59-E3A6A02A914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Decisiones por Nivel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2400" y="1201320"/>
            <a:ext cx="42418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Estratégic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No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Larg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Control de Gestión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Semi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Median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Operacional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Cort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4416480" y="2014560"/>
            <a:ext cx="4572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STRATÉGICO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PRINCIPALMENTE EXTERN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LECTIVA Y AGREGAD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CONTROL DE GESTIÓ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 Y EX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MI AGREGAD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OPERACIONAL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MASIV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0E11-56AE-46B2-AFE5-80D7CFB08FD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173160"/>
            <a:ext cx="7631280" cy="1743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Funciones Básicas V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82044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Comun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la identificación y establecimiento de los flujos de información que son necesarios para que las diferentes funciones y componentes de la organización aseguren que se logre la programación adecuada para alcanzar sus respectivos objetivo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F65D-FB28-4B2E-BA12-63A6C7A0041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926" name="Picture 4" descr=""/>
          <p:cNvPicPr/>
          <p:nvPr/>
        </p:nvPicPr>
        <p:blipFill>
          <a:blip r:embed="rId1"/>
          <a:stretch/>
        </p:blipFill>
        <p:spPr>
          <a:xfrm>
            <a:off x="925560" y="1900080"/>
            <a:ext cx="7318440" cy="48326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03440" y="23616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edios de Comunicación Form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4BC6-3A2D-43A1-9B20-98C500D1F95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l rol de los SI en la empres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Lo que una empresa desea hacer dentro de 5 años, depende a menudo de lo que los sistemas sean capaces de hacer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xiste una interdependencia creciente en la estrategia de negocios y los SI (alineamiento)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Complejidad creciente de los SI y la visión de los proyectos de sistemas y sus aplicacione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C15F-BDF0-44C4-B8E1-D5E17C252C9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8" name="Line 4"/>
          <p:cNvSpPr/>
          <p:nvPr/>
        </p:nvSpPr>
        <p:spPr>
          <a:xfrm flipV="1">
            <a:off x="1843200" y="1870200"/>
            <a:ext cx="5689440" cy="41767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nfoque moderno de SI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843200" y="1870200"/>
            <a:ext cx="5689440" cy="417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941" name="Group 7"/>
          <p:cNvGrpSpPr/>
          <p:nvPr/>
        </p:nvGrpSpPr>
        <p:grpSpPr>
          <a:xfrm>
            <a:off x="3643200" y="3022560"/>
            <a:ext cx="2305080" cy="1944720"/>
            <a:chOff x="3643200" y="3022560"/>
            <a:chExt cx="2305080" cy="1944720"/>
          </a:xfrm>
        </p:grpSpPr>
        <p:sp>
          <p:nvSpPr>
            <p:cNvPr id="942" name="Oval 8"/>
            <p:cNvSpPr/>
            <p:nvPr/>
          </p:nvSpPr>
          <p:spPr>
            <a:xfrm>
              <a:off x="3643200" y="3022560"/>
              <a:ext cx="2305080" cy="19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259880" y="3818520"/>
              <a:ext cx="1069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78120" tIns="38160" bIns="38160" anchor="ctr">
              <a:spAutoFit/>
            </a:bodyPr>
            <a:p>
              <a:pPr marL="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a7594"/>
                  </a:solidFill>
                  <a:latin typeface="Verdana"/>
                  <a:ea typeface="Verdana"/>
                </a:rPr>
                <a:t>SIA - MI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944" name="Rectangle 10"/>
          <p:cNvSpPr/>
          <p:nvPr/>
        </p:nvSpPr>
        <p:spPr>
          <a:xfrm>
            <a:off x="1913040" y="4168080"/>
            <a:ext cx="174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S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ADMINISTR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2404080" y="2347200"/>
            <a:ext cx="149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UT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4518000" y="194148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INVESTIGACIÓN Y GESTIÓN DE 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540000" y="1886760"/>
            <a:ext cx="1061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TÉCNICO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6058800" y="3319920"/>
            <a:ext cx="12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SOCI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5418720" y="5126760"/>
            <a:ext cx="89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OLÍTIC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2949480" y="54882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SIC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6491160" y="6048360"/>
            <a:ext cx="2222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 DEL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ORTAMIENT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1563-8F63-4774-B49E-278B244E3D3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entarios Fin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6520" y="2192400"/>
            <a:ext cx="811512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 organización es un caso especial de sistemas, que posee una estructura y comportamiento especial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xisten diferentes funciones básicas que caracterizan el comportamient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s oportunidades de rediseño surgen de un buen entendimiento del model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60B-322A-4C3D-B3F4-45863292E9A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petencia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4840" y="209376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ntender lo que es un sistem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SI, SIA, SCG y SP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ocer las funciones básicas de administración en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los distintos tipos de decisione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ECB0-B507-41E1-AE7E-0CC0BE93297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s existentes en la Organiz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30" name="Group 5"/>
          <p:cNvGrpSpPr/>
          <p:nvPr/>
        </p:nvGrpSpPr>
        <p:grpSpPr>
          <a:xfrm>
            <a:off x="838080" y="2565360"/>
            <a:ext cx="7467480" cy="3797280"/>
            <a:chOff x="838080" y="2565360"/>
            <a:chExt cx="7467480" cy="3797280"/>
          </a:xfrm>
        </p:grpSpPr>
        <p:sp>
          <p:nvSpPr>
            <p:cNvPr id="731" name="AutoShape 6"/>
            <p:cNvSpPr/>
            <p:nvPr/>
          </p:nvSpPr>
          <p:spPr>
            <a:xfrm>
              <a:off x="838080" y="2565360"/>
              <a:ext cx="7467480" cy="3797280"/>
            </a:xfrm>
            <a:prstGeom prst="roundRect">
              <a:avLst>
                <a:gd name="adj" fmla="val 5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7643" dir="2389226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2266560" y="2702160"/>
              <a:ext cx="46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 Bold Condensed"/>
                  <a:ea typeface="Helvetica Neue Bold Condensed"/>
                </a:rPr>
                <a:t>SISTEMA DE ADMINISTRACIÓN (SA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3" name="Group 8"/>
          <p:cNvGrpSpPr/>
          <p:nvPr/>
        </p:nvGrpSpPr>
        <p:grpSpPr>
          <a:xfrm>
            <a:off x="880920" y="3276720"/>
            <a:ext cx="4110840" cy="2895480"/>
            <a:chOff x="880920" y="3276720"/>
            <a:chExt cx="4110840" cy="2895480"/>
          </a:xfrm>
        </p:grpSpPr>
        <p:sp>
          <p:nvSpPr>
            <p:cNvPr id="734" name="AutoShape 9"/>
            <p:cNvSpPr/>
            <p:nvPr/>
          </p:nvSpPr>
          <p:spPr>
            <a:xfrm>
              <a:off x="1104840" y="3276720"/>
              <a:ext cx="3657600" cy="2895480"/>
            </a:xfrm>
            <a:prstGeom prst="roundRect">
              <a:avLst>
                <a:gd name="adj" fmla="val 6579"/>
              </a:avLst>
            </a:prstGeom>
            <a:solidFill>
              <a:srgbClr val="ffdbcd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880920" y="3413520"/>
              <a:ext cx="411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b2c01"/>
                  </a:solidFill>
                  <a:latin typeface="Helvetica Neue Bold Condensed"/>
                  <a:ea typeface="Helvetica Neue Bold Condensed"/>
                </a:rPr>
                <a:t>SISTEMA DE INFORMACION (SI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6" name="Group 11"/>
          <p:cNvGrpSpPr/>
          <p:nvPr/>
        </p:nvGrpSpPr>
        <p:grpSpPr>
          <a:xfrm>
            <a:off x="1327320" y="4038480"/>
            <a:ext cx="3530520" cy="2006640"/>
            <a:chOff x="1327320" y="4038480"/>
            <a:chExt cx="3530520" cy="2006640"/>
          </a:xfrm>
        </p:grpSpPr>
        <p:sp>
          <p:nvSpPr>
            <p:cNvPr id="737" name="AutoShape 12"/>
            <p:cNvSpPr/>
            <p:nvPr/>
          </p:nvSpPr>
          <p:spPr>
            <a:xfrm>
              <a:off x="1535400" y="4038480"/>
              <a:ext cx="3124080" cy="2006640"/>
            </a:xfrm>
            <a:prstGeom prst="roundRect">
              <a:avLst>
                <a:gd name="adj" fmla="val 9491"/>
              </a:avLst>
            </a:prstGeom>
            <a:solidFill>
              <a:srgbClr val="d9eaca"/>
            </a:solidFill>
            <a:ln w="25560">
              <a:solidFill>
                <a:srgbClr val="3f691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1327320" y="4133880"/>
              <a:ext cx="3530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691e"/>
                  </a:solidFill>
                  <a:latin typeface="Helvetica Neue Bold Condensed"/>
                  <a:ea typeface="Helvetica Neue Bold Condensed"/>
                </a:rPr>
                <a:t>SISTEMA DE INFORMACION ADMINISTRATIVO (SIA)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39" name="AutoShape 14"/>
          <p:cNvSpPr/>
          <p:nvPr/>
        </p:nvSpPr>
        <p:spPr>
          <a:xfrm>
            <a:off x="2603520" y="4927680"/>
            <a:ext cx="1905120" cy="990360"/>
          </a:xfrm>
          <a:prstGeom prst="roundRect">
            <a:avLst>
              <a:gd name="adj" fmla="val 19227"/>
            </a:avLst>
          </a:prstGeom>
          <a:solidFill>
            <a:srgbClr val="c0edfe"/>
          </a:solidFill>
          <a:ln w="25560">
            <a:solidFill>
              <a:srgbClr val="2e6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2067"/>
                </a:solidFill>
                <a:latin typeface="Helvetica Neue"/>
                <a:ea typeface="Helvetica Neue"/>
              </a:rPr>
              <a:t>SISTEMA DE PROCESAMIENTO DE DATOS (SPD)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5626080" y="3289320"/>
            <a:ext cx="2158920" cy="2870280"/>
          </a:xfrm>
          <a:custGeom>
            <a:avLst/>
            <a:gdLst>
              <a:gd name="textAreaLeft" fmla="*/ 55440 w 2158920"/>
              <a:gd name="textAreaRight" fmla="*/ 2103480 w 2158920"/>
              <a:gd name="textAreaTop" fmla="*/ 55440 h 2870280"/>
              <a:gd name="textAreaBottom" fmla="*/ 2814840 h 2870280"/>
            </a:gdLst>
            <a:ahLst/>
            <a:rect l="textAreaLeft" t="textAreaTop" r="textAreaRight" b="textAreaBottom"/>
            <a:pathLst>
              <a:path w="21600" h="28716">
                <a:moveTo>
                  <a:pt x="1905" y="0"/>
                </a:moveTo>
                <a:arcTo wR="1905" hR="1905" stAng="16200000" swAng="-5400000"/>
                <a:lnTo>
                  <a:pt x="0" y="26811"/>
                </a:lnTo>
                <a:arcTo wR="1905" hR="1905" stAng="10800000" swAng="-5400000"/>
                <a:lnTo>
                  <a:pt x="19695" y="28716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solidFill>
            <a:srgbClr val="2e6ffd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STEMA DE CONTROL DE GESTIO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61C1-DD8E-4F11-AF0A-F2D05045991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160" y="1778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s de Administración (S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0360" y="1405080"/>
            <a:ext cx="8415360" cy="508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un conjunto interrelacionado de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métodos, procedimientos, decisiones, etc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., mediante los que la organización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planifica, ejecuta y controla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las actividades por las cuales alcanza sus metas y objetivos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us objetivos se confunden con los objetivos de la organización (negocio)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Medioambiente corresponde a otros SA</a:t>
            </a:r>
            <a:r>
              <a:rPr b="0" lang="ja-JP" sz="2600" spc="-1" strike="noStrike">
                <a:solidFill>
                  <a:srgbClr val="646461"/>
                </a:solidFill>
                <a:latin typeface="Helvetica Neue"/>
              </a:rPr>
              <a:t>’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 dentro y fuera de la organización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A07-8DC5-4648-847B-EE02B0DC9F5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 de Información (SI)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0760" y="2136600"/>
            <a:ext cx="8356680" cy="36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toda la información de apoyo a un SA (formal e informal, estructurada y no estructurada)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 correspondie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E9E0-FD81-4A64-BF96-7DF7194D579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8840" y="317520"/>
            <a:ext cx="8425080" cy="145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Info. Adminstrativo (SI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formal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la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identificación, manipulac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(recolección, almacenamiento, actualización, recuperación, etc.) y difusión de la información de apoyo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B71-29B8-41AB-9321-E80E5C21DD2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29840" y="329760"/>
            <a:ext cx="8280360" cy="141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Procesamiento de Datos (SPD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30120" y="2377800"/>
            <a:ext cx="848376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mecanizado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que maneja parte de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estructurad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estructurada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3B84-6BE0-41B6-B097-9D2DF35C676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1208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Control de Gestión (SCG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31640" y="2082600"/>
            <a:ext cx="826776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onitore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y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ide indicadores de gest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Toma acciones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n caso de ser necesari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u objetivo es mantener a un sistema dentro de las especificaciones definidas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stema que es controlado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330D-50FC-4E56-98A9-E7937C3D01C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76" name="Group 5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777" name="Rectangle 6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79" name="Rectangle 8"/>
          <p:cNvSpPr/>
          <p:nvPr/>
        </p:nvSpPr>
        <p:spPr>
          <a:xfrm>
            <a:off x="3851280" y="2905200"/>
            <a:ext cx="2438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3581280" y="3478320"/>
            <a:ext cx="304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3544920" y="486108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6" name="Rectangle 15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AutoShape 17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AutoShape 18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Rectangle 19"/>
          <p:cNvSpPr/>
          <p:nvPr/>
        </p:nvSpPr>
        <p:spPr>
          <a:xfrm>
            <a:off x="3057480" y="4241880"/>
            <a:ext cx="396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ANEJO DE INFORMAC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060720" y="4753080"/>
            <a:ext cx="403236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3564000" y="4033800"/>
            <a:ext cx="302400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140360" y="3313080"/>
            <a:ext cx="187164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odelo de Us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a Varas</dc:creator>
  <dc:description/>
  <cp:keywords/>
  <dc:language>en-US</dc:language>
  <cp:lastModifiedBy>nn nn</cp:lastModifiedBy>
  <dcterms:modified xsi:type="dcterms:W3CDTF">2011-12-05T13:46:18Z</dcterms:modified>
  <cp:revision>2</cp:revision>
  <dc:subject/>
  <dc:title>Introducción al Análisis de los Sistemas de Información Administrativos</dc:title>
</cp:coreProperties>
</file>