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488-C5A2-4ABC-BBF8-61F3E787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5CA-CAF2-4702-90D3-AF7C559D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AC5-502C-4EA0-95F4-D31C7816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F6E-4F45-48DA-B5D3-3165902D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F2A-3BA9-4CBE-A8CC-543D5F48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84A-589B-4597-8787-2C312EB2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FC2-513B-414F-AC01-C1B4602D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D81-CC78-4F20-84B3-A4487E7F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3F6-F6E9-4442-A5F3-65D8D0FA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5E4-639A-4410-8745-ACE05036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8D9-8398-46D4-8860-E42AD901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4A6-CF5A-4A9A-B86C-51C68E43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E1657-07F7-4BD4-92F1-C685854C020E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5F3D0-1A90-4B35-9629-2E5D75EEBF3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04920" y="21337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COMPORTAMIENTO ORGANIZ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404040"/>
                </a:solidFill>
                <a:latin typeface="Arial"/>
                <a:ea typeface="Tahoma"/>
              </a:rPr>
              <a:t>GESTIÓN PERSONAS EN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2364667079_276791cbfa"/>
          <p:cNvPicPr/>
          <p:nvPr/>
        </p:nvPicPr>
        <p:blipFill>
          <a:blip r:embed="rId2"/>
          <a:stretch/>
        </p:blipFill>
        <p:spPr>
          <a:xfrm>
            <a:off x="1979640" y="3429000"/>
            <a:ext cx="3887640" cy="280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719280" y="1557360"/>
            <a:ext cx="770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000" spc="-1" strike="noStrike">
                <a:solidFill>
                  <a:srgbClr val="404040"/>
                </a:solidFill>
                <a:latin typeface="Arial"/>
              </a:rPr>
              <a:t>¿CÓMO SE GESTIONA </a:t>
            </a:r>
            <a:br>
              <a:rPr sz="3000"/>
            </a:br>
            <a:r>
              <a:rPr b="1" lang="es-ES" sz="3000" spc="-1" strike="noStrike">
                <a:solidFill>
                  <a:srgbClr val="404040"/>
                </a:solidFill>
                <a:latin typeface="Arial"/>
              </a:rPr>
              <a:t>EL CLIMA ORGANIZACION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6" descr="Fotolia_4599026_XS"/>
          <p:cNvPicPr/>
          <p:nvPr/>
        </p:nvPicPr>
        <p:blipFill>
          <a:blip r:embed="rId2"/>
          <a:stretch/>
        </p:blipFill>
        <p:spPr>
          <a:xfrm>
            <a:off x="324000" y="270828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Fotolia_tickman"/>
          <p:cNvPicPr/>
          <p:nvPr/>
        </p:nvPicPr>
        <p:blipFill>
          <a:blip r:embed="rId3"/>
          <a:stretch/>
        </p:blipFill>
        <p:spPr>
          <a:xfrm>
            <a:off x="4033800" y="4797360"/>
            <a:ext cx="1258920" cy="1346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IMG_0166"/>
          <p:cNvPicPr/>
          <p:nvPr/>
        </p:nvPicPr>
        <p:blipFill>
          <a:blip r:embed="rId4"/>
          <a:stretch/>
        </p:blipFill>
        <p:spPr>
          <a:xfrm>
            <a:off x="3995640" y="452520"/>
            <a:ext cx="1168560" cy="1125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133720" y="115920"/>
            <a:ext cx="556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404040"/>
                </a:solidFill>
                <a:latin typeface="Arial"/>
              </a:rPr>
              <a:t>GESTION DE CLIMA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3700440"/>
            <a:ext cx="1873080" cy="45828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417840" y="1484280"/>
            <a:ext cx="2306520" cy="64872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COMUN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591240" y="3933720"/>
            <a:ext cx="2013120" cy="45828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GEST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562200" y="6102360"/>
            <a:ext cx="2017800" cy="64872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EVAL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771640" y="3357720"/>
            <a:ext cx="3598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800" spc="-1" strike="noStrike">
                <a:solidFill>
                  <a:srgbClr val="c0504d"/>
                </a:solidFill>
                <a:latin typeface="Arial"/>
              </a:rPr>
              <a:t>PERCEPE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o 22"/>
          <p:cNvSpPr/>
          <p:nvPr/>
        </p:nvSpPr>
        <p:spPr>
          <a:xfrm rot="21223800">
            <a:off x="1947960" y="1854360"/>
            <a:ext cx="3560760" cy="189216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o 23"/>
          <p:cNvSpPr/>
          <p:nvPr/>
        </p:nvSpPr>
        <p:spPr>
          <a:xfrm rot="6171600">
            <a:off x="4509000" y="1935720"/>
            <a:ext cx="2573640" cy="244800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o 24"/>
          <p:cNvSpPr/>
          <p:nvPr/>
        </p:nvSpPr>
        <p:spPr>
          <a:xfrm rot="10800000">
            <a:off x="3924000" y="4157640"/>
            <a:ext cx="3019320" cy="189072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o 25"/>
          <p:cNvSpPr/>
          <p:nvPr/>
        </p:nvSpPr>
        <p:spPr>
          <a:xfrm rot="16630800">
            <a:off x="2380320" y="3467520"/>
            <a:ext cx="2320920" cy="2979720"/>
          </a:xfrm>
          <a:prstGeom prst="pie">
            <a:avLst/>
          </a:prstGeom>
          <a:noFill/>
          <a:ln cap="rnd" w="76320">
            <a:solidFill>
              <a:srgbClr val="333399">
                <a:alpha val="65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566640" y="2214720"/>
            <a:ext cx="1629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CUANTI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CUALI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6443640" y="1844640"/>
            <a:ext cx="2014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GENE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SEGMEN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6943680" y="5094360"/>
            <a:ext cx="2200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FOCOS CRI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DISEÑO P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684360" y="5526000"/>
            <a:ext cx="169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IMPA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Arial"/>
              </a:rPr>
              <a:t>REDISE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0" descr="IMG_0163"/>
          <p:cNvPicPr/>
          <p:nvPr/>
        </p:nvPicPr>
        <p:blipFill>
          <a:blip r:embed="rId5"/>
          <a:stretch/>
        </p:blipFill>
        <p:spPr>
          <a:xfrm>
            <a:off x="7148520" y="2747880"/>
            <a:ext cx="1128600" cy="11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Fotolia_11415523_S-300x300"/>
          <p:cNvPicPr/>
          <p:nvPr/>
        </p:nvPicPr>
        <p:blipFill>
          <a:blip r:embed="rId2"/>
          <a:stretch/>
        </p:blipFill>
        <p:spPr>
          <a:xfrm>
            <a:off x="1488960" y="1800360"/>
            <a:ext cx="4307040" cy="43066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Arial"/>
              </a:rPr>
              <a:t>¿QÚE ME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16000" y="1484280"/>
            <a:ext cx="4716360" cy="44640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FISICAS</a:t>
            </a:r>
            <a:r>
              <a:rPr b="1" lang="es-ES" sz="2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ondiciones Fí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Mobil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ORGANIZ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Gestión del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alidad de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laridad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Compens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932360" y="1400040"/>
            <a:ext cx="3816360" cy="47656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Manejo de la 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Desafió y Log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VARIABL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Re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Lideraz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Trabajo en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IMPACTOS DE LA INTEVENCIÓN </a:t>
            </a:r>
            <a:br>
              <a:rPr sz="2000"/>
            </a:b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EN CLIMA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32000" y="4549680"/>
            <a:ext cx="410364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Mi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Roles, responsabilidades, meta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332000" y="3500280"/>
            <a:ext cx="4103640" cy="825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Los facilitadores  de mi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Areas de apoyo, coordin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Compensaciones,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2644920"/>
            <a:ext cx="410364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Alta Gerencia, jefes interme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332000" y="1741320"/>
            <a:ext cx="410364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Ambiente Interpers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Aire que se respira, satisfacción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95280" y="5445000"/>
            <a:ext cx="4129200" cy="612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404040"/>
                </a:solidFill>
                <a:latin typeface="Arial"/>
              </a:rPr>
              <a:t>Estructura del Trabajo</a:t>
            </a:r>
            <a:r>
              <a:rPr b="1" lang="es-CL" sz="16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Organización, Flujo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Iceberg"/>
          <p:cNvPicPr/>
          <p:nvPr/>
        </p:nvPicPr>
        <p:blipFill>
          <a:blip r:embed="rId2"/>
          <a:srcRect l="0" t="3203" r="0" b="0"/>
          <a:stretch/>
        </p:blipFill>
        <p:spPr>
          <a:xfrm>
            <a:off x="5568840" y="1484280"/>
            <a:ext cx="3251160" cy="47689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0"/>
          <p:cNvSpPr/>
          <p:nvPr/>
        </p:nvSpPr>
        <p:spPr>
          <a:xfrm>
            <a:off x="250920" y="1484280"/>
            <a:ext cx="841320" cy="4579920"/>
          </a:xfrm>
          <a:prstGeom prst="upArrow">
            <a:avLst>
              <a:gd name="adj1" fmla="val 50000"/>
              <a:gd name="adj2" fmla="val 61166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OC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otolia_4812281_XS"/>
          <p:cNvPicPr/>
          <p:nvPr/>
        </p:nvPicPr>
        <p:blipFill>
          <a:blip r:embed="rId2"/>
          <a:stretch/>
        </p:blipFill>
        <p:spPr>
          <a:xfrm>
            <a:off x="1790640" y="2997360"/>
            <a:ext cx="5562720" cy="3479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71280" y="1219320"/>
            <a:ext cx="896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600" spc="-1" strike="noStrike">
                <a:solidFill>
                  <a:srgbClr val="404040"/>
                </a:solidFill>
                <a:latin typeface="Arial"/>
              </a:rPr>
              <a:t>“ </a:t>
            </a:r>
            <a:r>
              <a:rPr b="0" i="1" lang="es-ES" sz="2600" spc="-1" strike="noStrike">
                <a:solidFill>
                  <a:srgbClr val="404040"/>
                </a:solidFill>
                <a:latin typeface="Arial"/>
              </a:rPr>
              <a:t>LA IMPORTANCIA DE CONVERTIRSE EN EL MEJOR </a:t>
            </a:r>
            <a:br>
              <a:rPr sz="2600"/>
            </a:br>
            <a:r>
              <a:rPr b="0" i="1" lang="es-ES" sz="2600" spc="-1" strike="noStrike">
                <a:solidFill>
                  <a:srgbClr val="404040"/>
                </a:solidFill>
                <a:latin typeface="Arial"/>
              </a:rPr>
              <a:t>LUGAR PARA TRABAJAR”</a:t>
            </a:r>
            <a:br>
              <a:rPr sz="3400"/>
            </a:br>
            <a:r>
              <a:rPr b="0" i="1" lang="es-ES" sz="3000" spc="-1" strike="noStrike">
                <a:solidFill>
                  <a:srgbClr val="404040"/>
                </a:solidFill>
                <a:latin typeface="Arial"/>
              </a:rPr>
              <a:t>COMPETITIVIDAD SUSTEN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Agrupar 27"/>
          <p:cNvGrpSpPr/>
          <p:nvPr/>
        </p:nvGrpSpPr>
        <p:grpSpPr>
          <a:xfrm>
            <a:off x="7391520" y="1855800"/>
            <a:ext cx="1643040" cy="3606840"/>
            <a:chOff x="7391520" y="1855800"/>
            <a:chExt cx="1643040" cy="3606840"/>
          </a:xfrm>
        </p:grpSpPr>
        <p:sp>
          <p:nvSpPr>
            <p:cNvPr id="44" name="Rectangle 16"/>
            <p:cNvSpPr/>
            <p:nvPr/>
          </p:nvSpPr>
          <p:spPr>
            <a:xfrm>
              <a:off x="7391520" y="1855800"/>
              <a:ext cx="1641600" cy="360684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7"/>
            <p:cNvSpPr/>
            <p:nvPr/>
          </p:nvSpPr>
          <p:spPr>
            <a:xfrm>
              <a:off x="7391520" y="1855800"/>
              <a:ext cx="1643040" cy="3254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8"/>
            <p:cNvSpPr/>
            <p:nvPr/>
          </p:nvSpPr>
          <p:spPr>
            <a:xfrm>
              <a:off x="7391520" y="2176200"/>
              <a:ext cx="785880" cy="334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9"/>
            <p:cNvSpPr/>
            <p:nvPr/>
          </p:nvSpPr>
          <p:spPr>
            <a:xfrm>
              <a:off x="8056800" y="2205000"/>
              <a:ext cx="977760" cy="307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49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noFill/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Agrupar 28"/>
          <p:cNvGrpSpPr/>
          <p:nvPr/>
        </p:nvGrpSpPr>
        <p:grpSpPr>
          <a:xfrm>
            <a:off x="1701720" y="1884240"/>
            <a:ext cx="1643040" cy="3741840"/>
            <a:chOff x="1701720" y="1884240"/>
            <a:chExt cx="1643040" cy="3741840"/>
          </a:xfrm>
        </p:grpSpPr>
        <p:sp>
          <p:nvSpPr>
            <p:cNvPr id="54" name="Rectangle 7"/>
            <p:cNvSpPr/>
            <p:nvPr/>
          </p:nvSpPr>
          <p:spPr>
            <a:xfrm>
              <a:off x="1701720" y="1884240"/>
              <a:ext cx="96372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1701720" y="1884240"/>
              <a:ext cx="96372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2"/>
            <p:cNvSpPr/>
            <p:nvPr/>
          </p:nvSpPr>
          <p:spPr>
            <a:xfrm>
              <a:off x="241596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Agrupar 30"/>
          <p:cNvGrpSpPr/>
          <p:nvPr/>
        </p:nvGrpSpPr>
        <p:grpSpPr>
          <a:xfrm>
            <a:off x="5486400" y="1884240"/>
            <a:ext cx="2212920" cy="3741840"/>
            <a:chOff x="5486400" y="1884240"/>
            <a:chExt cx="2212920" cy="3741840"/>
          </a:xfrm>
        </p:grpSpPr>
        <p:sp>
          <p:nvSpPr>
            <p:cNvPr id="58" name="Rectangle 9"/>
            <p:cNvSpPr/>
            <p:nvPr/>
          </p:nvSpPr>
          <p:spPr>
            <a:xfrm>
              <a:off x="5486400" y="1884240"/>
              <a:ext cx="178596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ter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5486400" y="1884240"/>
              <a:ext cx="178596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c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4"/>
            <p:cNvSpPr/>
            <p:nvPr/>
          </p:nvSpPr>
          <p:spPr>
            <a:xfrm>
              <a:off x="677232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Agrupar 29"/>
          <p:cNvGrpSpPr/>
          <p:nvPr/>
        </p:nvGrpSpPr>
        <p:grpSpPr>
          <a:xfrm>
            <a:off x="2843280" y="1884240"/>
            <a:ext cx="3143160" cy="3741840"/>
            <a:chOff x="2843280" y="1884240"/>
            <a:chExt cx="3143160" cy="3741840"/>
          </a:xfrm>
        </p:grpSpPr>
        <p:sp>
          <p:nvSpPr>
            <p:cNvPr id="62" name="Rectangle 12"/>
            <p:cNvSpPr/>
            <p:nvPr/>
          </p:nvSpPr>
          <p:spPr>
            <a:xfrm>
              <a:off x="2843280" y="2166840"/>
              <a:ext cx="121608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4"/>
            <p:cNvSpPr/>
            <p:nvPr/>
          </p:nvSpPr>
          <p:spPr>
            <a:xfrm>
              <a:off x="3987720" y="2166840"/>
              <a:ext cx="128592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Desemp</a:t>
              </a: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Selec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munera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cen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 Carr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Pot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Desv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3843360" y="2520720"/>
              <a:ext cx="312480" cy="297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3"/>
            <p:cNvSpPr/>
            <p:nvPr/>
          </p:nvSpPr>
          <p:spPr>
            <a:xfrm>
              <a:off x="505944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>
              <a:off x="2843280" y="1884240"/>
              <a:ext cx="2428920" cy="60624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uctura          Sis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grupar 27" descr=""/>
          <p:cNvPicPr/>
          <p:nvPr/>
        </p:nvPicPr>
        <p:blipFill>
          <a:blip r:embed="rId2"/>
          <a:stretch/>
        </p:blipFill>
        <p:spPr>
          <a:xfrm>
            <a:off x="7364520" y="1828800"/>
            <a:ext cx="16938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72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73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74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Agrupar 28" descr=""/>
          <p:cNvPicPr/>
          <p:nvPr/>
        </p:nvPicPr>
        <p:blipFill>
          <a:blip r:embed="rId3"/>
          <a:stretch/>
        </p:blipFill>
        <p:spPr>
          <a:xfrm>
            <a:off x="1676520" y="1859040"/>
            <a:ext cx="1699920" cy="3822480"/>
          </a:xfrm>
          <a:prstGeom prst="rect">
            <a:avLst/>
          </a:prstGeom>
          <a:ln w="0">
            <a:noFill/>
          </a:ln>
        </p:spPr>
      </p:pic>
      <p:pic>
        <p:nvPicPr>
          <p:cNvPr id="78" name="Agrupar 30" descr=""/>
          <p:cNvPicPr/>
          <p:nvPr/>
        </p:nvPicPr>
        <p:blipFill>
          <a:blip r:embed="rId4"/>
          <a:stretch/>
        </p:blipFill>
        <p:spPr>
          <a:xfrm>
            <a:off x="5462640" y="1859040"/>
            <a:ext cx="2290680" cy="3840120"/>
          </a:xfrm>
          <a:prstGeom prst="rect">
            <a:avLst/>
          </a:prstGeom>
          <a:ln w="0">
            <a:noFill/>
          </a:ln>
        </p:spPr>
      </p:pic>
      <p:pic>
        <p:nvPicPr>
          <p:cNvPr id="79" name="Agrupar 29" descr=""/>
          <p:cNvPicPr/>
          <p:nvPr/>
        </p:nvPicPr>
        <p:blipFill>
          <a:blip r:embed="rId5"/>
          <a:stretch/>
        </p:blipFill>
        <p:spPr>
          <a:xfrm>
            <a:off x="2816280" y="1859040"/>
            <a:ext cx="3224160" cy="3840120"/>
          </a:xfrm>
          <a:prstGeom prst="rect">
            <a:avLst/>
          </a:prstGeom>
          <a:ln w="0">
            <a:noFill/>
          </a:ln>
        </p:spPr>
      </p:pic>
      <p:sp>
        <p:nvSpPr>
          <p:cNvPr id="80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50920" y="1413000"/>
            <a:ext cx="8424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400"/>
            </a:br>
            <a:r>
              <a:rPr b="0" lang="es-ES" sz="3400" spc="-1" strike="noStrike">
                <a:solidFill>
                  <a:srgbClr val="595959"/>
                </a:solidFill>
                <a:latin typeface="Arial"/>
              </a:rPr>
              <a:t>IMAGINA EL LUGAR DONDE </a:t>
            </a:r>
            <a:br>
              <a:rPr sz="3400"/>
            </a:br>
            <a:r>
              <a:rPr b="0" lang="es-ES" sz="3400" spc="-1" strike="noStrike">
                <a:solidFill>
                  <a:srgbClr val="595959"/>
                </a:solidFill>
                <a:latin typeface="Arial"/>
              </a:rPr>
              <a:t>TE GUSTARÍA TRABAJA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IMG_0161"/>
          <p:cNvPicPr/>
          <p:nvPr/>
        </p:nvPicPr>
        <p:blipFill>
          <a:blip r:embed="rId2"/>
          <a:stretch/>
        </p:blipFill>
        <p:spPr>
          <a:xfrm>
            <a:off x="228600" y="3024360"/>
            <a:ext cx="3554280" cy="35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403280" y="1359000"/>
            <a:ext cx="6848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¿QUÉ ES EL CLIMA ORGANIZACION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otolia_6945489"/>
          <p:cNvPicPr/>
          <p:nvPr/>
        </p:nvPicPr>
        <p:blipFill>
          <a:blip r:embed="rId2"/>
          <a:stretch/>
        </p:blipFill>
        <p:spPr>
          <a:xfrm>
            <a:off x="92160" y="3733920"/>
            <a:ext cx="4403520" cy="300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24000" y="2135160"/>
            <a:ext cx="84978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“</a:t>
            </a:r>
            <a:r>
              <a:rPr b="0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Son las </a:t>
            </a:r>
            <a:r>
              <a:rPr b="1" i="1" lang="es-ES" sz="2400" spc="-1" strike="noStrike" u="sng">
                <a:solidFill>
                  <a:srgbClr val="404040"/>
                </a:solidFill>
                <a:uFillTx/>
                <a:latin typeface="Arial"/>
                <a:ea typeface="Times New Roman"/>
              </a:rPr>
              <a:t>percepciones </a:t>
            </a:r>
            <a:r>
              <a:rPr b="0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que una persona  sobre las condiciones laborales de la Organización en donde trabaja. La cual influirá en el desarrollo de las actividades de la Organiz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828800" y="368280"/>
            <a:ext cx="5562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¿POR QUÉ PREOCUPARSE POR EL </a:t>
            </a:r>
            <a:br>
              <a:rPr sz="2000"/>
            </a:b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CLIMA ORGANIZACION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68360" y="1484280"/>
            <a:ext cx="82598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El Clima tiene repercusiones en la productividad de las emp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Influye tanto en el sistema organizacional como en el comportamiento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Las empresas con buen Clima Organizacional rentabilizan sus mar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Arial"/>
                <a:ea typeface="Times New Roman"/>
              </a:rPr>
              <a:t>Captan los mejores profes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Fotolia_3485048_XS"/>
          <p:cNvPicPr/>
          <p:nvPr/>
        </p:nvPicPr>
        <p:blipFill>
          <a:blip r:embed="rId2"/>
          <a:stretch/>
        </p:blipFill>
        <p:spPr>
          <a:xfrm>
            <a:off x="1908000" y="4343400"/>
            <a:ext cx="365472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88880" y="1268280"/>
            <a:ext cx="8259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Revista Fortu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Las mejores empresas donde trabajar, son también las mejores empresas en donde inverti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“</a:t>
            </a:r>
            <a:r>
              <a:rPr b="1" i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La alegría se contagia y es una buena inversión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EJ.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LOWE y Harley – Davidson,</a:t>
            </a:r>
            <a:r>
              <a:rPr b="0" lang="es-E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que registraron ganancias que superaron el 40% anual, pese a las variaciones bursátiles tras el negro 11 de septiemb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979640" y="44280"/>
            <a:ext cx="60199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El CLIMA ORGANIZACIONAL </a:t>
            </a:r>
            <a:br>
              <a:rPr sz="2000"/>
            </a:b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Y  LA PRO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2136954043_5145b15312"/>
          <p:cNvPicPr/>
          <p:nvPr/>
        </p:nvPicPr>
        <p:blipFill>
          <a:blip r:embed="rId2"/>
          <a:stretch/>
        </p:blipFill>
        <p:spPr>
          <a:xfrm>
            <a:off x="3429000" y="31240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1828800" y="152280"/>
            <a:ext cx="5562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EL CLIMA ORGANIZACIONAL </a:t>
            </a:r>
            <a:br>
              <a:rPr sz="2000"/>
            </a:br>
            <a:r>
              <a:rPr b="1" lang="es-ES" sz="2000" spc="-1" strike="noStrike">
                <a:solidFill>
                  <a:srgbClr val="404040"/>
                </a:solidFill>
                <a:latin typeface="Arial"/>
              </a:rPr>
              <a:t>Y LA MARCA CORPO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rcRect l="24924" t="17615" r="14186" b="15872"/>
          <a:stretch/>
        </p:blipFill>
        <p:spPr>
          <a:xfrm>
            <a:off x="684360" y="1330200"/>
            <a:ext cx="8002440" cy="548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VARIABLES QUE INFLUYEN </a:t>
            </a:r>
            <a:br>
              <a:rPr sz="2000"/>
            </a:br>
            <a:r>
              <a:rPr b="0" lang="es-ES" sz="2000" spc="-1" strike="noStrike">
                <a:solidFill>
                  <a:srgbClr val="404040"/>
                </a:solidFill>
                <a:latin typeface="Arial"/>
              </a:rPr>
              <a:t>EN EL CLIMA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46080" y="1828800"/>
            <a:ext cx="774072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Fís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Estructu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40404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040"/>
                </a:solidFill>
                <a:latin typeface="Arial"/>
              </a:rPr>
              <a:t>Organiz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Arial"/>
              </a:rPr>
              <a:t>Estas Variables son percibidas por el individuo y determinan su forma de actuar con la Organización, generando el Cl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Fotolia_11415523_S-300x300"/>
          <p:cNvPicPr/>
          <p:nvPr/>
        </p:nvPicPr>
        <p:blipFill>
          <a:blip r:embed="rId2"/>
          <a:stretch/>
        </p:blipFill>
        <p:spPr>
          <a:xfrm>
            <a:off x="4140360" y="2184480"/>
            <a:ext cx="2946240" cy="29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1:31:45Z</dcterms:created>
  <dc:creator>Tamara Osses</dc:creator>
  <dc:description/>
  <dc:language>en-US</dc:language>
  <cp:lastModifiedBy>jose tomas saffirio mezzano</cp:lastModifiedBy>
  <dcterms:modified xsi:type="dcterms:W3CDTF">2011-12-06T14:33:20Z</dcterms:modified>
  <cp:revision>53</cp:revision>
  <dc:subject/>
  <dc:title>Diapositiva 1</dc:title>
</cp:coreProperties>
</file>