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FF7-13BA-4563-BC47-29FA7C7E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0EC-0158-4952-B304-77980DE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0D2-118C-41C8-8FD1-0623B40B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5D5-C13F-4D5C-97CB-42642400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56A-1388-4C1F-AF2E-DF1EC35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D11-4F7A-4E47-889C-6CBBFEF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9CD-B66B-4311-8FE7-501820E2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EA2-A4E1-4AB2-A60A-6D3C3B39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331-6D49-4A13-905B-4977346D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274-DDF8-419E-AF1E-0CD492E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3B1-890F-47CA-8E64-DC96F28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2E6-856F-49CD-89B8-423B91C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38FBF-2505-4A03-8567-9E522A187FC6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C4E30-1C77-42A6-96C7-953BE938B62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4920" y="21337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COMPORTAMIENTO ORGANIZ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GESTIÓN PERSONAS EN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2364667079_276791cbfa"/>
          <p:cNvPicPr/>
          <p:nvPr/>
        </p:nvPicPr>
        <p:blipFill>
          <a:blip r:embed="rId2"/>
          <a:stretch/>
        </p:blipFill>
        <p:spPr>
          <a:xfrm>
            <a:off x="1979640" y="3429000"/>
            <a:ext cx="388764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719280" y="1557360"/>
            <a:ext cx="770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000" spc="-1" strike="noStrike">
                <a:solidFill>
                  <a:srgbClr val="404040"/>
                </a:solidFill>
                <a:latin typeface="Arial"/>
              </a:rPr>
              <a:t>¿CÓMO SE GESTIONA </a:t>
            </a:r>
            <a:br>
              <a:rPr sz="3000"/>
            </a:br>
            <a:r>
              <a:rPr b="1" lang="es-ES" sz="3000" spc="-1" strike="noStrike">
                <a:solidFill>
                  <a:srgbClr val="404040"/>
                </a:solidFill>
                <a:latin typeface="Arial"/>
              </a:rPr>
              <a:t>EL CLIMA ORGANIZACION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6" descr="Fotolia_4599026_XS"/>
          <p:cNvPicPr/>
          <p:nvPr/>
        </p:nvPicPr>
        <p:blipFill>
          <a:blip r:embed="rId2"/>
          <a:stretch/>
        </p:blipFill>
        <p:spPr>
          <a:xfrm>
            <a:off x="324000" y="2708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Fotolia_tickman"/>
          <p:cNvPicPr/>
          <p:nvPr/>
        </p:nvPicPr>
        <p:blipFill>
          <a:blip r:embed="rId3"/>
          <a:stretch/>
        </p:blipFill>
        <p:spPr>
          <a:xfrm>
            <a:off x="4033800" y="4797360"/>
            <a:ext cx="1258920" cy="134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IMG_0166"/>
          <p:cNvPicPr/>
          <p:nvPr/>
        </p:nvPicPr>
        <p:blipFill>
          <a:blip r:embed="rId4"/>
          <a:stretch/>
        </p:blipFill>
        <p:spPr>
          <a:xfrm>
            <a:off x="3995640" y="452520"/>
            <a:ext cx="1168560" cy="1125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133720" y="115920"/>
            <a:ext cx="556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404040"/>
                </a:solidFill>
                <a:latin typeface="Arial"/>
              </a:rPr>
              <a:t>GESTION DE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700440"/>
            <a:ext cx="1873080" cy="45828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417840" y="1484280"/>
            <a:ext cx="2306520" cy="6487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COMUN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591240" y="3933720"/>
            <a:ext cx="2013120" cy="45828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GEST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562200" y="6102360"/>
            <a:ext cx="2017800" cy="6487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EVA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771640" y="3357720"/>
            <a:ext cx="359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Arial"/>
              </a:rPr>
              <a:t>PERCEP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o 22"/>
          <p:cNvSpPr/>
          <p:nvPr/>
        </p:nvSpPr>
        <p:spPr>
          <a:xfrm rot="21223800">
            <a:off x="1947960" y="1854360"/>
            <a:ext cx="3560760" cy="189216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o 23"/>
          <p:cNvSpPr/>
          <p:nvPr/>
        </p:nvSpPr>
        <p:spPr>
          <a:xfrm rot="6171600">
            <a:off x="4509000" y="1935720"/>
            <a:ext cx="2573640" cy="244800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o 24"/>
          <p:cNvSpPr/>
          <p:nvPr/>
        </p:nvSpPr>
        <p:spPr>
          <a:xfrm rot="10800000">
            <a:off x="3924000" y="4157640"/>
            <a:ext cx="3019320" cy="189072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o 25"/>
          <p:cNvSpPr/>
          <p:nvPr/>
        </p:nvSpPr>
        <p:spPr>
          <a:xfrm rot="16630800">
            <a:off x="2380320" y="3467520"/>
            <a:ext cx="2320920" cy="297972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566640" y="2214720"/>
            <a:ext cx="162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CUANTI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CUALI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6443640" y="1844640"/>
            <a:ext cx="201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GEN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SEGMEN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6943680" y="5094360"/>
            <a:ext cx="2200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FOCOS CRI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DISEÑO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684360" y="5526000"/>
            <a:ext cx="169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REDIS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0" descr="IMG_0163"/>
          <p:cNvPicPr/>
          <p:nvPr/>
        </p:nvPicPr>
        <p:blipFill>
          <a:blip r:embed="rId5"/>
          <a:stretch/>
        </p:blipFill>
        <p:spPr>
          <a:xfrm>
            <a:off x="7148520" y="2747880"/>
            <a:ext cx="1128600" cy="11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Fotolia_11415523_S-300x300"/>
          <p:cNvPicPr/>
          <p:nvPr/>
        </p:nvPicPr>
        <p:blipFill>
          <a:blip r:embed="rId2"/>
          <a:stretch/>
        </p:blipFill>
        <p:spPr>
          <a:xfrm>
            <a:off x="1488960" y="1800360"/>
            <a:ext cx="4307040" cy="4306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Arial"/>
              </a:rPr>
              <a:t>¿QÚE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16000" y="1484280"/>
            <a:ext cx="4716360" cy="44640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FISICAS</a:t>
            </a:r>
            <a:r>
              <a:rPr b="1" lang="es-ES" sz="2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ondiciones Fí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Gestión del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alidad de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laridad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omp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932360" y="1400040"/>
            <a:ext cx="3816360" cy="47656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Manejo de la 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esafió y Lo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Re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rabajo en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IMPACTOS DE LA INTEVENCIÓN </a:t>
            </a:r>
            <a:br>
              <a:rPr sz="2000"/>
            </a:b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EN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32000" y="454968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Mi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Roles, responsabilidades, meta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332000" y="3500280"/>
            <a:ext cx="4103640" cy="825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Los facilitadores  de mi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reas de apoyo, coordi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Compensaciones,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264492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lta Gerencia, jefes interme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174132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Ambiente Inter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ire que se respira, satisfacción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95280" y="5445000"/>
            <a:ext cx="412920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Estructura del Trabajo</a:t>
            </a:r>
            <a:r>
              <a:rPr b="1" lang="es-CL" sz="1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Organización, Flujo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Iceberg"/>
          <p:cNvPicPr/>
          <p:nvPr/>
        </p:nvPicPr>
        <p:blipFill>
          <a:blip r:embed="rId2"/>
          <a:srcRect l="0" t="3203" r="0" b="0"/>
          <a:stretch/>
        </p:blipFill>
        <p:spPr>
          <a:xfrm>
            <a:off x="5568840" y="1484280"/>
            <a:ext cx="3251160" cy="47689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0"/>
          <p:cNvSpPr/>
          <p:nvPr/>
        </p:nvSpPr>
        <p:spPr>
          <a:xfrm>
            <a:off x="250920" y="1484280"/>
            <a:ext cx="841320" cy="4579920"/>
          </a:xfrm>
          <a:prstGeom prst="upArrow">
            <a:avLst>
              <a:gd name="adj1" fmla="val 50000"/>
              <a:gd name="adj2" fmla="val 61166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OC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otolia_4812281_XS"/>
          <p:cNvPicPr/>
          <p:nvPr/>
        </p:nvPicPr>
        <p:blipFill>
          <a:blip r:embed="rId2"/>
          <a:stretch/>
        </p:blipFill>
        <p:spPr>
          <a:xfrm>
            <a:off x="1790640" y="2997360"/>
            <a:ext cx="5562720" cy="347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71280" y="1219320"/>
            <a:ext cx="89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“ </a:t>
            </a: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LA IMPORTANCIA DE CONVERTIRSE EN EL MEJOR </a:t>
            </a:r>
            <a:br>
              <a:rPr sz="2600"/>
            </a:b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LUGAR PARA TRABAJAR”</a:t>
            </a:r>
            <a:br>
              <a:rPr sz="3400"/>
            </a:br>
            <a:r>
              <a:rPr b="0" i="1" lang="es-ES" sz="3000" spc="-1" strike="noStrike">
                <a:solidFill>
                  <a:srgbClr val="404040"/>
                </a:solidFill>
                <a:latin typeface="Arial"/>
              </a:rPr>
              <a:t>COMPETITIVIDAD SUSTEN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44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49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8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62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2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73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74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78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90680" cy="3840120"/>
          </a:xfrm>
          <a:prstGeom prst="rect">
            <a:avLst/>
          </a:prstGeom>
          <a:ln w="0">
            <a:noFill/>
          </a:ln>
        </p:spPr>
      </p:pic>
      <p:pic>
        <p:nvPicPr>
          <p:cNvPr id="79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80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50920" y="1413000"/>
            <a:ext cx="842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400"/>
            </a:br>
            <a:r>
              <a:rPr b="0" lang="es-ES" sz="3400" spc="-1" strike="noStrike">
                <a:solidFill>
                  <a:srgbClr val="595959"/>
                </a:solidFill>
                <a:latin typeface="Arial"/>
              </a:rPr>
              <a:t>IMAGINA EL LUGAR DONDE </a:t>
            </a:r>
            <a:br>
              <a:rPr sz="3400"/>
            </a:br>
            <a:r>
              <a:rPr b="0" lang="es-ES" sz="3400" spc="-1" strike="noStrike">
                <a:solidFill>
                  <a:srgbClr val="595959"/>
                </a:solidFill>
                <a:latin typeface="Arial"/>
              </a:rPr>
              <a:t>TE GUSTARÍA TRABAJA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MG_0161"/>
          <p:cNvPicPr/>
          <p:nvPr/>
        </p:nvPicPr>
        <p:blipFill>
          <a:blip r:embed="rId2"/>
          <a:stretch/>
        </p:blipFill>
        <p:spPr>
          <a:xfrm>
            <a:off x="228600" y="3024360"/>
            <a:ext cx="3554280" cy="35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03280" y="1359000"/>
            <a:ext cx="6848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¿QUÉ ES EL CLIMA ORGANIZACION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otolia_6945489"/>
          <p:cNvPicPr/>
          <p:nvPr/>
        </p:nvPicPr>
        <p:blipFill>
          <a:blip r:embed="rId2"/>
          <a:stretch/>
        </p:blipFill>
        <p:spPr>
          <a:xfrm>
            <a:off x="92160" y="3733920"/>
            <a:ext cx="4403520" cy="300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24000" y="2135160"/>
            <a:ext cx="84978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on las </a:t>
            </a:r>
            <a:r>
              <a:rPr b="1" i="1" lang="es-ES" sz="24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percepciones </a:t>
            </a: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que una persona  sobre las condiciones laborales de la Organización en donde trabaja. La cual influirá en el desarrollo de las actividades de la Organiz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28800" y="368280"/>
            <a:ext cx="556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¿POR QUÉ PREOCUPARSE POR EL </a:t>
            </a:r>
            <a:br>
              <a:rPr sz="2000"/>
            </a:b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CLIMA ORGANIZACIO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1484280"/>
            <a:ext cx="82598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El Clima tiene repercusiones en la productividad de las em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Influye tanto en el sistema organizacional como en el comportamiento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Las empresas con buen Clima Organizacional rentabilizan sus mar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Captan los mejores profes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Fotolia_3485048_XS"/>
          <p:cNvPicPr/>
          <p:nvPr/>
        </p:nvPicPr>
        <p:blipFill>
          <a:blip r:embed="rId2"/>
          <a:stretch/>
        </p:blipFill>
        <p:spPr>
          <a:xfrm>
            <a:off x="1908000" y="4343400"/>
            <a:ext cx="365472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88880" y="1268280"/>
            <a:ext cx="8259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Revista Fortu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as mejores empresas donde trabajar, son también las mejores empresas en donde inverti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a alegría se contagia y es una buena inversió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EJ.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OWE y Harley – Davidson,</a:t>
            </a:r>
            <a:r>
              <a:rPr b="0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que registraron ganancias que superaron el 40% anual, pese a las variaciones bursátiles tras el negro 11 de septiemb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79640" y="44280"/>
            <a:ext cx="6019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El CLIMA ORGANIZACIONAL </a:t>
            </a: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Y  LA PRO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2136954043_5145b15312"/>
          <p:cNvPicPr/>
          <p:nvPr/>
        </p:nvPicPr>
        <p:blipFill>
          <a:blip r:embed="rId2"/>
          <a:stretch/>
        </p:blipFill>
        <p:spPr>
          <a:xfrm>
            <a:off x="3429000" y="3124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1828800" y="152280"/>
            <a:ext cx="5562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EL CLIMA ORGANIZACIONAL </a:t>
            </a:r>
            <a:br>
              <a:rPr sz="2000"/>
            </a:b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Y LA MARCA CORP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rcRect l="24924" t="17615" r="14186" b="15872"/>
          <a:stretch/>
        </p:blipFill>
        <p:spPr>
          <a:xfrm>
            <a:off x="684360" y="1330200"/>
            <a:ext cx="8002440" cy="54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VARIABLES QUE INFLUYEN </a:t>
            </a: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EN EL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46080" y="1828800"/>
            <a:ext cx="774072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Fís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Estructu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Organiz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Arial"/>
              </a:rPr>
              <a:t>Estas Variables son percibidas por el individuo y determinan su forma de actuar con la Organización, generando el Cl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Fotolia_11415523_S-300x300"/>
          <p:cNvPicPr/>
          <p:nvPr/>
        </p:nvPicPr>
        <p:blipFill>
          <a:blip r:embed="rId2"/>
          <a:stretch/>
        </p:blipFill>
        <p:spPr>
          <a:xfrm>
            <a:off x="4140360" y="2184480"/>
            <a:ext cx="2946240" cy="29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1:31:45Z</dcterms:created>
  <dc:creator>Tamara Osses</dc:creator>
  <dc:description/>
  <dc:language>en-US</dc:language>
  <cp:lastModifiedBy>jose tomas saffirio mezzano</cp:lastModifiedBy>
  <dcterms:modified xsi:type="dcterms:W3CDTF">2011-12-06T14:33:20Z</dcterms:modified>
  <cp:revision>53</cp:revision>
  <dc:subject/>
  <dc:title>Diapositiva 1</dc:title>
</cp:coreProperties>
</file>