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0.jpeg" ContentType="image/jpeg"/>
  <Override PartName="/ppt/media/DRUMROLL.WAV" ContentType="audio/x-wav"/>
  <Override PartName="/ppt/media/CASHREG.WAV" ContentType="audio/x-wav"/>
  <Override PartName="/ppt/media/image10.jpeg" ContentType="image/jpeg"/>
  <Override PartName="/ppt/media/image19.jpeg" ContentType="image/jpeg"/>
  <Override PartName="/ppt/media/image7.jpeg" ContentType="image/jpeg"/>
  <Override PartName="/ppt/media/LASER.WAV" ContentType="audio/x-wav"/>
  <Override PartName="/ppt/media/image5.png" ContentType="image/png"/>
  <Override PartName="/ppt/media/image8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11.jpeg" ContentType="image/jpeg"/>
  <Override PartName="/ppt/media/image24.wmf" ContentType="image/x-wmf"/>
  <Override PartName="/ppt/media/DRIVEBY.WAV" ContentType="audio/x-wav"/>
  <Override PartName="/ppt/media/image3.png" ContentType="image/png"/>
  <Override PartName="/ppt/media/image25.jpeg" ContentType="image/jpeg"/>
  <Override PartName="/ppt/media/image26.jpeg" ContentType="image/jpeg"/>
  <Override PartName="/ppt/media/CHIMES.WAV" ContentType="audio/x-wav"/>
  <Override PartName="/ppt/media/image17.jpeg" ContentType="image/jpeg"/>
  <Override PartName="/ppt/media/APPLAUSE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5.jpeg" ContentType="image/jpeg"/>
  <Override PartName="/ppt/media/TYPE.WAV" ContentType="audio/x-wav"/>
  <Override PartName="/ppt/media/image16.jpeg" ContentType="image/jpeg"/>
  <Override PartName="/ppt/media/image6.png" ContentType="image/png"/>
  <Override PartName="/ppt/media/GUNSHOT.WAV" ContentType="audio/x-wav"/>
  <Override PartName="/ppt/media/image21.jpeg" ContentType="image/jpeg"/>
  <Override PartName="/ppt/media/image18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24B-7C3B-48E0-8D07-B0FEFF8F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BDD-8541-4C4D-B029-7A26E4E4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FFCBE-26BC-4DC4-8C80-26722B49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8A59E-3810-47C2-AA37-44F51AEF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90F78-E06C-4066-8E25-8AC51874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23138-50FB-463A-A879-FEAA5F01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E3ADB0-EAFC-4971-A132-982D0191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6E503-DB63-4A2E-8411-34CD1FE8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E4144-A781-4507-9876-AC62C50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70EFB-41B7-455C-B029-418CBA3E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0D242-B791-4F15-A8AD-93D83E03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3C2D5-8F12-47CF-80B4-0559E7B5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871-2C5A-4865-82BE-5D8F0C17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2158B-834B-4E07-BB98-EBB935EE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B1DD7-05D6-4C5B-9E10-3105C047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99E5A-A333-42B1-92D6-C3F237B6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F87B3-1FD6-4B29-8014-1084EA00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A3A14-002A-4014-BC83-76D58977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4A537-EB49-414B-939C-15286D9C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E8238-A2F3-4E5F-9E5B-1DB96EFE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D03A6-B28D-49EE-AAC6-148FBAAC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F802A-3C60-4A24-9D6D-FF156746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C8BD3-1A81-4611-966F-7F6D1C6D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2AD-5919-4980-BA1D-0526E976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D5EF9-C8AE-462B-A083-71C21586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D5D59-0B42-423D-BAFD-0F416016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F6B4F-1DF9-49AC-B94E-D50DD883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96E96-3E29-4A34-A777-95286BCA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791EA-C4BB-478D-AED7-C0672C90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14A4D-2F60-465F-A5E5-4FEE6379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ABC5A-44B6-4274-B197-B73BFC50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70836-C74C-4C7C-9EE9-31674AE6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B62A6-9367-4CF6-AA4F-2E047202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4700C-DA76-414A-BF8F-31602923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19FB-4550-479C-B084-103F3531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001E5-0F49-406C-8FCE-CF2146FA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C1831-8963-451C-BB78-7234F506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9A824-9215-4B09-8F5D-E01B71D3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86E0AF-9256-4A44-AF5C-FB05D7E8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203E3-2635-4DE1-8DE1-713BA84E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798C9-F1E7-4638-A969-7B7076FD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89C84-1784-458F-A5E5-C626A2C2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9C8F6-43CE-4548-AEA9-2115498F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B8B13-7217-46D1-8B32-62ECF02B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3E2EC-6C87-4305-8F81-A5D8E609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D375-0D37-46F5-9972-9D634BAB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F1A59-35C0-49B7-BF48-9C928A2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E25E7-BD39-463E-80F0-684E825A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B3EDF-47B4-445F-8A81-E647FC2D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13962-495D-407E-8497-ED1B4669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EBF5C-C5C8-417A-B894-B82A6E0E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EB8EDE-FB10-4158-B956-A2E2F8C6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DDD50-DB22-4AC3-AC5D-C681819C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E9555-56CF-4C44-B65B-DA81A4E8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7D7EF-3D30-45F8-BA9A-1D1C77C6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1D833-E16C-437B-878D-E1A32A3D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D9FE-4DE5-430B-8567-ADF6BBE1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C13682-41F4-4BF4-815E-5052DB5E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C0B47-69E1-4C2A-9501-17BEB577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89BD4-F38A-4458-9753-B8A61251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F9395-0F75-44D2-81E1-0DBC7DD4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BFD47-888D-46B8-915C-4D4E2FCE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E338A-769C-4805-A77E-548FBB26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09403F-D93A-4071-BB41-9CDFC61A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CB9C-1D4F-430F-973B-02A6AA67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AF78-0D23-4538-8B31-5EE1D8F6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6B70-7AAF-411D-BA71-F0083842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E652-5124-4DE0-B033-30039BEC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98B-E51B-4C90-B159-A917CB73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53EA-5B71-4CCB-99F1-3B50BB0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B9A5-1625-4B86-A1CB-B68772F0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A287-25F0-4ED5-81A2-79A11B9F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BC27-512D-4B0F-AAB3-0CA2ADA0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81A4-8F04-4758-8F0E-00EB8378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4CC8-CD98-42E7-BB0A-8E7433D2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5A49-C6E8-4EAC-AC13-6280596D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172B-A0B6-4851-85E8-26C1E46B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E6A0-79B5-410C-A14A-8AAD7BD9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8DB1-7B41-4918-BEAB-FFC0FC0A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BD3-4A4D-4CD8-918B-25E386A8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5CF0-9170-4ADC-A4BB-894D28B9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D97B-D7FA-4100-BC69-20ED74D0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D5195-89EA-4A8B-A3A3-4CE375EB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E7A0-FEB1-40B2-9888-FD2939CB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EFCB-B664-4EC3-9D5D-6EA81034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7116-D9E4-453B-AB47-4FE82D72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33D0-7183-4493-86DD-4F55F289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755D0-04DC-44A9-B22B-46A5870E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E3A22-AAD6-4088-A5AC-EB78DBE6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52861-3C4A-4A33-B97C-DD104C58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C567-372D-43AB-A0C9-9341703D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2F8D-596E-424B-95AF-6587984E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F2FB2-B614-49EF-9A39-385F882E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FEFB-7F49-4E8C-B95B-2D423E36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75191-A343-481F-A7B4-0F4730A0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81758-14CD-495A-A605-5DAA18EC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23902-4F34-4D2D-9997-472D83C2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8D39B-F1C4-4CA3-A62F-EE51007B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FE78-DF7C-4DF5-9B2D-0F9779D7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AB51-8C9D-43E5-8C4D-BC8D0200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23E1-AB95-4729-A8A9-45C73994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C83F-4B5E-4239-A173-AA6D7586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9FBEE-3C88-41CB-BE46-1AF48988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3A416-C780-4278-AB93-07117647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BE644-03CA-4A24-B80A-455BE6A6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78A3E-873E-4A61-A7B8-6840ADC2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445F0-5CD0-409E-8DB5-83B20DB9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E0973-CD05-4F89-8DD6-777698FF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A9B9A-F024-4F98-ABE6-485512CE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60094-BA6C-47B7-90EE-0B5654B6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017D-5819-42E3-89DB-EF4B2081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4BF8F-0169-4955-B0C8-026914D0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D40-4159-4FC7-AFD9-23F56F7D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2006-D824-4A11-B108-A95A94CC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CEE6B-4D25-44FB-96BF-9C70E808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E8AEE-1C90-4CF8-A9B5-DE839B3C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525ED-1752-411C-9E09-B9C022AC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E45D7-AC4A-4E28-B38D-4F22A044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5FF06-5554-4171-82A2-02984818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E6FF4-9FAB-49AE-A28F-72C2A4CE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B3521-874E-43DE-BB3D-4B05A6C9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BCB3C-9B82-4647-946C-33225BE1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001FB-D23A-4B85-8EA2-242CC246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01D9-55CB-4A5C-9D9D-519CED97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C2098-7F24-41CA-BB89-4C23BE19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09B51-9495-4B33-A431-B6435B60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2E54F-1743-43B2-802F-615BAB60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9DBF6-742E-4900-8607-B200AE03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ED10F-FDD3-435F-89D5-46755DE0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97861-FCA2-4008-9695-13F3F0D3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C4304-728F-4FD0-88CE-233D5E49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D25A6-8787-4680-90B0-6DF3E25C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BAAA6-96D5-4558-A441-97182F22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8FB2C-00CD-47E2-B8EC-B622D8F1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23F-66A6-4D5B-BBC5-3C438E92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DDB49-2D5D-405A-B669-999CB78B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3D7F7-E0D6-44A1-80CF-BFBE802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80FE-60FD-4734-BE8F-09014312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566DB-82E2-4E0C-875A-330AF626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D8B71-16D9-46B3-8BEB-05B11072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68052-3220-47E1-ABFE-DA02D372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9E367-DCCD-4C49-ACEF-98C2A23C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D8244-B1C8-4694-9CD8-C25703FA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926B2-34A2-40C0-8FF0-3D6A3AD6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11A52-0F01-4083-BDBA-CAC98966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2F59-4AE8-41C1-8E92-CACDE83B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7C8A8-FACB-4346-9640-7863357E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A1A06-6C03-4D53-B38F-12AB6DF6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EA209-0453-49D8-8D6D-EC5DC65B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EA407-1ED7-44EB-87DD-7B0E02FA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188E0-8DA3-479D-AFE4-EB68463E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4F5A0-525D-4859-9CB5-33CC02F9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D91C2-123F-4FC6-AB8C-827917AF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22172-A301-4DF5-BD0E-8F91F2A0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CD2E3-D041-46E0-9393-747F96E2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49416-1E28-4541-94DF-417AE65E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4E65D-6C71-4DDD-B1C7-4B6E201AE20A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3F904C-939E-4802-9DC7-34C531A351D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4D1F6-5279-4266-AAD9-97D9D3365443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C4048-35E4-47B9-908B-219766974FF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FCC8E-A054-4170-B953-15135BA35180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D911A-AB8D-4396-9437-9FD2FEB691B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A6F55-3AD6-4377-B3F9-A70915932D9B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73DDD-3A13-4424-901B-CC86671EDF04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42904-9ECE-4054-8984-827FB3D48528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8857B-FDD2-43A8-BB29-D6072E10E2B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7E92F-0FB9-4498-8B7F-8559FED6DB1C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D8A13-CF71-4AFD-88E3-7AEA50FDDEB7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DF8B3F-2919-4D01-8674-B2E8BC80298A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E5AE1-6418-4630-9D46-FDC3262078B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A7306-A07D-44A2-9DB9-43D4A05C1367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94429-6775-46A4-8872-0C21D7914BD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AE478E-2E20-4CD9-9DC1-CB4B6E32A180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FB1DB-5E7F-4514-AD24-5EBA24E98B70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AAF22-935F-4DF3-8555-9577250BB0AA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35D3D-0C47-423D-8CEF-DDCCD71D48F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33E89-D47C-4509-B5A2-D77D7CB2CF71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40812-FE2D-4168-BEC8-EE2F0E91EDCF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FD03A-BDD0-4E33-92D3-2C0534D21110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84FEA-67A3-4585-B6F7-D789BBEBBD8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A34E4-62A6-436C-BE9D-C8CC11A5D01E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34B802-369A-44A9-B477-C88F72FAA826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audio" Target="../media/APPLAUSE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DRIVEBY.WAV"/><Relationship Id="rId8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5"/>
          <p:cNvSpPr/>
          <p:nvPr/>
        </p:nvSpPr>
        <p:spPr>
          <a:xfrm>
            <a:off x="228600" y="21337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Arial"/>
              </a:rPr>
              <a:t>LIDERAZGO Y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1981080" y="49356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DIAGNÓ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1" descr="Imagen 002"/>
          <p:cNvPicPr/>
          <p:nvPr/>
        </p:nvPicPr>
        <p:blipFill>
          <a:blip r:embed="rId2"/>
          <a:stretch/>
        </p:blipFill>
        <p:spPr>
          <a:xfrm>
            <a:off x="1735200" y="1684440"/>
            <a:ext cx="5673600" cy="34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2"/>
          <p:cNvSpPr/>
          <p:nvPr/>
        </p:nvSpPr>
        <p:spPr>
          <a:xfrm>
            <a:off x="990720" y="404640"/>
            <a:ext cx="716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800" spc="-1" strike="noStrike">
                <a:solidFill>
                  <a:srgbClr val="595959"/>
                </a:solidFill>
                <a:latin typeface="Arial"/>
              </a:rPr>
              <a:t>DIAGNÓSTIC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2360" y="14749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7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595959"/>
                </a:solidFill>
                <a:latin typeface="Arial"/>
              </a:rPr>
              <a:t>Es la disposición y habilidad para observar una situación y evaluar las necesidades de desarrollo de los colaboradores, con el fin de decidir qué estilo de liderazgo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ver"/>
          <p:cNvPicPr/>
          <p:nvPr/>
        </p:nvPicPr>
        <p:blipFill>
          <a:blip r:embed="rId2"/>
          <a:stretch/>
        </p:blipFill>
        <p:spPr>
          <a:xfrm>
            <a:off x="990720" y="4038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595959"/>
                </a:solidFill>
                <a:latin typeface="Arial"/>
              </a:rPr>
              <a:t>Nivel de Desarrol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406728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Compe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0" descr="Fotolia_7829651_M"/>
          <p:cNvPicPr/>
          <p:nvPr/>
        </p:nvPicPr>
        <p:blipFill>
          <a:blip r:embed="rId2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4" descr="7"/>
          <p:cNvPicPr/>
          <p:nvPr/>
        </p:nvPicPr>
        <p:blipFill>
          <a:blip r:embed="rId2"/>
          <a:stretch/>
        </p:blipFill>
        <p:spPr>
          <a:xfrm>
            <a:off x="304920" y="141300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2"/>
          <p:cNvSpPr/>
          <p:nvPr/>
        </p:nvSpPr>
        <p:spPr>
          <a:xfrm>
            <a:off x="3124080" y="27000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800" spc="-1" strike="noStrike">
                <a:solidFill>
                  <a:srgbClr val="cc3300"/>
                </a:solidFill>
                <a:latin typeface="Arial"/>
              </a:rPr>
              <a:t>Compe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3157560" y="2133720"/>
            <a:ext cx="5986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onocimientos y habilidades para la tarea o m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Arial"/>
              </a:rPr>
              <a:t>Conocimientos y habilidades transfer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8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4572000" y="2359080"/>
            <a:ext cx="403848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3399"/>
                </a:solidFill>
                <a:latin typeface="Arial"/>
              </a:rPr>
              <a:t>Motiv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3399"/>
                </a:solidFill>
                <a:latin typeface="Arial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0033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6" descr="15"/>
          <p:cNvPicPr/>
          <p:nvPr/>
        </p:nvPicPr>
        <p:blipFill>
          <a:blip r:embed="rId2"/>
          <a:stretch/>
        </p:blipFill>
        <p:spPr>
          <a:xfrm>
            <a:off x="324000" y="1916280"/>
            <a:ext cx="395280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"/>
          <p:cNvGraphicFramePr/>
          <p:nvPr/>
        </p:nvGraphicFramePr>
        <p:xfrm>
          <a:off x="773280" y="1697040"/>
          <a:ext cx="7543800" cy="461160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ENTUSIAS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PREND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ILUSION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INSEGU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ET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AUTÓNO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s-E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7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3" name="Text Box 24"/>
          <p:cNvSpPr/>
          <p:nvPr/>
        </p:nvSpPr>
        <p:spPr>
          <a:xfrm rot="19528200">
            <a:off x="3650040" y="4936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003399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5"/>
          <p:cNvSpPr/>
          <p:nvPr/>
        </p:nvSpPr>
        <p:spPr>
          <a:xfrm rot="19643400">
            <a:off x="2811960" y="357948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2000" spc="-1" strike="noStrike">
                <a:solidFill>
                  <a:srgbClr val="003399"/>
                </a:solidFill>
                <a:latin typeface="Arial"/>
              </a:rPr>
              <a:t>COMPETENC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26"/>
          <p:cNvSpPr/>
          <p:nvPr/>
        </p:nvSpPr>
        <p:spPr>
          <a:xfrm>
            <a:off x="843120" y="2922480"/>
            <a:ext cx="7457760" cy="2597400"/>
          </a:xfrm>
          <a:prstGeom prst="pie">
            <a:avLst/>
          </a:pr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27"/>
          <p:cNvSpPr/>
          <p:nvPr/>
        </p:nvSpPr>
        <p:spPr>
          <a:xfrm>
            <a:off x="828720" y="2639880"/>
            <a:ext cx="7461360" cy="3006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8"/>
          <p:cNvSpPr/>
          <p:nvPr/>
        </p:nvSpPr>
        <p:spPr>
          <a:xfrm>
            <a:off x="1763640" y="115920"/>
            <a:ext cx="69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595959"/>
                </a:solidFill>
                <a:latin typeface="Calibri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Calibri"/>
              </a:rPr>
              <a:t>Colaboradores y Tareas / Me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3"/>
          <p:cNvSpPr/>
          <p:nvPr/>
        </p:nvSpPr>
        <p:spPr>
          <a:xfrm>
            <a:off x="7021440" y="4159080"/>
            <a:ext cx="1565280" cy="1791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7021440" y="2614680"/>
            <a:ext cx="1565280" cy="154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7021440" y="1773360"/>
            <a:ext cx="1565280" cy="8413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ESMOTIV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(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5454720" y="4159080"/>
            <a:ext cx="1566720" cy="17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3889440" y="4159080"/>
            <a:ext cx="1565280" cy="179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2322360" y="4159080"/>
            <a:ext cx="156708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755640" y="4159080"/>
            <a:ext cx="15667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5454720" y="2614680"/>
            <a:ext cx="1566720" cy="15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3889440" y="2614680"/>
            <a:ext cx="1565280" cy="15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3"/>
          <p:cNvSpPr/>
          <p:nvPr/>
        </p:nvSpPr>
        <p:spPr>
          <a:xfrm>
            <a:off x="2322360" y="2614680"/>
            <a:ext cx="156708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4"/>
          <p:cNvSpPr/>
          <p:nvPr/>
        </p:nvSpPr>
        <p:spPr>
          <a:xfrm>
            <a:off x="755640" y="2614680"/>
            <a:ext cx="15667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5"/>
          <p:cNvSpPr/>
          <p:nvPr/>
        </p:nvSpPr>
        <p:spPr>
          <a:xfrm>
            <a:off x="5454720" y="1773360"/>
            <a:ext cx="1566720" cy="841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AUT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NO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6"/>
          <p:cNvSpPr/>
          <p:nvPr/>
        </p:nvSpPr>
        <p:spPr>
          <a:xfrm>
            <a:off x="3889440" y="1773360"/>
            <a:ext cx="1565280" cy="841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COMPET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IN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7"/>
          <p:cNvSpPr/>
          <p:nvPr/>
        </p:nvSpPr>
        <p:spPr>
          <a:xfrm>
            <a:off x="2322360" y="1773360"/>
            <a:ext cx="1567080" cy="841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PREND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ESILUSION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755640" y="1773360"/>
            <a:ext cx="1566720" cy="841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APREND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ENTUSIAS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rebuchet MS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19"/>
          <p:cNvSpPr/>
          <p:nvPr/>
        </p:nvSpPr>
        <p:spPr>
          <a:xfrm>
            <a:off x="755640" y="2614680"/>
            <a:ext cx="626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0"/>
          <p:cNvSpPr/>
          <p:nvPr/>
        </p:nvSpPr>
        <p:spPr>
          <a:xfrm>
            <a:off x="755640" y="4159080"/>
            <a:ext cx="626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1"/>
          <p:cNvSpPr/>
          <p:nvPr/>
        </p:nvSpPr>
        <p:spPr>
          <a:xfrm>
            <a:off x="232236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2"/>
          <p:cNvSpPr/>
          <p:nvPr/>
        </p:nvSpPr>
        <p:spPr>
          <a:xfrm>
            <a:off x="388944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23"/>
          <p:cNvSpPr/>
          <p:nvPr/>
        </p:nvSpPr>
        <p:spPr>
          <a:xfrm>
            <a:off x="5454720" y="1773360"/>
            <a:ext cx="0" cy="41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4"/>
          <p:cNvSpPr/>
          <p:nvPr/>
        </p:nvSpPr>
        <p:spPr>
          <a:xfrm>
            <a:off x="755640" y="1773360"/>
            <a:ext cx="78310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5"/>
          <p:cNvSpPr/>
          <p:nvPr/>
        </p:nvSpPr>
        <p:spPr>
          <a:xfrm>
            <a:off x="755640" y="1773360"/>
            <a:ext cx="0" cy="4176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27"/>
          <p:cNvSpPr/>
          <p:nvPr/>
        </p:nvSpPr>
        <p:spPr>
          <a:xfrm>
            <a:off x="755640" y="5950080"/>
            <a:ext cx="78310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8"/>
          <p:cNvSpPr/>
          <p:nvPr/>
        </p:nvSpPr>
        <p:spPr>
          <a:xfrm rot="19528200">
            <a:off x="3769200" y="4149360"/>
            <a:ext cx="217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0504d"/>
                </a:solidFill>
                <a:latin typeface="Arial"/>
              </a:rPr>
              <a:t>COMPROMI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9"/>
          <p:cNvSpPr/>
          <p:nvPr/>
        </p:nvSpPr>
        <p:spPr>
          <a:xfrm rot="19643400">
            <a:off x="2828880" y="349992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" sz="1600" spc="-1" strike="noStrike">
                <a:solidFill>
                  <a:srgbClr val="cc3300"/>
                </a:solidFill>
                <a:latin typeface="Arial"/>
              </a:rPr>
              <a:t>COMPET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0"/>
          <p:cNvSpPr/>
          <p:nvPr/>
        </p:nvSpPr>
        <p:spPr>
          <a:xfrm>
            <a:off x="755640" y="2863800"/>
            <a:ext cx="6194520" cy="2324160"/>
          </a:xfrm>
          <a:prstGeom prst="pie">
            <a:avLst/>
          </a:prstGeom>
          <a:noFill/>
          <a:ln w="572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1"/>
          <p:cNvSpPr/>
          <p:nvPr/>
        </p:nvSpPr>
        <p:spPr>
          <a:xfrm>
            <a:off x="790560" y="2614680"/>
            <a:ext cx="7597800" cy="2766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2"/>
          <p:cNvSpPr/>
          <p:nvPr/>
        </p:nvSpPr>
        <p:spPr>
          <a:xfrm flipH="1" flipV="1">
            <a:off x="6927480" y="2997000"/>
            <a:ext cx="1460520" cy="259236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8"/>
          <p:cNvSpPr/>
          <p:nvPr/>
        </p:nvSpPr>
        <p:spPr>
          <a:xfrm>
            <a:off x="1763640" y="270000"/>
            <a:ext cx="691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Niveles de Madurez 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Colaboradores y Tareas / Metas</a:t>
            </a:r>
            <a:br>
              <a:rPr sz="3000"/>
            </a:br>
            <a:r>
              <a:rPr b="0" lang="es-ES" sz="3000" spc="-1" strike="noStrike">
                <a:solidFill>
                  <a:srgbClr val="595959"/>
                </a:solidFill>
                <a:latin typeface="Arial"/>
              </a:rPr>
              <a:t>El Ciclo Regres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8586720" y="1773360"/>
            <a:ext cx="0" cy="417672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2"/>
          <p:cNvSpPr/>
          <p:nvPr/>
        </p:nvSpPr>
        <p:spPr>
          <a:xfrm>
            <a:off x="1585800" y="19836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Los </a:t>
            </a:r>
            <a:r>
              <a:rPr b="0" lang="es-CL" sz="3800" spc="-1" strike="noStrike">
                <a:solidFill>
                  <a:srgbClr val="595959"/>
                </a:solidFill>
                <a:latin typeface="Verdana"/>
              </a:rPr>
              <a:t>4</a:t>
            </a: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 niveles de Madurez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108000" y="1413000"/>
            <a:ext cx="8856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1: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Baja competencia y alto compromiso                  </a:t>
            </a:r>
            <a:r>
              <a:rPr b="0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aprendiz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entusia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2: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Baja a alguna competencia y bajo compromiso     </a:t>
            </a:r>
            <a:r>
              <a:rPr b="0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aprendiz  desilusio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3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oderada a alta competencia y compromiso 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variable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competente insegu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000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4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lta competencia y alto compromiso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(competente 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1" lang="es-CL" sz="2400" spc="-1" strike="noStrike">
                <a:solidFill>
                  <a:srgbClr val="c0504d"/>
                </a:solidFill>
                <a:latin typeface="Arial"/>
              </a:rPr>
              <a:t>autóno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2365514672_60a54f915c"/>
          <p:cNvPicPr/>
          <p:nvPr/>
        </p:nvPicPr>
        <p:blipFill>
          <a:blip r:embed="rId2"/>
          <a:stretch/>
        </p:blipFill>
        <p:spPr>
          <a:xfrm>
            <a:off x="6858000" y="4419720"/>
            <a:ext cx="2085840" cy="220824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3"/>
          <p:cNvSpPr/>
          <p:nvPr/>
        </p:nvSpPr>
        <p:spPr>
          <a:xfrm>
            <a:off x="282600" y="1295280"/>
            <a:ext cx="857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conocimiento del entusiasmo y de las habilidades transfer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Normas que definan qué es un trabajo bien h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nformación acerca de cómo se registrarán y comunicarán los datos relativos al desemp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Conocimiento de las reglas no escritas sobre “cómo funcionan las cosas por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nformación sobre la tarea y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2364682039_b5bac31669"/>
          <p:cNvPicPr/>
          <p:nvPr/>
        </p:nvPicPr>
        <p:blipFill>
          <a:blip r:embed="rId2"/>
          <a:stretch/>
        </p:blipFill>
        <p:spPr>
          <a:xfrm>
            <a:off x="0" y="4267080"/>
            <a:ext cx="2192400" cy="219240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8571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Metas cl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Perspe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troalimentación frecuente sobre l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ogio ante el progreso manifi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Sentir que los errores son comprend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Agrupar 27"/>
          <p:cNvGrpSpPr/>
          <p:nvPr/>
        </p:nvGrpSpPr>
        <p:grpSpPr>
          <a:xfrm>
            <a:off x="7391520" y="1855800"/>
            <a:ext cx="1643040" cy="3606840"/>
            <a:chOff x="7391520" y="1855800"/>
            <a:chExt cx="1643040" cy="3606840"/>
          </a:xfrm>
        </p:grpSpPr>
        <p:sp>
          <p:nvSpPr>
            <p:cNvPr id="536" name="Rectangle 16"/>
            <p:cNvSpPr/>
            <p:nvPr/>
          </p:nvSpPr>
          <p:spPr>
            <a:xfrm>
              <a:off x="7391520" y="1855800"/>
              <a:ext cx="1641600" cy="360684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7"/>
            <p:cNvSpPr/>
            <p:nvPr/>
          </p:nvSpPr>
          <p:spPr>
            <a:xfrm>
              <a:off x="7391520" y="1855800"/>
              <a:ext cx="1643040" cy="32544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8"/>
            <p:cNvSpPr/>
            <p:nvPr/>
          </p:nvSpPr>
          <p:spPr>
            <a:xfrm>
              <a:off x="7391520" y="2176200"/>
              <a:ext cx="785880" cy="334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19"/>
            <p:cNvSpPr/>
            <p:nvPr/>
          </p:nvSpPr>
          <p:spPr>
            <a:xfrm>
              <a:off x="8056800" y="2205000"/>
              <a:ext cx="977760" cy="3078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541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42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noFill/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Agrupar 28"/>
          <p:cNvGrpSpPr/>
          <p:nvPr/>
        </p:nvGrpSpPr>
        <p:grpSpPr>
          <a:xfrm>
            <a:off x="1701720" y="1884240"/>
            <a:ext cx="1643040" cy="3741840"/>
            <a:chOff x="1701720" y="1884240"/>
            <a:chExt cx="1643040" cy="3741840"/>
          </a:xfrm>
        </p:grpSpPr>
        <p:sp>
          <p:nvSpPr>
            <p:cNvPr id="546" name="Rectangle 7"/>
            <p:cNvSpPr/>
            <p:nvPr/>
          </p:nvSpPr>
          <p:spPr>
            <a:xfrm>
              <a:off x="1701720" y="1884240"/>
              <a:ext cx="96372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8"/>
            <p:cNvSpPr/>
            <p:nvPr/>
          </p:nvSpPr>
          <p:spPr>
            <a:xfrm>
              <a:off x="1701720" y="1884240"/>
              <a:ext cx="96372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2"/>
            <p:cNvSpPr/>
            <p:nvPr/>
          </p:nvSpPr>
          <p:spPr>
            <a:xfrm>
              <a:off x="241596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Agrupar 30"/>
          <p:cNvGrpSpPr/>
          <p:nvPr/>
        </p:nvGrpSpPr>
        <p:grpSpPr>
          <a:xfrm>
            <a:off x="5486400" y="1884240"/>
            <a:ext cx="2212920" cy="3741840"/>
            <a:chOff x="5486400" y="1884240"/>
            <a:chExt cx="2212920" cy="3741840"/>
          </a:xfrm>
        </p:grpSpPr>
        <p:sp>
          <p:nvSpPr>
            <p:cNvPr id="550" name="Rectangle 9"/>
            <p:cNvSpPr/>
            <p:nvPr/>
          </p:nvSpPr>
          <p:spPr>
            <a:xfrm>
              <a:off x="5486400" y="1884240"/>
              <a:ext cx="1785960" cy="36072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terpers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"/>
            <p:cNvSpPr/>
            <p:nvPr/>
          </p:nvSpPr>
          <p:spPr>
            <a:xfrm>
              <a:off x="5486400" y="1884240"/>
              <a:ext cx="1785960" cy="60012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icológico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AutoShape 24"/>
            <p:cNvSpPr/>
            <p:nvPr/>
          </p:nvSpPr>
          <p:spPr>
            <a:xfrm>
              <a:off x="677232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Agrupar 29"/>
          <p:cNvGrpSpPr/>
          <p:nvPr/>
        </p:nvGrpSpPr>
        <p:grpSpPr>
          <a:xfrm>
            <a:off x="2843280" y="1884240"/>
            <a:ext cx="3143160" cy="3741840"/>
            <a:chOff x="2843280" y="1884240"/>
            <a:chExt cx="3143160" cy="3741840"/>
          </a:xfrm>
        </p:grpSpPr>
        <p:sp>
          <p:nvSpPr>
            <p:cNvPr id="554" name="Rectangle 12"/>
            <p:cNvSpPr/>
            <p:nvPr/>
          </p:nvSpPr>
          <p:spPr>
            <a:xfrm>
              <a:off x="2843280" y="2166840"/>
              <a:ext cx="121608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595959"/>
                  </a:solidFill>
                  <a:latin typeface="Arial"/>
                  <a:ea typeface="Arial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4"/>
            <p:cNvSpPr/>
            <p:nvPr/>
          </p:nvSpPr>
          <p:spPr>
            <a:xfrm>
              <a:off x="3987720" y="2166840"/>
              <a:ext cx="1285920" cy="3324600"/>
            </a:xfrm>
            <a:prstGeom prst="rect">
              <a:avLst/>
            </a:prstGeom>
            <a:noFill/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Desemp</a:t>
              </a: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ompetenc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Selec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apaci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Remunera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ncentiv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Plan Carr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v. Potenc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Desv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20"/>
            <p:cNvSpPr/>
            <p:nvPr/>
          </p:nvSpPr>
          <p:spPr>
            <a:xfrm>
              <a:off x="3843360" y="2520720"/>
              <a:ext cx="312480" cy="2970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200" spc="-1" strike="noStrike">
                  <a:solidFill>
                    <a:srgbClr val="595959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23"/>
            <p:cNvSpPr/>
            <p:nvPr/>
          </p:nvSpPr>
          <p:spPr>
            <a:xfrm>
              <a:off x="5059440" y="5130720"/>
              <a:ext cx="9270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"/>
            <p:cNvSpPr/>
            <p:nvPr/>
          </p:nvSpPr>
          <p:spPr>
            <a:xfrm>
              <a:off x="2843280" y="1884240"/>
              <a:ext cx="2428920" cy="606240"/>
            </a:xfrm>
            <a:prstGeom prst="rect">
              <a:avLst/>
            </a:prstGeom>
            <a:solidFill>
              <a:srgbClr val="c0504d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</a:t>
              </a: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C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ructura          Sis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133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Un consejero o asesor acce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Oportunidades para expresar las preocup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poyo y estímulo para desarrollar habilidades para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" descr="2365498558_25b23fee5f"/>
          <p:cNvPicPr/>
          <p:nvPr/>
        </p:nvPicPr>
        <p:blipFill>
          <a:blip r:embed="rId2"/>
          <a:stretch/>
        </p:blipFill>
        <p:spPr>
          <a:xfrm>
            <a:off x="133200" y="3657600"/>
            <a:ext cx="2706840" cy="27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4" descr="2365515172_dfd88da3f7"/>
          <p:cNvPicPr/>
          <p:nvPr/>
        </p:nvPicPr>
        <p:blipFill>
          <a:blip r:embed="rId2"/>
          <a:stretch/>
        </p:blipFill>
        <p:spPr>
          <a:xfrm>
            <a:off x="4854600" y="2637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3"/>
          <p:cNvSpPr/>
          <p:nvPr/>
        </p:nvSpPr>
        <p:spPr>
          <a:xfrm>
            <a:off x="45720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Diversidad y desafí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Un líder que sea un consejero y colega más que un je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Reconocimiento de sus contribuci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Autonomía y auto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Confia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207324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Las necesidades de un M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179064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800" spc="-1" strike="noStrike">
                <a:solidFill>
                  <a:srgbClr val="595959"/>
                </a:solidFill>
                <a:latin typeface="Arial"/>
              </a:rPr>
              <a:t>FLEXIBILIDA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609480" y="1295280"/>
            <a:ext cx="75708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9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600" spc="-1" strike="noStrike">
                <a:solidFill>
                  <a:srgbClr val="595959"/>
                </a:solidFill>
                <a:latin typeface="Arial"/>
              </a:rPr>
              <a:t>La habilidad para utilizar con naturalidad una variedad de estilos de lideraz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" descr="2137737248_e9f3e429d1"/>
          <p:cNvPicPr/>
          <p:nvPr/>
        </p:nvPicPr>
        <p:blipFill>
          <a:blip r:embed="rId2"/>
          <a:stretch/>
        </p:blipFill>
        <p:spPr>
          <a:xfrm>
            <a:off x="0" y="4267080"/>
            <a:ext cx="2151000" cy="215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400" spc="-1" strike="noStrike">
                <a:solidFill>
                  <a:srgbClr val="595959"/>
                </a:solidFill>
                <a:latin typeface="Arial"/>
              </a:rPr>
              <a:t>COMPORTAMIE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4565520" y="119700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595959"/>
                </a:solidFill>
                <a:latin typeface="Arial"/>
              </a:rPr>
              <a:t>DIRE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595959"/>
                </a:solidFill>
                <a:latin typeface="Arial"/>
              </a:rPr>
              <a:t>AP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" descr="Fotolia_7829651_M"/>
          <p:cNvPicPr/>
          <p:nvPr/>
        </p:nvPicPr>
        <p:blipFill>
          <a:blip r:embed="rId2"/>
          <a:stretch/>
        </p:blipFill>
        <p:spPr>
          <a:xfrm>
            <a:off x="684360" y="1773360"/>
            <a:ext cx="3600360" cy="38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Comportamiento Directiv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0" descr="2364683065_f769bc7caf"/>
          <p:cNvPicPr/>
          <p:nvPr/>
        </p:nvPicPr>
        <p:blipFill>
          <a:blip r:embed="rId2"/>
          <a:stretch/>
        </p:blipFill>
        <p:spPr>
          <a:xfrm>
            <a:off x="2597040" y="3324240"/>
            <a:ext cx="4032360" cy="284796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"/>
          <p:cNvSpPr/>
          <p:nvPr/>
        </p:nvSpPr>
        <p:spPr>
          <a:xfrm>
            <a:off x="826920" y="116532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Le dice al colaborador qué hacer, cuándo y cómo hac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los papeles del líder y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upervisa de cerca el desempeño</a:t>
            </a: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595959"/>
                </a:solidFill>
                <a:latin typeface="Arial"/>
              </a:rPr>
              <a:t>Comportamiento de Apoy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7" descr="2364665429_fefa9e071e"/>
          <p:cNvPicPr/>
          <p:nvPr/>
        </p:nvPicPr>
        <p:blipFill>
          <a:blip r:embed="rId2"/>
          <a:stretch/>
        </p:blipFill>
        <p:spPr>
          <a:xfrm>
            <a:off x="531720" y="396252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3"/>
          <p:cNvSpPr/>
          <p:nvPr/>
        </p:nvSpPr>
        <p:spPr>
          <a:xfrm>
            <a:off x="314280" y="1197000"/>
            <a:ext cx="879480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s el grado en que un lí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e compromete más en la comunicación bilat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y proporciona apoyo y estím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timula y facilita la autonomía en la solución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2"/>
          <p:cNvSpPr/>
          <p:nvPr/>
        </p:nvSpPr>
        <p:spPr>
          <a:xfrm>
            <a:off x="2195640" y="3816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400" spc="-1" strike="noStrike">
                <a:solidFill>
                  <a:srgbClr val="595959"/>
                </a:solidFill>
                <a:latin typeface="Arial"/>
              </a:rPr>
              <a:t>Comportamiento del líd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684360" y="1557360"/>
            <a:ext cx="769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Los cuatro estilos difiere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dirección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apoyo que proporciona el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l grado de participación del colaborador en la toma de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3124080" y="152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200" spc="-1" strike="noStrike">
                <a:solidFill>
                  <a:srgbClr val="595959"/>
                </a:solidFill>
                <a:latin typeface="Arial"/>
              </a:rPr>
              <a:t>Estilo de liderazg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826920" y="1495440"/>
            <a:ext cx="7366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3498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Patrón de comportamientos que u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34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utiliza con sus colaboradores 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34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595959"/>
                </a:solidFill>
                <a:latin typeface="Arial"/>
              </a:rPr>
              <a:t>como ellos lo perciben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4" descr="lider_3"/>
          <p:cNvPicPr/>
          <p:nvPr/>
        </p:nvPicPr>
        <p:blipFill>
          <a:blip r:embed="rId2"/>
          <a:stretch/>
        </p:blipFill>
        <p:spPr>
          <a:xfrm>
            <a:off x="2629080" y="3922560"/>
            <a:ext cx="4038480" cy="22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1547640" y="380880"/>
            <a:ext cx="7388280" cy="600120"/>
            <a:chOff x="1547640" y="380880"/>
            <a:chExt cx="7388280" cy="600120"/>
          </a:xfrm>
        </p:grpSpPr>
        <p:sp>
          <p:nvSpPr>
            <p:cNvPr id="710" name="Rectangle 3"/>
            <p:cNvSpPr/>
            <p:nvPr/>
          </p:nvSpPr>
          <p:spPr>
            <a:xfrm>
              <a:off x="1547640" y="404640"/>
              <a:ext cx="73882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3200" spc="-1" strike="noStrike">
                  <a:solidFill>
                    <a:srgbClr val="595959"/>
                  </a:solidFill>
                  <a:latin typeface="Arial"/>
                </a:rPr>
                <a:t>Los 4 Estilos de Liderazg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1" name=""/>
            <p:cNvGraphicFramePr/>
            <p:nvPr/>
          </p:nvGraphicFramePr>
          <p:xfrm>
            <a:off x="7278480" y="380880"/>
            <a:ext cx="787680" cy="11484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1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78480" y="380880"/>
                      <a:ext cx="787680" cy="11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AutoShape 5"/>
          <p:cNvSpPr/>
          <p:nvPr/>
        </p:nvSpPr>
        <p:spPr>
          <a:xfrm>
            <a:off x="2665440" y="5819760"/>
            <a:ext cx="969840" cy="641520"/>
          </a:xfrm>
          <a:custGeom>
            <a:avLst/>
            <a:gdLst>
              <a:gd name="textAreaLeft" fmla="*/ 0 w 969840"/>
              <a:gd name="textAreaRight" fmla="*/ 970200 w 9698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2627280" y="5927760"/>
            <a:ext cx="65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3"/>
          <p:cNvSpPr/>
          <p:nvPr/>
        </p:nvSpPr>
        <p:spPr>
          <a:xfrm>
            <a:off x="2592360" y="5516640"/>
            <a:ext cx="4181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400" spc="-1" strike="noStrike">
                <a:solidFill>
                  <a:srgbClr val="595959"/>
                </a:solidFill>
                <a:latin typeface="Tahoma"/>
              </a:rPr>
              <a:t>ALTO            MODERADO                 BA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4"/>
          <p:cNvSpPr/>
          <p:nvPr/>
        </p:nvSpPr>
        <p:spPr>
          <a:xfrm>
            <a:off x="2650680" y="6494400"/>
            <a:ext cx="354240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7360"/>
                <a:tab algn="l" pos="235080"/>
                <a:tab algn="l" pos="352440"/>
                <a:tab algn="l" pos="469800"/>
                <a:tab algn="l" pos="587520"/>
                <a:tab algn="l" pos="704880"/>
                <a:tab algn="l" pos="822240"/>
                <a:tab algn="l" pos="939960"/>
                <a:tab algn="l" pos="1057320"/>
                <a:tab algn="l" pos="1174680"/>
                <a:tab algn="l" pos="1292400"/>
                <a:tab algn="l" pos="1409760"/>
                <a:tab algn="l" pos="1527120"/>
                <a:tab algn="l" pos="1644480"/>
                <a:tab algn="l" pos="1762200"/>
                <a:tab algn="l" pos="1879560"/>
                <a:tab algn="l" pos="1996920"/>
                <a:tab algn="l" pos="2114640"/>
                <a:tab algn="l" pos="2232000"/>
                <a:tab algn="l" pos="2349360"/>
              </a:tabLst>
            </a:pPr>
            <a:r>
              <a:rPr b="1" lang="es-ES_tradnl" sz="1400" spc="-1" strike="noStrike">
                <a:solidFill>
                  <a:srgbClr val="595959"/>
                </a:solidFill>
                <a:latin typeface="Tahoma"/>
              </a:rPr>
              <a:t>Nivel de desarrollo de los particip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5"/>
          <p:cNvSpPr/>
          <p:nvPr/>
        </p:nvSpPr>
        <p:spPr>
          <a:xfrm flipV="1">
            <a:off x="2627280" y="1751040"/>
            <a:ext cx="0" cy="3078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6"/>
          <p:cNvSpPr/>
          <p:nvPr/>
        </p:nvSpPr>
        <p:spPr>
          <a:xfrm>
            <a:off x="2825640" y="5010120"/>
            <a:ext cx="2941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7"/>
          <p:cNvSpPr/>
          <p:nvPr/>
        </p:nvSpPr>
        <p:spPr>
          <a:xfrm flipV="1">
            <a:off x="2193840" y="1821960"/>
            <a:ext cx="3240" cy="3030840"/>
          </a:xfrm>
          <a:prstGeom prst="line">
            <a:avLst/>
          </a:prstGeom>
          <a:ln w="25560">
            <a:solidFill>
              <a:srgbClr val="130b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8"/>
          <p:cNvSpPr/>
          <p:nvPr/>
        </p:nvSpPr>
        <p:spPr>
          <a:xfrm>
            <a:off x="2432160" y="3141720"/>
            <a:ext cx="1995480" cy="1871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9"/>
          <p:cNvSpPr/>
          <p:nvPr/>
        </p:nvSpPr>
        <p:spPr>
          <a:xfrm>
            <a:off x="2440080" y="1311120"/>
            <a:ext cx="1987560" cy="18259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0"/>
          <p:cNvSpPr/>
          <p:nvPr/>
        </p:nvSpPr>
        <p:spPr>
          <a:xfrm>
            <a:off x="4410000" y="1297080"/>
            <a:ext cx="2033640" cy="182556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21"/>
          <p:cNvSpPr/>
          <p:nvPr/>
        </p:nvSpPr>
        <p:spPr>
          <a:xfrm>
            <a:off x="2700360" y="5186520"/>
            <a:ext cx="3686040" cy="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22"/>
          <p:cNvSpPr/>
          <p:nvPr/>
        </p:nvSpPr>
        <p:spPr>
          <a:xfrm>
            <a:off x="1732680" y="5056200"/>
            <a:ext cx="7286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Baj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23"/>
          <p:cNvSpPr/>
          <p:nvPr/>
        </p:nvSpPr>
        <p:spPr>
          <a:xfrm>
            <a:off x="6797880" y="494172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4"/>
          <p:cNvSpPr/>
          <p:nvPr/>
        </p:nvSpPr>
        <p:spPr>
          <a:xfrm>
            <a:off x="3328920" y="5203800"/>
            <a:ext cx="2541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Tahoma"/>
              </a:rPr>
              <a:t>COMPORTAMIENTO DIRE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25"/>
          <p:cNvSpPr/>
          <p:nvPr/>
        </p:nvSpPr>
        <p:spPr>
          <a:xfrm>
            <a:off x="1687680" y="1339920"/>
            <a:ext cx="69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s-ES_tradnl" sz="1500" spc="-1" strike="noStrike">
                <a:solidFill>
                  <a:srgbClr val="595959"/>
                </a:solidFill>
                <a:latin typeface="Tahoma"/>
              </a:rPr>
              <a:t>(Alto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26"/>
          <p:cNvGrpSpPr/>
          <p:nvPr/>
        </p:nvGrpSpPr>
        <p:grpSpPr>
          <a:xfrm>
            <a:off x="2416320" y="1268280"/>
            <a:ext cx="4026960" cy="3722760"/>
            <a:chOff x="2416320" y="1268280"/>
            <a:chExt cx="4026960" cy="3722760"/>
          </a:xfrm>
        </p:grpSpPr>
        <p:sp>
          <p:nvSpPr>
            <p:cNvPr id="729" name="Rectangle 27"/>
            <p:cNvSpPr/>
            <p:nvPr/>
          </p:nvSpPr>
          <p:spPr>
            <a:xfrm>
              <a:off x="4421160" y="3111480"/>
              <a:ext cx="2022120" cy="18730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28"/>
            <p:cNvSpPr/>
            <p:nvPr/>
          </p:nvSpPr>
          <p:spPr>
            <a:xfrm>
              <a:off x="2416320" y="1268280"/>
              <a:ext cx="4025520" cy="37227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29"/>
            <p:cNvSpPr/>
            <p:nvPr/>
          </p:nvSpPr>
          <p:spPr>
            <a:xfrm>
              <a:off x="2608560" y="4232160"/>
              <a:ext cx="167832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apoy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30"/>
            <p:cNvSpPr/>
            <p:nvPr/>
          </p:nvSpPr>
          <p:spPr>
            <a:xfrm>
              <a:off x="2419200" y="1285560"/>
              <a:ext cx="172404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apoyo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dire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31"/>
            <p:cNvSpPr/>
            <p:nvPr/>
          </p:nvSpPr>
          <p:spPr>
            <a:xfrm>
              <a:off x="4619520" y="1293840"/>
              <a:ext cx="178056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32"/>
            <p:cNvSpPr/>
            <p:nvPr/>
          </p:nvSpPr>
          <p:spPr>
            <a:xfrm>
              <a:off x="4551480" y="4232160"/>
              <a:ext cx="182628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Comportamient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alto en direc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98320"/>
                  <a:tab algn="l" pos="1197000"/>
                  <a:tab algn="l" pos="1795320"/>
                  <a:tab algn="l" pos="2394000"/>
                  <a:tab algn="l" pos="2992320"/>
                  <a:tab algn="l" pos="3591000"/>
                  <a:tab algn="l" pos="4189320"/>
                  <a:tab algn="l" pos="4788000"/>
                  <a:tab algn="l" pos="5386320"/>
                  <a:tab algn="l" pos="5985000"/>
                  <a:tab algn="l" pos="6583320"/>
                  <a:tab algn="l" pos="7182000"/>
                  <a:tab algn="l" pos="7780320"/>
                  <a:tab algn="l" pos="8379000"/>
                  <a:tab algn="l" pos="8977320"/>
                  <a:tab algn="l" pos="9575640"/>
                  <a:tab algn="l" pos="10174320"/>
                  <a:tab algn="l" pos="10772640"/>
                </a:tabLst>
              </a:pPr>
              <a:r>
                <a:rPr b="1" lang="es-ES_tradnl" sz="1400" spc="-1" strike="noStrike">
                  <a:solidFill>
                    <a:srgbClr val="c0504d"/>
                  </a:solidFill>
                  <a:latin typeface="Tahoma"/>
                </a:rPr>
                <a:t>bajo en apoy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3"/>
            <p:cNvSpPr/>
            <p:nvPr/>
          </p:nvSpPr>
          <p:spPr>
            <a:xfrm>
              <a:off x="4378320" y="1549080"/>
              <a:ext cx="2006280" cy="267516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4"/>
            <p:cNvSpPr/>
            <p:nvPr/>
          </p:nvSpPr>
          <p:spPr>
            <a:xfrm>
              <a:off x="2477880" y="1549080"/>
              <a:ext cx="1952280" cy="267516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35"/>
            <p:cNvSpPr/>
            <p:nvPr/>
          </p:nvSpPr>
          <p:spPr>
            <a:xfrm>
              <a:off x="2789280" y="2292120"/>
              <a:ext cx="1339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Apoy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36"/>
            <p:cNvSpPr/>
            <p:nvPr/>
          </p:nvSpPr>
          <p:spPr>
            <a:xfrm>
              <a:off x="4829040" y="3509640"/>
              <a:ext cx="1339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Dirig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37"/>
            <p:cNvSpPr/>
            <p:nvPr/>
          </p:nvSpPr>
          <p:spPr>
            <a:xfrm>
              <a:off x="4751280" y="2292120"/>
              <a:ext cx="1336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Orient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8"/>
            <p:cNvSpPr/>
            <p:nvPr/>
          </p:nvSpPr>
          <p:spPr>
            <a:xfrm>
              <a:off x="2706480" y="3509640"/>
              <a:ext cx="134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595959"/>
                  </a:solidFill>
                  <a:latin typeface="Tahoma"/>
                </a:rPr>
                <a:t>Deleg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Rectangle 39"/>
          <p:cNvSpPr/>
          <p:nvPr/>
        </p:nvSpPr>
        <p:spPr>
          <a:xfrm rot="16200000">
            <a:off x="699480" y="2889360"/>
            <a:ext cx="2494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200" spc="-1" strike="noStrike">
                <a:solidFill>
                  <a:srgbClr val="595959"/>
                </a:solidFill>
                <a:latin typeface="Tahoma"/>
              </a:rPr>
              <a:t>COMPORTAMIENTO DE AP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42"/>
          <p:cNvSpPr/>
          <p:nvPr/>
        </p:nvSpPr>
        <p:spPr>
          <a:xfrm flipH="1">
            <a:off x="3203640" y="5821200"/>
            <a:ext cx="1333440" cy="641520"/>
          </a:xfrm>
          <a:custGeom>
            <a:avLst/>
            <a:gdLst>
              <a:gd name="textAreaLeft" fmla="*/ 360 w 1333440"/>
              <a:gd name="textAreaRight" fmla="*/ 1334160 w 13334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7"/>
          <p:cNvSpPr/>
          <p:nvPr/>
        </p:nvSpPr>
        <p:spPr>
          <a:xfrm flipH="1">
            <a:off x="4067280" y="5819760"/>
            <a:ext cx="1333440" cy="641520"/>
          </a:xfrm>
          <a:custGeom>
            <a:avLst/>
            <a:gdLst>
              <a:gd name="textAreaLeft" fmla="*/ 360 w 1333440"/>
              <a:gd name="textAreaRight" fmla="*/ 1334160 w 1333440"/>
              <a:gd name="textAreaTop" fmla="*/ 0 h 641520"/>
              <a:gd name="textAreaBottom" fmla="*/ 641880 h 64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8"/>
          <p:cNvSpPr/>
          <p:nvPr/>
        </p:nvSpPr>
        <p:spPr>
          <a:xfrm flipH="1">
            <a:off x="5002920" y="5827680"/>
            <a:ext cx="1101960" cy="647640"/>
          </a:xfrm>
          <a:custGeom>
            <a:avLst/>
            <a:gdLst>
              <a:gd name="textAreaLeft" fmla="*/ -360 w 1101960"/>
              <a:gd name="textAreaRight" fmla="*/ 1101960 w 11019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1"/>
          <p:cNvSpPr/>
          <p:nvPr/>
        </p:nvSpPr>
        <p:spPr>
          <a:xfrm>
            <a:off x="4413960" y="587700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3"/>
          <p:cNvSpPr/>
          <p:nvPr/>
        </p:nvSpPr>
        <p:spPr>
          <a:xfrm>
            <a:off x="5307840" y="592776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3477600" y="5877000"/>
            <a:ext cx="580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Tahoma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Oval 2"/>
          <p:cNvSpPr/>
          <p:nvPr/>
        </p:nvSpPr>
        <p:spPr>
          <a:xfrm>
            <a:off x="6378480" y="3211560"/>
            <a:ext cx="209520" cy="112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3"/>
          <p:cNvSpPr/>
          <p:nvPr/>
        </p:nvSpPr>
        <p:spPr>
          <a:xfrm>
            <a:off x="6491160" y="2403360"/>
            <a:ext cx="14940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4"/>
          <p:cNvSpPr/>
          <p:nvPr/>
        </p:nvSpPr>
        <p:spPr>
          <a:xfrm>
            <a:off x="7716960" y="2665440"/>
            <a:ext cx="1108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Marcador de número de diapositiva 3"/>
          <p:cNvSpPr/>
          <p:nvPr/>
        </p:nvSpPr>
        <p:spPr>
          <a:xfrm>
            <a:off x="6438960" y="629280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27D80-1A8B-49A6-ADC0-38E0DD8D3FEC}" type="slidenum">
              <a:rPr b="0" lang="es-ES" sz="900" spc="-1" strike="noStrike">
                <a:solidFill>
                  <a:srgbClr val="595959"/>
                </a:solidFill>
                <a:latin typeface="UnitOT-Regular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Group 7"/>
          <p:cNvGrpSpPr/>
          <p:nvPr/>
        </p:nvGrpSpPr>
        <p:grpSpPr>
          <a:xfrm>
            <a:off x="250920" y="1612800"/>
            <a:ext cx="4200480" cy="2824200"/>
            <a:chOff x="250920" y="1612800"/>
            <a:chExt cx="4200480" cy="2824200"/>
          </a:xfrm>
        </p:grpSpPr>
        <p:sp>
          <p:nvSpPr>
            <p:cNvPr id="753" name="Rectangle 8"/>
            <p:cNvSpPr/>
            <p:nvPr/>
          </p:nvSpPr>
          <p:spPr>
            <a:xfrm>
              <a:off x="340200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9"/>
            <p:cNvSpPr/>
            <p:nvPr/>
          </p:nvSpPr>
          <p:spPr>
            <a:xfrm>
              <a:off x="235116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0"/>
            <p:cNvSpPr/>
            <p:nvPr/>
          </p:nvSpPr>
          <p:spPr>
            <a:xfrm>
              <a:off x="1301760" y="3210840"/>
              <a:ext cx="104940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1"/>
            <p:cNvSpPr/>
            <p:nvPr/>
          </p:nvSpPr>
          <p:spPr>
            <a:xfrm>
              <a:off x="250920" y="3210840"/>
              <a:ext cx="1050840" cy="122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2"/>
            <p:cNvSpPr/>
            <p:nvPr/>
          </p:nvSpPr>
          <p:spPr>
            <a:xfrm>
              <a:off x="340200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3"/>
            <p:cNvSpPr/>
            <p:nvPr/>
          </p:nvSpPr>
          <p:spPr>
            <a:xfrm>
              <a:off x="235116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4"/>
            <p:cNvSpPr/>
            <p:nvPr/>
          </p:nvSpPr>
          <p:spPr>
            <a:xfrm>
              <a:off x="1301760" y="2153520"/>
              <a:ext cx="104940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5"/>
            <p:cNvSpPr/>
            <p:nvPr/>
          </p:nvSpPr>
          <p:spPr>
            <a:xfrm>
              <a:off x="250920" y="2153520"/>
              <a:ext cx="1050840" cy="105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6"/>
            <p:cNvSpPr/>
            <p:nvPr/>
          </p:nvSpPr>
          <p:spPr>
            <a:xfrm>
              <a:off x="3402000" y="1612800"/>
              <a:ext cx="1049400" cy="540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UTÓNOM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7"/>
            <p:cNvSpPr/>
            <p:nvPr/>
          </p:nvSpPr>
          <p:spPr>
            <a:xfrm>
              <a:off x="2351160" y="1612800"/>
              <a:ext cx="1050840" cy="54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COMPETEN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INSEGU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8"/>
            <p:cNvSpPr/>
            <p:nvPr/>
          </p:nvSpPr>
          <p:spPr>
            <a:xfrm>
              <a:off x="1301760" y="1612800"/>
              <a:ext cx="1049400" cy="5407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ESILUSIONA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9"/>
            <p:cNvSpPr/>
            <p:nvPr/>
          </p:nvSpPr>
          <p:spPr>
            <a:xfrm>
              <a:off x="250920" y="1612800"/>
              <a:ext cx="1050840" cy="54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APRENDI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ENTUSIAST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s-ES" sz="800" spc="-1" strike="noStrike">
                  <a:solidFill>
                    <a:srgbClr val="595959"/>
                  </a:solidFill>
                  <a:latin typeface="Arial"/>
                </a:rPr>
                <a:t>D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20"/>
            <p:cNvSpPr/>
            <p:nvPr/>
          </p:nvSpPr>
          <p:spPr>
            <a:xfrm>
              <a:off x="250920" y="215352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21"/>
            <p:cNvSpPr/>
            <p:nvPr/>
          </p:nvSpPr>
          <p:spPr>
            <a:xfrm>
              <a:off x="250920" y="3210840"/>
              <a:ext cx="42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22"/>
            <p:cNvSpPr/>
            <p:nvPr/>
          </p:nvSpPr>
          <p:spPr>
            <a:xfrm>
              <a:off x="13017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23"/>
            <p:cNvSpPr/>
            <p:nvPr/>
          </p:nvSpPr>
          <p:spPr>
            <a:xfrm>
              <a:off x="235116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24"/>
            <p:cNvSpPr/>
            <p:nvPr/>
          </p:nvSpPr>
          <p:spPr>
            <a:xfrm>
              <a:off x="3402000" y="1612800"/>
              <a:ext cx="0" cy="28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25"/>
            <p:cNvSpPr/>
            <p:nvPr/>
          </p:nvSpPr>
          <p:spPr>
            <a:xfrm>
              <a:off x="250920" y="16128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26"/>
            <p:cNvSpPr/>
            <p:nvPr/>
          </p:nvSpPr>
          <p:spPr>
            <a:xfrm>
              <a:off x="25092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27"/>
            <p:cNvSpPr/>
            <p:nvPr/>
          </p:nvSpPr>
          <p:spPr>
            <a:xfrm>
              <a:off x="4451400" y="1612800"/>
              <a:ext cx="0" cy="28242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28"/>
            <p:cNvSpPr/>
            <p:nvPr/>
          </p:nvSpPr>
          <p:spPr>
            <a:xfrm>
              <a:off x="250920" y="4437000"/>
              <a:ext cx="42004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29"/>
            <p:cNvSpPr/>
            <p:nvPr/>
          </p:nvSpPr>
          <p:spPr>
            <a:xfrm rot="19528200">
              <a:off x="1862640" y="3494520"/>
              <a:ext cx="14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s-ES" sz="1200" spc="-1" strike="noStrike">
                  <a:solidFill>
                    <a:srgbClr val="595959"/>
                  </a:solidFill>
                  <a:latin typeface="Arial"/>
                </a:rPr>
                <a:t>COMPROMI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30"/>
            <p:cNvSpPr/>
            <p:nvPr/>
          </p:nvSpPr>
          <p:spPr>
            <a:xfrm rot="19643400">
              <a:off x="1263960" y="2710440"/>
              <a:ext cx="14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s-ES" sz="1200" spc="-1" strike="noStrike">
                  <a:solidFill>
                    <a:srgbClr val="595959"/>
                  </a:solidFill>
                  <a:latin typeface="Arial"/>
                </a:rPr>
                <a:t>COMPETENCI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289080" y="2363400"/>
              <a:ext cx="4152600" cy="1590480"/>
            </a:xfrm>
            <a:prstGeom prst="pie">
              <a:avLst/>
            </a:pr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281160" y="2189880"/>
              <a:ext cx="4155840" cy="1841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33"/>
          <p:cNvSpPr/>
          <p:nvPr/>
        </p:nvSpPr>
        <p:spPr>
          <a:xfrm>
            <a:off x="314280" y="1052640"/>
            <a:ext cx="4186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Niveles de Madurez </a:t>
            </a:r>
            <a:br>
              <a:rPr sz="1600"/>
            </a:b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de los Colaborador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34"/>
          <p:cNvGrpSpPr/>
          <p:nvPr/>
        </p:nvGrpSpPr>
        <p:grpSpPr>
          <a:xfrm>
            <a:off x="5013000" y="1573200"/>
            <a:ext cx="4116960" cy="3223800"/>
            <a:chOff x="5013000" y="1573200"/>
            <a:chExt cx="4116960" cy="3223800"/>
          </a:xfrm>
        </p:grpSpPr>
        <p:sp>
          <p:nvSpPr>
            <p:cNvPr id="780" name="Line 35"/>
            <p:cNvSpPr/>
            <p:nvPr/>
          </p:nvSpPr>
          <p:spPr>
            <a:xfrm flipV="1">
              <a:off x="5734080" y="1944360"/>
              <a:ext cx="0" cy="2327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36"/>
            <p:cNvSpPr/>
            <p:nvPr/>
          </p:nvSpPr>
          <p:spPr>
            <a:xfrm>
              <a:off x="5886360" y="4410000"/>
              <a:ext cx="2244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37"/>
            <p:cNvSpPr/>
            <p:nvPr/>
          </p:nvSpPr>
          <p:spPr>
            <a:xfrm flipV="1">
              <a:off x="5403960" y="1998000"/>
              <a:ext cx="1440" cy="2292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38"/>
            <p:cNvSpPr/>
            <p:nvPr/>
          </p:nvSpPr>
          <p:spPr>
            <a:xfrm>
              <a:off x="5584680" y="2966760"/>
              <a:ext cx="1524240" cy="1415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39"/>
            <p:cNvSpPr/>
            <p:nvPr/>
          </p:nvSpPr>
          <p:spPr>
            <a:xfrm>
              <a:off x="5591160" y="1611000"/>
              <a:ext cx="1517760" cy="13809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0"/>
            <p:cNvSpPr/>
            <p:nvPr/>
          </p:nvSpPr>
          <p:spPr>
            <a:xfrm>
              <a:off x="7095960" y="1601640"/>
              <a:ext cx="1551240" cy="1379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41"/>
            <p:cNvSpPr/>
            <p:nvPr/>
          </p:nvSpPr>
          <p:spPr>
            <a:xfrm>
              <a:off x="5789520" y="4543200"/>
              <a:ext cx="28148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2"/>
            <p:cNvSpPr/>
            <p:nvPr/>
          </p:nvSpPr>
          <p:spPr>
            <a:xfrm>
              <a:off x="5050080" y="4443120"/>
              <a:ext cx="58536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Baj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43"/>
            <p:cNvSpPr/>
            <p:nvPr/>
          </p:nvSpPr>
          <p:spPr>
            <a:xfrm>
              <a:off x="8567640" y="438120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44"/>
            <p:cNvSpPr/>
            <p:nvPr/>
          </p:nvSpPr>
          <p:spPr>
            <a:xfrm>
              <a:off x="6270480" y="4555800"/>
              <a:ext cx="2133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595959"/>
                  </a:solidFill>
                  <a:latin typeface="Tahoma"/>
                </a:rPr>
                <a:t>COMPORTAMIENTO DIREC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45"/>
            <p:cNvSpPr/>
            <p:nvPr/>
          </p:nvSpPr>
          <p:spPr>
            <a:xfrm>
              <a:off x="5013000" y="1631880"/>
              <a:ext cx="562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s-ES_tradnl" sz="1100" spc="-1" strike="noStrike">
                  <a:solidFill>
                    <a:srgbClr val="595959"/>
                  </a:solidFill>
                  <a:latin typeface="Tahoma"/>
                </a:rPr>
                <a:t>(Alto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1" name="Group 46"/>
            <p:cNvGrpSpPr/>
            <p:nvPr/>
          </p:nvGrpSpPr>
          <p:grpSpPr>
            <a:xfrm>
              <a:off x="5573880" y="1573200"/>
              <a:ext cx="3073320" cy="2828520"/>
              <a:chOff x="5573880" y="1573200"/>
              <a:chExt cx="3073320" cy="2828520"/>
            </a:xfrm>
          </p:grpSpPr>
          <p:sp>
            <p:nvSpPr>
              <p:cNvPr id="792" name="Rectangle 47"/>
              <p:cNvSpPr/>
              <p:nvPr/>
            </p:nvSpPr>
            <p:spPr>
              <a:xfrm>
                <a:off x="7104240" y="2985840"/>
                <a:ext cx="1542960" cy="14158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48"/>
              <p:cNvSpPr/>
              <p:nvPr/>
            </p:nvSpPr>
            <p:spPr>
              <a:xfrm>
                <a:off x="5573880" y="1573200"/>
                <a:ext cx="3071520" cy="281448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49"/>
              <p:cNvSpPr/>
              <p:nvPr/>
            </p:nvSpPr>
            <p:spPr>
              <a:xfrm>
                <a:off x="5757840" y="3814560"/>
                <a:ext cx="12348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apoyo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Rectangle 50"/>
              <p:cNvSpPr/>
              <p:nvPr/>
            </p:nvSpPr>
            <p:spPr>
              <a:xfrm>
                <a:off x="5581800" y="1585800"/>
                <a:ext cx="130320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apoyo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direcció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51"/>
              <p:cNvSpPr/>
              <p:nvPr/>
            </p:nvSpPr>
            <p:spPr>
              <a:xfrm>
                <a:off x="7289640" y="1591920"/>
                <a:ext cx="130968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dirección 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52"/>
              <p:cNvSpPr/>
              <p:nvPr/>
            </p:nvSpPr>
            <p:spPr>
              <a:xfrm>
                <a:off x="7200000" y="3812760"/>
                <a:ext cx="13431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4520" rIns="74520" tIns="36360" bIns="36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Comportamiento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alto en dirección 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598320"/>
                    <a:tab algn="l" pos="1197000"/>
                    <a:tab algn="l" pos="1795320"/>
                    <a:tab algn="l" pos="2394000"/>
                    <a:tab algn="l" pos="2992320"/>
                    <a:tab algn="l" pos="3591000"/>
                    <a:tab algn="l" pos="4189320"/>
                    <a:tab algn="l" pos="4788000"/>
                    <a:tab algn="l" pos="5386320"/>
                    <a:tab algn="l" pos="5985000"/>
                    <a:tab algn="l" pos="6583320"/>
                    <a:tab algn="l" pos="7182000"/>
                    <a:tab algn="l" pos="7780320"/>
                    <a:tab algn="l" pos="8379000"/>
                    <a:tab algn="l" pos="8977320"/>
                    <a:tab algn="l" pos="9575640"/>
                    <a:tab algn="l" pos="10174320"/>
                    <a:tab algn="l" pos="10772640"/>
                  </a:tabLst>
                </a:pPr>
                <a:r>
                  <a:rPr b="1" lang="es-ES_tradnl" sz="1000" spc="-1" strike="noStrike">
                    <a:solidFill>
                      <a:srgbClr val="595959"/>
                    </a:solidFill>
                    <a:latin typeface="Tahoma"/>
                  </a:rPr>
                  <a:t>bajo en apoy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3"/>
              <p:cNvSpPr/>
              <p:nvPr/>
            </p:nvSpPr>
            <p:spPr>
              <a:xfrm>
                <a:off x="7070760" y="1785600"/>
                <a:ext cx="1531800" cy="20221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4"/>
              <p:cNvSpPr/>
              <p:nvPr/>
            </p:nvSpPr>
            <p:spPr>
              <a:xfrm>
                <a:off x="5621400" y="1785600"/>
                <a:ext cx="1488960" cy="20221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55"/>
              <p:cNvSpPr/>
              <p:nvPr/>
            </p:nvSpPr>
            <p:spPr>
              <a:xfrm>
                <a:off x="5734080" y="2347560"/>
                <a:ext cx="1146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Apoy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56"/>
              <p:cNvSpPr/>
              <p:nvPr/>
            </p:nvSpPr>
            <p:spPr>
              <a:xfrm>
                <a:off x="7415280" y="3268440"/>
                <a:ext cx="10224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s-ES_tradnl" sz="1600" spc="-1" strike="noStrike">
                    <a:solidFill>
                      <a:srgbClr val="595959"/>
                    </a:solidFill>
                    <a:latin typeface="Tahoma"/>
                  </a:rPr>
                  <a:t>Dirrigi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57"/>
              <p:cNvSpPr/>
              <p:nvPr/>
            </p:nvSpPr>
            <p:spPr>
              <a:xfrm>
                <a:off x="7307280" y="2347560"/>
                <a:ext cx="1177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Orient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58"/>
              <p:cNvSpPr/>
              <p:nvPr/>
            </p:nvSpPr>
            <p:spPr>
              <a:xfrm>
                <a:off x="5715000" y="3268440"/>
                <a:ext cx="12762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600" spc="-1" strike="noStrike">
                    <a:solidFill>
                      <a:srgbClr val="595959"/>
                    </a:solidFill>
                    <a:latin typeface="Tahoma"/>
                  </a:rPr>
                  <a:t>Delega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Rectangle 59"/>
            <p:cNvSpPr/>
            <p:nvPr/>
          </p:nvSpPr>
          <p:spPr>
            <a:xfrm rot="16200000">
              <a:off x="4189320" y="2666880"/>
              <a:ext cx="2095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000" spc="-1" strike="noStrike">
                  <a:solidFill>
                    <a:srgbClr val="595959"/>
                  </a:solidFill>
                  <a:latin typeface="Tahoma"/>
                </a:rPr>
                <a:t>COMPORTAMIENTO DE 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Rectangle 60"/>
          <p:cNvSpPr/>
          <p:nvPr/>
        </p:nvSpPr>
        <p:spPr>
          <a:xfrm>
            <a:off x="250920" y="5877000"/>
            <a:ext cx="4186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Habilidad DIAGNO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61"/>
          <p:cNvSpPr/>
          <p:nvPr/>
        </p:nvSpPr>
        <p:spPr>
          <a:xfrm rot="5400000">
            <a:off x="1860480" y="4984560"/>
            <a:ext cx="695160" cy="46368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2"/>
          <p:cNvSpPr/>
          <p:nvPr/>
        </p:nvSpPr>
        <p:spPr>
          <a:xfrm>
            <a:off x="5065560" y="90792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Los cuatro</a:t>
            </a:r>
            <a:br>
              <a:rPr sz="1600"/>
            </a:br>
            <a:r>
              <a:rPr b="1" lang="es-MX" sz="1600" spc="-1" strike="noStrike">
                <a:solidFill>
                  <a:srgbClr val="595959"/>
                </a:solidFill>
                <a:latin typeface="Arial"/>
              </a:rPr>
              <a:t>Estilos de Lideraz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3"/>
          <p:cNvSpPr/>
          <p:nvPr/>
        </p:nvSpPr>
        <p:spPr>
          <a:xfrm>
            <a:off x="5138640" y="587700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Habilidad FLEX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64"/>
          <p:cNvSpPr/>
          <p:nvPr/>
        </p:nvSpPr>
        <p:spPr>
          <a:xfrm rot="5400000">
            <a:off x="6748200" y="4984920"/>
            <a:ext cx="695160" cy="463320"/>
          </a:xfrm>
          <a:prstGeom prst="pi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65"/>
          <p:cNvSpPr/>
          <p:nvPr/>
        </p:nvSpPr>
        <p:spPr>
          <a:xfrm>
            <a:off x="3780000" y="5877000"/>
            <a:ext cx="2143080" cy="415800"/>
          </a:xfrm>
          <a:custGeom>
            <a:avLst/>
            <a:gdLst>
              <a:gd name="textAreaLeft" fmla="*/ 374760 w 2143080"/>
              <a:gd name="textAreaRight" fmla="*/ 1553760 w 2143080"/>
              <a:gd name="textAreaTop" fmla="*/ 55440 h 415800"/>
              <a:gd name="textAreaBottom" fmla="*/ 360360 h 41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1" name="AutoShape 66"/>
          <p:cNvCxnSpPr>
            <a:stCxn id="764" idx="2"/>
            <a:endCxn id="798" idx="63"/>
          </p:cNvCxnSpPr>
          <p:nvPr/>
        </p:nvCxnSpPr>
        <p:spPr>
          <a:xfrm flipH="1" rot="16200000">
            <a:off x="3832920" y="-902880"/>
            <a:ext cx="1456560" cy="7570080"/>
          </a:xfrm>
          <a:prstGeom prst="curvedConnector5">
            <a:avLst>
              <a:gd name="adj1" fmla="val 129320"/>
              <a:gd name="adj2" fmla="val 49997"/>
              <a:gd name="adj3" fmla="val 12932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12" name="AutoShape 67"/>
          <p:cNvCxnSpPr>
            <a:stCxn id="763" idx="2"/>
            <a:endCxn id="750" idx="3"/>
          </p:cNvCxnSpPr>
          <p:nvPr/>
        </p:nvCxnSpPr>
        <p:spPr>
          <a:xfrm flipH="1" rot="16200000">
            <a:off x="4428360" y="-447120"/>
            <a:ext cx="704160" cy="5906160"/>
          </a:xfrm>
          <a:prstGeom prst="curvedConnector5">
            <a:avLst>
              <a:gd name="adj1" fmla="val 137237"/>
              <a:gd name="adj2" fmla="val 49996"/>
              <a:gd name="adj3" fmla="val 137237"/>
            </a:avLst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813" name="AutoShape 68"/>
          <p:cNvCxnSpPr>
            <a:stCxn id="762" idx="2"/>
            <a:endCxn id="749" idx="3"/>
          </p:cNvCxnSpPr>
          <p:nvPr/>
        </p:nvCxnSpPr>
        <p:spPr>
          <a:xfrm flipH="1" rot="16200000">
            <a:off x="4531320" y="498240"/>
            <a:ext cx="326160" cy="3637800"/>
          </a:xfrm>
          <a:prstGeom prst="curvedConnector5">
            <a:avLst>
              <a:gd name="adj1" fmla="val 174143"/>
              <a:gd name="adj2" fmla="val 50000"/>
              <a:gd name="adj3" fmla="val 174143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814" name="AutoShape 69"/>
          <p:cNvCxnSpPr>
            <a:stCxn id="761" idx="2"/>
            <a:endCxn id="748" idx="2"/>
          </p:cNvCxnSpPr>
          <p:nvPr/>
        </p:nvCxnSpPr>
        <p:spPr>
          <a:xfrm flipH="1" rot="16200000">
            <a:off x="4595760" y="1485720"/>
            <a:ext cx="1115280" cy="2451600"/>
          </a:xfrm>
          <a:prstGeom prst="curvedConnector2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815" name="Rectangle 70"/>
          <p:cNvSpPr/>
          <p:nvPr/>
        </p:nvSpPr>
        <p:spPr>
          <a:xfrm>
            <a:off x="2690640" y="6237360"/>
            <a:ext cx="4186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Arial"/>
              </a:rPr>
              <a:t>Adec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ítulo 1"/>
          <p:cNvSpPr/>
          <p:nvPr/>
        </p:nvSpPr>
        <p:spPr>
          <a:xfrm>
            <a:off x="2465280" y="442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300" spc="-1" strike="noStrike">
                <a:solidFill>
                  <a:srgbClr val="595959"/>
                </a:solidFill>
                <a:latin typeface="Arial"/>
                <a:ea typeface="Arial"/>
              </a:rPr>
              <a:t>EL MODELO INTEGR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3"/>
          <p:cNvSpPr/>
          <p:nvPr/>
        </p:nvSpPr>
        <p:spPr>
          <a:xfrm>
            <a:off x="560520" y="1736640"/>
            <a:ext cx="835344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Agrupar 27" descr=""/>
          <p:cNvPicPr/>
          <p:nvPr/>
        </p:nvPicPr>
        <p:blipFill>
          <a:blip r:embed="rId2"/>
          <a:stretch/>
        </p:blipFill>
        <p:spPr>
          <a:xfrm>
            <a:off x="7364520" y="1828800"/>
            <a:ext cx="16938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564" name="Agrupar 26"/>
          <p:cNvGrpSpPr/>
          <p:nvPr/>
        </p:nvGrpSpPr>
        <p:grpSpPr>
          <a:xfrm>
            <a:off x="214200" y="1884240"/>
            <a:ext cx="1771920" cy="3741840"/>
            <a:chOff x="214200" y="1884240"/>
            <a:chExt cx="1771920" cy="3741840"/>
          </a:xfrm>
        </p:grpSpPr>
        <p:grpSp>
          <p:nvGrpSpPr>
            <p:cNvPr id="565" name="Agrupar 25"/>
            <p:cNvGrpSpPr/>
            <p:nvPr/>
          </p:nvGrpSpPr>
          <p:grpSpPr>
            <a:xfrm>
              <a:off x="214200" y="1884240"/>
              <a:ext cx="1236960" cy="3607200"/>
              <a:chOff x="214200" y="1884240"/>
              <a:chExt cx="1236960" cy="3607200"/>
            </a:xfrm>
          </p:grpSpPr>
          <p:sp>
            <p:nvSpPr>
              <p:cNvPr id="566" name="Rectangle 5"/>
              <p:cNvSpPr/>
              <p:nvPr/>
            </p:nvSpPr>
            <p:spPr>
              <a:xfrm>
                <a:off x="214200" y="1884240"/>
                <a:ext cx="1236960" cy="360720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Geográf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Merca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Polít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595959"/>
                    </a:solidFill>
                    <a:latin typeface="Arial"/>
                    <a:ea typeface="Arial"/>
                  </a:rPr>
                  <a:t>Leg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6"/>
              <p:cNvSpPr/>
              <p:nvPr/>
            </p:nvSpPr>
            <p:spPr>
              <a:xfrm>
                <a:off x="214200" y="1890360"/>
                <a:ext cx="1236960" cy="600120"/>
              </a:xfrm>
              <a:prstGeom prst="rect">
                <a:avLst/>
              </a:prstGeom>
              <a:solidFill>
                <a:srgbClr val="bfbfbf"/>
              </a:solidFill>
              <a:ln w="381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s-CL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ntorn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AutoShape 21"/>
            <p:cNvSpPr/>
            <p:nvPr/>
          </p:nvSpPr>
          <p:spPr>
            <a:xfrm>
              <a:off x="1057320" y="5130720"/>
              <a:ext cx="928800" cy="495360"/>
            </a:xfrm>
            <a:prstGeom prst="pie">
              <a:avLst/>
            </a:prstGeom>
            <a:solidFill>
              <a:srgbClr val="c0504d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9" name="Agrupar 28" descr=""/>
          <p:cNvPicPr/>
          <p:nvPr/>
        </p:nvPicPr>
        <p:blipFill>
          <a:blip r:embed="rId3"/>
          <a:stretch/>
        </p:blipFill>
        <p:spPr>
          <a:xfrm>
            <a:off x="1676520" y="1859040"/>
            <a:ext cx="1699920" cy="3822480"/>
          </a:xfrm>
          <a:prstGeom prst="rect">
            <a:avLst/>
          </a:prstGeom>
          <a:ln w="0">
            <a:noFill/>
          </a:ln>
        </p:spPr>
      </p:pic>
      <p:pic>
        <p:nvPicPr>
          <p:cNvPr id="570" name="Agrupar 30" descr=""/>
          <p:cNvPicPr/>
          <p:nvPr/>
        </p:nvPicPr>
        <p:blipFill>
          <a:blip r:embed="rId4"/>
          <a:stretch/>
        </p:blipFill>
        <p:spPr>
          <a:xfrm>
            <a:off x="5462640" y="1859040"/>
            <a:ext cx="2266920" cy="3822480"/>
          </a:xfrm>
          <a:prstGeom prst="rect">
            <a:avLst/>
          </a:prstGeom>
          <a:ln w="0">
            <a:noFill/>
          </a:ln>
        </p:spPr>
      </p:pic>
      <p:pic>
        <p:nvPicPr>
          <p:cNvPr id="571" name="Agrupar 29" descr=""/>
          <p:cNvPicPr/>
          <p:nvPr/>
        </p:nvPicPr>
        <p:blipFill>
          <a:blip r:embed="rId5"/>
          <a:stretch/>
        </p:blipFill>
        <p:spPr>
          <a:xfrm>
            <a:off x="2816280" y="1859040"/>
            <a:ext cx="3224160" cy="3840120"/>
          </a:xfrm>
          <a:prstGeom prst="rect">
            <a:avLst/>
          </a:prstGeom>
          <a:ln w="0">
            <a:noFill/>
          </a:ln>
        </p:spPr>
      </p:pic>
      <p:sp>
        <p:nvSpPr>
          <p:cNvPr id="572" name="Puzzle1"/>
          <p:cNvSpPr/>
          <p:nvPr/>
        </p:nvSpPr>
        <p:spPr>
          <a:xfrm>
            <a:off x="3081240" y="5697360"/>
            <a:ext cx="1978200" cy="963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uzzle4"/>
          <p:cNvSpPr/>
          <p:nvPr/>
        </p:nvSpPr>
        <p:spPr>
          <a:xfrm>
            <a:off x="5556240" y="5553000"/>
            <a:ext cx="1216080" cy="1152720"/>
          </a:xfrm>
          <a:prstGeom prst="pie">
            <a:avLst/>
          </a:prstGeom>
          <a:solidFill>
            <a:srgbClr val="c0504d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So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838080" y="181080"/>
            <a:ext cx="85345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  <a:ea typeface="Arial"/>
              </a:rPr>
              <a:t>MODELO AUDITORIA DEL SISTEMA HUMANO (AS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493560" y="260280"/>
            <a:ext cx="91188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estilo de liderazgo </a:t>
            </a:r>
            <a:r>
              <a:rPr b="0" lang="es-CL" sz="2600" spc="-1" strike="noStrike" u="sng">
                <a:solidFill>
                  <a:srgbClr val="595959"/>
                </a:solidFill>
                <a:uFillTx/>
                <a:latin typeface="Arial"/>
              </a:rPr>
              <a:t>DIRIGIR</a:t>
            </a:r>
            <a:r>
              <a:rPr b="0" lang="es-CL" sz="1800" spc="-1" strike="noStrike">
                <a:solidFill>
                  <a:srgbClr val="595959"/>
                </a:solidFill>
                <a:latin typeface="Arial"/>
              </a:rPr>
              <a:t>:</a:t>
            </a:r>
            <a:br>
              <a:rPr sz="1800"/>
            </a:br>
            <a:r>
              <a:rPr b="0" lang="es-CL" sz="1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35892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 el entusiasmo de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 las habilidades transferibles del colaborador y su progreso hasta la f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dentifica los resultados, objetivos y plazos des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que es un buen trabajo y como se registrara y controlara el desemp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sarrolla un plan para que el colaborador aprenda nuevas ha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irige la planificación de 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oma la mayoría de las decisiones relacionadas con que hacer , cuando y con qu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directrices e instrucciones especi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irige la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2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5" dur="5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8" dur="5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1" dur="5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8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8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8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8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2340000" y="189000"/>
            <a:ext cx="6804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estilo de liderazgo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ORIENT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324000" y="1295280"/>
            <a:ext cx="8640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 colaborador en la identificación de problemas y en fijar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apoyo, seguridad y elog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: brinda al colaborador una oportunidad para discutir preocupaciones  y compartir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volucra al colaborador en la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oma de decisiones finales relativas a los planes de acción luego de escuchar las ideas y los sentimientos de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dirección y adiestramiento  para continuar  desarrollando y perfeccionando las ha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xplica la razón para tomar un enfoque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que es un trajo bien hecho y como el desempeño será contro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269640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ontinua haciendo seguimiento y proporcionando retroalimentación frecuent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638280" y="2286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 el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     estilo de liderazgo 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APOY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179280" y="1614600"/>
            <a:ext cx="871380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Comparte con  el colaborador tomar la iniciativa en la planificación de acciones y solución de probl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Sirve como elemento de reflexión, estimulando al colaborador a discutir sus preocupaciones e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cucha y estimula al colaborador a resolver problemas y tomar decisiones autónom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seguridad, apoyo, estímulo y elogio al colabo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xplica maneras para hacer la meta o tarea mas interesante y desafiante, cuando la motivación es ba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ayuda en la solución de problemas compartiendo ideas, cuando se la solici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Trabaja con el colaborador en la evaluación de su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/>
          <p:cNvSpPr/>
          <p:nvPr/>
        </p:nvSpPr>
        <p:spPr>
          <a:xfrm>
            <a:off x="638280" y="2286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uando un líder utiliza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el estilo de liderazgo </a:t>
            </a:r>
            <a:r>
              <a:rPr b="0" lang="es-CL" sz="3000" spc="-1" strike="noStrike" u="sng">
                <a:solidFill>
                  <a:srgbClr val="595959"/>
                </a:solidFill>
                <a:uFillTx/>
                <a:latin typeface="Arial"/>
              </a:rPr>
              <a:t>DELEGAR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324000" y="1542960"/>
            <a:ext cx="849600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ermite al colaborador hacerse car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fine con el colaborador los problemas y los resultados dese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Estimula al colaborador a evaluar su propio 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Proporciona oportunidades para que el colaborador comparta y celebre éxitos y prepare a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Reconoce, valora y premia las contribuciones del colaborador a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82520" algn="just">
              <a:lnSpc>
                <a:spcPct val="95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Desafía al colaborador a alcanzar niveles de desempeño aun mas al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1905120" y="0"/>
            <a:ext cx="647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Estilos de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2424240" y="2266920"/>
            <a:ext cx="223344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Apo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Hablemos, ambos decidi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"/>
          <p:cNvSpPr/>
          <p:nvPr/>
        </p:nvSpPr>
        <p:spPr>
          <a:xfrm>
            <a:off x="4714920" y="224784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Ent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Hablemos, yo de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"/>
          <p:cNvSpPr/>
          <p:nvPr/>
        </p:nvSpPr>
        <p:spPr>
          <a:xfrm>
            <a:off x="2424240" y="424800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Del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Tú deci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4714920" y="4229280"/>
            <a:ext cx="223344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600" spc="-1" strike="noStrike">
                <a:solidFill>
                  <a:srgbClr val="595959"/>
                </a:solidFill>
                <a:latin typeface="Arial"/>
              </a:rPr>
              <a:t>El líder en el estil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000" spc="-1" strike="noStrike">
                <a:solidFill>
                  <a:srgbClr val="595959"/>
                </a:solidFill>
                <a:latin typeface="Arial"/>
              </a:rPr>
              <a:t>Dir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698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1" i="1" lang="es-CL" sz="1600" spc="-1" strike="noStrike">
                <a:solidFill>
                  <a:srgbClr val="595959"/>
                </a:solidFill>
                <a:latin typeface="Arial"/>
              </a:rPr>
              <a:t>Yo dec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2387520" y="1628640"/>
            <a:ext cx="4632480" cy="4527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9"/>
          <p:cNvSpPr/>
          <p:nvPr/>
        </p:nvSpPr>
        <p:spPr>
          <a:xfrm>
            <a:off x="2387520" y="3736800"/>
            <a:ext cx="4632480" cy="1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8"/>
          <p:cNvSpPr/>
          <p:nvPr/>
        </p:nvSpPr>
        <p:spPr>
          <a:xfrm>
            <a:off x="4641840" y="1628640"/>
            <a:ext cx="1440" cy="4527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1835280" y="260280"/>
            <a:ext cx="69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Un líder tiene tres op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3"/>
          <p:cNvSpPr/>
          <p:nvPr/>
        </p:nvSpPr>
        <p:spPr>
          <a:xfrm>
            <a:off x="963720" y="1773360"/>
            <a:ext cx="7640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Utilizar el estilo requer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Supervisar excesiv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Supervisar insuficiente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2771640" y="152280"/>
            <a:ext cx="591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onsecuencias de la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upervisión exces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1065240" y="1925640"/>
            <a:ext cx="6985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Participación disminu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00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autonomí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2"/>
          <p:cNvSpPr/>
          <p:nvPr/>
        </p:nvSpPr>
        <p:spPr>
          <a:xfrm>
            <a:off x="12636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onsecuencias de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upervisión insufici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1332000" y="1989000"/>
            <a:ext cx="7129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éx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Fru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sent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inic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Reacciones de rechazo o eva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595959"/>
                </a:solidFill>
                <a:latin typeface="Arial"/>
              </a:rPr>
              <a:t>Menor eficiencia en el desemp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1676520" y="152280"/>
            <a:ext cx="584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Ciclo de la Gestión 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del Desempeñ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609480" y="1371600"/>
            <a:ext cx="856944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1. Diagnóstico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 determinar las necesidades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2. Flexibilidad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utilizar una variedad de estilos de 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3. Alianza para el Desempeño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4" descr="Fotolia_tickman"/>
          <p:cNvPicPr/>
          <p:nvPr/>
        </p:nvPicPr>
        <p:blipFill>
          <a:blip r:embed="rId2"/>
          <a:stretch/>
        </p:blipFill>
        <p:spPr>
          <a:xfrm>
            <a:off x="125280" y="157320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9" descr="Fotolia_tickman"/>
          <p:cNvPicPr/>
          <p:nvPr/>
        </p:nvPicPr>
        <p:blipFill>
          <a:blip r:embed="rId3"/>
          <a:stretch/>
        </p:blipFill>
        <p:spPr>
          <a:xfrm>
            <a:off x="49320" y="2335320"/>
            <a:ext cx="636480" cy="6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3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3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1981080" y="1522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641520" y="838080"/>
            <a:ext cx="785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700" spc="-1" strike="noStrike">
                <a:solidFill>
                  <a:srgbClr val="595959"/>
                </a:solidFill>
                <a:latin typeface="Arial"/>
              </a:rPr>
              <a:t>Comunicarse con sus colaboradores y llegar a acuerdos sobre el estilo de liderazgo a utilizar, para ayudarles a desarrollar su competencia y compromiso; y a alcanzar sus metas personales y las de la organizac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4" descr="2365568058_8defeeaf3a"/>
          <p:cNvPicPr/>
          <p:nvPr/>
        </p:nvPicPr>
        <p:blipFill>
          <a:blip r:embed="rId2"/>
          <a:stretch/>
        </p:blipFill>
        <p:spPr>
          <a:xfrm>
            <a:off x="571680" y="4419720"/>
            <a:ext cx="2430360" cy="24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1828800" y="15238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404040"/>
                </a:solidFill>
                <a:latin typeface="Arial"/>
              </a:rPr>
              <a:t>¿¿¿LIDERAZGO??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-2971800" y="152280"/>
            <a:ext cx="8686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Imagen 5" descr="Fotolia_4812281_XS.jpg"/>
          <p:cNvPicPr/>
          <p:nvPr/>
        </p:nvPicPr>
        <p:blipFill>
          <a:blip r:embed="rId2"/>
          <a:stretch/>
        </p:blipFill>
        <p:spPr>
          <a:xfrm>
            <a:off x="1738440" y="2521080"/>
            <a:ext cx="5562360" cy="34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1116000" y="189000"/>
            <a:ext cx="911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2600"/>
            </a:b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1752480"/>
            <a:ext cx="9067680" cy="29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c0504d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Enseñe a sus colaboradores el modelo del Lideraz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Situacional II (SLII®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2.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Identifique las áreas claves de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3.    Defina las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3204720" y="3875040"/>
            <a:ext cx="26517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M—Motiv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E—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T—Trasc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A—Alcan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S—Segu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1432080" y="115920"/>
            <a:ext cx="77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Alianza para el desempeño/Acuerdo</a:t>
            </a:r>
            <a:br>
              <a:rPr sz="2600"/>
            </a:br>
            <a:r>
              <a:rPr b="0" lang="es-CL" sz="2600" spc="-1" strike="noStrike">
                <a:solidFill>
                  <a:srgbClr val="595959"/>
                </a:solidFill>
                <a:latin typeface="Arial"/>
              </a:rPr>
              <a:t>sobre el estilo de lideraz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352440" y="155736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4. Evalúe el nivel de desarrollo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5. Discuta con el colaborador el estilo de liderazgo utilizado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6. Llegue a un acuerdo sobre el estilo de liderazgo a utilizar en el futuro y especifique las acciones que tomará, como líder, para dirigir y apoyar los esfuerzos del colabor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7. Sea consistente en la utilización del estilo de liderazgo acor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828800" y="38088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404040"/>
                </a:solidFill>
                <a:latin typeface="Arial"/>
              </a:rPr>
              <a:t>LIDERAZG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79280" y="1486080"/>
            <a:ext cx="86868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El liderazgo es un proceso de influ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Es trabajar con los colaborad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para alcanzar sus </a:t>
            </a:r>
            <a:r>
              <a:rPr b="1" i="1" lang="es-CL" sz="2800" spc="-1" strike="noStrike">
                <a:solidFill>
                  <a:srgbClr val="cc3300"/>
                </a:solidFill>
                <a:latin typeface="Arial"/>
              </a:rPr>
              <a:t>metas personales</a:t>
            </a:r>
            <a:r>
              <a:rPr b="1" lang="es-CL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ts val="22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CL" sz="2800" spc="-1" strike="noStrike">
                <a:solidFill>
                  <a:srgbClr val="cc3300"/>
                </a:solidFill>
                <a:latin typeface="Arial"/>
              </a:rPr>
              <a:t>las metas de la organización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grupo"/>
          <p:cNvPicPr/>
          <p:nvPr/>
        </p:nvPicPr>
        <p:blipFill>
          <a:blip r:embed="rId2"/>
          <a:stretch/>
        </p:blipFill>
        <p:spPr>
          <a:xfrm>
            <a:off x="2195640" y="3573360"/>
            <a:ext cx="4038480" cy="318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873080" y="304920"/>
            <a:ext cx="71629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8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400" spc="-1" strike="noStrike">
                <a:solidFill>
                  <a:srgbClr val="404040"/>
                </a:solidFill>
                <a:latin typeface="Arial"/>
              </a:rPr>
              <a:t>Liderazgo efica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72480" y="3683160"/>
            <a:ext cx="154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1800" spc="-1" strike="noStrike">
                <a:solidFill>
                  <a:srgbClr val="404040"/>
                </a:solidFill>
                <a:latin typeface="Arial"/>
              </a:rPr>
              <a:t>INFLUY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Group 4" descr=""/>
          <p:cNvPicPr/>
          <p:nvPr/>
        </p:nvPicPr>
        <p:blipFill>
          <a:blip r:embed="rId2"/>
          <a:stretch/>
        </p:blipFill>
        <p:spPr>
          <a:xfrm>
            <a:off x="244440" y="4035600"/>
            <a:ext cx="2254320" cy="58572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13"/>
          <p:cNvSpPr/>
          <p:nvPr/>
        </p:nvSpPr>
        <p:spPr>
          <a:xfrm>
            <a:off x="7150320" y="1382760"/>
            <a:ext cx="7884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EFIC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"/>
          <p:cNvSpPr/>
          <p:nvPr/>
        </p:nvSpPr>
        <p:spPr>
          <a:xfrm>
            <a:off x="6968160" y="5018040"/>
            <a:ext cx="96696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INEFIC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6"/>
          <p:cNvSpPr/>
          <p:nvPr/>
        </p:nvSpPr>
        <p:spPr>
          <a:xfrm rot="16200000">
            <a:off x="5540400" y="2179080"/>
            <a:ext cx="3095640" cy="2241720"/>
          </a:xfrm>
          <a:prstGeom prst="triangle">
            <a:avLst>
              <a:gd name="adj" fmla="val 50625"/>
            </a:avLst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1"/>
          <p:cNvSpPr/>
          <p:nvPr/>
        </p:nvSpPr>
        <p:spPr>
          <a:xfrm>
            <a:off x="6710040" y="2944800"/>
            <a:ext cx="14817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ACTITU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OMPROMI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SENTI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2"/>
          <p:cNvSpPr/>
          <p:nvPr/>
        </p:nvSpPr>
        <p:spPr>
          <a:xfrm>
            <a:off x="3796560" y="2503440"/>
            <a:ext cx="11268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CO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3"/>
          <p:cNvSpPr/>
          <p:nvPr/>
        </p:nvSpPr>
        <p:spPr>
          <a:xfrm>
            <a:off x="3612600" y="6183360"/>
            <a:ext cx="102924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404040"/>
                </a:solidFill>
                <a:latin typeface="Arial"/>
              </a:rPr>
              <a:t>SIN ÉX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5"/>
          <p:cNvSpPr/>
          <p:nvPr/>
        </p:nvSpPr>
        <p:spPr>
          <a:xfrm rot="16200000">
            <a:off x="2910600" y="2870640"/>
            <a:ext cx="2243160" cy="3095640"/>
          </a:xfrm>
          <a:prstGeom prst="triangle">
            <a:avLst>
              <a:gd name="adj" fmla="val 50625"/>
            </a:avLst>
          </a:prstGeom>
          <a:solidFill>
            <a:srgbClr val="c0504d"/>
          </a:solidFill>
          <a:ln w="1260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0"/>
          <p:cNvSpPr/>
          <p:nvPr/>
        </p:nvSpPr>
        <p:spPr>
          <a:xfrm>
            <a:off x="3615840" y="4087800"/>
            <a:ext cx="187524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COMPORT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5"/>
          <p:cNvGrpSpPr/>
          <p:nvPr/>
        </p:nvGrpSpPr>
        <p:grpSpPr>
          <a:xfrm>
            <a:off x="8217000" y="1671480"/>
            <a:ext cx="299880" cy="3302280"/>
            <a:chOff x="8217000" y="1671480"/>
            <a:chExt cx="299880" cy="3302280"/>
          </a:xfrm>
        </p:grpSpPr>
        <p:sp>
          <p:nvSpPr>
            <p:cNvPr id="593" name="Line 17"/>
            <p:cNvSpPr/>
            <p:nvPr/>
          </p:nvSpPr>
          <p:spPr>
            <a:xfrm>
              <a:off x="8217000" y="1671480"/>
              <a:ext cx="0" cy="330228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8"/>
            <p:cNvSpPr/>
            <p:nvPr/>
          </p:nvSpPr>
          <p:spPr>
            <a:xfrm>
              <a:off x="8242200" y="183024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9"/>
            <p:cNvSpPr/>
            <p:nvPr/>
          </p:nvSpPr>
          <p:spPr>
            <a:xfrm>
              <a:off x="8242200" y="48769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0"/>
            <p:cNvSpPr/>
            <p:nvPr/>
          </p:nvSpPr>
          <p:spPr>
            <a:xfrm>
              <a:off x="8253360" y="208440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1"/>
            <p:cNvSpPr/>
            <p:nvPr/>
          </p:nvSpPr>
          <p:spPr>
            <a:xfrm>
              <a:off x="8263080" y="23385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2"/>
            <p:cNvSpPr/>
            <p:nvPr/>
          </p:nvSpPr>
          <p:spPr>
            <a:xfrm>
              <a:off x="8253360" y="25909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3"/>
            <p:cNvSpPr/>
            <p:nvPr/>
          </p:nvSpPr>
          <p:spPr>
            <a:xfrm>
              <a:off x="8242200" y="284472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4"/>
            <p:cNvSpPr/>
            <p:nvPr/>
          </p:nvSpPr>
          <p:spPr>
            <a:xfrm>
              <a:off x="8253360" y="309888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5"/>
            <p:cNvSpPr/>
            <p:nvPr/>
          </p:nvSpPr>
          <p:spPr>
            <a:xfrm>
              <a:off x="8253360" y="335268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6"/>
            <p:cNvSpPr/>
            <p:nvPr/>
          </p:nvSpPr>
          <p:spPr>
            <a:xfrm>
              <a:off x="8253360" y="360684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7"/>
            <p:cNvSpPr/>
            <p:nvPr/>
          </p:nvSpPr>
          <p:spPr>
            <a:xfrm>
              <a:off x="8263080" y="386064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8"/>
            <p:cNvSpPr/>
            <p:nvPr/>
          </p:nvSpPr>
          <p:spPr>
            <a:xfrm>
              <a:off x="8253360" y="4114800"/>
              <a:ext cx="25416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29"/>
            <p:cNvSpPr/>
            <p:nvPr/>
          </p:nvSpPr>
          <p:spPr>
            <a:xfrm>
              <a:off x="8263080" y="43689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0"/>
            <p:cNvSpPr/>
            <p:nvPr/>
          </p:nvSpPr>
          <p:spPr>
            <a:xfrm>
              <a:off x="8263080" y="4622760"/>
              <a:ext cx="253800" cy="0"/>
            </a:xfrm>
            <a:prstGeom prst="line">
              <a:avLst/>
            </a:prstGeom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Line 36"/>
          <p:cNvSpPr/>
          <p:nvPr/>
        </p:nvSpPr>
        <p:spPr>
          <a:xfrm>
            <a:off x="5562720" y="2792520"/>
            <a:ext cx="0" cy="330192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7"/>
          <p:cNvSpPr/>
          <p:nvPr/>
        </p:nvSpPr>
        <p:spPr>
          <a:xfrm>
            <a:off x="5562720" y="29512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8"/>
          <p:cNvSpPr/>
          <p:nvPr/>
        </p:nvSpPr>
        <p:spPr>
          <a:xfrm>
            <a:off x="5562720" y="59976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9"/>
          <p:cNvSpPr/>
          <p:nvPr/>
        </p:nvSpPr>
        <p:spPr>
          <a:xfrm>
            <a:off x="5573880" y="32050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40"/>
          <p:cNvSpPr/>
          <p:nvPr/>
        </p:nvSpPr>
        <p:spPr>
          <a:xfrm>
            <a:off x="5583240" y="34592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1"/>
          <p:cNvSpPr/>
          <p:nvPr/>
        </p:nvSpPr>
        <p:spPr>
          <a:xfrm>
            <a:off x="5573880" y="37116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2"/>
          <p:cNvSpPr/>
          <p:nvPr/>
        </p:nvSpPr>
        <p:spPr>
          <a:xfrm>
            <a:off x="5562720" y="396540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3"/>
          <p:cNvSpPr/>
          <p:nvPr/>
        </p:nvSpPr>
        <p:spPr>
          <a:xfrm>
            <a:off x="5573880" y="421956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44"/>
          <p:cNvSpPr/>
          <p:nvPr/>
        </p:nvSpPr>
        <p:spPr>
          <a:xfrm>
            <a:off x="5573880" y="447372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5"/>
          <p:cNvSpPr/>
          <p:nvPr/>
        </p:nvSpPr>
        <p:spPr>
          <a:xfrm>
            <a:off x="5573880" y="472752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6"/>
          <p:cNvSpPr/>
          <p:nvPr/>
        </p:nvSpPr>
        <p:spPr>
          <a:xfrm>
            <a:off x="5583240" y="498168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7"/>
          <p:cNvSpPr/>
          <p:nvPr/>
        </p:nvSpPr>
        <p:spPr>
          <a:xfrm>
            <a:off x="5573880" y="5235480"/>
            <a:ext cx="25380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8"/>
          <p:cNvSpPr/>
          <p:nvPr/>
        </p:nvSpPr>
        <p:spPr>
          <a:xfrm>
            <a:off x="5583240" y="54896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49"/>
          <p:cNvSpPr/>
          <p:nvPr/>
        </p:nvSpPr>
        <p:spPr>
          <a:xfrm>
            <a:off x="5583240" y="5743440"/>
            <a:ext cx="254160" cy="0"/>
          </a:xfrm>
          <a:prstGeom prst="line">
            <a:avLst/>
          </a:prstGeom>
          <a:ln w="507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trabajando"/>
          <p:cNvPicPr/>
          <p:nvPr/>
        </p:nvPicPr>
        <p:blipFill>
          <a:blip r:embed="rId1"/>
          <a:stretch/>
        </p:blipFill>
        <p:spPr>
          <a:xfrm>
            <a:off x="684360" y="4076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3"/>
          <p:cNvSpPr/>
          <p:nvPr/>
        </p:nvSpPr>
        <p:spPr>
          <a:xfrm>
            <a:off x="1114560" y="1600200"/>
            <a:ext cx="734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ts val="4799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3200" spc="-1" strike="noStrike">
                <a:solidFill>
                  <a:srgbClr val="404040"/>
                </a:solidFill>
                <a:latin typeface="Arial"/>
              </a:rPr>
              <a:t>Lo importante como líder no es lo que sucede cuando usted está supervisando; es lo que sucede cuando usted no está presente</a:t>
            </a:r>
            <a:r>
              <a:rPr b="0" lang="es-CL" sz="3200" spc="-1" strike="noStrike">
                <a:solidFill>
                  <a:srgbClr val="40404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2556000" y="485640"/>
            <a:ext cx="62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Las </a:t>
            </a:r>
            <a:r>
              <a:rPr b="0" lang="es-CL" sz="3400" spc="-1" strike="noStrike">
                <a:solidFill>
                  <a:srgbClr val="404040"/>
                </a:solidFill>
                <a:latin typeface="Verdana"/>
              </a:rPr>
              <a:t>4</a:t>
            </a:r>
            <a:r>
              <a:rPr b="0" lang="es-CL" sz="3000" spc="-1" strike="noStrike">
                <a:solidFill>
                  <a:srgbClr val="404040"/>
                </a:solidFill>
                <a:latin typeface="Arial"/>
              </a:rPr>
              <a:t> funciones del Lideraz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3" descr="lider_3"/>
          <p:cNvPicPr/>
          <p:nvPr/>
        </p:nvPicPr>
        <p:blipFill>
          <a:blip r:embed="rId1"/>
          <a:stretch/>
        </p:blipFill>
        <p:spPr>
          <a:xfrm>
            <a:off x="1908000" y="4005360"/>
            <a:ext cx="5910480" cy="249084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4"/>
          <p:cNvSpPr/>
          <p:nvPr/>
        </p:nvSpPr>
        <p:spPr>
          <a:xfrm>
            <a:off x="787320" y="1311120"/>
            <a:ext cx="7567560" cy="29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1. Fijar m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2. Retroali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3. </a:t>
            </a:r>
            <a:r>
              <a:rPr b="1" lang="es-CL" sz="2800" spc="-1" strike="noStrike">
                <a:solidFill>
                  <a:srgbClr val="404040"/>
                </a:solidFill>
                <a:latin typeface="Arial"/>
              </a:rPr>
              <a:t>Solucionar problemas. (account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798"/>
              </a:lnSpc>
              <a:spcBef>
                <a:spcPts val="1100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404040"/>
                </a:solidFill>
                <a:latin typeface="Arial"/>
              </a:rPr>
              <a:t>4. Proporcionar recono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2"/>
          <p:cNvSpPr/>
          <p:nvPr/>
        </p:nvSpPr>
        <p:spPr>
          <a:xfrm>
            <a:off x="2233440" y="152280"/>
            <a:ext cx="584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Las Tres Habilidades</a:t>
            </a:r>
            <a:br>
              <a:rPr sz="3000"/>
            </a:br>
            <a:r>
              <a:rPr b="0" lang="es-CL" sz="3000" spc="-1" strike="noStrike">
                <a:solidFill>
                  <a:srgbClr val="595959"/>
                </a:solidFill>
                <a:latin typeface="Arial"/>
              </a:rPr>
              <a:t> Básicas de un Lí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324000" y="1371600"/>
            <a:ext cx="856908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1. DIAGNÓSTICO: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 determinar las necesidades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2. FLEXIBILIDAD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utilizar una variedad de estilos de lideraz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4799"/>
              </a:lnSpc>
              <a:spcBef>
                <a:spcPts val="1100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CL" sz="2400" spc="-1" strike="noStrike">
                <a:solidFill>
                  <a:srgbClr val="595959"/>
                </a:solidFill>
                <a:latin typeface="Arial"/>
              </a:rPr>
              <a:t>3. ALIANZA PARA EL DESEMPEÑO</a:t>
            </a:r>
            <a:r>
              <a:rPr b="0" lang="es-CL" sz="2400" spc="-1" strike="noStrike">
                <a:solidFill>
                  <a:srgbClr val="595959"/>
                </a:solidFill>
                <a:latin typeface="Arial"/>
              </a:rPr>
              <a:t>: lograr acuerdos con los colaboradores acerca del estilo de liderazgo a uti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1:24:40Z</dcterms:created>
  <dc:creator>Tamara Osses</dc:creator>
  <dc:description/>
  <dc:language>en-US</dc:language>
  <cp:lastModifiedBy>jose tomas saffirio mezzano</cp:lastModifiedBy>
  <dcterms:modified xsi:type="dcterms:W3CDTF">2011-11-11T13:17:24Z</dcterms:modified>
  <cp:revision>29</cp:revision>
  <dc:subject/>
  <dc:title>Diapositiva 1</dc:title>
</cp:coreProperties>
</file>