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0.jpeg" ContentType="image/jpeg"/>
  <Override PartName="/ppt/media/DRUMROLL.WAV" ContentType="audio/x-wav"/>
  <Override PartName="/ppt/media/CASHREG.WAV" ContentType="audio/x-wav"/>
  <Override PartName="/ppt/media/image10.jpeg" ContentType="image/jpeg"/>
  <Override PartName="/ppt/media/image19.jpeg" ContentType="image/jpeg"/>
  <Override PartName="/ppt/media/image7.jpeg" ContentType="image/jpeg"/>
  <Override PartName="/ppt/media/LASER.WAV" ContentType="audio/x-wav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24.wmf" ContentType="image/x-wmf"/>
  <Override PartName="/ppt/media/DRIVEBY.WAV" ContentType="audio/x-wav"/>
  <Override PartName="/ppt/media/image3.png" ContentType="image/png"/>
  <Override PartName="/ppt/media/image25.jpeg" ContentType="image/jpeg"/>
  <Override PartName="/ppt/media/image26.jpeg" ContentType="image/jpeg"/>
  <Override PartName="/ppt/media/CHIMES.WAV" ContentType="audio/x-wav"/>
  <Override PartName="/ppt/media/image17.jpeg" ContentType="image/jpeg"/>
  <Override PartName="/ppt/media/APPLAUS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5.jpeg" ContentType="image/jpeg"/>
  <Override PartName="/ppt/media/TYPE.WAV" ContentType="audio/x-wav"/>
  <Override PartName="/ppt/media/image16.jpeg" ContentType="image/jpeg"/>
  <Override PartName="/ppt/media/image6.png" ContentType="image/png"/>
  <Override PartName="/ppt/media/GUNSHOT.WAV" ContentType="audio/x-wav"/>
  <Override PartName="/ppt/media/image21.jpeg" ContentType="image/jpeg"/>
  <Override PartName="/ppt/media/image1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B6A6-C371-438F-8C56-33A94CD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ABB-9A2D-425F-BC5C-1A0468A1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38B5C-49FE-4E16-9039-2AFB2CA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75764-3E2B-4D42-8D7F-BCAA12FB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47E20-C77B-4FC3-A774-F6ED7FE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657B1-0E56-4122-8574-3FD22058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313E0-036D-434F-B0A8-1ED7B7F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96891-C6F8-4D0F-86C6-17DBAB24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F1F70-AC44-4F40-9BE3-7D501C90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5A407-A50F-4DBA-8B4D-6BBA71D7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25908-6CFA-4813-A392-A5A8DD1F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4B38A-59A4-40E6-8237-639C80DB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2EE-298C-4667-8934-4E180728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67E7C-2708-4C6A-9005-6468F55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4B01B-3674-40BD-A0AD-1712FF6C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6D500-D8AE-4BEB-A4D2-21FB9743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1BF9E-8F46-42EC-A23B-B2028DDE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E1A3B-B210-43A7-9A71-68573E2E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5E48D-8F8B-4AC4-BDB2-3536558F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B09F1-C2B0-4E85-88C4-823CE1F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343AA-81CE-4D6A-9068-4B271F9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A87B5-7A8B-4899-94C9-6D701194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7107E-3711-46F6-B6E3-FCC3BB7D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14A-D004-4301-BF79-A1221936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4D6F4-236C-4E41-A374-F600920D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EA7C0-BB49-46DC-B0BE-28E9AF08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09F4-7A67-46D0-8AFD-1D7C2338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DFBF8-2C8E-408E-A810-2514CC86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C5CE-789F-4551-9E89-E76424C9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23842-200A-4028-89E3-D0B45512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63F4-8443-4D28-B78D-0D4F1974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6F484-798F-4E4E-908E-E251918D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C93BD-AFF0-41B5-ADD6-730FB9F3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678A-6B6E-41C4-8E49-A0E57F3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ACDD-5EC7-40A3-A580-14AD3BA4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1487-4FD5-48BA-A007-5585797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64F6-6EB0-443C-9200-6205FD0A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6EAB3-4AA1-425E-8F16-96146495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47732-71EA-432A-8EA6-84B5215E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F3FF2-EEBB-4AD3-A285-A7B6A32C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9A53A-E79D-411A-ADE0-D678586D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FC4DC-7354-4842-A984-6313232F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B5F1-0550-453D-9DE3-61AAC291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F0DA0-946F-4787-8E1F-036763C7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80ADF-C058-4C18-A40B-5198F4DA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2275-B732-4ABD-80AB-3F64ED2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7F812-5ED5-4532-899F-35E56D0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5438D-2C2D-4ED6-AF18-C1D815F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2FA81-3BE3-459D-B61D-F20561DC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FBA9D-94B3-4D31-8EDE-0701E9C9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FDDB8-DF3E-48A9-B954-5B37A930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619CB-E5FE-4D97-9FFC-1063FB42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A4CA1-E304-48DC-8A71-83316525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490AA-4A3A-47FA-8DE1-E99CD3CE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5C651-6B7F-441E-8997-CDEA6D4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3E648-8715-445D-BCB0-DEB62B52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18AC-0DD1-46C9-A227-42B6C8C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92B80-B442-4C55-90AF-E0597D44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5F525-DEFF-4976-841F-474A07A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28AD2-C47A-40C4-AC98-48A7BBC6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2AF01-B3FE-4EF9-81BA-81D00CE9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8F098-D8AE-4913-8CCC-7652E7D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D30A6-E942-4045-BA0C-FA85F03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EBB5D-B8BC-4BAB-8EF1-F5286BA7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B85-6AE2-4E25-AD76-5457E3C6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8640-D984-4192-9092-033CA873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D069-39D8-4BEC-9396-84468264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9E80-1826-41E4-A5BD-97EDDAA6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7D7-E3D0-4D7E-A5D5-A6920A4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4FDB-3E04-42CB-A6F2-D6EF97E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FFEB-9B36-47B3-9617-A5A76C1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8DAC-A7A8-4AAF-AAF4-6646FBE5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3324-FEC5-477E-A828-32B9CAFD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D146-982E-4FA3-B4CC-8018E88B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CECF9-3169-4228-BB77-D65FEC54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3B4E-75B3-402B-AA3F-52E4FF2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F7F9-3D9F-42C9-B37E-EBDE6208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0A97-0257-44FC-ABDB-C9268D5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868C-551D-4D13-89FA-A55C99A1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B29-E5BF-4B3A-B761-BEC4C10B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B236-B000-4DE6-90BF-73881915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C39A-424E-4466-B8E2-92ABA864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4524-F6E8-4688-8AC0-C73DFFA0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132A-8480-4B35-A31A-5D40B87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566E-6F03-46EE-A591-24C746EE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7C60-6BD9-465D-8A13-800BDA60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9400-87D0-46AE-8F14-A6D9C746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461E-1A86-4E2D-8CFF-69E3EB56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CDDD4-5708-46E6-82E5-5C5ADC1A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447D3-310D-4656-A974-E804081B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F99-D735-44ED-A5CC-8C40A8D8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5D7EE-E4C8-4321-96CA-F5B0C9D0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6714-90C6-4513-B44E-A077A5CF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24318-1A41-420D-BE61-E4BF486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6B785-F37F-482C-89DA-E6E981A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27D4-CEC2-49A3-89A1-CB380E28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1565-2C05-4723-A65B-8C6CCCB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0502-4395-4727-B1A9-2FA1B83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FAF7-81BF-4690-AFEA-3951A653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6DEB6-C2F9-4903-9BC1-10850AA7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76FA-4969-4AC6-AB9E-9338536C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FC0-DD7A-4ED5-9DC6-F237CDC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9346-8820-4DEC-BEE5-D7C2662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409DC-1FAF-4B22-B7E6-5FBDF591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052F-8DCD-4B47-A271-5EFBE9C6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46E49-CE4A-45B6-AD30-0A9BEA0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E7BE-CA80-4D3D-8BB2-A54D5D5E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C35E-901C-446C-8646-66EFA76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5EDD-43BB-4371-90C7-5917FD2B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9B6E-50ED-424E-9634-964140C1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DD2D-C226-4D10-B080-0050892C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066E5-10C9-41C5-9478-1D23215F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7CB-A487-4A69-BB93-5BDA95D8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D0A2E-14CF-40AD-A0A7-A3B9A46A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85DFE-6675-411B-8E04-9306FE1E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2CC34-F1E6-4473-BD0F-15FE20D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54FF-82C3-4CA2-B173-9547A357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47332-496D-430B-B151-A65DF456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52262-3D3F-4995-A0A1-B0315720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C2252-D7A4-4196-AAD6-B2D0960B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F2875-CFA0-4A37-A2D6-046B56A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0968F-E13E-4509-979E-5977E5B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30B6-9A3C-4911-86D6-4EA9185E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E3F-1FC7-4272-9C75-1C12922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767B3-C130-48B9-AD04-5C312565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A0E4-62A9-4C2D-8983-4BAEE834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CF096-4277-4D04-BF33-583627C6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25ADB-B8F1-4B08-AE2E-6CE70A2B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1C932-7692-4711-9E5D-B5438A32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E108C-0067-4859-8302-B7794322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BA83E-3D0C-4D68-B81B-6A12061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8CFB6-4EE9-4A41-9DE7-865EC4A5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C1F2-13E4-45E7-822A-EB7ABCB6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21E90-C9FA-4998-8E86-4057635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086-0134-4DBC-8423-F954957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02B33-E4A2-4227-ADD3-B8F1CB3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0504-59DE-4A6D-8955-2082A14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EE8D-9062-4D0D-AD33-E90E92F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E36C1-169C-4012-A48F-0DFC840D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DB4E-D33C-470C-B18F-A226CC16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999D4-91F7-4CA8-B199-FB41B085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F6593-9E7C-408B-8D26-C8A1658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00D1A-3964-4ED9-891E-8A2370D6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8AF57-E0F1-49ED-8966-4BFDC38C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66405-3650-49BA-A4A5-B87E284F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F1D-CFC0-4831-82F6-A4D263F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7F2F-B560-49A6-9A84-286C440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9B9F4-D45E-4764-88AC-AC9A29F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6C387-19D1-4C4C-A574-E8D2648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9F97B-27E3-46E9-9FBA-45479CE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2284-EA1A-4122-8ECD-E46CBF38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F42D0-34FF-4D90-8FFA-2013549D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EFD2C-10A7-4B62-AB54-637E2CD9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30FFD-B894-4901-8EFC-62276C87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D6D93-28CE-44B0-BA94-6171B9CE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808CA-3986-4D16-B78B-EA27C85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A1D3F-1733-47F8-A2DC-6759810A752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8543E-6E23-4629-8071-242288283AF3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E61CE-AA8F-4CC8-AB23-E28D48F9FF82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93C08-ECC4-4989-895A-E49EDBA01DC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AB4B7-44D5-4F65-8B4D-2B2611DC0294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51B4F-E338-40D9-B6BD-3D8F46CD535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3109A-9BA9-4FFF-9221-4030530C023C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C4D2F-1D62-46A2-94B0-532F02E2E32A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35BAA-DB24-413E-96AC-2F7106AB4F2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59F30-725C-468B-8043-F3CC70F0D2C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E4FCB-CF7F-4FEF-BAD3-28BE42E3A93B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4B7C6-25AA-4617-B450-68A3AC36C5EE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56311-E4B8-4F92-967C-8CFF237D46F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CCCC9-28FD-4FB4-BBCE-095163F17E1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D63EC-A07B-4771-89D8-94F6CD311E06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B6910-8CB6-47CB-812C-40D01DC3527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65A83-B1B4-45EB-BC49-9D89AEE447D8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B004E-83B1-4EA6-A29A-CBC8D970D5D5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3AD77-CCBD-4DFC-AC96-DFDE8A528C24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E47EE-2B9F-4149-9590-919983CE89F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49B7C-9783-445B-8162-6B72E5ACC5CB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EF9AE-69FF-4889-9750-CF0507DF52B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04562-DF45-4D23-A4A8-A7A4B716802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B6678-37F3-44F4-BE5E-F7137FFEB94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144FE-8279-4FA2-B8BF-FCB99786B84A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86F2E-C118-4C4C-AFCB-6284EB5E283D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22860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LIDERAZGO Y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1981080" y="49356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Imagen 002"/>
          <p:cNvPicPr/>
          <p:nvPr/>
        </p:nvPicPr>
        <p:blipFill>
          <a:blip r:embed="rId2"/>
          <a:stretch/>
        </p:blipFill>
        <p:spPr>
          <a:xfrm>
            <a:off x="1735200" y="1684440"/>
            <a:ext cx="567360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800" spc="-1" strike="noStrike">
                <a:solidFill>
                  <a:srgbClr val="595959"/>
                </a:solidFill>
                <a:latin typeface="Arial"/>
              </a:rPr>
              <a:t>DIAGNÓS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59595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ver"/>
          <p:cNvPicPr/>
          <p:nvPr/>
        </p:nvPicPr>
        <p:blipFill>
          <a:blip r:embed="rId2"/>
          <a:stretch/>
        </p:blipFill>
        <p:spPr>
          <a:xfrm>
            <a:off x="990720" y="4038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</a:rPr>
              <a:t>Nivel de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7"/>
          <p:cNvPicPr/>
          <p:nvPr/>
        </p:nvPicPr>
        <p:blipFill>
          <a:blip r:embed="rId2"/>
          <a:stretch/>
        </p:blipFill>
        <p:spPr>
          <a:xfrm>
            <a:off x="304920" y="141300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"/>
          <p:cNvSpPr/>
          <p:nvPr/>
        </p:nvSpPr>
        <p:spPr>
          <a:xfrm>
            <a:off x="3124080" y="2700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157560" y="2133720"/>
            <a:ext cx="5986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6" descr="15"/>
          <p:cNvPicPr/>
          <p:nvPr/>
        </p:nvPicPr>
        <p:blipFill>
          <a:blip r:embed="rId2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773280" y="1697040"/>
          <a:ext cx="7543800" cy="46116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24"/>
          <p:cNvSpPr/>
          <p:nvPr/>
        </p:nvSpPr>
        <p:spPr>
          <a:xfrm rot="19528200">
            <a:off x="3650040" y="4936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 rot="19643400">
            <a:off x="2811960" y="35794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26"/>
          <p:cNvSpPr/>
          <p:nvPr/>
        </p:nvSpPr>
        <p:spPr>
          <a:xfrm>
            <a:off x="843120" y="2922480"/>
            <a:ext cx="7457760" cy="2597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27"/>
          <p:cNvSpPr/>
          <p:nvPr/>
        </p:nvSpPr>
        <p:spPr>
          <a:xfrm>
            <a:off x="828720" y="2639880"/>
            <a:ext cx="7461360" cy="3006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1763640" y="11592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Colaboradores y Tareas /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5454720" y="4159080"/>
            <a:ext cx="156672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3889440" y="4159080"/>
            <a:ext cx="156528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2322360" y="4159080"/>
            <a:ext cx="15670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755640" y="4159080"/>
            <a:ext cx="1566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5454720" y="2614680"/>
            <a:ext cx="156672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3889440" y="2614680"/>
            <a:ext cx="156528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322360" y="2614680"/>
            <a:ext cx="15670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755640" y="2614680"/>
            <a:ext cx="1566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454720" y="1773360"/>
            <a:ext cx="1566720" cy="8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AU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N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6"/>
          <p:cNvSpPr/>
          <p:nvPr/>
        </p:nvSpPr>
        <p:spPr>
          <a:xfrm>
            <a:off x="3889440" y="1773360"/>
            <a:ext cx="1565280" cy="841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IN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"/>
          <p:cNvSpPr/>
          <p:nvPr/>
        </p:nvSpPr>
        <p:spPr>
          <a:xfrm>
            <a:off x="2322360" y="1773360"/>
            <a:ext cx="1567080" cy="84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ESILUSIO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755640" y="1773360"/>
            <a:ext cx="1566720" cy="84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TUSIA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9"/>
          <p:cNvSpPr/>
          <p:nvPr/>
        </p:nvSpPr>
        <p:spPr>
          <a:xfrm>
            <a:off x="755640" y="26146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0"/>
          <p:cNvSpPr/>
          <p:nvPr/>
        </p:nvSpPr>
        <p:spPr>
          <a:xfrm>
            <a:off x="755640" y="41590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232236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2"/>
          <p:cNvSpPr/>
          <p:nvPr/>
        </p:nvSpPr>
        <p:spPr>
          <a:xfrm>
            <a:off x="388944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545472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4"/>
          <p:cNvSpPr/>
          <p:nvPr/>
        </p:nvSpPr>
        <p:spPr>
          <a:xfrm>
            <a:off x="755640" y="177336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75564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7"/>
          <p:cNvSpPr/>
          <p:nvPr/>
        </p:nvSpPr>
        <p:spPr>
          <a:xfrm>
            <a:off x="755640" y="595008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8"/>
          <p:cNvSpPr/>
          <p:nvPr/>
        </p:nvSpPr>
        <p:spPr>
          <a:xfrm rot="19528200">
            <a:off x="3769200" y="414936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0504d"/>
                </a:solidFill>
                <a:latin typeface="Arial"/>
              </a:rPr>
              <a:t>COMPR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9"/>
          <p:cNvSpPr/>
          <p:nvPr/>
        </p:nvSpPr>
        <p:spPr>
          <a:xfrm rot="19643400">
            <a:off x="2828880" y="3499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0"/>
          <p:cNvSpPr/>
          <p:nvPr/>
        </p:nvSpPr>
        <p:spPr>
          <a:xfrm>
            <a:off x="755640" y="2863800"/>
            <a:ext cx="6194520" cy="2324160"/>
          </a:xfrm>
          <a:prstGeom prst="pie">
            <a:avLst/>
          </a:pr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1"/>
          <p:cNvSpPr/>
          <p:nvPr/>
        </p:nvSpPr>
        <p:spPr>
          <a:xfrm>
            <a:off x="790560" y="2614680"/>
            <a:ext cx="7597800" cy="2766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8"/>
          <p:cNvSpPr/>
          <p:nvPr/>
        </p:nvSpPr>
        <p:spPr>
          <a:xfrm>
            <a:off x="1763640" y="27000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El Ciclo Regre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858672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1585800" y="19836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Los </a:t>
            </a:r>
            <a:r>
              <a:rPr b="0" lang="es-CL" sz="3800" spc="-1" strike="noStrike">
                <a:solidFill>
                  <a:srgbClr val="595959"/>
                </a:solidFill>
                <a:latin typeface="Verdana"/>
              </a:rPr>
              <a:t>4</a:t>
            </a: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 niveles de Madure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108000" y="1413000"/>
            <a:ext cx="8856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1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entusia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2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 desilusio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3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oderada a alta competencia y compromiso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variabl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inseg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4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lta competencia y alto compromiso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autóno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2365514672_60a54f915c"/>
          <p:cNvPicPr/>
          <p:nvPr/>
        </p:nvPicPr>
        <p:blipFill>
          <a:blip r:embed="rId2"/>
          <a:stretch/>
        </p:blipFill>
        <p:spPr>
          <a:xfrm>
            <a:off x="6858000" y="4419720"/>
            <a:ext cx="2085840" cy="2208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282600" y="1295280"/>
            <a:ext cx="857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2364682039_b5bac31669"/>
          <p:cNvPicPr/>
          <p:nvPr/>
        </p:nvPicPr>
        <p:blipFill>
          <a:blip r:embed="rId2"/>
          <a:stretch/>
        </p:blipFill>
        <p:spPr>
          <a:xfrm>
            <a:off x="0" y="4267080"/>
            <a:ext cx="2192400" cy="21924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8571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536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41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42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6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50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554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2365498558_25b23fee5f"/>
          <p:cNvPicPr/>
          <p:nvPr/>
        </p:nvPicPr>
        <p:blipFill>
          <a:blip r:embed="rId2"/>
          <a:stretch/>
        </p:blipFill>
        <p:spPr>
          <a:xfrm>
            <a:off x="133200" y="365760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4" descr="2365515172_dfd88da3f7"/>
          <p:cNvPicPr/>
          <p:nvPr/>
        </p:nvPicPr>
        <p:blipFill>
          <a:blip r:embed="rId2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45720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20732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7906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FLEXIB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609480" y="1295280"/>
            <a:ext cx="7570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600" spc="-1" strike="noStrike">
                <a:solidFill>
                  <a:srgbClr val="595959"/>
                </a:solidFill>
                <a:latin typeface="Arial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2137737248_e9f3e429d1"/>
          <p:cNvPicPr/>
          <p:nvPr/>
        </p:nvPicPr>
        <p:blipFill>
          <a:blip r:embed="rId2"/>
          <a:stretch/>
        </p:blipFill>
        <p:spPr>
          <a:xfrm>
            <a:off x="0" y="4267080"/>
            <a:ext cx="2151000" cy="21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400" spc="-1" strike="noStrike">
                <a:solidFill>
                  <a:srgbClr val="595959"/>
                </a:solidFill>
                <a:latin typeface="Arial"/>
              </a:rPr>
              <a:t>COMPORTAM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45655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DI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irec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0" descr="2364683065_f769bc7caf"/>
          <p:cNvPicPr/>
          <p:nvPr/>
        </p:nvPicPr>
        <p:blipFill>
          <a:blip r:embed="rId2"/>
          <a:stretch/>
        </p:blipFill>
        <p:spPr>
          <a:xfrm>
            <a:off x="2597040" y="33242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826920" y="116532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e dice al colaborador qué hacer, cuándo y cómo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los papeles del líder y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upervisa de cerca el desempeño</a:t>
            </a: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e Apoy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7" descr="2364665429_fefa9e071e"/>
          <p:cNvPicPr/>
          <p:nvPr/>
        </p:nvPicPr>
        <p:blipFill>
          <a:blip r:embed="rId2"/>
          <a:stretch/>
        </p:blipFill>
        <p:spPr>
          <a:xfrm>
            <a:off x="531720" y="396252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3"/>
          <p:cNvSpPr/>
          <p:nvPr/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e compromete más en la comunicación b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proporciona apoyo y estím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y facilita la autonomía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400" spc="-1" strike="noStrike">
                <a:solidFill>
                  <a:srgbClr val="595959"/>
                </a:solidFill>
                <a:latin typeface="Arial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200" spc="-1" strike="noStrike">
                <a:solidFill>
                  <a:srgbClr val="595959"/>
                </a:solidFill>
                <a:latin typeface="Arial"/>
              </a:rPr>
              <a:t>Estilo de liderazg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498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Patrón de comportamientos que u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utiliza con sus colaboradores 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como ellos lo perciben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lider_3"/>
          <p:cNvPicPr/>
          <p:nvPr/>
        </p:nvPicPr>
        <p:blipFill>
          <a:blip r:embed="rId2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547640" y="380880"/>
            <a:ext cx="7388280" cy="600120"/>
            <a:chOff x="1547640" y="380880"/>
            <a:chExt cx="7388280" cy="600120"/>
          </a:xfrm>
        </p:grpSpPr>
        <p:sp>
          <p:nvSpPr>
            <p:cNvPr id="710" name="Rectangle 3"/>
            <p:cNvSpPr/>
            <p:nvPr/>
          </p:nvSpPr>
          <p:spPr>
            <a:xfrm>
              <a:off x="1547640" y="404640"/>
              <a:ext cx="738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595959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278480" y="380880"/>
            <a:ext cx="787680" cy="1148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380880"/>
                      <a:ext cx="78768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AutoShape 5"/>
          <p:cNvSpPr/>
          <p:nvPr/>
        </p:nvSpPr>
        <p:spPr>
          <a:xfrm>
            <a:off x="2665440" y="5819760"/>
            <a:ext cx="969840" cy="641520"/>
          </a:xfrm>
          <a:custGeom>
            <a:avLst/>
            <a:gdLst>
              <a:gd name="textAreaLeft" fmla="*/ 0 w 969840"/>
              <a:gd name="textAreaRight" fmla="*/ 970200 w 9698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627280" y="5927760"/>
            <a:ext cx="65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2592360" y="5516640"/>
            <a:ext cx="418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ALTO            MODERADO                 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2650680" y="6494400"/>
            <a:ext cx="3542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360"/>
                <a:tab algn="l" pos="235080"/>
                <a:tab algn="l" pos="352440"/>
                <a:tab algn="l" pos="46980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Nivel de desarrollo de los particip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 flipV="1">
            <a:off x="2627280" y="1751040"/>
            <a:ext cx="0" cy="307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2825640" y="5010120"/>
            <a:ext cx="2941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 flipV="1">
            <a:off x="2193840" y="1821960"/>
            <a:ext cx="3240" cy="303084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2432160" y="3141720"/>
            <a:ext cx="1995480" cy="1871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9"/>
          <p:cNvSpPr/>
          <p:nvPr/>
        </p:nvSpPr>
        <p:spPr>
          <a:xfrm>
            <a:off x="2440080" y="1311120"/>
            <a:ext cx="1987560" cy="1825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4410000" y="1297080"/>
            <a:ext cx="2033640" cy="1825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2700360" y="5186520"/>
            <a:ext cx="368604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1732680" y="505620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3"/>
          <p:cNvSpPr/>
          <p:nvPr/>
        </p:nvSpPr>
        <p:spPr>
          <a:xfrm>
            <a:off x="6797880" y="49417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4"/>
          <p:cNvSpPr/>
          <p:nvPr/>
        </p:nvSpPr>
        <p:spPr>
          <a:xfrm>
            <a:off x="3328920" y="520380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5"/>
          <p:cNvSpPr/>
          <p:nvPr/>
        </p:nvSpPr>
        <p:spPr>
          <a:xfrm>
            <a:off x="1687680" y="13399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6"/>
          <p:cNvGrpSpPr/>
          <p:nvPr/>
        </p:nvGrpSpPr>
        <p:grpSpPr>
          <a:xfrm>
            <a:off x="2416320" y="1268280"/>
            <a:ext cx="4026960" cy="3722760"/>
            <a:chOff x="2416320" y="1268280"/>
            <a:chExt cx="4026960" cy="3722760"/>
          </a:xfrm>
        </p:grpSpPr>
        <p:sp>
          <p:nvSpPr>
            <p:cNvPr id="729" name="Rectangle 27"/>
            <p:cNvSpPr/>
            <p:nvPr/>
          </p:nvSpPr>
          <p:spPr>
            <a:xfrm>
              <a:off x="4421160" y="3111480"/>
              <a:ext cx="2022120" cy="18730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2416320" y="1268280"/>
              <a:ext cx="4025520" cy="37227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9"/>
            <p:cNvSpPr/>
            <p:nvPr/>
          </p:nvSpPr>
          <p:spPr>
            <a:xfrm>
              <a:off x="2608560" y="4232160"/>
              <a:ext cx="167832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>
              <a:off x="2419200" y="1285560"/>
              <a:ext cx="17240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1"/>
            <p:cNvSpPr/>
            <p:nvPr/>
          </p:nvSpPr>
          <p:spPr>
            <a:xfrm>
              <a:off x="4619520" y="1293840"/>
              <a:ext cx="17805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4551480" y="4232160"/>
              <a:ext cx="18262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"/>
            <p:cNvSpPr/>
            <p:nvPr/>
          </p:nvSpPr>
          <p:spPr>
            <a:xfrm>
              <a:off x="4378320" y="1549080"/>
              <a:ext cx="2006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"/>
            <p:cNvSpPr/>
            <p:nvPr/>
          </p:nvSpPr>
          <p:spPr>
            <a:xfrm>
              <a:off x="2477880" y="1549080"/>
              <a:ext cx="1952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5"/>
            <p:cNvSpPr/>
            <p:nvPr/>
          </p:nvSpPr>
          <p:spPr>
            <a:xfrm>
              <a:off x="2789280" y="2292120"/>
              <a:ext cx="133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6"/>
            <p:cNvSpPr/>
            <p:nvPr/>
          </p:nvSpPr>
          <p:spPr>
            <a:xfrm>
              <a:off x="4829040" y="3509640"/>
              <a:ext cx="133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4751280" y="2292120"/>
              <a:ext cx="1336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8"/>
            <p:cNvSpPr/>
            <p:nvPr/>
          </p:nvSpPr>
          <p:spPr>
            <a:xfrm>
              <a:off x="2706480" y="3509640"/>
              <a:ext cx="134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39"/>
          <p:cNvSpPr/>
          <p:nvPr/>
        </p:nvSpPr>
        <p:spPr>
          <a:xfrm rot="16200000">
            <a:off x="699480" y="288936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42"/>
          <p:cNvSpPr/>
          <p:nvPr/>
        </p:nvSpPr>
        <p:spPr>
          <a:xfrm flipH="1">
            <a:off x="3203640" y="582120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 flipH="1">
            <a:off x="4067280" y="581976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"/>
          <p:cNvSpPr/>
          <p:nvPr/>
        </p:nvSpPr>
        <p:spPr>
          <a:xfrm flipH="1">
            <a:off x="5002920" y="5827680"/>
            <a:ext cx="1101960" cy="647640"/>
          </a:xfrm>
          <a:custGeom>
            <a:avLst/>
            <a:gdLst>
              <a:gd name="textAreaLeft" fmla="*/ -360 w 1101960"/>
              <a:gd name="textAreaRight" fmla="*/ 1101960 w 1101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441396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3"/>
          <p:cNvSpPr/>
          <p:nvPr/>
        </p:nvSpPr>
        <p:spPr>
          <a:xfrm>
            <a:off x="5307840" y="592776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347760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C042A-F81B-4064-92F9-AA61A3F4E24C}" type="slidenum">
              <a:rPr b="0" lang="es-ES" sz="900" spc="-1" strike="noStrike">
                <a:solidFill>
                  <a:srgbClr val="595959"/>
                </a:solidFill>
                <a:latin typeface="UnitOT-Regula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75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ENTUSIAST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289080" y="2363400"/>
              <a:ext cx="4152600" cy="15904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281160" y="2189880"/>
              <a:ext cx="4155840" cy="1841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de los Colabor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78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2"/>
            <p:cNvSpPr/>
            <p:nvPr/>
          </p:nvSpPr>
          <p:spPr>
            <a:xfrm>
              <a:off x="505008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79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9"/>
              <p:cNvSpPr/>
              <p:nvPr/>
            </p:nvSpPr>
            <p:spPr>
              <a:xfrm>
                <a:off x="57578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51"/>
              <p:cNvSpPr/>
              <p:nvPr/>
            </p:nvSpPr>
            <p:spPr>
              <a:xfrm>
                <a:off x="728964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55"/>
              <p:cNvSpPr/>
              <p:nvPr/>
            </p:nvSpPr>
            <p:spPr>
              <a:xfrm>
                <a:off x="5734080" y="2347560"/>
                <a:ext cx="1146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600" spc="-1" strike="noStrike">
                    <a:solidFill>
                      <a:srgbClr val="595959"/>
                    </a:solidFill>
                    <a:latin typeface="Tahoma"/>
                  </a:rPr>
                  <a:t>Dir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58"/>
              <p:cNvSpPr/>
              <p:nvPr/>
            </p:nvSpPr>
            <p:spPr>
              <a:xfrm>
                <a:off x="5715000" y="3268440"/>
                <a:ext cx="1276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60"/>
          <p:cNvSpPr/>
          <p:nvPr/>
        </p:nvSpPr>
        <p:spPr>
          <a:xfrm>
            <a:off x="250920" y="587700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DIAGNO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1"/>
          <p:cNvSpPr/>
          <p:nvPr/>
        </p:nvSpPr>
        <p:spPr>
          <a:xfrm rot="5400000">
            <a:off x="1860480" y="4984560"/>
            <a:ext cx="695160" cy="46368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2"/>
          <p:cNvSpPr/>
          <p:nvPr/>
        </p:nvSpPr>
        <p:spPr>
          <a:xfrm>
            <a:off x="5065560" y="9079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59595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3"/>
          <p:cNvSpPr/>
          <p:nvPr/>
        </p:nvSpPr>
        <p:spPr>
          <a:xfrm>
            <a:off x="5138640" y="587700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FLEX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64"/>
          <p:cNvSpPr/>
          <p:nvPr/>
        </p:nvSpPr>
        <p:spPr>
          <a:xfrm rot="5400000">
            <a:off x="6748200" y="4984920"/>
            <a:ext cx="695160" cy="4633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5"/>
          <p:cNvSpPr/>
          <p:nvPr/>
        </p:nvSpPr>
        <p:spPr>
          <a:xfrm>
            <a:off x="3780000" y="5877000"/>
            <a:ext cx="2143080" cy="415800"/>
          </a:xfrm>
          <a:custGeom>
            <a:avLst/>
            <a:gdLst>
              <a:gd name="textAreaLeft" fmla="*/ 374760 w 2143080"/>
              <a:gd name="textAreaRight" fmla="*/ 1553760 w 2143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AutoShape 66"/>
          <p:cNvCxnSpPr>
            <a:stCxn id="764" idx="2"/>
            <a:endCxn id="798" idx="63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29320"/>
              <a:gd name="adj2" fmla="val 49997"/>
              <a:gd name="adj3" fmla="val 12932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2" name="AutoShape 67"/>
          <p:cNvCxnSpPr>
            <a:stCxn id="763" idx="2"/>
            <a:endCxn id="750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13" name="AutoShape 68"/>
          <p:cNvCxnSpPr>
            <a:stCxn id="762" idx="2"/>
            <a:endCxn id="749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4" name="AutoShape 69"/>
          <p:cNvCxnSpPr>
            <a:stCxn id="761" idx="2"/>
            <a:endCxn id="748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1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ítulo 1"/>
          <p:cNvSpPr/>
          <p:nvPr/>
        </p:nvSpPr>
        <p:spPr>
          <a:xfrm>
            <a:off x="2465280" y="44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595959"/>
                </a:solidFill>
                <a:latin typeface="Arial"/>
                <a:ea typeface="Arial"/>
              </a:rPr>
              <a:t>EL MODELO INTEGR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564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65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66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9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570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66920" cy="3822480"/>
          </a:xfrm>
          <a:prstGeom prst="rect">
            <a:avLst/>
          </a:prstGeom>
          <a:ln w="0">
            <a:noFill/>
          </a:ln>
        </p:spPr>
      </p:pic>
      <p:pic>
        <p:nvPicPr>
          <p:cNvPr id="571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572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stilo de liderazgo </a:t>
            </a:r>
            <a:r>
              <a:rPr b="0" lang="es-CL" sz="2600" spc="-1" strike="noStrike" u="sng">
                <a:solidFill>
                  <a:srgbClr val="595959"/>
                </a:solidFill>
                <a:uFillTx/>
                <a:latin typeface="Arial"/>
              </a:rPr>
              <a:t>DIRIGIR</a:t>
            </a: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1800"/>
            </a:b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el entusiasmo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las habilidades transferibles del colaborador y su progreso hasta l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dentifica los resultados, objetivos y plaz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planificación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trices e instrucciones especi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ORIENT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 colaborador en la identificación de problemas y en fijar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poyo, seguridad y elo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: brinda al colaborador una oportunidad para discutir preocupaciones  y compartir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de decisiones finales relativas a los planes de acción luego de escuchar las ideas y los sentimientos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la razón para tomar un enfoqu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     estilo de liderazgo 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APOY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79280" y="1614600"/>
            <a:ext cx="87138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baja con el colaborador en la evaluación de su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l 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DELEG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24000" y="1542960"/>
            <a:ext cx="84960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ermite al colaborador hacerse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al colaborador a evaluar su propio 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905120" y="0"/>
            <a:ext cx="647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Estilos de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2424240" y="2266920"/>
            <a:ext cx="223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Apo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ambos decid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"/>
          <p:cNvSpPr/>
          <p:nvPr/>
        </p:nvSpPr>
        <p:spPr>
          <a:xfrm>
            <a:off x="4714920" y="224784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Ent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424240" y="424800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el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Tú dec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4714920" y="422928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i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387520" y="1628640"/>
            <a:ext cx="4632480" cy="4527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87520" y="3736800"/>
            <a:ext cx="463248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8"/>
          <p:cNvSpPr/>
          <p:nvPr/>
        </p:nvSpPr>
        <p:spPr>
          <a:xfrm>
            <a:off x="4641840" y="1628640"/>
            <a:ext cx="1440" cy="4527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1835280" y="260280"/>
            <a:ext cx="69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Un líder tiene tres op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963720" y="1773360"/>
            <a:ext cx="764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Utilizar el estilo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exces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insufici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771640" y="15228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exce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1065240" y="1925640"/>
            <a:ext cx="6985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Participación disminu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autonomí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676520" y="152280"/>
            <a:ext cx="58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iclo de la Gestión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del Desempe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609480" y="1371600"/>
            <a:ext cx="85694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4" descr="Fotolia_tickman"/>
          <p:cNvPicPr/>
          <p:nvPr/>
        </p:nvPicPr>
        <p:blipFill>
          <a:blip r:embed="rId2"/>
          <a:stretch/>
        </p:blipFill>
        <p:spPr>
          <a:xfrm>
            <a:off x="125280" y="15732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Fotolia_tickman"/>
          <p:cNvPicPr/>
          <p:nvPr/>
        </p:nvPicPr>
        <p:blipFill>
          <a:blip r:embed="rId3"/>
          <a:stretch/>
        </p:blipFill>
        <p:spPr>
          <a:xfrm>
            <a:off x="49320" y="233532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1981080" y="152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641520" y="838080"/>
            <a:ext cx="785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700" spc="-1" strike="noStrike">
                <a:solidFill>
                  <a:srgbClr val="59595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4" descr="2365568058_8defeeaf3a"/>
          <p:cNvPicPr/>
          <p:nvPr/>
        </p:nvPicPr>
        <p:blipFill>
          <a:blip r:embed="rId2"/>
          <a:stretch/>
        </p:blipFill>
        <p:spPr>
          <a:xfrm>
            <a:off x="571680" y="441972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828800" y="1523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¿¿¿LIDERAZGO??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-2971800" y="152280"/>
            <a:ext cx="8686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Imagen 5" descr="Fotolia_4812281_XS.jpg"/>
          <p:cNvPicPr/>
          <p:nvPr/>
        </p:nvPicPr>
        <p:blipFill>
          <a:blip r:embed="rId2"/>
          <a:stretch/>
        </p:blipFill>
        <p:spPr>
          <a:xfrm>
            <a:off x="1738440" y="2521080"/>
            <a:ext cx="55623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1116000" y="1890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1752480"/>
            <a:ext cx="906768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nseñe a sus colaboradores el modelo del Lideraz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ituacional II (SLII®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3.    Defina las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1432080" y="115920"/>
            <a:ext cx="77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5244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828800" y="380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LIDERAZ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s trabajar con los colaborad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grupo"/>
          <p:cNvPicPr/>
          <p:nvPr/>
        </p:nvPicPr>
        <p:blipFill>
          <a:blip r:embed="rId2"/>
          <a:stretch/>
        </p:blipFill>
        <p:spPr>
          <a:xfrm>
            <a:off x="2195640" y="3573360"/>
            <a:ext cx="403848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873080" y="304920"/>
            <a:ext cx="7162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404040"/>
                </a:solidFill>
                <a:latin typeface="Arial"/>
              </a:rPr>
              <a:t>Liderazgo efica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72480" y="368316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40404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Group 4" descr=""/>
          <p:cNvPicPr/>
          <p:nvPr/>
        </p:nvPicPr>
        <p:blipFill>
          <a:blip r:embed="rId2"/>
          <a:stretch/>
        </p:blipFill>
        <p:spPr>
          <a:xfrm>
            <a:off x="244440" y="4035600"/>
            <a:ext cx="2254320" cy="5857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3"/>
          <p:cNvSpPr/>
          <p:nvPr/>
        </p:nvSpPr>
        <p:spPr>
          <a:xfrm>
            <a:off x="7150320" y="1382760"/>
            <a:ext cx="788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6968160" y="5018040"/>
            <a:ext cx="966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IN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6"/>
          <p:cNvSpPr/>
          <p:nvPr/>
        </p:nvSpPr>
        <p:spPr>
          <a:xfrm rot="16200000">
            <a:off x="5540400" y="2179080"/>
            <a:ext cx="3095640" cy="224172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6710040" y="2944800"/>
            <a:ext cx="1481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C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ENT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3796560" y="2503440"/>
            <a:ext cx="11268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3612600" y="6183360"/>
            <a:ext cx="1029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5"/>
          <p:cNvSpPr/>
          <p:nvPr/>
        </p:nvSpPr>
        <p:spPr>
          <a:xfrm rot="16200000">
            <a:off x="2910600" y="2870640"/>
            <a:ext cx="2243160" cy="309564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3615840" y="4087800"/>
            <a:ext cx="18752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5"/>
          <p:cNvGrpSpPr/>
          <p:nvPr/>
        </p:nvGrpSpPr>
        <p:grpSpPr>
          <a:xfrm>
            <a:off x="8217000" y="1671480"/>
            <a:ext cx="299880" cy="3302280"/>
            <a:chOff x="8217000" y="1671480"/>
            <a:chExt cx="299880" cy="3302280"/>
          </a:xfrm>
        </p:grpSpPr>
        <p:sp>
          <p:nvSpPr>
            <p:cNvPr id="593" name="Line 17"/>
            <p:cNvSpPr/>
            <p:nvPr/>
          </p:nvSpPr>
          <p:spPr>
            <a:xfrm>
              <a:off x="8217000" y="1671480"/>
              <a:ext cx="0" cy="330228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"/>
            <p:cNvSpPr/>
            <p:nvPr/>
          </p:nvSpPr>
          <p:spPr>
            <a:xfrm>
              <a:off x="8242200" y="18302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9"/>
            <p:cNvSpPr/>
            <p:nvPr/>
          </p:nvSpPr>
          <p:spPr>
            <a:xfrm>
              <a:off x="8242200" y="4876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0"/>
            <p:cNvSpPr/>
            <p:nvPr/>
          </p:nvSpPr>
          <p:spPr>
            <a:xfrm>
              <a:off x="8253360" y="20844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1"/>
            <p:cNvSpPr/>
            <p:nvPr/>
          </p:nvSpPr>
          <p:spPr>
            <a:xfrm>
              <a:off x="8263080" y="23385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2"/>
            <p:cNvSpPr/>
            <p:nvPr/>
          </p:nvSpPr>
          <p:spPr>
            <a:xfrm>
              <a:off x="8253360" y="2590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>
              <a:off x="8242200" y="28447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4"/>
            <p:cNvSpPr/>
            <p:nvPr/>
          </p:nvSpPr>
          <p:spPr>
            <a:xfrm>
              <a:off x="8253360" y="30988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8253360" y="33526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8253360" y="36068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7"/>
            <p:cNvSpPr/>
            <p:nvPr/>
          </p:nvSpPr>
          <p:spPr>
            <a:xfrm>
              <a:off x="8263080" y="386064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8"/>
            <p:cNvSpPr/>
            <p:nvPr/>
          </p:nvSpPr>
          <p:spPr>
            <a:xfrm>
              <a:off x="8253360" y="41148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>
              <a:off x="8263080" y="43689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0"/>
            <p:cNvSpPr/>
            <p:nvPr/>
          </p:nvSpPr>
          <p:spPr>
            <a:xfrm>
              <a:off x="8263080" y="46227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Line 36"/>
          <p:cNvSpPr/>
          <p:nvPr/>
        </p:nvSpPr>
        <p:spPr>
          <a:xfrm>
            <a:off x="5562720" y="2792520"/>
            <a:ext cx="0" cy="330192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5562720" y="29512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8"/>
          <p:cNvSpPr/>
          <p:nvPr/>
        </p:nvSpPr>
        <p:spPr>
          <a:xfrm>
            <a:off x="5562720" y="5997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5573880" y="32050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5583240" y="34592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5573880" y="3711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5562720" y="39654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5573880" y="421956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>
            <a:off x="5573880" y="44737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>
            <a:off x="5573880" y="47275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>
            <a:off x="5583240" y="498168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>
            <a:off x="5573880" y="52354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8"/>
          <p:cNvSpPr/>
          <p:nvPr/>
        </p:nvSpPr>
        <p:spPr>
          <a:xfrm>
            <a:off x="5583240" y="54896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9"/>
          <p:cNvSpPr/>
          <p:nvPr/>
        </p:nvSpPr>
        <p:spPr>
          <a:xfrm>
            <a:off x="5583240" y="57434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1114560" y="1600200"/>
            <a:ext cx="734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200" spc="-1" strike="noStrike">
                <a:solidFill>
                  <a:srgbClr val="40404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56000" y="485640"/>
            <a:ext cx="62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Las </a:t>
            </a:r>
            <a:r>
              <a:rPr b="0" lang="es-CL" sz="3400" spc="-1" strike="noStrike">
                <a:solidFill>
                  <a:srgbClr val="404040"/>
                </a:solidFill>
                <a:latin typeface="Verdana"/>
              </a:rPr>
              <a:t>4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funciones del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lider_3"/>
          <p:cNvPicPr/>
          <p:nvPr/>
        </p:nvPicPr>
        <p:blipFill>
          <a:blip r:embed="rId1"/>
          <a:stretch/>
        </p:blipFill>
        <p:spPr>
          <a:xfrm>
            <a:off x="1908000" y="4005360"/>
            <a:ext cx="5910480" cy="24908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787320" y="1311120"/>
            <a:ext cx="75675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1. Fijar m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2. Retroali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Solucionar problemas. (account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4. Proporcionar re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2233440" y="152280"/>
            <a:ext cx="58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Las Tres Habilidades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Básicas de un Lí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2400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1:24:40Z</dcterms:created>
  <dc:creator>Tamara Osses</dc:creator>
  <dc:description/>
  <dc:language>en-US</dc:language>
  <cp:lastModifiedBy>jose tomas saffirio mezzano</cp:lastModifiedBy>
  <dcterms:modified xsi:type="dcterms:W3CDTF">2011-11-11T13:17:24Z</dcterms:modified>
  <cp:revision>29</cp:revision>
  <dc:subject/>
  <dc:title>Diapositiva 1</dc:title>
</cp:coreProperties>
</file>