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0.jpeg" ContentType="image/jpeg"/>
  <Override PartName="/ppt/media/DRUMROLL.WAV" ContentType="audio/x-wav"/>
  <Override PartName="/ppt/media/CASHREG.WAV" ContentType="audio/x-wav"/>
  <Override PartName="/ppt/media/image10.jpeg" ContentType="image/jpeg"/>
  <Override PartName="/ppt/media/image19.jpeg" ContentType="image/jpeg"/>
  <Override PartName="/ppt/media/image7.jpeg" ContentType="image/jpeg"/>
  <Override PartName="/ppt/media/LASER.WAV" ContentType="audio/x-wav"/>
  <Override PartName="/ppt/media/image5.png" ContentType="image/png"/>
  <Override PartName="/ppt/media/image8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11.jpeg" ContentType="image/jpeg"/>
  <Override PartName="/ppt/media/image24.wmf" ContentType="image/x-wmf"/>
  <Override PartName="/ppt/media/DRIVEBY.WAV" ContentType="audio/x-wav"/>
  <Override PartName="/ppt/media/image3.png" ContentType="image/png"/>
  <Override PartName="/ppt/media/image25.jpeg" ContentType="image/jpeg"/>
  <Override PartName="/ppt/media/image26.jpeg" ContentType="image/jpeg"/>
  <Override PartName="/ppt/media/CHIMES.WAV" ContentType="audio/x-wav"/>
  <Override PartName="/ppt/media/image17.jpeg" ContentType="image/jpeg"/>
  <Override PartName="/ppt/media/APPLAUSE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5.jpeg" ContentType="image/jpeg"/>
  <Override PartName="/ppt/media/TYPE.WAV" ContentType="audio/x-wav"/>
  <Override PartName="/ppt/media/image16.jpeg" ContentType="image/jpeg"/>
  <Override PartName="/ppt/media/image6.png" ContentType="image/png"/>
  <Override PartName="/ppt/media/GUNSHOT.WAV" ContentType="audio/x-wav"/>
  <Override PartName="/ppt/media/image21.jpeg" ContentType="image/jpeg"/>
  <Override PartName="/ppt/media/image1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7E6-5D1F-4ADC-BD35-567211D1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87C-FA59-458B-83BD-F9EA1373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58049-53EC-4B7C-8456-542324AF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8BF3B-D211-469F-BC16-05A96B93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4D5E8-82CD-48D1-BE8C-91926A90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F642E-FA96-41DB-8302-8D2BC45F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0E6E9-CE68-4A22-B317-61EABBC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7DC3B-1E1D-4CB3-ADC1-F733305E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24282-88D7-48B6-B9CD-ADD45322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95416-0FB0-4B7D-A1AD-B23DF242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C8FB0-5D78-4745-B869-1DD9A674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E9120-4398-48DB-A89E-AE154A26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3BB-25B6-4788-A71E-705613B7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B67CE-5090-47E6-A882-FED5B29A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74336-D6DD-4055-A545-D94A0ACD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5614B-0CFE-4A99-B5F7-506E992D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463DA-189D-4601-A2B1-0FE1514A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B3640-1371-4C95-8BF5-FAFBF985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68C6D-5E1A-4298-BFC3-FB5DF95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70B80-EDA4-452E-8639-C8B9700A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17033-2FF4-43CF-8066-C593B0C3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D210A-2C15-45C0-834A-6AEAF957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E1AF2-AF40-49D3-AF19-249C8BC1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BA6-D1A4-4218-8167-DB340B73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AAF18-385E-4C2C-A6A3-3FA2142A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E10EB-A0CE-4DD1-B103-A5F1C3A4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7FC70-E8AA-47B7-AD9D-8938AFEE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54EBE-225B-45AF-86DF-5EB06FB3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DFD6C-9E60-4C27-9C8A-F8F7E205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A1B27-F624-421A-8E75-2D7FECEB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92C81-05EB-4143-8E60-5458A5EC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2E19F-A440-4D79-B698-CF954FC4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E6C40-62A9-417A-86EE-DB164683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CB8D3-3BEA-40A0-A848-61C1ABE8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0D12-9AF8-493E-9E3E-3ADE2413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D2CF7-B2A6-4E5D-AB07-E6868953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01DED-3987-47FA-AAB7-9915EBF7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98E1B-C84B-4302-97D0-72189714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AFBE6-551F-45C4-A02E-F4A4A96C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1F177-4FBB-4816-B1D1-3D969BE0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57F65-03D1-44B1-986D-04B9BF66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98EEA-46DA-4189-A45E-BB90C69D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6040E-068B-4948-A4B2-292A8DA0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C102B-C78E-4BAE-B1EF-2F8CFADF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3C494-058E-4148-940A-A4B40AE4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EDA3-E985-4B2A-BDBA-D99541AF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84C97-E4BC-4ACA-A3B8-4F1D0C0F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AA1E1-6B7E-42A1-BE7C-4DC0534C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FC654-4A64-4911-B4D8-754F3C4E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2B1B3-018A-4891-BBA4-71C33BE7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48E0A-F0F7-4093-9874-526B8654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D6300-556A-489A-B75B-78718DAC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513EF-1A4B-411C-8762-621797D1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50D7F-0DE1-422A-9635-FEAFE9D7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BCA1C-8FC8-44E9-B228-E6B48EDC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FEBD3-EBC0-467C-9960-20C59E60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9C3A-9643-46D2-9948-42716F74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89028-27C7-4D99-AA3F-1A611B35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C2B16-0144-4372-B0B6-A4875BD0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7E0BE-C8A5-47FC-84F6-3D08D7CB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699CC-239F-4DB0-B514-510F9DD0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9F786-2036-4F28-80C4-092F5574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1518B-6E88-4316-8970-A6342D80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345F9-6E2F-4114-81FF-5948C3A9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2CA7-D0BA-43FA-B642-82C24D53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F60B-A50D-4DC3-A3D6-36944BB0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BDDD-8656-4744-84DE-9A2999CC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3402-521D-471E-8558-B7B8438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09C-2AB7-4CA6-8E9B-E028CED7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0205-E0CB-4BCC-A5EF-93E4986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9A39-E683-4B53-AD5D-AE4470E3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03E0-70DA-44C4-A756-1CCE95FC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8BA3-E76E-48DA-B527-4E0C2C2F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DE59-A2D4-4560-9440-59E432B0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2A81-9738-4962-9CF8-1F7D1E79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EBBC-334F-4039-8AB9-736B8506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B654-4C32-4D99-BB97-2E354398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A5B3-43E9-4C2D-B643-226DC3D5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BBBC5-0372-4676-97EE-EDB02842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04A-B9CB-4927-8B54-F0D98EED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BF48-CB92-4DEB-AA46-BCE43689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38EB-07C1-47CB-85F2-273D4712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D479-BEAE-42AE-99FC-93AC7661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6089-313C-4015-871D-F613D223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526B8-27BB-4631-9A57-D20659A5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9AD0-CD00-4ABC-AD07-A28ABBB5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11A0-1CC6-4D4A-8950-3624A502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E592-0581-4A8C-B846-595FBD76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5148A-146E-4EAB-B3ED-CE72077D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EDA2F-D7C6-471E-A1F2-6DB862D1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381-ED59-4354-AC86-6A4D84D4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EEEA-5A7B-42BF-84D9-ED990DB8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F0C5-CDD2-4229-817B-EE550983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B5D4F-EA5D-4832-9589-B77C637B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C1E21-D0CF-4B45-937C-CF3FB689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3FE49-A233-45D0-809A-BD45B88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3443-FC8A-4BF0-B223-E512D688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30B5-DBDD-44F8-9226-F1BA2204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4502-96D3-4E27-B9D1-9D20EC85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0298-931D-40C8-840F-FEE6B62E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3A3C6-0FAD-458A-9ED5-C3728B29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476-083A-4EFE-B05C-056C305D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ADC9-547D-4C6B-84B5-400EC947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00F37-A366-4BBE-9FE5-34976F32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F16BA-C1C9-41A9-847C-88E6D09B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5F05A-7430-412C-942B-329A8AF3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66E63-2C00-444C-B5D8-A7A3F6F3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F0C23-D021-492D-8CC6-633CB45C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6D7B1-0D34-4C89-B6E5-1D9605AB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64210-B408-4ED9-9C20-312247F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147B-61F3-41AF-8DC2-F4C9CE6A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27C0F-AD81-4DE0-B885-EBB2F6F0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2ED-6E61-41FC-92D0-F8BDD304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24C4A-4D2A-42CA-A4F0-A3228063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E9112-2D95-4BAE-A9B9-2E8C67F0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C3367-387B-46DF-9365-4966BC61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3BE54-C497-4DA4-8F4C-CB32CEE1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9B5B8-BD8B-4670-A0A1-6945B7D8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89CAC-6F53-438F-ABD0-3B987E52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2ED38-2724-4F5D-BEE9-43168588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31514-5DB4-4F5F-B3A7-66DE7EE7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AED50-F409-4F22-A572-C332DA65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5091D-7F7B-4093-B1FB-5742F1A2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F36-3FE0-40DC-89A5-C0F6391B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E85FD-AFB3-460F-9E7D-5AAA5724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5801F-4157-41F4-9F55-EFA6F392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D788-30F0-4816-AF02-2040ADAF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95E88-E38D-4831-8A74-F990F90E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F7B24-2970-4577-9BFA-5228755B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48313-E841-4CA8-860D-0574F31E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F6CDD-0CE3-43B7-B12D-038C2A9E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B6C26-9257-4271-8E33-2085D14E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21401-48F0-47FC-A54A-AB843B30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52122-5414-4896-96A2-1BFBEF26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7E3-7560-4EC7-8000-454A973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81786-6253-4910-9AC6-3964907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FC3EB-D54B-48AC-B187-525A36B8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896FA-CE6D-461F-B179-87490E5E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2A38E-E09F-40B0-A59B-877C96D7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AC81B-58A2-4360-B86B-4C7D4FA7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83CC6-3D2D-4341-AE42-BD6E1504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FD3DB-6420-4A36-9ADB-CF405905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139C1-ADDE-4813-9B4E-F0BCCF95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3248E-3AAD-40FB-BFF3-E389306B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E9312-7F53-42F2-8406-4C068C3E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BF9-024F-4FD8-AF38-655734D3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F27E0-B591-4469-8723-F24761F5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998EB-B12B-4EE5-A40A-165947A0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E606A-E3FF-4FC8-8556-850746EA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35C9D-B2F0-4D32-B3AF-D4121F4E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76D61-8875-4DFF-9E10-019E0196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86D49-1F42-4D4C-BBE4-70A2A604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73EF3-4060-4F93-96A6-7414D58E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7965F-1EDD-4754-87A1-6EAEC656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EE2C2-7A25-4785-BECE-E51252A4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7F1D2-915E-4365-9CC5-F9DB2B4E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68CEF-707E-403F-8B70-A6BB25D53971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70FC6-C43B-4751-9543-4AA884892B7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70123-230E-404A-A28F-05E185C8DC29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DC316-FAE9-49E5-AF6A-29C5EDFE4EE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78F2B-E248-4E88-BE48-5B159B671F6C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6CA7E-D3DB-493B-88DD-9B065318B38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64F71-929E-4D2C-9DB8-09DEEEC62140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6EB92-B1B4-4A36-B82F-47D0C490860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CD567-A1F8-486A-8EE8-56D771A3FDE8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8AC0B-205D-48EC-8703-4350E795287C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8E6A4-7FFB-4AC9-8836-326F0312706D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2687A-00F4-4A39-B831-7C1A4D51CD5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19B86-5752-4884-86C8-3DA9B82632EA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BAAB6-4E39-41D4-A239-9169A7F4F82C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40A32-998F-4E34-9B07-8F3BE2D0688E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5EEAF-4235-4F0C-A33D-E54814507FD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F2D06-A91C-4922-813D-44274894B7AA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993E5-76DC-4035-B04B-27C6BEDA92F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BA4F4-7D1B-4127-A58A-D6AA860B4B5D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3DE6C-4CD2-4BF5-A0A2-19DD6D60BC5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8EE9C-647D-4E2F-A319-A7DA863D20FB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2AEC4-19A1-4AE6-80A5-D3376C4CD23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22B5B-0F07-4D43-A0A8-BEB9F206C920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ED368-BEF9-4BBE-8ED5-380AFBA6557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38292-D4F4-411B-8AAE-5A1370B6E225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4DA1D-E78C-44A4-9390-D567C3DCE65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audio" Target="../media/APPLAUS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5"/>
          <p:cNvSpPr/>
          <p:nvPr/>
        </p:nvSpPr>
        <p:spPr>
          <a:xfrm>
            <a:off x="22860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Arial"/>
              </a:rPr>
              <a:t>LIDERAZGO Y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1981080" y="49356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DIAGNÓ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1" descr="Imagen 002"/>
          <p:cNvPicPr/>
          <p:nvPr/>
        </p:nvPicPr>
        <p:blipFill>
          <a:blip r:embed="rId2"/>
          <a:stretch/>
        </p:blipFill>
        <p:spPr>
          <a:xfrm>
            <a:off x="1735200" y="1684440"/>
            <a:ext cx="5673600" cy="34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990720" y="404640"/>
            <a:ext cx="716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800" spc="-1" strike="noStrike">
                <a:solidFill>
                  <a:srgbClr val="595959"/>
                </a:solidFill>
                <a:latin typeface="Arial"/>
              </a:rPr>
              <a:t>DIAGNÓST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2360" y="14749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7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595959"/>
                </a:solidFill>
                <a:latin typeface="Arial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ver"/>
          <p:cNvPicPr/>
          <p:nvPr/>
        </p:nvPicPr>
        <p:blipFill>
          <a:blip r:embed="rId2"/>
          <a:stretch/>
        </p:blipFill>
        <p:spPr>
          <a:xfrm>
            <a:off x="990720" y="4038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595959"/>
                </a:solidFill>
                <a:latin typeface="Arial"/>
              </a:rPr>
              <a:t>Nivel de Desarrol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4067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0" descr="Fotolia_7829651_M"/>
          <p:cNvPicPr/>
          <p:nvPr/>
        </p:nvPicPr>
        <p:blipFill>
          <a:blip r:embed="rId2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7"/>
          <p:cNvPicPr/>
          <p:nvPr/>
        </p:nvPicPr>
        <p:blipFill>
          <a:blip r:embed="rId2"/>
          <a:stretch/>
        </p:blipFill>
        <p:spPr>
          <a:xfrm>
            <a:off x="304920" y="141300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2"/>
          <p:cNvSpPr/>
          <p:nvPr/>
        </p:nvSpPr>
        <p:spPr>
          <a:xfrm>
            <a:off x="3124080" y="27000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800" spc="-1" strike="noStrike">
                <a:solidFill>
                  <a:srgbClr val="cc3300"/>
                </a:solidFill>
                <a:latin typeface="Arial"/>
              </a:rPr>
              <a:t>Compe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3157560" y="2133720"/>
            <a:ext cx="5986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onocimientos y habilidades para la tarea o m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onocimientos y habilidades transfer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4572000" y="2359080"/>
            <a:ext cx="403848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3399"/>
                </a:solidFill>
                <a:latin typeface="Arial"/>
              </a:rPr>
              <a:t>Motiv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3399"/>
                </a:solidFill>
                <a:latin typeface="Arial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6" descr="15"/>
          <p:cNvPicPr/>
          <p:nvPr/>
        </p:nvPicPr>
        <p:blipFill>
          <a:blip r:embed="rId2"/>
          <a:stretch/>
        </p:blipFill>
        <p:spPr>
          <a:xfrm>
            <a:off x="324000" y="191628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"/>
          <p:cNvGraphicFramePr/>
          <p:nvPr/>
        </p:nvGraphicFramePr>
        <p:xfrm>
          <a:off x="773280" y="1697040"/>
          <a:ext cx="7543800" cy="461160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3" name="Text Box 24"/>
          <p:cNvSpPr/>
          <p:nvPr/>
        </p:nvSpPr>
        <p:spPr>
          <a:xfrm rot="19528200">
            <a:off x="3650040" y="4936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 rot="19643400">
            <a:off x="2811960" y="357948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26"/>
          <p:cNvSpPr/>
          <p:nvPr/>
        </p:nvSpPr>
        <p:spPr>
          <a:xfrm>
            <a:off x="843120" y="2922480"/>
            <a:ext cx="7457760" cy="25974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27"/>
          <p:cNvSpPr/>
          <p:nvPr/>
        </p:nvSpPr>
        <p:spPr>
          <a:xfrm>
            <a:off x="828720" y="2639880"/>
            <a:ext cx="7461360" cy="3006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8"/>
          <p:cNvSpPr/>
          <p:nvPr/>
        </p:nvSpPr>
        <p:spPr>
          <a:xfrm>
            <a:off x="1763640" y="115920"/>
            <a:ext cx="69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595959"/>
                </a:solidFill>
                <a:latin typeface="Calibri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Calibri"/>
              </a:rPr>
              <a:t>Colaboradores y Tareas / Me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3"/>
          <p:cNvSpPr/>
          <p:nvPr/>
        </p:nvSpPr>
        <p:spPr>
          <a:xfrm>
            <a:off x="7021440" y="4159080"/>
            <a:ext cx="1565280" cy="1791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7021440" y="2614680"/>
            <a:ext cx="1565280" cy="154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7021440" y="1773360"/>
            <a:ext cx="1565280" cy="8413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ESMOT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(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5454720" y="4159080"/>
            <a:ext cx="1566720" cy="17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3889440" y="4159080"/>
            <a:ext cx="1565280" cy="17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2322360" y="4159080"/>
            <a:ext cx="156708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755640" y="4159080"/>
            <a:ext cx="15667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5454720" y="2614680"/>
            <a:ext cx="1566720" cy="15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3889440" y="2614680"/>
            <a:ext cx="1565280" cy="15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322360" y="2614680"/>
            <a:ext cx="15670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755640" y="2614680"/>
            <a:ext cx="15667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454720" y="1773360"/>
            <a:ext cx="1566720" cy="841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AUT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N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6"/>
          <p:cNvSpPr/>
          <p:nvPr/>
        </p:nvSpPr>
        <p:spPr>
          <a:xfrm>
            <a:off x="3889440" y="1773360"/>
            <a:ext cx="1565280" cy="841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IN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7"/>
          <p:cNvSpPr/>
          <p:nvPr/>
        </p:nvSpPr>
        <p:spPr>
          <a:xfrm>
            <a:off x="2322360" y="1773360"/>
            <a:ext cx="1567080" cy="841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PREND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ESILUSION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755640" y="1773360"/>
            <a:ext cx="1566720" cy="84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PREND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NTUSIAS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9"/>
          <p:cNvSpPr/>
          <p:nvPr/>
        </p:nvSpPr>
        <p:spPr>
          <a:xfrm>
            <a:off x="755640" y="2614680"/>
            <a:ext cx="626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0"/>
          <p:cNvSpPr/>
          <p:nvPr/>
        </p:nvSpPr>
        <p:spPr>
          <a:xfrm>
            <a:off x="755640" y="4159080"/>
            <a:ext cx="626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1"/>
          <p:cNvSpPr/>
          <p:nvPr/>
        </p:nvSpPr>
        <p:spPr>
          <a:xfrm>
            <a:off x="232236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2"/>
          <p:cNvSpPr/>
          <p:nvPr/>
        </p:nvSpPr>
        <p:spPr>
          <a:xfrm>
            <a:off x="388944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3"/>
          <p:cNvSpPr/>
          <p:nvPr/>
        </p:nvSpPr>
        <p:spPr>
          <a:xfrm>
            <a:off x="545472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4"/>
          <p:cNvSpPr/>
          <p:nvPr/>
        </p:nvSpPr>
        <p:spPr>
          <a:xfrm>
            <a:off x="755640" y="1773360"/>
            <a:ext cx="78310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5"/>
          <p:cNvSpPr/>
          <p:nvPr/>
        </p:nvSpPr>
        <p:spPr>
          <a:xfrm>
            <a:off x="755640" y="1773360"/>
            <a:ext cx="0" cy="4176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7"/>
          <p:cNvSpPr/>
          <p:nvPr/>
        </p:nvSpPr>
        <p:spPr>
          <a:xfrm>
            <a:off x="755640" y="5950080"/>
            <a:ext cx="78310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8"/>
          <p:cNvSpPr/>
          <p:nvPr/>
        </p:nvSpPr>
        <p:spPr>
          <a:xfrm rot="19528200">
            <a:off x="3769200" y="414936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0504d"/>
                </a:solidFill>
                <a:latin typeface="Arial"/>
              </a:rPr>
              <a:t>COMPROM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9"/>
          <p:cNvSpPr/>
          <p:nvPr/>
        </p:nvSpPr>
        <p:spPr>
          <a:xfrm rot="19643400">
            <a:off x="2828880" y="349992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c3300"/>
                </a:solidFill>
                <a:latin typeface="Arial"/>
              </a:rPr>
              <a:t>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0"/>
          <p:cNvSpPr/>
          <p:nvPr/>
        </p:nvSpPr>
        <p:spPr>
          <a:xfrm>
            <a:off x="755640" y="2863800"/>
            <a:ext cx="6194520" cy="2324160"/>
          </a:xfrm>
          <a:prstGeom prst="pie">
            <a:avLst/>
          </a:prstGeom>
          <a:noFill/>
          <a:ln w="572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1"/>
          <p:cNvSpPr/>
          <p:nvPr/>
        </p:nvSpPr>
        <p:spPr>
          <a:xfrm>
            <a:off x="790560" y="2614680"/>
            <a:ext cx="7597800" cy="2766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2"/>
          <p:cNvSpPr/>
          <p:nvPr/>
        </p:nvSpPr>
        <p:spPr>
          <a:xfrm flipH="1" flipV="1">
            <a:off x="6927480" y="2997000"/>
            <a:ext cx="1460520" cy="259236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8"/>
          <p:cNvSpPr/>
          <p:nvPr/>
        </p:nvSpPr>
        <p:spPr>
          <a:xfrm>
            <a:off x="1763640" y="270000"/>
            <a:ext cx="69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Colaboradores y Tareas / Metas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El Ciclo Regre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8586720" y="1773360"/>
            <a:ext cx="0" cy="4176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2"/>
          <p:cNvSpPr/>
          <p:nvPr/>
        </p:nvSpPr>
        <p:spPr>
          <a:xfrm>
            <a:off x="1585800" y="19836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Los </a:t>
            </a:r>
            <a:r>
              <a:rPr b="0" lang="es-CL" sz="3800" spc="-1" strike="noStrike">
                <a:solidFill>
                  <a:srgbClr val="595959"/>
                </a:solidFill>
                <a:latin typeface="Verdana"/>
              </a:rPr>
              <a:t>4</a:t>
            </a: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 niveles de Madure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108000" y="1413000"/>
            <a:ext cx="8856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1: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aprendiz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entusia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2: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aprendiz  desilusio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3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oderada a alta competencia y compromiso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variable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competente insegu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4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lta competencia y alto compromiso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competente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autóno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2365514672_60a54f915c"/>
          <p:cNvPicPr/>
          <p:nvPr/>
        </p:nvPicPr>
        <p:blipFill>
          <a:blip r:embed="rId2"/>
          <a:stretch/>
        </p:blipFill>
        <p:spPr>
          <a:xfrm>
            <a:off x="6858000" y="4419720"/>
            <a:ext cx="2085840" cy="220824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3"/>
          <p:cNvSpPr/>
          <p:nvPr/>
        </p:nvSpPr>
        <p:spPr>
          <a:xfrm>
            <a:off x="282600" y="1295280"/>
            <a:ext cx="857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Normas que definan qué es un trabajo bien h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nformación sobre la tarea y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2364682039_b5bac31669"/>
          <p:cNvPicPr/>
          <p:nvPr/>
        </p:nvPicPr>
        <p:blipFill>
          <a:blip r:embed="rId2"/>
          <a:stretch/>
        </p:blipFill>
        <p:spPr>
          <a:xfrm>
            <a:off x="0" y="4267080"/>
            <a:ext cx="2192400" cy="219240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8571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Perspe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troalimentación frecuente sobre l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ogio ante el progreso manifi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Sentir que los errores son compre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Agrupar 27"/>
          <p:cNvGrpSpPr/>
          <p:nvPr/>
        </p:nvGrpSpPr>
        <p:grpSpPr>
          <a:xfrm>
            <a:off x="7391520" y="1855800"/>
            <a:ext cx="1643040" cy="3606840"/>
            <a:chOff x="7391520" y="1855800"/>
            <a:chExt cx="1643040" cy="3606840"/>
          </a:xfrm>
        </p:grpSpPr>
        <p:sp>
          <p:nvSpPr>
            <p:cNvPr id="536" name="Rectangle 16"/>
            <p:cNvSpPr/>
            <p:nvPr/>
          </p:nvSpPr>
          <p:spPr>
            <a:xfrm>
              <a:off x="7391520" y="1855800"/>
              <a:ext cx="1641600" cy="360684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7"/>
            <p:cNvSpPr/>
            <p:nvPr/>
          </p:nvSpPr>
          <p:spPr>
            <a:xfrm>
              <a:off x="7391520" y="1855800"/>
              <a:ext cx="1643040" cy="32544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8"/>
            <p:cNvSpPr/>
            <p:nvPr/>
          </p:nvSpPr>
          <p:spPr>
            <a:xfrm>
              <a:off x="7391520" y="2176200"/>
              <a:ext cx="785880" cy="334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9"/>
            <p:cNvSpPr/>
            <p:nvPr/>
          </p:nvSpPr>
          <p:spPr>
            <a:xfrm>
              <a:off x="8056800" y="2205000"/>
              <a:ext cx="977760" cy="307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541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42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noFill/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Agrupar 28"/>
          <p:cNvGrpSpPr/>
          <p:nvPr/>
        </p:nvGrpSpPr>
        <p:grpSpPr>
          <a:xfrm>
            <a:off x="1701720" y="1884240"/>
            <a:ext cx="1643040" cy="3741840"/>
            <a:chOff x="1701720" y="1884240"/>
            <a:chExt cx="1643040" cy="3741840"/>
          </a:xfrm>
        </p:grpSpPr>
        <p:sp>
          <p:nvSpPr>
            <p:cNvPr id="546" name="Rectangle 7"/>
            <p:cNvSpPr/>
            <p:nvPr/>
          </p:nvSpPr>
          <p:spPr>
            <a:xfrm>
              <a:off x="1701720" y="1884240"/>
              <a:ext cx="96372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8"/>
            <p:cNvSpPr/>
            <p:nvPr/>
          </p:nvSpPr>
          <p:spPr>
            <a:xfrm>
              <a:off x="1701720" y="1884240"/>
              <a:ext cx="96372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2"/>
            <p:cNvSpPr/>
            <p:nvPr/>
          </p:nvSpPr>
          <p:spPr>
            <a:xfrm>
              <a:off x="241596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Agrupar 30"/>
          <p:cNvGrpSpPr/>
          <p:nvPr/>
        </p:nvGrpSpPr>
        <p:grpSpPr>
          <a:xfrm>
            <a:off x="5486400" y="1884240"/>
            <a:ext cx="2212920" cy="3741840"/>
            <a:chOff x="5486400" y="1884240"/>
            <a:chExt cx="2212920" cy="3741840"/>
          </a:xfrm>
        </p:grpSpPr>
        <p:sp>
          <p:nvSpPr>
            <p:cNvPr id="550" name="Rectangle 9"/>
            <p:cNvSpPr/>
            <p:nvPr/>
          </p:nvSpPr>
          <p:spPr>
            <a:xfrm>
              <a:off x="5486400" y="1884240"/>
              <a:ext cx="178596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ter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5486400" y="1884240"/>
              <a:ext cx="178596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cológ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24"/>
            <p:cNvSpPr/>
            <p:nvPr/>
          </p:nvSpPr>
          <p:spPr>
            <a:xfrm>
              <a:off x="677232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Agrupar 29"/>
          <p:cNvGrpSpPr/>
          <p:nvPr/>
        </p:nvGrpSpPr>
        <p:grpSpPr>
          <a:xfrm>
            <a:off x="2843280" y="1884240"/>
            <a:ext cx="3143160" cy="3741840"/>
            <a:chOff x="2843280" y="1884240"/>
            <a:chExt cx="3143160" cy="3741840"/>
          </a:xfrm>
        </p:grpSpPr>
        <p:sp>
          <p:nvSpPr>
            <p:cNvPr id="554" name="Rectangle 12"/>
            <p:cNvSpPr/>
            <p:nvPr/>
          </p:nvSpPr>
          <p:spPr>
            <a:xfrm>
              <a:off x="2843280" y="2166840"/>
              <a:ext cx="121608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4"/>
            <p:cNvSpPr/>
            <p:nvPr/>
          </p:nvSpPr>
          <p:spPr>
            <a:xfrm>
              <a:off x="3987720" y="2166840"/>
              <a:ext cx="128592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Desemp</a:t>
              </a: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petenc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Selec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apaci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munera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cen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 Carr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Pot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Desv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0"/>
            <p:cNvSpPr/>
            <p:nvPr/>
          </p:nvSpPr>
          <p:spPr>
            <a:xfrm>
              <a:off x="3843360" y="2520720"/>
              <a:ext cx="312480" cy="297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3"/>
            <p:cNvSpPr/>
            <p:nvPr/>
          </p:nvSpPr>
          <p:spPr>
            <a:xfrm>
              <a:off x="505944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2843280" y="1884240"/>
              <a:ext cx="2428920" cy="60624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uctura          Sis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133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Un consejero o asesor acce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Oportunidades para expresar las preocup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2365498558_25b23fee5f"/>
          <p:cNvPicPr/>
          <p:nvPr/>
        </p:nvPicPr>
        <p:blipFill>
          <a:blip r:embed="rId2"/>
          <a:stretch/>
        </p:blipFill>
        <p:spPr>
          <a:xfrm>
            <a:off x="133200" y="3657600"/>
            <a:ext cx="2706840" cy="27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4" descr="2365515172_dfd88da3f7"/>
          <p:cNvPicPr/>
          <p:nvPr/>
        </p:nvPicPr>
        <p:blipFill>
          <a:blip r:embed="rId2"/>
          <a:stretch/>
        </p:blipFill>
        <p:spPr>
          <a:xfrm>
            <a:off x="485460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3"/>
          <p:cNvSpPr/>
          <p:nvPr/>
        </p:nvSpPr>
        <p:spPr>
          <a:xfrm>
            <a:off x="45720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iversidad y desafí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Un líder que sea un consejero y colega más que un je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conocimiento de sus contribu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utonomía y auto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Confia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207324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179064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FLEXIB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609480" y="1295280"/>
            <a:ext cx="75708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600" spc="-1" strike="noStrike">
                <a:solidFill>
                  <a:srgbClr val="595959"/>
                </a:solidFill>
                <a:latin typeface="Arial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2137737248_e9f3e429d1"/>
          <p:cNvPicPr/>
          <p:nvPr/>
        </p:nvPicPr>
        <p:blipFill>
          <a:blip r:embed="rId2"/>
          <a:stretch/>
        </p:blipFill>
        <p:spPr>
          <a:xfrm>
            <a:off x="0" y="4267080"/>
            <a:ext cx="2151000" cy="21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400" spc="-1" strike="noStrike">
                <a:solidFill>
                  <a:srgbClr val="595959"/>
                </a:solidFill>
                <a:latin typeface="Arial"/>
              </a:rPr>
              <a:t>COMPORTAMIE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456552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595959"/>
                </a:solidFill>
                <a:latin typeface="Arial"/>
              </a:rPr>
              <a:t>DI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595959"/>
                </a:solidFill>
                <a:latin typeface="Arial"/>
              </a:rPr>
              <a:t>AP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" descr="Fotolia_7829651_M"/>
          <p:cNvPicPr/>
          <p:nvPr/>
        </p:nvPicPr>
        <p:blipFill>
          <a:blip r:embed="rId2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Comportamiento Direct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0" descr="2364683065_f769bc7caf"/>
          <p:cNvPicPr/>
          <p:nvPr/>
        </p:nvPicPr>
        <p:blipFill>
          <a:blip r:embed="rId2"/>
          <a:stretch/>
        </p:blipFill>
        <p:spPr>
          <a:xfrm>
            <a:off x="2597040" y="33242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"/>
          <p:cNvSpPr/>
          <p:nvPr/>
        </p:nvSpPr>
        <p:spPr>
          <a:xfrm>
            <a:off x="826920" y="116532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Le dice al colaborador qué hacer, cuándo y cómo hac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los papeles del líder y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upervisa de cerca el desempeño</a:t>
            </a: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Comportamiento de Apoy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7" descr="2364665429_fefa9e071e"/>
          <p:cNvPicPr/>
          <p:nvPr/>
        </p:nvPicPr>
        <p:blipFill>
          <a:blip r:embed="rId2"/>
          <a:stretch/>
        </p:blipFill>
        <p:spPr>
          <a:xfrm>
            <a:off x="531720" y="396252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3"/>
          <p:cNvSpPr/>
          <p:nvPr/>
        </p:nvSpPr>
        <p:spPr>
          <a:xfrm>
            <a:off x="314280" y="1197000"/>
            <a:ext cx="879480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e compromete más en la comunicación bi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y proporciona apoyo y estím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timula y facilita la autonomía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400" spc="-1" strike="noStrike">
                <a:solidFill>
                  <a:srgbClr val="595959"/>
                </a:solidFill>
                <a:latin typeface="Arial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200" spc="-1" strike="noStrike">
                <a:solidFill>
                  <a:srgbClr val="595959"/>
                </a:solidFill>
                <a:latin typeface="Arial"/>
              </a:rPr>
              <a:t>Estilo de liderazg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826920" y="1495440"/>
            <a:ext cx="7366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498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Patrón de comportamientos que u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34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utiliza con sus colaboradores 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34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como ellos lo perciben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4" descr="lider_3"/>
          <p:cNvPicPr/>
          <p:nvPr/>
        </p:nvPicPr>
        <p:blipFill>
          <a:blip r:embed="rId2"/>
          <a:stretch/>
        </p:blipFill>
        <p:spPr>
          <a:xfrm>
            <a:off x="2629080" y="3922560"/>
            <a:ext cx="40384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1547640" y="380880"/>
            <a:ext cx="7388280" cy="600120"/>
            <a:chOff x="1547640" y="380880"/>
            <a:chExt cx="7388280" cy="600120"/>
          </a:xfrm>
        </p:grpSpPr>
        <p:sp>
          <p:nvSpPr>
            <p:cNvPr id="710" name="Rectangle 3"/>
            <p:cNvSpPr/>
            <p:nvPr/>
          </p:nvSpPr>
          <p:spPr>
            <a:xfrm>
              <a:off x="1547640" y="404640"/>
              <a:ext cx="7388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595959"/>
                  </a:solidFill>
                  <a:latin typeface="Arial"/>
                </a:rPr>
                <a:t>Los 4 Estilos de Lideraz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1" name=""/>
            <p:cNvGraphicFramePr/>
            <p:nvPr/>
          </p:nvGraphicFramePr>
          <p:xfrm>
            <a:off x="7278480" y="380880"/>
            <a:ext cx="787680" cy="1148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78480" y="380880"/>
                      <a:ext cx="78768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AutoShape 5"/>
          <p:cNvSpPr/>
          <p:nvPr/>
        </p:nvSpPr>
        <p:spPr>
          <a:xfrm>
            <a:off x="2665440" y="5819760"/>
            <a:ext cx="969840" cy="641520"/>
          </a:xfrm>
          <a:custGeom>
            <a:avLst/>
            <a:gdLst>
              <a:gd name="textAreaLeft" fmla="*/ 0 w 969840"/>
              <a:gd name="textAreaRight" fmla="*/ 970200 w 9698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2627280" y="5927760"/>
            <a:ext cx="65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3"/>
          <p:cNvSpPr/>
          <p:nvPr/>
        </p:nvSpPr>
        <p:spPr>
          <a:xfrm>
            <a:off x="2592360" y="5516640"/>
            <a:ext cx="418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595959"/>
                </a:solidFill>
                <a:latin typeface="Tahoma"/>
              </a:rPr>
              <a:t>ALTO            MODERADO                 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4"/>
          <p:cNvSpPr/>
          <p:nvPr/>
        </p:nvSpPr>
        <p:spPr>
          <a:xfrm>
            <a:off x="2650680" y="6494400"/>
            <a:ext cx="3542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360"/>
                <a:tab algn="l" pos="235080"/>
                <a:tab algn="l" pos="352440"/>
                <a:tab algn="l" pos="46980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</a:tabLst>
            </a:pPr>
            <a:r>
              <a:rPr b="1" lang="es-ES_tradnl" sz="1400" spc="-1" strike="noStrike">
                <a:solidFill>
                  <a:srgbClr val="595959"/>
                </a:solidFill>
                <a:latin typeface="Tahoma"/>
              </a:rPr>
              <a:t>Nivel de desarrollo de los particip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5"/>
          <p:cNvSpPr/>
          <p:nvPr/>
        </p:nvSpPr>
        <p:spPr>
          <a:xfrm flipV="1">
            <a:off x="2627280" y="1751040"/>
            <a:ext cx="0" cy="3078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6"/>
          <p:cNvSpPr/>
          <p:nvPr/>
        </p:nvSpPr>
        <p:spPr>
          <a:xfrm>
            <a:off x="2825640" y="5010120"/>
            <a:ext cx="2941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7"/>
          <p:cNvSpPr/>
          <p:nvPr/>
        </p:nvSpPr>
        <p:spPr>
          <a:xfrm flipV="1">
            <a:off x="2193840" y="1821960"/>
            <a:ext cx="3240" cy="3030840"/>
          </a:xfrm>
          <a:prstGeom prst="line">
            <a:avLst/>
          </a:prstGeom>
          <a:ln w="25560">
            <a:solidFill>
              <a:srgbClr val="130b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8"/>
          <p:cNvSpPr/>
          <p:nvPr/>
        </p:nvSpPr>
        <p:spPr>
          <a:xfrm>
            <a:off x="2432160" y="3141720"/>
            <a:ext cx="1995480" cy="1871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9"/>
          <p:cNvSpPr/>
          <p:nvPr/>
        </p:nvSpPr>
        <p:spPr>
          <a:xfrm>
            <a:off x="2440080" y="1311120"/>
            <a:ext cx="1987560" cy="1825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0"/>
          <p:cNvSpPr/>
          <p:nvPr/>
        </p:nvSpPr>
        <p:spPr>
          <a:xfrm>
            <a:off x="4410000" y="1297080"/>
            <a:ext cx="2033640" cy="18255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2700360" y="5186520"/>
            <a:ext cx="3686040" cy="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2"/>
          <p:cNvSpPr/>
          <p:nvPr/>
        </p:nvSpPr>
        <p:spPr>
          <a:xfrm>
            <a:off x="1732680" y="5056200"/>
            <a:ext cx="728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Baj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3"/>
          <p:cNvSpPr/>
          <p:nvPr/>
        </p:nvSpPr>
        <p:spPr>
          <a:xfrm>
            <a:off x="6797880" y="494172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4"/>
          <p:cNvSpPr/>
          <p:nvPr/>
        </p:nvSpPr>
        <p:spPr>
          <a:xfrm>
            <a:off x="3328920" y="5203800"/>
            <a:ext cx="254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Tahoma"/>
              </a:rPr>
              <a:t>COMPORTAMIENTO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5"/>
          <p:cNvSpPr/>
          <p:nvPr/>
        </p:nvSpPr>
        <p:spPr>
          <a:xfrm>
            <a:off x="1687680" y="133992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26"/>
          <p:cNvGrpSpPr/>
          <p:nvPr/>
        </p:nvGrpSpPr>
        <p:grpSpPr>
          <a:xfrm>
            <a:off x="2416320" y="1268280"/>
            <a:ext cx="4026960" cy="3722760"/>
            <a:chOff x="2416320" y="1268280"/>
            <a:chExt cx="4026960" cy="3722760"/>
          </a:xfrm>
        </p:grpSpPr>
        <p:sp>
          <p:nvSpPr>
            <p:cNvPr id="729" name="Rectangle 27"/>
            <p:cNvSpPr/>
            <p:nvPr/>
          </p:nvSpPr>
          <p:spPr>
            <a:xfrm>
              <a:off x="4421160" y="3111480"/>
              <a:ext cx="2022120" cy="18730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28"/>
            <p:cNvSpPr/>
            <p:nvPr/>
          </p:nvSpPr>
          <p:spPr>
            <a:xfrm>
              <a:off x="2416320" y="1268280"/>
              <a:ext cx="4025520" cy="37227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29"/>
            <p:cNvSpPr/>
            <p:nvPr/>
          </p:nvSpPr>
          <p:spPr>
            <a:xfrm>
              <a:off x="2608560" y="4232160"/>
              <a:ext cx="167832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30"/>
            <p:cNvSpPr/>
            <p:nvPr/>
          </p:nvSpPr>
          <p:spPr>
            <a:xfrm>
              <a:off x="2419200" y="1285560"/>
              <a:ext cx="17240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31"/>
            <p:cNvSpPr/>
            <p:nvPr/>
          </p:nvSpPr>
          <p:spPr>
            <a:xfrm>
              <a:off x="4619520" y="1293840"/>
              <a:ext cx="178056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32"/>
            <p:cNvSpPr/>
            <p:nvPr/>
          </p:nvSpPr>
          <p:spPr>
            <a:xfrm>
              <a:off x="4551480" y="4232160"/>
              <a:ext cx="18262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"/>
            <p:cNvSpPr/>
            <p:nvPr/>
          </p:nvSpPr>
          <p:spPr>
            <a:xfrm>
              <a:off x="4378320" y="1549080"/>
              <a:ext cx="2006280" cy="267516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4"/>
            <p:cNvSpPr/>
            <p:nvPr/>
          </p:nvSpPr>
          <p:spPr>
            <a:xfrm>
              <a:off x="2477880" y="1549080"/>
              <a:ext cx="1952280" cy="267516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35"/>
            <p:cNvSpPr/>
            <p:nvPr/>
          </p:nvSpPr>
          <p:spPr>
            <a:xfrm>
              <a:off x="2789280" y="2292120"/>
              <a:ext cx="133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36"/>
            <p:cNvSpPr/>
            <p:nvPr/>
          </p:nvSpPr>
          <p:spPr>
            <a:xfrm>
              <a:off x="4829040" y="3509640"/>
              <a:ext cx="1339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37"/>
            <p:cNvSpPr/>
            <p:nvPr/>
          </p:nvSpPr>
          <p:spPr>
            <a:xfrm>
              <a:off x="4751280" y="2292120"/>
              <a:ext cx="1336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8"/>
            <p:cNvSpPr/>
            <p:nvPr/>
          </p:nvSpPr>
          <p:spPr>
            <a:xfrm>
              <a:off x="2706480" y="3509640"/>
              <a:ext cx="134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Rectangle 39"/>
          <p:cNvSpPr/>
          <p:nvPr/>
        </p:nvSpPr>
        <p:spPr>
          <a:xfrm rot="16200000">
            <a:off x="699480" y="2889360"/>
            <a:ext cx="249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Tahoma"/>
              </a:rPr>
              <a:t>COMPORTAMIENTO 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42"/>
          <p:cNvSpPr/>
          <p:nvPr/>
        </p:nvSpPr>
        <p:spPr>
          <a:xfrm flipH="1">
            <a:off x="3203640" y="5821200"/>
            <a:ext cx="1333440" cy="641520"/>
          </a:xfrm>
          <a:custGeom>
            <a:avLst/>
            <a:gdLst>
              <a:gd name="textAreaLeft" fmla="*/ 360 w 1333440"/>
              <a:gd name="textAreaRight" fmla="*/ 1334160 w 13334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7"/>
          <p:cNvSpPr/>
          <p:nvPr/>
        </p:nvSpPr>
        <p:spPr>
          <a:xfrm flipH="1">
            <a:off x="4067280" y="5819760"/>
            <a:ext cx="1333440" cy="641520"/>
          </a:xfrm>
          <a:custGeom>
            <a:avLst/>
            <a:gdLst>
              <a:gd name="textAreaLeft" fmla="*/ 360 w 1333440"/>
              <a:gd name="textAreaRight" fmla="*/ 1334160 w 13334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8"/>
          <p:cNvSpPr/>
          <p:nvPr/>
        </p:nvSpPr>
        <p:spPr>
          <a:xfrm flipH="1">
            <a:off x="5002920" y="5827680"/>
            <a:ext cx="1101960" cy="647640"/>
          </a:xfrm>
          <a:custGeom>
            <a:avLst/>
            <a:gdLst>
              <a:gd name="textAreaLeft" fmla="*/ -360 w 1101960"/>
              <a:gd name="textAreaRight" fmla="*/ 1101960 w 11019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1"/>
          <p:cNvSpPr/>
          <p:nvPr/>
        </p:nvSpPr>
        <p:spPr>
          <a:xfrm>
            <a:off x="4413960" y="587700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3"/>
          <p:cNvSpPr/>
          <p:nvPr/>
        </p:nvSpPr>
        <p:spPr>
          <a:xfrm>
            <a:off x="5307840" y="592776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3477600" y="587700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Oval 2"/>
          <p:cNvSpPr/>
          <p:nvPr/>
        </p:nvSpPr>
        <p:spPr>
          <a:xfrm>
            <a:off x="6378480" y="3211560"/>
            <a:ext cx="20952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3"/>
          <p:cNvSpPr/>
          <p:nvPr/>
        </p:nvSpPr>
        <p:spPr>
          <a:xfrm>
            <a:off x="6491160" y="2403360"/>
            <a:ext cx="14940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4"/>
          <p:cNvSpPr/>
          <p:nvPr/>
        </p:nvSpPr>
        <p:spPr>
          <a:xfrm>
            <a:off x="7716960" y="2665440"/>
            <a:ext cx="1108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Marcador de número de diapositiva 3"/>
          <p:cNvSpPr/>
          <p:nvPr/>
        </p:nvSpPr>
        <p:spPr>
          <a:xfrm>
            <a:off x="6438960" y="6292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7D270-133F-4340-B4FD-1B3EA8A64C6C}" type="slidenum">
              <a:rPr b="0" lang="es-ES" sz="900" spc="-1" strike="noStrike">
                <a:solidFill>
                  <a:srgbClr val="595959"/>
                </a:solidFill>
                <a:latin typeface="UnitOT-Regula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7"/>
          <p:cNvGrpSpPr/>
          <p:nvPr/>
        </p:nvGrpSpPr>
        <p:grpSpPr>
          <a:xfrm>
            <a:off x="250920" y="1612800"/>
            <a:ext cx="4200480" cy="2824200"/>
            <a:chOff x="250920" y="1612800"/>
            <a:chExt cx="4200480" cy="2824200"/>
          </a:xfrm>
        </p:grpSpPr>
        <p:sp>
          <p:nvSpPr>
            <p:cNvPr id="753" name="Rectangle 8"/>
            <p:cNvSpPr/>
            <p:nvPr/>
          </p:nvSpPr>
          <p:spPr>
            <a:xfrm>
              <a:off x="340200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9"/>
            <p:cNvSpPr/>
            <p:nvPr/>
          </p:nvSpPr>
          <p:spPr>
            <a:xfrm>
              <a:off x="235116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0"/>
            <p:cNvSpPr/>
            <p:nvPr/>
          </p:nvSpPr>
          <p:spPr>
            <a:xfrm>
              <a:off x="130176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1"/>
            <p:cNvSpPr/>
            <p:nvPr/>
          </p:nvSpPr>
          <p:spPr>
            <a:xfrm>
              <a:off x="25092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2"/>
            <p:cNvSpPr/>
            <p:nvPr/>
          </p:nvSpPr>
          <p:spPr>
            <a:xfrm>
              <a:off x="340200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3"/>
            <p:cNvSpPr/>
            <p:nvPr/>
          </p:nvSpPr>
          <p:spPr>
            <a:xfrm>
              <a:off x="235116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4"/>
            <p:cNvSpPr/>
            <p:nvPr/>
          </p:nvSpPr>
          <p:spPr>
            <a:xfrm>
              <a:off x="130176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5"/>
            <p:cNvSpPr/>
            <p:nvPr/>
          </p:nvSpPr>
          <p:spPr>
            <a:xfrm>
              <a:off x="25092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6"/>
            <p:cNvSpPr/>
            <p:nvPr/>
          </p:nvSpPr>
          <p:spPr>
            <a:xfrm>
              <a:off x="3402000" y="1612800"/>
              <a:ext cx="1049400" cy="540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UTÓNOM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7"/>
            <p:cNvSpPr/>
            <p:nvPr/>
          </p:nvSpPr>
          <p:spPr>
            <a:xfrm>
              <a:off x="2351160" y="1612800"/>
              <a:ext cx="1050840" cy="5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IN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8"/>
            <p:cNvSpPr/>
            <p:nvPr/>
          </p:nvSpPr>
          <p:spPr>
            <a:xfrm>
              <a:off x="1301760" y="1612800"/>
              <a:ext cx="1049400" cy="54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ESILUSION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9"/>
            <p:cNvSpPr/>
            <p:nvPr/>
          </p:nvSpPr>
          <p:spPr>
            <a:xfrm>
              <a:off x="250920" y="1612800"/>
              <a:ext cx="1050840" cy="54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ENTUSIAST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20"/>
            <p:cNvSpPr/>
            <p:nvPr/>
          </p:nvSpPr>
          <p:spPr>
            <a:xfrm>
              <a:off x="250920" y="215352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1"/>
            <p:cNvSpPr/>
            <p:nvPr/>
          </p:nvSpPr>
          <p:spPr>
            <a:xfrm>
              <a:off x="250920" y="321084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2"/>
            <p:cNvSpPr/>
            <p:nvPr/>
          </p:nvSpPr>
          <p:spPr>
            <a:xfrm>
              <a:off x="13017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23"/>
            <p:cNvSpPr/>
            <p:nvPr/>
          </p:nvSpPr>
          <p:spPr>
            <a:xfrm>
              <a:off x="23511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24"/>
            <p:cNvSpPr/>
            <p:nvPr/>
          </p:nvSpPr>
          <p:spPr>
            <a:xfrm>
              <a:off x="340200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5"/>
            <p:cNvSpPr/>
            <p:nvPr/>
          </p:nvSpPr>
          <p:spPr>
            <a:xfrm>
              <a:off x="250920" y="16128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26"/>
            <p:cNvSpPr/>
            <p:nvPr/>
          </p:nvSpPr>
          <p:spPr>
            <a:xfrm>
              <a:off x="25092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27"/>
            <p:cNvSpPr/>
            <p:nvPr/>
          </p:nvSpPr>
          <p:spPr>
            <a:xfrm>
              <a:off x="445140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28"/>
            <p:cNvSpPr/>
            <p:nvPr/>
          </p:nvSpPr>
          <p:spPr>
            <a:xfrm>
              <a:off x="250920" y="44370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29"/>
            <p:cNvSpPr/>
            <p:nvPr/>
          </p:nvSpPr>
          <p:spPr>
            <a:xfrm rot="19528200">
              <a:off x="1862640" y="3494520"/>
              <a:ext cx="14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s-ES" sz="1200" spc="-1" strike="noStrike">
                  <a:solidFill>
                    <a:srgbClr val="595959"/>
                  </a:solidFill>
                  <a:latin typeface="Arial"/>
                </a:rPr>
                <a:t>COMPROM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30"/>
            <p:cNvSpPr/>
            <p:nvPr/>
          </p:nvSpPr>
          <p:spPr>
            <a:xfrm rot="19643400">
              <a:off x="1263960" y="2710440"/>
              <a:ext cx="14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s-ES" sz="1200" spc="-1" strike="noStrike">
                  <a:solidFill>
                    <a:srgbClr val="595959"/>
                  </a:solidFill>
                  <a:latin typeface="Arial"/>
                </a:rPr>
                <a:t>COMPETENCI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289080" y="2363400"/>
              <a:ext cx="4152600" cy="1590480"/>
            </a:xfrm>
            <a:prstGeom prst="pie">
              <a:avLst/>
            </a:pr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281160" y="2189880"/>
              <a:ext cx="4155840" cy="1841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33"/>
          <p:cNvSpPr/>
          <p:nvPr/>
        </p:nvSpPr>
        <p:spPr>
          <a:xfrm>
            <a:off x="31428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Niveles de Madurez </a:t>
            </a:r>
            <a:br>
              <a:rPr sz="1600"/>
            </a:b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de los Colaborad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34"/>
          <p:cNvGrpSpPr/>
          <p:nvPr/>
        </p:nvGrpSpPr>
        <p:grpSpPr>
          <a:xfrm>
            <a:off x="5013000" y="1573200"/>
            <a:ext cx="4116960" cy="3223800"/>
            <a:chOff x="5013000" y="1573200"/>
            <a:chExt cx="4116960" cy="3223800"/>
          </a:xfrm>
        </p:grpSpPr>
        <p:sp>
          <p:nvSpPr>
            <p:cNvPr id="780" name="Line 35"/>
            <p:cNvSpPr/>
            <p:nvPr/>
          </p:nvSpPr>
          <p:spPr>
            <a:xfrm flipV="1">
              <a:off x="5734080" y="1944360"/>
              <a:ext cx="0" cy="232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36"/>
            <p:cNvSpPr/>
            <p:nvPr/>
          </p:nvSpPr>
          <p:spPr>
            <a:xfrm>
              <a:off x="5886360" y="4410000"/>
              <a:ext cx="2244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37"/>
            <p:cNvSpPr/>
            <p:nvPr/>
          </p:nvSpPr>
          <p:spPr>
            <a:xfrm flipV="1">
              <a:off x="5403960" y="1998000"/>
              <a:ext cx="1440" cy="229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38"/>
            <p:cNvSpPr/>
            <p:nvPr/>
          </p:nvSpPr>
          <p:spPr>
            <a:xfrm>
              <a:off x="5584680" y="2966760"/>
              <a:ext cx="1524240" cy="1415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39"/>
            <p:cNvSpPr/>
            <p:nvPr/>
          </p:nvSpPr>
          <p:spPr>
            <a:xfrm>
              <a:off x="5591160" y="1611000"/>
              <a:ext cx="1517760" cy="13809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0"/>
            <p:cNvSpPr/>
            <p:nvPr/>
          </p:nvSpPr>
          <p:spPr>
            <a:xfrm>
              <a:off x="7095960" y="1601640"/>
              <a:ext cx="1551240" cy="1379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41"/>
            <p:cNvSpPr/>
            <p:nvPr/>
          </p:nvSpPr>
          <p:spPr>
            <a:xfrm>
              <a:off x="5789520" y="4543200"/>
              <a:ext cx="2814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2"/>
            <p:cNvSpPr/>
            <p:nvPr/>
          </p:nvSpPr>
          <p:spPr>
            <a:xfrm>
              <a:off x="5050080" y="4443120"/>
              <a:ext cx="585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Baj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3"/>
            <p:cNvSpPr/>
            <p:nvPr/>
          </p:nvSpPr>
          <p:spPr>
            <a:xfrm>
              <a:off x="8567640" y="438120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4"/>
            <p:cNvSpPr/>
            <p:nvPr/>
          </p:nvSpPr>
          <p:spPr>
            <a:xfrm>
              <a:off x="6270480" y="4555800"/>
              <a:ext cx="2133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595959"/>
                  </a:solidFill>
                  <a:latin typeface="Tahoma"/>
                </a:rPr>
                <a:t>COMPORTAMIENTO DIREC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5"/>
            <p:cNvSpPr/>
            <p:nvPr/>
          </p:nvSpPr>
          <p:spPr>
            <a:xfrm>
              <a:off x="5013000" y="163188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46"/>
            <p:cNvGrpSpPr/>
            <p:nvPr/>
          </p:nvGrpSpPr>
          <p:grpSpPr>
            <a:xfrm>
              <a:off x="5573880" y="1573200"/>
              <a:ext cx="3073320" cy="2828520"/>
              <a:chOff x="5573880" y="1573200"/>
              <a:chExt cx="3073320" cy="2828520"/>
            </a:xfrm>
          </p:grpSpPr>
          <p:sp>
            <p:nvSpPr>
              <p:cNvPr id="792" name="Rectangle 47"/>
              <p:cNvSpPr/>
              <p:nvPr/>
            </p:nvSpPr>
            <p:spPr>
              <a:xfrm>
                <a:off x="7104240" y="2985840"/>
                <a:ext cx="1542960" cy="14158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48"/>
              <p:cNvSpPr/>
              <p:nvPr/>
            </p:nvSpPr>
            <p:spPr>
              <a:xfrm>
                <a:off x="5573880" y="1573200"/>
                <a:ext cx="3071520" cy="2814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49"/>
              <p:cNvSpPr/>
              <p:nvPr/>
            </p:nvSpPr>
            <p:spPr>
              <a:xfrm>
                <a:off x="5757840" y="3814560"/>
                <a:ext cx="12348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apoyo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Rectangle 50"/>
              <p:cNvSpPr/>
              <p:nvPr/>
            </p:nvSpPr>
            <p:spPr>
              <a:xfrm>
                <a:off x="5581800" y="1585800"/>
                <a:ext cx="1303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apoyo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51"/>
              <p:cNvSpPr/>
              <p:nvPr/>
            </p:nvSpPr>
            <p:spPr>
              <a:xfrm>
                <a:off x="7289640" y="1591920"/>
                <a:ext cx="130968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dirección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52"/>
              <p:cNvSpPr/>
              <p:nvPr/>
            </p:nvSpPr>
            <p:spPr>
              <a:xfrm>
                <a:off x="7200000" y="3812760"/>
                <a:ext cx="13431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dirección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3"/>
              <p:cNvSpPr/>
              <p:nvPr/>
            </p:nvSpPr>
            <p:spPr>
              <a:xfrm>
                <a:off x="7070760" y="1785600"/>
                <a:ext cx="1531800" cy="20221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4"/>
              <p:cNvSpPr/>
              <p:nvPr/>
            </p:nvSpPr>
            <p:spPr>
              <a:xfrm>
                <a:off x="5621400" y="1785600"/>
                <a:ext cx="1488960" cy="20221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55"/>
              <p:cNvSpPr/>
              <p:nvPr/>
            </p:nvSpPr>
            <p:spPr>
              <a:xfrm>
                <a:off x="5734080" y="2347560"/>
                <a:ext cx="1146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Apoy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56"/>
              <p:cNvSpPr/>
              <p:nvPr/>
            </p:nvSpPr>
            <p:spPr>
              <a:xfrm>
                <a:off x="7415280" y="326844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_tradnl" sz="1600" spc="-1" strike="noStrike">
                    <a:solidFill>
                      <a:srgbClr val="595959"/>
                    </a:solidFill>
                    <a:latin typeface="Tahoma"/>
                  </a:rPr>
                  <a:t>Dirrig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57"/>
              <p:cNvSpPr/>
              <p:nvPr/>
            </p:nvSpPr>
            <p:spPr>
              <a:xfrm>
                <a:off x="7307280" y="2347560"/>
                <a:ext cx="1177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Orient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58"/>
              <p:cNvSpPr/>
              <p:nvPr/>
            </p:nvSpPr>
            <p:spPr>
              <a:xfrm>
                <a:off x="5715000" y="3268440"/>
                <a:ext cx="12762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Deleg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Rectangle 59"/>
            <p:cNvSpPr/>
            <p:nvPr/>
          </p:nvSpPr>
          <p:spPr>
            <a:xfrm rot="16200000">
              <a:off x="4189320" y="2666880"/>
              <a:ext cx="2095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595959"/>
                  </a:solidFill>
                  <a:latin typeface="Tahoma"/>
                </a:rPr>
                <a:t>COMPORTAMIENTO DE 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60"/>
          <p:cNvSpPr/>
          <p:nvPr/>
        </p:nvSpPr>
        <p:spPr>
          <a:xfrm>
            <a:off x="250920" y="587700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Habilidad DIAGNO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1"/>
          <p:cNvSpPr/>
          <p:nvPr/>
        </p:nvSpPr>
        <p:spPr>
          <a:xfrm rot="5400000">
            <a:off x="1860480" y="4984560"/>
            <a:ext cx="695160" cy="46368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2"/>
          <p:cNvSpPr/>
          <p:nvPr/>
        </p:nvSpPr>
        <p:spPr>
          <a:xfrm>
            <a:off x="5065560" y="90792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Los cuatro</a:t>
            </a:r>
            <a:br>
              <a:rPr sz="1600"/>
            </a:br>
            <a:r>
              <a:rPr b="1" lang="es-MX" sz="1600" spc="-1" strike="noStrike">
                <a:solidFill>
                  <a:srgbClr val="595959"/>
                </a:solidFill>
                <a:latin typeface="Arial"/>
              </a:rPr>
              <a:t>Estilos de 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3"/>
          <p:cNvSpPr/>
          <p:nvPr/>
        </p:nvSpPr>
        <p:spPr>
          <a:xfrm>
            <a:off x="5138640" y="587700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Habilidad FLEX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64"/>
          <p:cNvSpPr/>
          <p:nvPr/>
        </p:nvSpPr>
        <p:spPr>
          <a:xfrm rot="5400000">
            <a:off x="6748200" y="4984920"/>
            <a:ext cx="695160" cy="46332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65"/>
          <p:cNvSpPr/>
          <p:nvPr/>
        </p:nvSpPr>
        <p:spPr>
          <a:xfrm>
            <a:off x="3780000" y="5877000"/>
            <a:ext cx="2143080" cy="415800"/>
          </a:xfrm>
          <a:custGeom>
            <a:avLst/>
            <a:gdLst>
              <a:gd name="textAreaLeft" fmla="*/ 374760 w 2143080"/>
              <a:gd name="textAreaRight" fmla="*/ 1553760 w 21430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1" name="AutoShape 66"/>
          <p:cNvCxnSpPr>
            <a:stCxn id="764" idx="2"/>
            <a:endCxn id="798" idx="63"/>
          </p:cNvCxnSpPr>
          <p:nvPr/>
        </p:nvCxnSpPr>
        <p:spPr>
          <a:xfrm flipH="1" rot="16200000">
            <a:off x="3832920" y="-902880"/>
            <a:ext cx="1456560" cy="7570080"/>
          </a:xfrm>
          <a:prstGeom prst="curvedConnector5">
            <a:avLst>
              <a:gd name="adj1" fmla="val 129320"/>
              <a:gd name="adj2" fmla="val 49997"/>
              <a:gd name="adj3" fmla="val 12932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2" name="AutoShape 67"/>
          <p:cNvCxnSpPr>
            <a:stCxn id="763" idx="2"/>
            <a:endCxn id="750" idx="3"/>
          </p:cNvCxnSpPr>
          <p:nvPr/>
        </p:nvCxnSpPr>
        <p:spPr>
          <a:xfrm flipH="1" rot="16200000">
            <a:off x="4428360" y="-447120"/>
            <a:ext cx="704160" cy="5906160"/>
          </a:xfrm>
          <a:prstGeom prst="curvedConnector5">
            <a:avLst>
              <a:gd name="adj1" fmla="val 137237"/>
              <a:gd name="adj2" fmla="val 49996"/>
              <a:gd name="adj3" fmla="val 137237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13" name="AutoShape 68"/>
          <p:cNvCxnSpPr>
            <a:stCxn id="762" idx="2"/>
            <a:endCxn id="749" idx="3"/>
          </p:cNvCxnSpPr>
          <p:nvPr/>
        </p:nvCxnSpPr>
        <p:spPr>
          <a:xfrm flipH="1" rot="16200000">
            <a:off x="4531320" y="498240"/>
            <a:ext cx="326160" cy="3637800"/>
          </a:xfrm>
          <a:prstGeom prst="curvedConnector5">
            <a:avLst>
              <a:gd name="adj1" fmla="val 174143"/>
              <a:gd name="adj2" fmla="val 50000"/>
              <a:gd name="adj3" fmla="val 174143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14" name="AutoShape 69"/>
          <p:cNvCxnSpPr>
            <a:stCxn id="761" idx="2"/>
            <a:endCxn id="748" idx="2"/>
          </p:cNvCxnSpPr>
          <p:nvPr/>
        </p:nvCxnSpPr>
        <p:spPr>
          <a:xfrm flipH="1" rot="16200000">
            <a:off x="4595760" y="1485720"/>
            <a:ext cx="1115280" cy="2451600"/>
          </a:xfrm>
          <a:prstGeom prst="curvedConnector2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815" name="Rectangle 70"/>
          <p:cNvSpPr/>
          <p:nvPr/>
        </p:nvSpPr>
        <p:spPr>
          <a:xfrm>
            <a:off x="2690640" y="623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Adec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ítulo 1"/>
          <p:cNvSpPr/>
          <p:nvPr/>
        </p:nvSpPr>
        <p:spPr>
          <a:xfrm>
            <a:off x="2465280" y="44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300" spc="-1" strike="noStrike">
                <a:solidFill>
                  <a:srgbClr val="595959"/>
                </a:solidFill>
                <a:latin typeface="Arial"/>
                <a:ea typeface="Arial"/>
              </a:rPr>
              <a:t>EL MODELO INTEGR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Agrupar 27" descr=""/>
          <p:cNvPicPr/>
          <p:nvPr/>
        </p:nvPicPr>
        <p:blipFill>
          <a:blip r:embed="rId2"/>
          <a:stretch/>
        </p:blipFill>
        <p:spPr>
          <a:xfrm>
            <a:off x="7364520" y="1828800"/>
            <a:ext cx="16938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564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565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66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9" name="Agrupar 28" descr=""/>
          <p:cNvPicPr/>
          <p:nvPr/>
        </p:nvPicPr>
        <p:blipFill>
          <a:blip r:embed="rId3"/>
          <a:stretch/>
        </p:blipFill>
        <p:spPr>
          <a:xfrm>
            <a:off x="1676520" y="1859040"/>
            <a:ext cx="1699920" cy="3822480"/>
          </a:xfrm>
          <a:prstGeom prst="rect">
            <a:avLst/>
          </a:prstGeom>
          <a:ln w="0">
            <a:noFill/>
          </a:ln>
        </p:spPr>
      </p:pic>
      <p:pic>
        <p:nvPicPr>
          <p:cNvPr id="570" name="Agrupar 30" descr=""/>
          <p:cNvPicPr/>
          <p:nvPr/>
        </p:nvPicPr>
        <p:blipFill>
          <a:blip r:embed="rId4"/>
          <a:stretch/>
        </p:blipFill>
        <p:spPr>
          <a:xfrm>
            <a:off x="5462640" y="1859040"/>
            <a:ext cx="2266920" cy="3822480"/>
          </a:xfrm>
          <a:prstGeom prst="rect">
            <a:avLst/>
          </a:prstGeom>
          <a:ln w="0">
            <a:noFill/>
          </a:ln>
        </p:spPr>
      </p:pic>
      <p:pic>
        <p:nvPicPr>
          <p:cNvPr id="571" name="Agrupar 29" descr=""/>
          <p:cNvPicPr/>
          <p:nvPr/>
        </p:nvPicPr>
        <p:blipFill>
          <a:blip r:embed="rId5"/>
          <a:stretch/>
        </p:blipFill>
        <p:spPr>
          <a:xfrm>
            <a:off x="2816280" y="1859040"/>
            <a:ext cx="3224160" cy="3840120"/>
          </a:xfrm>
          <a:prstGeom prst="rect">
            <a:avLst/>
          </a:prstGeom>
          <a:ln w="0">
            <a:noFill/>
          </a:ln>
        </p:spPr>
      </p:pic>
      <p:sp>
        <p:nvSpPr>
          <p:cNvPr id="572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estilo de liderazgo </a:t>
            </a:r>
            <a:r>
              <a:rPr b="0" lang="es-CL" sz="2600" spc="-1" strike="noStrike" u="sng">
                <a:solidFill>
                  <a:srgbClr val="595959"/>
                </a:solidFill>
                <a:uFillTx/>
                <a:latin typeface="Arial"/>
              </a:rPr>
              <a:t>DIRIGIR</a:t>
            </a:r>
            <a:r>
              <a:rPr b="0" lang="es-CL" sz="1800" spc="-1" strike="noStrike">
                <a:solidFill>
                  <a:srgbClr val="595959"/>
                </a:solidFill>
                <a:latin typeface="Arial"/>
              </a:rPr>
              <a:t>:</a:t>
            </a:r>
            <a:br>
              <a:rPr sz="1800"/>
            </a:br>
            <a:r>
              <a:rPr b="0" lang="es-CL" sz="1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35892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 el entusiasmo de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 las habilidades transferibles del colaborador y su progreso hasta la f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dentifica los resultados, objetivos y plazos des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que es un buen trabajo y como se registrara y controlara el desemp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sarrolla un plan para que el colaborador aprenda nuevas ha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irige la planificación de 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oma la mayoría de las decisiones relacionadas con que hacer , cuando y con qu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directrices e instrucciones especi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irige la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8" dur="5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estilo de liderazgo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ORIENT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 colaborador en la identificación de problemas y en fijar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apoyo, seguridad y elog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: brinda al colaborador una oportunidad para discutir preocupaciones  y compartir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colaborador en la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oma de decisiones finales relativas a los planes de acción luego de escuchar las ideas y los sentimientos de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dirección y adiestramiento  para continuar  desarrollando y perfeccionando las ha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xplica la razón para tomar un enfoque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que es un trajo bien hecho y como el desempeño será contro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ontinua haciendo seguimiento y proporcionando retroalimentación frecuent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638280" y="2286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     estilo de liderazgo 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APOY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179280" y="1614600"/>
            <a:ext cx="871380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omparte con  el colaborador tomar la iniciativa en la planificación de acciones y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irve como elemento de reflexión, estimulando al colaborador a discutir sus preocupaciones e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y estimula al colaborador a resolver problemas y tomar decisiones autónom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seguridad, apoyo, estímulo y elogio a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xplica maneras para hacer la meta o tarea mas interesante y desafiante, cuando la motivación es b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ayuda en la solución de problemas compartiendo ideas, cuando se la solici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rabaja con el colaborador en la evaluación de su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/>
          <p:cNvSpPr/>
          <p:nvPr/>
        </p:nvSpPr>
        <p:spPr>
          <a:xfrm>
            <a:off x="638280" y="2286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el estilo de liderazgo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DELEG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324000" y="1542960"/>
            <a:ext cx="849600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ermite al colaborador hacerse car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con el colaborador los problemas y los resultados des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timula al colaborador a evaluar su propio 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oportunidades para que el colaborador comparta y celebre éxitos y prepare a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, valora y premia las contribuciones del colaborador a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safía al colaborador a alcanzar niveles de desempeño aun mas al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1905120" y="0"/>
            <a:ext cx="647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Estilos de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2424240" y="2266920"/>
            <a:ext cx="223344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Apo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Hablemos, ambos decid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"/>
          <p:cNvSpPr/>
          <p:nvPr/>
        </p:nvSpPr>
        <p:spPr>
          <a:xfrm>
            <a:off x="4714920" y="224784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Ent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Hablemos, yo de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424240" y="424800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Del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Tú dec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4714920" y="422928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Dir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Yo de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2387520" y="1628640"/>
            <a:ext cx="4632480" cy="4527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9"/>
          <p:cNvSpPr/>
          <p:nvPr/>
        </p:nvSpPr>
        <p:spPr>
          <a:xfrm>
            <a:off x="2387520" y="3736800"/>
            <a:ext cx="463248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8"/>
          <p:cNvSpPr/>
          <p:nvPr/>
        </p:nvSpPr>
        <p:spPr>
          <a:xfrm>
            <a:off x="4641840" y="1628640"/>
            <a:ext cx="1440" cy="4527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1835280" y="260280"/>
            <a:ext cx="69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Un líder tiene tres op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3"/>
          <p:cNvSpPr/>
          <p:nvPr/>
        </p:nvSpPr>
        <p:spPr>
          <a:xfrm>
            <a:off x="963720" y="1773360"/>
            <a:ext cx="7640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Utilizar el estilo requer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Supervisar excesiv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Supervisar insuficient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2771640" y="15228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onsecuencias de la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upervisión exce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1065240" y="1925640"/>
            <a:ext cx="6985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Participación disminu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autonomí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2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onsecuencias de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upervisión insufici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676520" y="152280"/>
            <a:ext cx="584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iclo de la Gestión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del Desempe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609480" y="1371600"/>
            <a:ext cx="85694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1. Diagnóstico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 determinar las necesidades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2. Flexibilidad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utilizar una variedad de estilos de 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3. Alianza para el Desempeño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4" descr="Fotolia_tickman"/>
          <p:cNvPicPr/>
          <p:nvPr/>
        </p:nvPicPr>
        <p:blipFill>
          <a:blip r:embed="rId2"/>
          <a:stretch/>
        </p:blipFill>
        <p:spPr>
          <a:xfrm>
            <a:off x="125280" y="157320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9" descr="Fotolia_tickman"/>
          <p:cNvPicPr/>
          <p:nvPr/>
        </p:nvPicPr>
        <p:blipFill>
          <a:blip r:embed="rId3"/>
          <a:stretch/>
        </p:blipFill>
        <p:spPr>
          <a:xfrm>
            <a:off x="49320" y="2335320"/>
            <a:ext cx="636480" cy="6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3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3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1981080" y="1522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641520" y="838080"/>
            <a:ext cx="785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700" spc="-1" strike="noStrike">
                <a:solidFill>
                  <a:srgbClr val="595959"/>
                </a:solidFill>
                <a:latin typeface="Arial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4" descr="2365568058_8defeeaf3a"/>
          <p:cNvPicPr/>
          <p:nvPr/>
        </p:nvPicPr>
        <p:blipFill>
          <a:blip r:embed="rId2"/>
          <a:stretch/>
        </p:blipFill>
        <p:spPr>
          <a:xfrm>
            <a:off x="571680" y="4419720"/>
            <a:ext cx="243036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1828800" y="15238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404040"/>
                </a:solidFill>
                <a:latin typeface="Arial"/>
              </a:rPr>
              <a:t>¿¿¿LIDERAZGO??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-2971800" y="152280"/>
            <a:ext cx="8686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Imagen 5" descr="Fotolia_4812281_XS.jpg"/>
          <p:cNvPicPr/>
          <p:nvPr/>
        </p:nvPicPr>
        <p:blipFill>
          <a:blip r:embed="rId2"/>
          <a:stretch/>
        </p:blipFill>
        <p:spPr>
          <a:xfrm>
            <a:off x="1738440" y="2521080"/>
            <a:ext cx="5562360" cy="34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1116000" y="1890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2600"/>
            </a:b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1752480"/>
            <a:ext cx="9067680" cy="2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nseñe a sus colaboradores el modelo del Lideraz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Situacional II (SLII®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2.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dentifique las áreas claves de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3.    Defina las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3204720" y="387504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1432080" y="115920"/>
            <a:ext cx="77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2600"/>
            </a:b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352440" y="155736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4. Evalúe el nivel de desarroll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828800" y="3808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404040"/>
                </a:solidFill>
                <a:latin typeface="Arial"/>
              </a:rPr>
              <a:t>LIDERAZG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79280" y="1486080"/>
            <a:ext cx="86868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El liderazgo es un proceso de influ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Es trabajar con los colaborad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para alcanzar sus </a:t>
            </a:r>
            <a:r>
              <a:rPr b="1" i="1" lang="es-CL" sz="2800" spc="-1" strike="noStrike">
                <a:solidFill>
                  <a:srgbClr val="cc3300"/>
                </a:solidFill>
                <a:latin typeface="Arial"/>
              </a:rPr>
              <a:t>metas personales</a:t>
            </a:r>
            <a:r>
              <a:rPr b="1" lang="es-CL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800" spc="-1" strike="noStrike">
                <a:solidFill>
                  <a:srgbClr val="cc3300"/>
                </a:solidFill>
                <a:latin typeface="Arial"/>
              </a:rPr>
              <a:t>las metas de la organización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grupo"/>
          <p:cNvPicPr/>
          <p:nvPr/>
        </p:nvPicPr>
        <p:blipFill>
          <a:blip r:embed="rId2"/>
          <a:stretch/>
        </p:blipFill>
        <p:spPr>
          <a:xfrm>
            <a:off x="2195640" y="3573360"/>
            <a:ext cx="4038480" cy="31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873080" y="304920"/>
            <a:ext cx="71629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404040"/>
                </a:solidFill>
                <a:latin typeface="Arial"/>
              </a:rPr>
              <a:t>Liderazgo efica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72480" y="3683160"/>
            <a:ext cx="154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800" spc="-1" strike="noStrike">
                <a:solidFill>
                  <a:srgbClr val="404040"/>
                </a:solidFill>
                <a:latin typeface="Arial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Group 4" descr=""/>
          <p:cNvPicPr/>
          <p:nvPr/>
        </p:nvPicPr>
        <p:blipFill>
          <a:blip r:embed="rId2"/>
          <a:stretch/>
        </p:blipFill>
        <p:spPr>
          <a:xfrm>
            <a:off x="244440" y="4035600"/>
            <a:ext cx="2254320" cy="58572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3"/>
          <p:cNvSpPr/>
          <p:nvPr/>
        </p:nvSpPr>
        <p:spPr>
          <a:xfrm>
            <a:off x="7150320" y="1382760"/>
            <a:ext cx="7884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EFIC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6968160" y="5018040"/>
            <a:ext cx="9669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INEFIC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6"/>
          <p:cNvSpPr/>
          <p:nvPr/>
        </p:nvSpPr>
        <p:spPr>
          <a:xfrm rot="16200000">
            <a:off x="5540400" y="2179080"/>
            <a:ext cx="3095640" cy="2241720"/>
          </a:xfrm>
          <a:prstGeom prst="triangle">
            <a:avLst>
              <a:gd name="adj" fmla="val 50625"/>
            </a:avLst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1"/>
          <p:cNvSpPr/>
          <p:nvPr/>
        </p:nvSpPr>
        <p:spPr>
          <a:xfrm>
            <a:off x="6710040" y="2944800"/>
            <a:ext cx="1481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CTIT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OMPROM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ENT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2"/>
          <p:cNvSpPr/>
          <p:nvPr/>
        </p:nvSpPr>
        <p:spPr>
          <a:xfrm>
            <a:off x="3796560" y="2503440"/>
            <a:ext cx="11268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3"/>
          <p:cNvSpPr/>
          <p:nvPr/>
        </p:nvSpPr>
        <p:spPr>
          <a:xfrm>
            <a:off x="3612600" y="6183360"/>
            <a:ext cx="1029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5"/>
          <p:cNvSpPr/>
          <p:nvPr/>
        </p:nvSpPr>
        <p:spPr>
          <a:xfrm rot="16200000">
            <a:off x="2910600" y="2870640"/>
            <a:ext cx="2243160" cy="3095640"/>
          </a:xfrm>
          <a:prstGeom prst="triangle">
            <a:avLst>
              <a:gd name="adj" fmla="val 50625"/>
            </a:avLst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0"/>
          <p:cNvSpPr/>
          <p:nvPr/>
        </p:nvSpPr>
        <p:spPr>
          <a:xfrm>
            <a:off x="3615840" y="4087800"/>
            <a:ext cx="187524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5"/>
          <p:cNvGrpSpPr/>
          <p:nvPr/>
        </p:nvGrpSpPr>
        <p:grpSpPr>
          <a:xfrm>
            <a:off x="8217000" y="1671480"/>
            <a:ext cx="299880" cy="3302280"/>
            <a:chOff x="8217000" y="1671480"/>
            <a:chExt cx="299880" cy="3302280"/>
          </a:xfrm>
        </p:grpSpPr>
        <p:sp>
          <p:nvSpPr>
            <p:cNvPr id="593" name="Line 17"/>
            <p:cNvSpPr/>
            <p:nvPr/>
          </p:nvSpPr>
          <p:spPr>
            <a:xfrm>
              <a:off x="8217000" y="1671480"/>
              <a:ext cx="0" cy="330228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8"/>
            <p:cNvSpPr/>
            <p:nvPr/>
          </p:nvSpPr>
          <p:spPr>
            <a:xfrm>
              <a:off x="8242200" y="183024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9"/>
            <p:cNvSpPr/>
            <p:nvPr/>
          </p:nvSpPr>
          <p:spPr>
            <a:xfrm>
              <a:off x="8242200" y="48769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0"/>
            <p:cNvSpPr/>
            <p:nvPr/>
          </p:nvSpPr>
          <p:spPr>
            <a:xfrm>
              <a:off x="8253360" y="208440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1"/>
            <p:cNvSpPr/>
            <p:nvPr/>
          </p:nvSpPr>
          <p:spPr>
            <a:xfrm>
              <a:off x="8263080" y="23385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2"/>
            <p:cNvSpPr/>
            <p:nvPr/>
          </p:nvSpPr>
          <p:spPr>
            <a:xfrm>
              <a:off x="8253360" y="25909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3"/>
            <p:cNvSpPr/>
            <p:nvPr/>
          </p:nvSpPr>
          <p:spPr>
            <a:xfrm>
              <a:off x="8242200" y="28447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4"/>
            <p:cNvSpPr/>
            <p:nvPr/>
          </p:nvSpPr>
          <p:spPr>
            <a:xfrm>
              <a:off x="8253360" y="309888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5"/>
            <p:cNvSpPr/>
            <p:nvPr/>
          </p:nvSpPr>
          <p:spPr>
            <a:xfrm>
              <a:off x="8253360" y="335268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6"/>
            <p:cNvSpPr/>
            <p:nvPr/>
          </p:nvSpPr>
          <p:spPr>
            <a:xfrm>
              <a:off x="8253360" y="360684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7"/>
            <p:cNvSpPr/>
            <p:nvPr/>
          </p:nvSpPr>
          <p:spPr>
            <a:xfrm>
              <a:off x="8263080" y="386064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8"/>
            <p:cNvSpPr/>
            <p:nvPr/>
          </p:nvSpPr>
          <p:spPr>
            <a:xfrm>
              <a:off x="8253360" y="411480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29"/>
            <p:cNvSpPr/>
            <p:nvPr/>
          </p:nvSpPr>
          <p:spPr>
            <a:xfrm>
              <a:off x="8263080" y="43689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0"/>
            <p:cNvSpPr/>
            <p:nvPr/>
          </p:nvSpPr>
          <p:spPr>
            <a:xfrm>
              <a:off x="8263080" y="46227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Line 36"/>
          <p:cNvSpPr/>
          <p:nvPr/>
        </p:nvSpPr>
        <p:spPr>
          <a:xfrm>
            <a:off x="5562720" y="2792520"/>
            <a:ext cx="0" cy="330192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7"/>
          <p:cNvSpPr/>
          <p:nvPr/>
        </p:nvSpPr>
        <p:spPr>
          <a:xfrm>
            <a:off x="5562720" y="29512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8"/>
          <p:cNvSpPr/>
          <p:nvPr/>
        </p:nvSpPr>
        <p:spPr>
          <a:xfrm>
            <a:off x="5562720" y="59976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9"/>
          <p:cNvSpPr/>
          <p:nvPr/>
        </p:nvSpPr>
        <p:spPr>
          <a:xfrm>
            <a:off x="5573880" y="32050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40"/>
          <p:cNvSpPr/>
          <p:nvPr/>
        </p:nvSpPr>
        <p:spPr>
          <a:xfrm>
            <a:off x="5583240" y="34592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1"/>
          <p:cNvSpPr/>
          <p:nvPr/>
        </p:nvSpPr>
        <p:spPr>
          <a:xfrm>
            <a:off x="5573880" y="37116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2"/>
          <p:cNvSpPr/>
          <p:nvPr/>
        </p:nvSpPr>
        <p:spPr>
          <a:xfrm>
            <a:off x="5562720" y="39654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3"/>
          <p:cNvSpPr/>
          <p:nvPr/>
        </p:nvSpPr>
        <p:spPr>
          <a:xfrm>
            <a:off x="5573880" y="421956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4"/>
          <p:cNvSpPr/>
          <p:nvPr/>
        </p:nvSpPr>
        <p:spPr>
          <a:xfrm>
            <a:off x="5573880" y="447372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5"/>
          <p:cNvSpPr/>
          <p:nvPr/>
        </p:nvSpPr>
        <p:spPr>
          <a:xfrm>
            <a:off x="5573880" y="472752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6"/>
          <p:cNvSpPr/>
          <p:nvPr/>
        </p:nvSpPr>
        <p:spPr>
          <a:xfrm>
            <a:off x="5583240" y="498168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7"/>
          <p:cNvSpPr/>
          <p:nvPr/>
        </p:nvSpPr>
        <p:spPr>
          <a:xfrm>
            <a:off x="5573880" y="52354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8"/>
          <p:cNvSpPr/>
          <p:nvPr/>
        </p:nvSpPr>
        <p:spPr>
          <a:xfrm>
            <a:off x="5583240" y="54896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9"/>
          <p:cNvSpPr/>
          <p:nvPr/>
        </p:nvSpPr>
        <p:spPr>
          <a:xfrm>
            <a:off x="5583240" y="57434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trabajando"/>
          <p:cNvPicPr/>
          <p:nvPr/>
        </p:nvPicPr>
        <p:blipFill>
          <a:blip r:embed="rId1"/>
          <a:stretch/>
        </p:blipFill>
        <p:spPr>
          <a:xfrm>
            <a:off x="68436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3"/>
          <p:cNvSpPr/>
          <p:nvPr/>
        </p:nvSpPr>
        <p:spPr>
          <a:xfrm>
            <a:off x="1114560" y="1600200"/>
            <a:ext cx="734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200" spc="-1" strike="noStrike">
                <a:solidFill>
                  <a:srgbClr val="404040"/>
                </a:solidFill>
                <a:latin typeface="Arial"/>
              </a:rPr>
              <a:t>Lo importante como líder no es lo que sucede cuando usted está supervisando; es lo que sucede cuando usted no está presente</a:t>
            </a:r>
            <a:r>
              <a:rPr b="0" lang="es-CL" sz="32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2556000" y="485640"/>
            <a:ext cx="62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Las </a:t>
            </a:r>
            <a:r>
              <a:rPr b="0" lang="es-CL" sz="3400" spc="-1" strike="noStrike">
                <a:solidFill>
                  <a:srgbClr val="404040"/>
                </a:solidFill>
                <a:latin typeface="Verdana"/>
              </a:rPr>
              <a:t>4</a:t>
            </a: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 funciones del Lideraz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3" descr="lider_3"/>
          <p:cNvPicPr/>
          <p:nvPr/>
        </p:nvPicPr>
        <p:blipFill>
          <a:blip r:embed="rId1"/>
          <a:stretch/>
        </p:blipFill>
        <p:spPr>
          <a:xfrm>
            <a:off x="1908000" y="4005360"/>
            <a:ext cx="5910480" cy="249084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4"/>
          <p:cNvSpPr/>
          <p:nvPr/>
        </p:nvSpPr>
        <p:spPr>
          <a:xfrm>
            <a:off x="787320" y="1311120"/>
            <a:ext cx="756756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1. Fijar m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2. Retroali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3. 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Solucionar problemas. (account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4. Proporcionar recono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2"/>
          <p:cNvSpPr/>
          <p:nvPr/>
        </p:nvSpPr>
        <p:spPr>
          <a:xfrm>
            <a:off x="2233440" y="152280"/>
            <a:ext cx="58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Las Tres Habilidades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Básicas de un Lí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32400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1. DIAGNÓSTICO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 determinar las necesidades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2. FLEXIBILIDAD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utilizar una variedad de estilos de 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3. ALIANZA PARA EL DESEMPEÑO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1:24:40Z</dcterms:created>
  <dc:creator>Tamara Osses</dc:creator>
  <dc:description/>
  <dc:language>en-US</dc:language>
  <cp:lastModifiedBy>jose tomas saffirio mezzano</cp:lastModifiedBy>
  <dcterms:modified xsi:type="dcterms:W3CDTF">2011-11-11T13:17:24Z</dcterms:modified>
  <cp:revision>29</cp:revision>
  <dc:subject/>
  <dc:title>Diapositiva 1</dc:title>
</cp:coreProperties>
</file>