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1A98-2079-4DE6-B00D-EB3B2D0DA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4545-34D1-4382-8323-1F3E9E8A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88F3-A498-496D-B6EF-F53568FCF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6945-75BA-4964-AB76-0AD09CC6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F78A-9FB1-4CA2-9D65-5A1C1E64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C95D-D273-4CEB-A33B-423E61E1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DD2C-1C40-410C-B90A-19E0AC95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1D5B-0FEF-4CFA-A9F8-4E73315E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C5E9-2428-46E6-A36C-F4C36192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3C1A-3BBE-4749-82E1-34EE6E1E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B04D-8BC1-4D7E-A48A-6A7C6052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2497-48D1-4693-86E1-EDF601D9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E86A8E-DC2C-4B83-AFDB-592C0DA2FF30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6D5069-84A9-4C0F-AF81-0C220FEC148A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04920" y="2133720"/>
            <a:ext cx="8610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404040"/>
                </a:solidFill>
                <a:latin typeface="Arial"/>
                <a:ea typeface="Tahoma"/>
              </a:rPr>
              <a:t>COMPORTAMIENTO ORGANIZAC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404040"/>
                </a:solidFill>
                <a:latin typeface="Arial"/>
                <a:ea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404040"/>
                </a:solidFill>
                <a:latin typeface="Arial"/>
                <a:ea typeface="Tahoma"/>
              </a:rPr>
              <a:t>GESTIÓN PERSONAS EN L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871640" y="382680"/>
            <a:ext cx="597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2. ANÁLISIS DE ENTORNO (co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IMG_0161"/>
          <p:cNvPicPr/>
          <p:nvPr/>
        </p:nvPicPr>
        <p:blipFill>
          <a:blip r:embed="rId2"/>
          <a:stretch/>
        </p:blipFill>
        <p:spPr>
          <a:xfrm>
            <a:off x="228600" y="4541760"/>
            <a:ext cx="2075040" cy="23162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2057400" y="1295280"/>
            <a:ext cx="53341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595959"/>
                </a:solidFill>
                <a:latin typeface="Arial"/>
              </a:rPr>
              <a:t>Proyección de escenarios futur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Político.</a:t>
            </a: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Responsabilidad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conómico.</a:t>
            </a: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Tecnológico.</a:t>
            </a: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Campo Lab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duc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Man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Demográ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Fuerzas Labo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Geográfico</a:t>
            </a: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pidemiológico.</a:t>
            </a: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IMG_0164"/>
          <p:cNvPicPr/>
          <p:nvPr/>
        </p:nvPicPr>
        <p:blipFill>
          <a:blip r:embed="rId2"/>
          <a:stretch/>
        </p:blipFill>
        <p:spPr>
          <a:xfrm>
            <a:off x="0" y="5478480"/>
            <a:ext cx="2438280" cy="13795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"/>
          <p:cNvSpPr/>
          <p:nvPr/>
        </p:nvSpPr>
        <p:spPr>
          <a:xfrm>
            <a:off x="685800" y="380880"/>
            <a:ext cx="55627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3. M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531720" y="1125360"/>
            <a:ext cx="8155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La Misión es el propósito más importante por el que trabajan y se esfuerzan los miembros de una Organización, es la razón de ser de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La Misión se inspira en los PRINCIPIOS y VALORES que sustentan el conjunto de convicciones profundas y las grandes políticas que movilizan a todos los actores que forman parte de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La Misión debe expresar lo que se pretende alcanzar con los principios establecidos y lo que debemos hacer para lograr el éxito al terminar el camino traz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Finalmente, y sin duda lo más importante, todos los participantes (directivos y colaboradores) deben identificarse con la Misión, para lo cual será necesario acoger todos los aportes que hagan los implic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790640" y="7632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MISIÓN (Ejempl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85920" y="1774800"/>
            <a:ext cx="836280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400" spc="-1" strike="noStrike">
                <a:solidFill>
                  <a:srgbClr val="595959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595959"/>
                </a:solidFill>
                <a:latin typeface="Arial"/>
              </a:rPr>
              <a:t>Refrescar al mundo en cuerpo, mente y al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400" spc="-1" strike="noStrike">
                <a:solidFill>
                  <a:srgbClr val="595959"/>
                </a:solidFill>
                <a:latin typeface="Arial"/>
              </a:rPr>
              <a:t>Inspirar momentos de optim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4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595959"/>
                </a:solidFill>
                <a:latin typeface="Arial"/>
              </a:rPr>
              <a:t>a través de nuestras marcas y ac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400" spc="-1" strike="noStrike">
                <a:solidFill>
                  <a:srgbClr val="595959"/>
                </a:solidFill>
                <a:latin typeface="Arial"/>
              </a:rPr>
              <a:t>Para crear valor y dejar nuestra impron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400" spc="-1" strike="noStrike">
                <a:solidFill>
                  <a:srgbClr val="595959"/>
                </a:solidFill>
                <a:latin typeface="Arial"/>
              </a:rPr>
              <a:t>en cada uno de los lugares en los que operamo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2"/>
          <a:stretch/>
        </p:blipFill>
        <p:spPr>
          <a:xfrm>
            <a:off x="6705720" y="5345280"/>
            <a:ext cx="1512720" cy="151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Imagen 169"/>
          <p:cNvPicPr/>
          <p:nvPr/>
        </p:nvPicPr>
        <p:blipFill>
          <a:blip r:embed="rId2"/>
          <a:stretch/>
        </p:blipFill>
        <p:spPr>
          <a:xfrm>
            <a:off x="6400800" y="3429000"/>
            <a:ext cx="2409840" cy="27478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"/>
          <p:cNvSpPr/>
          <p:nvPr/>
        </p:nvSpPr>
        <p:spPr>
          <a:xfrm>
            <a:off x="1600200" y="228600"/>
            <a:ext cx="63374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4. ANALISIS INTERNO DE LA ORGANIZACIÓN</a:t>
            </a:r>
            <a:br>
              <a:rPr sz="2000"/>
            </a:b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    (FO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79280" y="1341360"/>
            <a:ext cx="56880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595959"/>
                </a:solidFill>
                <a:latin typeface="Arial"/>
              </a:rPr>
              <a:t>OPORTUN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Elemento o característica existente en el entorno que puede servir para lograr mayor desarrollo de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595959"/>
                </a:solidFill>
                <a:latin typeface="Arial"/>
              </a:rPr>
              <a:t>AMENAZ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Aspectos del entorno que pueden significar peligros para el desarrollo de la Institución, el cumplimiento de su MISIÓN y la mantención de su sustentabilidad en el tie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595959"/>
                </a:solidFill>
                <a:latin typeface="Arial"/>
              </a:rPr>
              <a:t>FORTALEZAS Y DEBILIDAD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Respecto del entorno sólo podemos estar alertas.  Respecto de nosotros, podemos incrementar nuestras fortalezas y capacidades y podemos superar nuestras debilidades y las brechas, para alcanzar el éxi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IMG_0157"/>
          <p:cNvPicPr/>
          <p:nvPr/>
        </p:nvPicPr>
        <p:blipFill>
          <a:blip r:embed="rId2"/>
          <a:stretch/>
        </p:blipFill>
        <p:spPr>
          <a:xfrm>
            <a:off x="0" y="4867200"/>
            <a:ext cx="1619280" cy="19144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395280" y="1320840"/>
            <a:ext cx="84358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000" spc="-1" strike="noStrike">
                <a:solidFill>
                  <a:srgbClr val="595959"/>
                </a:solidFill>
                <a:latin typeface="Arial"/>
              </a:rPr>
              <a:t>“</a:t>
            </a:r>
            <a:r>
              <a:rPr b="1" i="1" lang="es-ES" sz="2000" spc="-1" strike="noStrike">
                <a:solidFill>
                  <a:srgbClr val="595959"/>
                </a:solidFill>
                <a:latin typeface="Arial"/>
              </a:rPr>
              <a:t>Son los logros que se esperan obtener en el período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000" spc="-1" strike="noStrike">
                <a:solidFill>
                  <a:srgbClr val="595959"/>
                </a:solidFill>
                <a:latin typeface="Arial"/>
              </a:rPr>
              <a:t>de tiempo establecido en términos cualitativo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843280" y="476280"/>
            <a:ext cx="624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5.a  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1619280" y="2401920"/>
            <a:ext cx="721188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Los OBJETIVOS DE MAYOR VIABILIDAD son aquellos para los cuales tenemos la confluencia de FORTALEZAS y OPORTUN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Aquellos de menor probabilidad de ocurrencia son los objetivos para los cuales tenemos la confluencia de DEBILIDADES y AMENAZ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Finalmente, es más fácil superar debilidades institucionales o personales que transformar las amenazas del entorno en oportun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Imagen 153"/>
          <p:cNvPicPr/>
          <p:nvPr/>
        </p:nvPicPr>
        <p:blipFill>
          <a:blip r:embed="rId2"/>
          <a:stretch/>
        </p:blipFill>
        <p:spPr>
          <a:xfrm>
            <a:off x="5715000" y="3987720"/>
            <a:ext cx="3176640" cy="24656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6634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000" spc="-1" strike="noStrike">
                <a:solidFill>
                  <a:srgbClr val="595959"/>
                </a:solidFill>
                <a:latin typeface="Arial"/>
              </a:rPr>
              <a:t>“</a:t>
            </a:r>
            <a:r>
              <a:rPr b="1" i="1" lang="es-ES" sz="2000" spc="-1" strike="noStrike">
                <a:solidFill>
                  <a:srgbClr val="595959"/>
                </a:solidFill>
                <a:latin typeface="Arial"/>
              </a:rPr>
              <a:t>Las METAS Son resultados y beneficios cuantificables esperados, los cuales deben ser congruentes con los objetivo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Arial"/>
              </a:rPr>
              <a:t>Expresan parámetros a ser alcanzados de manera concreta, sien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s-ES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M</a:t>
            </a:r>
            <a:r>
              <a:rPr b="0" lang="es-ES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otiv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s-ES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</a:t>
            </a:r>
            <a:r>
              <a:rPr b="0" lang="es-ES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speci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s-ES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T</a:t>
            </a:r>
            <a:r>
              <a:rPr b="0" lang="es-ES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rascend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s-ES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A</a:t>
            </a:r>
            <a:r>
              <a:rPr b="0" lang="es-ES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lcanz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s-ES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S</a:t>
            </a:r>
            <a:r>
              <a:rPr b="0" lang="es-ES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gu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843280" y="476280"/>
            <a:ext cx="624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5.b M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9" descr="Imagen 074"/>
          <p:cNvPicPr/>
          <p:nvPr/>
        </p:nvPicPr>
        <p:blipFill>
          <a:blip r:embed="rId2"/>
          <a:stretch/>
        </p:blipFill>
        <p:spPr>
          <a:xfrm>
            <a:off x="2712960" y="1598760"/>
            <a:ext cx="3459240" cy="24796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1752480" y="235080"/>
            <a:ext cx="5562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ESTRATE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9280" y="4249800"/>
            <a:ext cx="86868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595959"/>
                </a:solidFill>
                <a:latin typeface="Arial"/>
              </a:rPr>
              <a:t>“</a:t>
            </a:r>
            <a:r>
              <a:rPr b="1" lang="es-ES" sz="2400" spc="-1" strike="noStrike">
                <a:solidFill>
                  <a:srgbClr val="595959"/>
                </a:solidFill>
                <a:latin typeface="Arial"/>
              </a:rPr>
              <a:t>Consiste en un patrón de decisiones coheren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595959"/>
                </a:solidFill>
                <a:latin typeface="Arial"/>
              </a:rPr>
              <a:t>unificador e integrado, que determina y revela el propósi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595959"/>
                </a:solidFill>
                <a:latin typeface="Arial"/>
              </a:rPr>
              <a:t>de la organización en términos de objetivo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595959"/>
                </a:solidFill>
                <a:latin typeface="Arial"/>
              </a:rPr>
              <a:t>largo plazo, programas de acción y priorida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595959"/>
                </a:solidFill>
                <a:latin typeface="Arial"/>
              </a:rPr>
              <a:t>para la asignación de recurso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1752480" y="414360"/>
            <a:ext cx="55627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ESTRATE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IMG_0170"/>
          <p:cNvPicPr/>
          <p:nvPr/>
        </p:nvPicPr>
        <p:blipFill>
          <a:blip r:embed="rId2"/>
          <a:stretch/>
        </p:blipFill>
        <p:spPr>
          <a:xfrm>
            <a:off x="6762600" y="3962520"/>
            <a:ext cx="2381400" cy="25970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380880" y="1676520"/>
            <a:ext cx="676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A través de la estrategia las organizaciones busc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49360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Cumplir con objetivos y me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49360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49360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Transformar debilidades en fortalez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49360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49360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ludir amenazas y aprovechar oportun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49360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49360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Alcanzar el éxito de las unidades y de la Institución en su conju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49360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49360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Aumentar el posicionamiento institu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1828800" y="228600"/>
            <a:ext cx="55627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ESTRATEG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12840" y="1341360"/>
            <a:ext cx="83628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7480" indent="-874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Arial"/>
              </a:rPr>
              <a:t>Definiciones básicas de la estrateg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5892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¿Qué har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58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5892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¿Qué equipo lo har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5892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5892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¿En qué plazo lo har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5892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5892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¿Qué resistencias visualiza?</a:t>
            </a: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5892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5892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¿Cómo las superar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5892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5892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Cuales son los indicadores permitirán evaluar 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58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	</a:t>
            </a:r>
            <a:r>
              <a:rPr b="0" lang="es-ES_tradn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cumplimiento de la impleme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IMG_0154"/>
          <p:cNvPicPr/>
          <p:nvPr/>
        </p:nvPicPr>
        <p:blipFill>
          <a:blip r:embed="rId2"/>
          <a:stretch/>
        </p:blipFill>
        <p:spPr>
          <a:xfrm>
            <a:off x="6705720" y="2287440"/>
            <a:ext cx="1979640" cy="281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"/>
          <p:cNvSpPr/>
          <p:nvPr/>
        </p:nvSpPr>
        <p:spPr>
          <a:xfrm>
            <a:off x="560520" y="1736640"/>
            <a:ext cx="8353440" cy="6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Agrupar 27"/>
          <p:cNvGrpSpPr/>
          <p:nvPr/>
        </p:nvGrpSpPr>
        <p:grpSpPr>
          <a:xfrm>
            <a:off x="7391520" y="1855800"/>
            <a:ext cx="1643040" cy="3606840"/>
            <a:chOff x="7391520" y="1855800"/>
            <a:chExt cx="1643040" cy="3606840"/>
          </a:xfrm>
        </p:grpSpPr>
        <p:sp>
          <p:nvSpPr>
            <p:cNvPr id="44" name="Rectangle 16"/>
            <p:cNvSpPr/>
            <p:nvPr/>
          </p:nvSpPr>
          <p:spPr>
            <a:xfrm>
              <a:off x="7391520" y="1855800"/>
              <a:ext cx="1641600" cy="360684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Organiz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Grup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Individu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7"/>
            <p:cNvSpPr/>
            <p:nvPr/>
          </p:nvSpPr>
          <p:spPr>
            <a:xfrm>
              <a:off x="7391520" y="1855800"/>
              <a:ext cx="1643040" cy="32544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sult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8"/>
            <p:cNvSpPr/>
            <p:nvPr/>
          </p:nvSpPr>
          <p:spPr>
            <a:xfrm>
              <a:off x="7391520" y="2176200"/>
              <a:ext cx="785880" cy="3348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R.H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9"/>
            <p:cNvSpPr/>
            <p:nvPr/>
          </p:nvSpPr>
          <p:spPr>
            <a:xfrm>
              <a:off x="8056800" y="2205000"/>
              <a:ext cx="977760" cy="3078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fect. Org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Agrupar 26"/>
          <p:cNvGrpSpPr/>
          <p:nvPr/>
        </p:nvGrpSpPr>
        <p:grpSpPr>
          <a:xfrm>
            <a:off x="214200" y="1884240"/>
            <a:ext cx="1771920" cy="3741840"/>
            <a:chOff x="214200" y="1884240"/>
            <a:chExt cx="1771920" cy="3741840"/>
          </a:xfrm>
        </p:grpSpPr>
        <p:grpSp>
          <p:nvGrpSpPr>
            <p:cNvPr id="49" name="Agrupar 25"/>
            <p:cNvGrpSpPr/>
            <p:nvPr/>
          </p:nvGrpSpPr>
          <p:grpSpPr>
            <a:xfrm>
              <a:off x="214200" y="1884240"/>
              <a:ext cx="1236960" cy="3607200"/>
              <a:chOff x="214200" y="1884240"/>
              <a:chExt cx="1236960" cy="36072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214200" y="1884240"/>
                <a:ext cx="1236960" cy="3607200"/>
              </a:xfrm>
              <a:prstGeom prst="rect">
                <a:avLst/>
              </a:prstGeom>
              <a:noFill/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Geográf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Mercad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Tecnológ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Polít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Leg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214200" y="1890360"/>
                <a:ext cx="1236960" cy="600120"/>
              </a:xfrm>
              <a:prstGeom prst="rect">
                <a:avLst/>
              </a:prstGeom>
              <a:solidFill>
                <a:srgbClr val="c0504d"/>
              </a:solidFill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ntorn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AutoShape 21"/>
            <p:cNvSpPr/>
            <p:nvPr/>
          </p:nvSpPr>
          <p:spPr>
            <a:xfrm>
              <a:off x="1057320" y="5130720"/>
              <a:ext cx="9288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Agrupar 28"/>
          <p:cNvGrpSpPr/>
          <p:nvPr/>
        </p:nvGrpSpPr>
        <p:grpSpPr>
          <a:xfrm>
            <a:off x="1701720" y="1884240"/>
            <a:ext cx="1643040" cy="3741840"/>
            <a:chOff x="1701720" y="1884240"/>
            <a:chExt cx="1643040" cy="3741840"/>
          </a:xfrm>
        </p:grpSpPr>
        <p:sp>
          <p:nvSpPr>
            <p:cNvPr id="54" name="Rectangle 7"/>
            <p:cNvSpPr/>
            <p:nvPr/>
          </p:nvSpPr>
          <p:spPr>
            <a:xfrm>
              <a:off x="1701720" y="1884240"/>
              <a:ext cx="963720" cy="360720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Vis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Mis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Objetiv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Val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1701720" y="1884240"/>
              <a:ext cx="963720" cy="6001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trateg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22"/>
            <p:cNvSpPr/>
            <p:nvPr/>
          </p:nvSpPr>
          <p:spPr>
            <a:xfrm>
              <a:off x="2415960" y="5130720"/>
              <a:ext cx="9288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Agrupar 30"/>
          <p:cNvGrpSpPr/>
          <p:nvPr/>
        </p:nvGrpSpPr>
        <p:grpSpPr>
          <a:xfrm>
            <a:off x="5486400" y="1884240"/>
            <a:ext cx="2212920" cy="3741840"/>
            <a:chOff x="5486400" y="1884240"/>
            <a:chExt cx="2212920" cy="3741840"/>
          </a:xfrm>
        </p:grpSpPr>
        <p:sp>
          <p:nvSpPr>
            <p:cNvPr id="58" name="Rectangle 9"/>
            <p:cNvSpPr/>
            <p:nvPr/>
          </p:nvSpPr>
          <p:spPr>
            <a:xfrm>
              <a:off x="5486400" y="1884240"/>
              <a:ext cx="1785960" cy="360720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Trabajo en equip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Comunic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Confli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Rel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Interperson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Cli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Lideraz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5486400" y="1884240"/>
              <a:ext cx="1785960" cy="6001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ce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icológic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y sicosoci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24"/>
            <p:cNvSpPr/>
            <p:nvPr/>
          </p:nvSpPr>
          <p:spPr>
            <a:xfrm>
              <a:off x="6772320" y="5130720"/>
              <a:ext cx="9270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Agrupar 29"/>
          <p:cNvGrpSpPr/>
          <p:nvPr/>
        </p:nvGrpSpPr>
        <p:grpSpPr>
          <a:xfrm>
            <a:off x="2843280" y="1884240"/>
            <a:ext cx="3143160" cy="3741840"/>
            <a:chOff x="2843280" y="1884240"/>
            <a:chExt cx="3143160" cy="3741840"/>
          </a:xfrm>
        </p:grpSpPr>
        <p:sp>
          <p:nvSpPr>
            <p:cNvPr id="62" name="Rectangle 12"/>
            <p:cNvSpPr/>
            <p:nvPr/>
          </p:nvSpPr>
          <p:spPr>
            <a:xfrm>
              <a:off x="2843280" y="2166840"/>
              <a:ext cx="1216080" cy="332460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Pla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Piramid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Matric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Est. Pues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Est. Tar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Proce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4"/>
            <p:cNvSpPr/>
            <p:nvPr/>
          </p:nvSpPr>
          <p:spPr>
            <a:xfrm>
              <a:off x="3987720" y="2166840"/>
              <a:ext cx="1285920" cy="332460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4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Ev. Desemp</a:t>
              </a: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Competenc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Selecció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Capacit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Remunera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Incentiv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Plan Carre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Ev. Potenc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Desv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0"/>
            <p:cNvSpPr/>
            <p:nvPr/>
          </p:nvSpPr>
          <p:spPr>
            <a:xfrm>
              <a:off x="3843360" y="2520720"/>
              <a:ext cx="312480" cy="297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3"/>
            <p:cNvSpPr/>
            <p:nvPr/>
          </p:nvSpPr>
          <p:spPr>
            <a:xfrm>
              <a:off x="5059440" y="5130720"/>
              <a:ext cx="9270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1"/>
            <p:cNvSpPr/>
            <p:nvPr/>
          </p:nvSpPr>
          <p:spPr>
            <a:xfrm>
              <a:off x="2843280" y="1884240"/>
              <a:ext cx="2428920" cy="60624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         </a:t>
              </a: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señ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tructura          Sistem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uzzle1"/>
          <p:cNvSpPr/>
          <p:nvPr/>
        </p:nvSpPr>
        <p:spPr>
          <a:xfrm>
            <a:off x="3081240" y="5697360"/>
            <a:ext cx="1978200" cy="963720"/>
          </a:xfrm>
          <a:prstGeom prst="pie">
            <a:avLst/>
          </a:prstGeom>
          <a:solidFill>
            <a:srgbClr val="c0504d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Téc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uzzle4"/>
          <p:cNvSpPr/>
          <p:nvPr/>
        </p:nvSpPr>
        <p:spPr>
          <a:xfrm>
            <a:off x="5556240" y="5553000"/>
            <a:ext cx="1216080" cy="1152720"/>
          </a:xfrm>
          <a:prstGeom prst="pie">
            <a:avLst/>
          </a:prstGeom>
          <a:solidFill>
            <a:srgbClr val="c0504d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So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8080" y="181080"/>
            <a:ext cx="853452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595959"/>
                </a:solidFill>
                <a:latin typeface="Arial"/>
                <a:ea typeface="Arial"/>
              </a:rPr>
              <a:t>MODELO AUDITORIA DEL SISTEMA HUMANO (AS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560520" y="1736640"/>
            <a:ext cx="8353440" cy="6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Agrupar 27" descr=""/>
          <p:cNvPicPr/>
          <p:nvPr/>
        </p:nvPicPr>
        <p:blipFill>
          <a:blip r:embed="rId2"/>
          <a:stretch/>
        </p:blipFill>
        <p:spPr>
          <a:xfrm>
            <a:off x="7364520" y="1828800"/>
            <a:ext cx="1693800" cy="3657600"/>
          </a:xfrm>
          <a:prstGeom prst="rect">
            <a:avLst/>
          </a:prstGeom>
          <a:ln w="0">
            <a:noFill/>
          </a:ln>
        </p:spPr>
      </p:pic>
      <p:grpSp>
        <p:nvGrpSpPr>
          <p:cNvPr id="72" name="Agrupar 26"/>
          <p:cNvGrpSpPr/>
          <p:nvPr/>
        </p:nvGrpSpPr>
        <p:grpSpPr>
          <a:xfrm>
            <a:off x="214200" y="1884240"/>
            <a:ext cx="1771920" cy="3741840"/>
            <a:chOff x="214200" y="1884240"/>
            <a:chExt cx="1771920" cy="3741840"/>
          </a:xfrm>
        </p:grpSpPr>
        <p:grpSp>
          <p:nvGrpSpPr>
            <p:cNvPr id="73" name="Agrupar 25"/>
            <p:cNvGrpSpPr/>
            <p:nvPr/>
          </p:nvGrpSpPr>
          <p:grpSpPr>
            <a:xfrm>
              <a:off x="214200" y="1884240"/>
              <a:ext cx="1236960" cy="3607200"/>
              <a:chOff x="214200" y="1884240"/>
              <a:chExt cx="1236960" cy="3607200"/>
            </a:xfrm>
          </p:grpSpPr>
          <p:sp>
            <p:nvSpPr>
              <p:cNvPr id="74" name="Rectangle 5"/>
              <p:cNvSpPr/>
              <p:nvPr/>
            </p:nvSpPr>
            <p:spPr>
              <a:xfrm>
                <a:off x="214200" y="1884240"/>
                <a:ext cx="1236960" cy="3607200"/>
              </a:xfrm>
              <a:prstGeom prst="rect">
                <a:avLst/>
              </a:prstGeom>
              <a:solidFill>
                <a:srgbClr val="bfbfbf"/>
              </a:solidFill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Geográf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Mercad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Tecnológ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Polít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Leg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6"/>
              <p:cNvSpPr/>
              <p:nvPr/>
            </p:nvSpPr>
            <p:spPr>
              <a:xfrm>
                <a:off x="214200" y="1890360"/>
                <a:ext cx="1236960" cy="600120"/>
              </a:xfrm>
              <a:prstGeom prst="rect">
                <a:avLst/>
              </a:prstGeom>
              <a:solidFill>
                <a:srgbClr val="bfbfbf"/>
              </a:solidFill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ntorn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AutoShape 21"/>
            <p:cNvSpPr/>
            <p:nvPr/>
          </p:nvSpPr>
          <p:spPr>
            <a:xfrm>
              <a:off x="1057320" y="5130720"/>
              <a:ext cx="9288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Agrupar 28" descr=""/>
          <p:cNvPicPr/>
          <p:nvPr/>
        </p:nvPicPr>
        <p:blipFill>
          <a:blip r:embed="rId3"/>
          <a:stretch/>
        </p:blipFill>
        <p:spPr>
          <a:xfrm>
            <a:off x="1676520" y="1859040"/>
            <a:ext cx="1699920" cy="3822480"/>
          </a:xfrm>
          <a:prstGeom prst="rect">
            <a:avLst/>
          </a:prstGeom>
          <a:ln w="0">
            <a:noFill/>
          </a:ln>
        </p:spPr>
      </p:pic>
      <p:pic>
        <p:nvPicPr>
          <p:cNvPr id="78" name="Agrupar 30" descr=""/>
          <p:cNvPicPr/>
          <p:nvPr/>
        </p:nvPicPr>
        <p:blipFill>
          <a:blip r:embed="rId4"/>
          <a:stretch/>
        </p:blipFill>
        <p:spPr>
          <a:xfrm>
            <a:off x="5462640" y="1859040"/>
            <a:ext cx="2290680" cy="3840120"/>
          </a:xfrm>
          <a:prstGeom prst="rect">
            <a:avLst/>
          </a:prstGeom>
          <a:ln w="0">
            <a:noFill/>
          </a:ln>
        </p:spPr>
      </p:pic>
      <p:pic>
        <p:nvPicPr>
          <p:cNvPr id="79" name="Agrupar 29" descr=""/>
          <p:cNvPicPr/>
          <p:nvPr/>
        </p:nvPicPr>
        <p:blipFill>
          <a:blip r:embed="rId5"/>
          <a:stretch/>
        </p:blipFill>
        <p:spPr>
          <a:xfrm>
            <a:off x="2816280" y="1859040"/>
            <a:ext cx="3224160" cy="3840120"/>
          </a:xfrm>
          <a:prstGeom prst="rect">
            <a:avLst/>
          </a:prstGeom>
          <a:ln w="0">
            <a:noFill/>
          </a:ln>
        </p:spPr>
      </p:pic>
      <p:sp>
        <p:nvSpPr>
          <p:cNvPr id="80" name="Puzzle1"/>
          <p:cNvSpPr/>
          <p:nvPr/>
        </p:nvSpPr>
        <p:spPr>
          <a:xfrm>
            <a:off x="3081240" y="5697360"/>
            <a:ext cx="1978200" cy="963720"/>
          </a:xfrm>
          <a:prstGeom prst="pie">
            <a:avLst/>
          </a:prstGeom>
          <a:solidFill>
            <a:srgbClr val="c0504d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Téc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uzzle4"/>
          <p:cNvSpPr/>
          <p:nvPr/>
        </p:nvSpPr>
        <p:spPr>
          <a:xfrm>
            <a:off x="5556240" y="5553000"/>
            <a:ext cx="1216080" cy="1152720"/>
          </a:xfrm>
          <a:prstGeom prst="pie">
            <a:avLst/>
          </a:prstGeom>
          <a:solidFill>
            <a:srgbClr val="c0504d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So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838080" y="181080"/>
            <a:ext cx="853452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595959"/>
                </a:solidFill>
                <a:latin typeface="Arial"/>
                <a:ea typeface="Arial"/>
              </a:rPr>
              <a:t>MODELO AUDITORIA DEL SISTEMA HUMANO (AS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2276280"/>
            <a:ext cx="6551640" cy="2376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OS DE LA ESTRATEGIA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4" descr="IMG_0158"/>
          <p:cNvPicPr/>
          <p:nvPr/>
        </p:nvPicPr>
        <p:blipFill>
          <a:blip r:embed="rId2"/>
          <a:stretch/>
        </p:blipFill>
        <p:spPr>
          <a:xfrm>
            <a:off x="36360" y="4954680"/>
            <a:ext cx="2249640" cy="18637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220968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PLANIFICACIÓN ESTRATÉ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18960" y="1447920"/>
            <a:ext cx="850608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La planificación estratégica es una metodología que permite tomar decisiones para un período definido respecto de la relación que debe tener la organización con el ento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La Planificación Estratégica es un poderoso instrumento de gestión institucional si es acogido por los directivos en su trabajo diar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De lo contrario, pierde todo su valor y es visto como un gasto de tiempo y de recursos que podrían haberse destinado a otros f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1523880" y="380880"/>
            <a:ext cx="55627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PLANIFICACION ESTRATEGIC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Imagen 115"/>
          <p:cNvPicPr/>
          <p:nvPr/>
        </p:nvPicPr>
        <p:blipFill>
          <a:blip r:embed="rId2"/>
          <a:stretch/>
        </p:blipFill>
        <p:spPr>
          <a:xfrm>
            <a:off x="57240" y="4255920"/>
            <a:ext cx="1778040" cy="21258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3413160" y="129528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595959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595959"/>
                </a:solidFill>
                <a:latin typeface="Arial"/>
              </a:rPr>
              <a:t>1.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3557520" y="201456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595959"/>
                </a:solidFill>
                <a:latin typeface="Arial"/>
              </a:rPr>
              <a:t>2. ENTO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3340080" y="273384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595959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595959"/>
                </a:solidFill>
                <a:latin typeface="Arial"/>
              </a:rPr>
              <a:t>3. M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3341520" y="3489480"/>
            <a:ext cx="286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595959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595959"/>
                </a:solidFill>
                <a:latin typeface="Arial"/>
              </a:rPr>
              <a:t>4. FODA INT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3557520" y="417528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595959"/>
                </a:solidFill>
                <a:latin typeface="Arial"/>
              </a:rPr>
              <a:t>5. OBJETIVOS Y M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2975040" y="4930920"/>
            <a:ext cx="41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4800" spc="-1" strike="noStrike">
                <a:solidFill>
                  <a:srgbClr val="595959"/>
                </a:solidFill>
                <a:latin typeface="Arial"/>
              </a:rPr>
              <a:t>ESTRATEG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676520" y="378000"/>
            <a:ext cx="5562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1. VISIÓN ESTRATÉ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Imagen 163"/>
          <p:cNvPicPr/>
          <p:nvPr/>
        </p:nvPicPr>
        <p:blipFill>
          <a:blip r:embed="rId2"/>
          <a:stretch/>
        </p:blipFill>
        <p:spPr>
          <a:xfrm>
            <a:off x="108000" y="3429000"/>
            <a:ext cx="2101680" cy="31370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1828800" y="1438200"/>
            <a:ext cx="7010280" cy="45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Arial"/>
              </a:rPr>
              <a:t>Es la imagen del futuro de la instit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Arial"/>
              </a:rPr>
              <a:t>Se refiere a como le gustaría verse a sí misma en el futu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Arial"/>
              </a:rPr>
              <a:t>Tiene una importancia estratégica al señalar los rasgos del futuro deseado y a veces el plazo y formas de su implemen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Arial"/>
              </a:rPr>
              <a:t>La realidad la construimos desde las expectativas del futuro deseado y soñ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9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175248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VISIÓN (Ejempl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 algn="just">
              <a:lnSpc>
                <a:spcPct val="130000"/>
              </a:lnSpc>
              <a:spcBef>
                <a:spcPts val="499"/>
              </a:spcBef>
              <a:buClr>
                <a:srgbClr val="59595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595959"/>
                </a:solidFill>
                <a:latin typeface="Arial"/>
              </a:rPr>
              <a:t>Utilidades</a:t>
            </a:r>
            <a:r>
              <a:rPr b="0" lang="es-ES" sz="2000" spc="-1" strike="noStrike">
                <a:solidFill>
                  <a:srgbClr val="595959"/>
                </a:solidFill>
                <a:latin typeface="Arial"/>
              </a:rPr>
              <a:t>:  Maximizar el retorno a los accionistas, sin perder de vista la totalidad de nuestras responsabilida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30000"/>
              </a:lnSpc>
              <a:spcBef>
                <a:spcPts val="499"/>
              </a:spcBef>
              <a:buClr>
                <a:srgbClr val="59595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595959"/>
                </a:solidFill>
                <a:latin typeface="Arial"/>
              </a:rPr>
              <a:t>Gente</a:t>
            </a:r>
            <a:r>
              <a:rPr b="0" lang="es-ES" sz="2000" spc="-1" strike="noStrike">
                <a:solidFill>
                  <a:srgbClr val="595959"/>
                </a:solidFill>
                <a:latin typeface="Arial"/>
              </a:rPr>
              <a:t>: Ser un excelente lugar para trabajar, en donde nuestro personal se inspire para dar lo mejor de s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30000"/>
              </a:lnSpc>
              <a:spcBef>
                <a:spcPts val="499"/>
              </a:spcBef>
              <a:buClr>
                <a:srgbClr val="59595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595959"/>
                </a:solidFill>
                <a:latin typeface="Arial"/>
              </a:rPr>
              <a:t>Cartera de Productos:</a:t>
            </a:r>
            <a:r>
              <a:rPr b="0" lang="es-ES" sz="2000" spc="-1" strike="noStrike">
                <a:solidFill>
                  <a:srgbClr val="595959"/>
                </a:solidFill>
                <a:latin typeface="Arial"/>
              </a:rPr>
              <a:t> Ofrecer al mundo una cartera de marcas de bebidas que se anticipan y satisfacen los deseos y las necesidades de las perso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30000"/>
              </a:lnSpc>
              <a:spcBef>
                <a:spcPts val="499"/>
              </a:spcBef>
              <a:buClr>
                <a:srgbClr val="59595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595959"/>
                </a:solidFill>
                <a:latin typeface="Arial"/>
              </a:rPr>
              <a:t>Socios:</a:t>
            </a:r>
            <a:r>
              <a:rPr b="0" lang="es-ES" sz="2000" spc="-1" strike="noStrike">
                <a:solidFill>
                  <a:srgbClr val="595959"/>
                </a:solidFill>
                <a:latin typeface="Arial"/>
              </a:rPr>
              <a:t> Formar una red de socios exitosa y crear lealtad mutu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30000"/>
              </a:lnSpc>
              <a:spcBef>
                <a:spcPts val="499"/>
              </a:spcBef>
              <a:buClr>
                <a:srgbClr val="59595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595959"/>
                </a:solidFill>
                <a:latin typeface="Arial"/>
              </a:rPr>
              <a:t>Planeta:</a:t>
            </a:r>
            <a:r>
              <a:rPr b="0" lang="es-ES" sz="2000" spc="-1" strike="noStrike">
                <a:solidFill>
                  <a:srgbClr val="595959"/>
                </a:solidFill>
                <a:latin typeface="Arial"/>
              </a:rPr>
              <a:t> Ser un ciudadano global, responsable, que hace su aporte para un mundo mej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7267680" y="5589720"/>
            <a:ext cx="946080" cy="94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1790640" y="318960"/>
            <a:ext cx="5562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2. ANÁLISIS DE ENTO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533520" y="1484280"/>
            <a:ext cx="83358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262080" algn="just">
              <a:lnSpc>
                <a:spcPct val="14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Arial"/>
              </a:rPr>
              <a:t>Análisis de las caracteristicas del entorno actual y proyección de        escenarios futu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4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El entorno evoluciona en su complejidad en forma velo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4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La organización debe contemplar la evolución del entorno para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4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desarrollarse en forma susten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4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La organización genera bienes y/o servicios para satisfacer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4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Arial"/>
              </a:rPr>
              <a:t>expectativas de usuarios que pertenecen a dicho ento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Imagen 148"/>
          <p:cNvPicPr/>
          <p:nvPr/>
        </p:nvPicPr>
        <p:blipFill>
          <a:blip r:embed="rId2"/>
          <a:stretch/>
        </p:blipFill>
        <p:spPr>
          <a:xfrm>
            <a:off x="34920" y="5257800"/>
            <a:ext cx="2028960" cy="162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1:20:11Z</dcterms:created>
  <dc:creator>Tamara Osses</dc:creator>
  <dc:description/>
  <dc:language>en-US</dc:language>
  <cp:lastModifiedBy>jose tomas saffirio mezzano</cp:lastModifiedBy>
  <dcterms:modified xsi:type="dcterms:W3CDTF">2011-10-25T18:25:19Z</dcterms:modified>
  <cp:revision>50</cp:revision>
  <dc:subject/>
  <dc:title>Diapositiva 1</dc:title>
</cp:coreProperties>
</file>