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2E0-3DEB-488B-8FD8-8698B16E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AA3-8A9D-47B2-BD27-AEF8608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BAA-7FB5-45E8-9999-5A9380EB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B54-068F-445C-8254-8287F7B5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11E-9748-49EA-8AC7-60D0246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FA0-A492-4CE4-9D20-C5A6859E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4CA-71BA-46A1-81BD-5327487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00D-2E74-4B8E-9210-8B261EE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ECA-5C4A-4442-B9B5-329B23D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9AF-8BDC-457C-86A5-E7BCE3D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C2B-7DE5-4FB4-82A3-E5A41B9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7E2-1465-4160-8B9E-6EF9E05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1D6EE-5851-42B1-BCB3-3BD1373DCC87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C111C-73DD-4713-9A5D-640FCCA120E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871640" y="382680"/>
            <a:ext cx="597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0161"/>
          <p:cNvPicPr/>
          <p:nvPr/>
        </p:nvPicPr>
        <p:blipFill>
          <a:blip r:embed="rId2"/>
          <a:stretch/>
        </p:blipFill>
        <p:spPr>
          <a:xfrm>
            <a:off x="228600" y="4541760"/>
            <a:ext cx="2075040" cy="2316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057400" y="1295280"/>
            <a:ext cx="5334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olít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conóm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ecn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Fuerzas Lab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eográfico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pidemi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IMG_0164"/>
          <p:cNvPicPr/>
          <p:nvPr/>
        </p:nvPicPr>
        <p:blipFill>
          <a:blip r:embed="rId2"/>
          <a:stretch/>
        </p:blipFill>
        <p:spPr>
          <a:xfrm>
            <a:off x="0" y="5478480"/>
            <a:ext cx="2438280" cy="1379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68580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3. 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1720" y="1125360"/>
            <a:ext cx="815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es el propósito más importante por el que trabajan y se esfuerzan los miembros de una Organización, es la razón de ser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y sin duda lo más importante, todos los participantes (directivos y colaboradores) deben identificarse con la Misión, para lo cual será necesario acoger todos los aportes que hagan los impl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0640" y="7632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M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5920" y="1774800"/>
            <a:ext cx="8362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Refrescar al mundo en cuerpo, mente y al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Inspirar momentos de opti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a través de nuestras marcas y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Para crear valor y dejar nuestra impr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en cada uno de los lugares en los que opera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6705720" y="534528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agen 169"/>
          <p:cNvPicPr/>
          <p:nvPr/>
        </p:nvPicPr>
        <p:blipFill>
          <a:blip r:embed="rId2"/>
          <a:stretch/>
        </p:blipFill>
        <p:spPr>
          <a:xfrm>
            <a:off x="6400800" y="3429000"/>
            <a:ext cx="2409840" cy="2747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600200" y="228600"/>
            <a:ext cx="6337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4. ANALISIS INTERNO DE LA ORGANIZACIÓN</a:t>
            </a:r>
            <a:br>
              <a:rPr sz="2000"/>
            </a:b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   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1341360"/>
            <a:ext cx="5688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OPORTUN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emento o característica existente en el entorno que puede servir para lograr mayor desarrollo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AMENA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FORTALEZAS Y DEBILIDA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IMG_0157"/>
          <p:cNvPicPr/>
          <p:nvPr/>
        </p:nvPicPr>
        <p:blipFill>
          <a:blip r:embed="rId2"/>
          <a:stretch/>
        </p:blipFill>
        <p:spPr>
          <a:xfrm>
            <a:off x="0" y="4867200"/>
            <a:ext cx="1619280" cy="1914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95280" y="1320840"/>
            <a:ext cx="8435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Son los logros que se esperan obtener en el período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de tiempo establecido en términos cualitativ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a 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619280" y="2401920"/>
            <a:ext cx="72118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os OBJETIVOS DE MAYOR VIABILIDAD son aquellos para los cuales tenemos la confluencia de FORTALEZAS y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quellos de menor probabilidad de ocurrencia son los objetivos para los cuales tenemos la confluencia de DEBILIDADES y AMENA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es más fácil superar debilidades institucionales o personales que transformar las amenazas del entorno 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magen 153"/>
          <p:cNvPicPr/>
          <p:nvPr/>
        </p:nvPicPr>
        <p:blipFill>
          <a:blip r:embed="rId2"/>
          <a:stretch/>
        </p:blipFill>
        <p:spPr>
          <a:xfrm>
            <a:off x="5715000" y="3987720"/>
            <a:ext cx="3176640" cy="2465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634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Las METAS Son resultados y beneficios cuantificables esperados, los cuales deben ser congruentes con los objetiv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xpresan parámetros a ser alcanzados de manera concreta, si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oti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asc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gu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b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Imagen 074"/>
          <p:cNvPicPr/>
          <p:nvPr/>
        </p:nvPicPr>
        <p:blipFill>
          <a:blip r:embed="rId2"/>
          <a:stretch/>
        </p:blipFill>
        <p:spPr>
          <a:xfrm>
            <a:off x="2712960" y="1598760"/>
            <a:ext cx="3459240" cy="2479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1752480" y="235080"/>
            <a:ext cx="556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4249800"/>
            <a:ext cx="8686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Consiste en un patrón de decisiones cohe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unificador e integrado, que determina y revela el pro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de la organización en términos de objetivo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largo plazo, programas de acción y prio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para la asignación de recurs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752480" y="414360"/>
            <a:ext cx="556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G_0170"/>
          <p:cNvPicPr/>
          <p:nvPr/>
        </p:nvPicPr>
        <p:blipFill>
          <a:blip r:embed="rId2"/>
          <a:stretch/>
        </p:blipFill>
        <p:spPr>
          <a:xfrm>
            <a:off x="6762600" y="3962520"/>
            <a:ext cx="2381400" cy="2597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80880" y="1676520"/>
            <a:ext cx="67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 través de la estrategia las organizaciones bu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r con objetivos y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nsformar debilidades en fortal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ludir amenazas y aprovechar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lcanzar el éxito de las unidades y de la Institución en su conj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umentar el posicionamiento 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828800" y="228600"/>
            <a:ext cx="556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840" y="1341360"/>
            <a:ext cx="8362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</a:rPr>
              <a:t>Definiciones básicas de la estrateg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resistencias visualiza?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ales son los indicadores permitirán evaluar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G_0154"/>
          <p:cNvPicPr/>
          <p:nvPr/>
        </p:nvPicPr>
        <p:blipFill>
          <a:blip r:embed="rId2"/>
          <a:stretch/>
        </p:blipFill>
        <p:spPr>
          <a:xfrm>
            <a:off x="6705720" y="2287440"/>
            <a:ext cx="1979640" cy="28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6551640" cy="2376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OS DE LA ESTRATEGIA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IMG_0158"/>
          <p:cNvPicPr/>
          <p:nvPr/>
        </p:nvPicPr>
        <p:blipFill>
          <a:blip r:embed="rId2"/>
          <a:stretch/>
        </p:blipFill>
        <p:spPr>
          <a:xfrm>
            <a:off x="36360" y="4954680"/>
            <a:ext cx="2249640" cy="1863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2096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8960" y="1447920"/>
            <a:ext cx="8506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 poderoso instrumento de gestión institucional si es acogido por los directivos en su trabajo d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 lo contrario, pierde todo su valor y es visto como un gasto de tiempo y de recursos que podrían haberse destinado a otros 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52388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ON ESTRATEGI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n 115"/>
          <p:cNvPicPr/>
          <p:nvPr/>
        </p:nvPicPr>
        <p:blipFill>
          <a:blip r:embed="rId2"/>
          <a:stretch/>
        </p:blipFill>
        <p:spPr>
          <a:xfrm>
            <a:off x="57240" y="4255920"/>
            <a:ext cx="1778040" cy="212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413160" y="1295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1.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557520" y="20145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340080" y="273384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3. 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341520" y="3489480"/>
            <a:ext cx="28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4. FODA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557520" y="4175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5.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2975040" y="4930920"/>
            <a:ext cx="41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676520" y="378000"/>
            <a:ext cx="5562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1. VIS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Imagen 163"/>
          <p:cNvPicPr/>
          <p:nvPr/>
        </p:nvPicPr>
        <p:blipFill>
          <a:blip r:embed="rId2"/>
          <a:stretch/>
        </p:blipFill>
        <p:spPr>
          <a:xfrm>
            <a:off x="108000" y="3429000"/>
            <a:ext cx="2101680" cy="3137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28800" y="1438200"/>
            <a:ext cx="701028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s la imagen del futur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Se refiere a como le gustaría verse a sí misma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Tiene una importancia estratégica al señalar los rasgos del futuro deseado y a veces el plazo y formas de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La realidad la construimos desde las expectativas del futuro deseado y soñ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524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V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Utilidade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 Maximizar el retorno a los accionistas, sin perder de vista la totalidad de nuestras responsabil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Gent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Ser un excelente lugar para trabajar, en donde nuestro personal se inspire para dar lo mejor de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Cartera de Product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Ofrecer al mundo una cartera de marcas de bebidas que se anticipan y satisfacen los deseos y las necesidades de l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Soci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Formar una red de socios exitosa y crear lealtad mut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Planeta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Ser un ciudadano global, responsable, que hace su aporte para un mundo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267680" y="5589720"/>
            <a:ext cx="9460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0640" y="318960"/>
            <a:ext cx="5562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3520" y="1484280"/>
            <a:ext cx="833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Análisis de las caracteristicas del entorno actual y proyección de        escenarios fut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 entorno evoluciona en su complejidad en forma vel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debe contemplar la evolución del entorno par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sarrollarse en forma suste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genera bienes y/o servicios para satisfacer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xpectativas de usuarios que pertenecen a dicho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n 148"/>
          <p:cNvPicPr/>
          <p:nvPr/>
        </p:nvPicPr>
        <p:blipFill>
          <a:blip r:embed="rId2"/>
          <a:stretch/>
        </p:blipFill>
        <p:spPr>
          <a:xfrm>
            <a:off x="34920" y="5257800"/>
            <a:ext cx="20289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20:11Z</dcterms:created>
  <dc:creator>Tamara Osses</dc:creator>
  <dc:description/>
  <dc:language>en-US</dc:language>
  <cp:lastModifiedBy>jose tomas saffirio mezzano</cp:lastModifiedBy>
  <dcterms:modified xsi:type="dcterms:W3CDTF">2011-10-25T18:25:19Z</dcterms:modified>
  <cp:revision>50</cp:revision>
  <dc:subject/>
  <dc:title>Diapositiva 1</dc:title>
</cp:coreProperties>
</file>