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B29F-DD39-4E48-B317-82C446EB7C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F7CF-A06B-4E5C-940F-100A3E2F2E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2DB2-A191-455E-91E6-7694F052F0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A983-CDB8-4B49-AB10-3AB944ECEE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CABF-5576-4FD6-ADC7-11593E653D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693F-7D1A-4FDB-A60D-1A0A2BA487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5541-50EB-4A64-ADF1-2439088A41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5A0B-1F4D-4DB1-B9BA-C565C6D506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B094-FE61-4AC2-87E9-CBB01474FF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2FEC-3A9F-45D5-A2B2-8CA9B0BD28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8A1C-C7C6-43F4-8028-A75BC13220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3A90-75F7-4FFD-BDA2-55A17AE1E5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FE1-7D9D-4BB7-923F-9C4E3F959E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A4DD-F736-458A-BF4C-26F462B68B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8C3D-D7A1-4CFA-83DF-7EB5768A31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6AEF-7A88-4410-B52B-F1A3FA553E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D07E-2D2C-4007-8E19-7C405E60FF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AA37-348E-4F4A-B878-0DA9BAA502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74532-C996-49BB-9397-2F283AE102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6C254F9-4AFD-4F18-BCE9-4B36932AE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C8F0880-E1A9-4F34-A4E7-CE45C9E18C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71D70478-9EB1-44B0-957B-2D86E90D4C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DDB6-0410-4BCD-AFDE-5221497FC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91E8C-E3AB-4AEE-A019-6FFDD1A29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651DB02-C57B-44B3-9C76-C81862160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0FB2DC41-D5EE-4C4D-BEDC-DF424BFCAC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BEC8F9A-AF04-4515-972F-C4588C2ADF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3E1134C-45CD-4098-A510-B5F1E09443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88CBA3-5C1C-473C-9956-945965E85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3DE713D-DB78-4F0B-8C0B-3A824E49E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DD24-EC6F-4267-9BC3-633379F32D6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0A9C-809C-4B0A-8595-D8EE55BE703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Jorge Marshall y Mario Waissbluth</a:t>
            </a:r>
            <a:endParaRPr b="1" lang="en-US" sz="2800" spc="-1" strike="noStrike">
              <a:solidFill>
                <a:srgbClr val="333399"/>
              </a:solidFill>
              <a:latin typeface="Arial"/>
            </a:endParaRPr>
          </a:p>
        </p:txBody>
      </p:sp>
      <p:sp>
        <p:nvSpPr>
          <p:cNvPr id="48"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de Enero,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0C8B-B0DF-409A-AA08-D284371965C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82"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D3BA-54FA-4E77-B2C6-07CE7E17F979}"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85"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fasis en resultados y evaluación de impacto. Todavía no sabemos que impacto (outcome) cuantitativo y cualitativo  ha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5AAB-C0C5-44FD-822A-C887A0D7199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terializar el “paquete de 30 medidas” a la brevedad, con visión de Estado, no de lucha político-electora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CC54-EC4D-4F0C-AE6C-96F13F61777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91"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8C3D-4F24-4A2C-AA21-FC90D479E23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94"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4186-1970-4FA7-ADA8-AE961D831EE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7"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964C-6D11-45B6-B897-E0CD28EB445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9"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100"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D7A9-C77D-4E6B-8FA8-6BB7BFFCDDC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103"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59DC-5942-4095-8071-A1F6F6E1009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1"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1B4-DAC1-4BF4-B7C9-0E687E770A6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54"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acter “administrativo”, últimos pero necesarios suspiros de la concepción weberiana. Asimismo, grandes avances de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06A7-DA12-4D38-BBF0-D55032395CC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6"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57" name="Picture 3" descr="La caverna"/>
          <p:cNvPicPr/>
          <p:nvPr/>
        </p:nvPicPr>
        <p:blipFill>
          <a:blip r:embed="rId1"/>
          <a:stretch/>
        </p:blipFill>
        <p:spPr>
          <a:xfrm>
            <a:off x="1619280" y="804960"/>
            <a:ext cx="5616720" cy="5533920"/>
          </a:xfrm>
          <a:prstGeom prst="rect">
            <a:avLst/>
          </a:prstGeom>
          <a:ln w="0">
            <a:noFill/>
          </a:ln>
        </p:spPr>
      </p:pic>
      <p:sp>
        <p:nvSpPr>
          <p:cNvPr id="58"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59"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1"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C1A3-8661-44A3-A2B1-C895BFFB87D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Oval 6"/>
          <p:cNvSpPr/>
          <p:nvPr/>
        </p:nvSpPr>
        <p:spPr>
          <a:xfrm>
            <a:off x="2195640" y="3716280"/>
            <a:ext cx="64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
          <p:cNvPicPr/>
          <p:nvPr/>
        </p:nvPicPr>
        <p:blipFill>
          <a:blip r:embed="rId1"/>
          <a:stretch/>
        </p:blipFill>
        <p:spPr>
          <a:xfrm>
            <a:off x="-324000" y="333360"/>
            <a:ext cx="9864720" cy="5835600"/>
          </a:xfrm>
          <a:prstGeom prst="rect">
            <a:avLst/>
          </a:prstGeom>
          <a:ln w="0">
            <a:noFill/>
          </a:ln>
        </p:spPr>
      </p:pic>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del Estado.</a:t>
            </a:r>
            <a:endParaRPr b="1" lang="en-US" sz="3200" spc="-1" strike="noStrike">
              <a:solidFill>
                <a:srgbClr val="333399"/>
              </a:solidFill>
              <a:latin typeface="Arial"/>
            </a:endParaRPr>
          </a:p>
        </p:txBody>
      </p:sp>
      <p:sp>
        <p:nvSpPr>
          <p:cNvPr id="67" name="Oval 7"/>
          <p:cNvSpPr/>
          <p:nvPr/>
        </p:nvSpPr>
        <p:spPr>
          <a:xfrm>
            <a:off x="2124000" y="3716280"/>
            <a:ext cx="79236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Cifras recientes)</a:t>
            </a:r>
            <a:endParaRPr b="1" lang="en-US" sz="3200" spc="-1" strike="noStrike">
              <a:solidFill>
                <a:srgbClr val="333399"/>
              </a:solidFill>
              <a:latin typeface="Arial"/>
            </a:endParaRPr>
          </a:p>
        </p:txBody>
      </p:sp>
      <p:sp>
        <p:nvSpPr>
          <p:cNvPr id="69" name=""/>
          <p:cNvSpPr txBox="1"/>
          <p:nvPr/>
        </p:nvSpPr>
        <p:spPr>
          <a:xfrm>
            <a:off x="0" y="980640"/>
            <a:ext cx="8964720" cy="4969080"/>
          </a:xfrm>
          <a:prstGeom prst="rect">
            <a:avLst/>
          </a:prstGeom>
          <a:noFill/>
          <a:ln w="0">
            <a:noFill/>
          </a:ln>
        </p:spPr>
        <p:txBody>
          <a:bodyPr anchor="t">
            <a:normAutofit fontScale="92000"/>
          </a:bodyPr>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de Chile (2009): US$ 242,4 </a:t>
            </a:r>
            <a:r>
              <a:rPr b="1" lang="es-ES" sz="1900" spc="-1" strike="noStrike">
                <a:solidFill>
                  <a:srgbClr val="000000"/>
                </a:solidFill>
                <a:latin typeface="Arial"/>
              </a:rPr>
              <a:t>B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per cápita: US$ 14.465.- a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público: 18,6% del PIB, US$ 45,1 Billones  en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Salud, presupuesto 2012: $4.290.000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Defensa, presupuesto 2012: $1.197.014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Ingresos por Impuestos al Tesoro  Público, presupuesto 2012: $21.841.843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l presupuesto 2012 destina a educación un total de $5.499.272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mpleados públicos al año 2007: 178.274. Proyectado a 2011, sobre los 190.000.</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Monto transado por Chilecompra el 2008: US$5.045.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13 millones de beneficiarios en el sistema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2284 establecimientos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Durante el tercer trimestre del año 2011,  el número promedio estimado de empleos creados a través de programas sectoriales de inversión pública se estima que beneficiaron a 255.458 personas.</a:t>
            </a:r>
            <a:endParaRPr b="0" lang="en-US" sz="1900" spc="-1" strike="noStrike">
              <a:solidFill>
                <a:srgbClr val="000000"/>
              </a:solidFill>
              <a:latin typeface="Arial"/>
            </a:endParaRPr>
          </a:p>
        </p:txBody>
      </p:sp>
      <p:sp>
        <p:nvSpPr>
          <p:cNvPr id="7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7870-7942-48F5-AE5D-818D06E6D4B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90BC-9EC2-4504-914A-ECE4A9F6584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Calidad 2000</a:t>
            </a:r>
            <a:endParaRPr b="1" lang="en-US" sz="3200" spc="-1" strike="noStrike">
              <a:solidFill>
                <a:srgbClr val="333399"/>
              </a:solidFill>
              <a:latin typeface="Arial"/>
            </a:endParaRPr>
          </a:p>
        </p:txBody>
      </p:sp>
      <p:pic>
        <p:nvPicPr>
          <p:cNvPr id="73" name="Picture 3" descr=""/>
          <p:cNvPicPr/>
          <p:nvPr/>
        </p:nvPicPr>
        <p:blipFill>
          <a:blip r:embed="rId1"/>
          <a:stretch/>
        </p:blipFill>
        <p:spPr>
          <a:xfrm>
            <a:off x="-324000" y="0"/>
            <a:ext cx="9971280" cy="128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898F-3CED-4932-AB82-0E7B2774AD6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Eficiencia 2000</a:t>
            </a:r>
            <a:endParaRPr b="1" lang="en-US" sz="3200" spc="-1" strike="noStrike">
              <a:solidFill>
                <a:srgbClr val="333399"/>
              </a:solidFill>
              <a:latin typeface="Arial"/>
            </a:endParaRPr>
          </a:p>
        </p:txBody>
      </p:sp>
      <p:pic>
        <p:nvPicPr>
          <p:cNvPr id="76" name="Picture 3" descr=""/>
          <p:cNvPicPr/>
          <p:nvPr/>
        </p:nvPicPr>
        <p:blipFill>
          <a:blip r:embed="rId1"/>
          <a:stretch/>
        </p:blipFill>
        <p:spPr>
          <a:xfrm>
            <a:off x="-189000" y="-316080"/>
            <a:ext cx="9655200" cy="1247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D60D-7272-407E-8A4D-EF57E5C9E2F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9"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Carlos</cp:lastModifiedBy>
  <dcterms:modified xsi:type="dcterms:W3CDTF">2011-11-14T23:53:42Z</dcterms:modified>
  <cp:revision>21</cp:revision>
  <dc:subject/>
  <dc:title>Reforma del Estado en Chile Balance y Perspectivas Jorge Marshall y Mario Waissbluth</dc:title>
</cp:coreProperties>
</file>