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03C3-EA4E-4C32-91A7-8F8DFBD4B3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D88C-0152-4442-86F2-E8766B27FE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8D3B-37F0-4B17-BFB4-C37AB5CD41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640B-1D2D-4E7D-83FE-3076FA4A1C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050A-DE32-48C6-A8AC-6ADEE311F3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EC70-761F-4FEE-9B26-FF67BAAE1A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3D26-6AC0-4700-B49F-140B002E6E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90FC-24DA-4DDE-8A6D-3F967DBD0A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6ECA-1904-4906-8F38-803D6F5B76E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42CF-A1A6-45F6-A93E-CB4E64C819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8456-DAC9-40BC-9335-A510D0426C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C1B5-3D79-45C9-87B4-9AE2D9E983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FCF4-6434-4F30-A775-6BF1236733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D7DD-6C9F-4B0B-A24A-ABECCC17B2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1363-76F3-443C-8B45-14F23210A0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2FE7-DA91-4F74-971C-CBA3C84682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3B33-F8DA-442E-946A-904AD04EED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FA67-79A2-42FB-B42C-A3D51B5B46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881D3-8D47-4D10-84A0-F272BA7C8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874D12E-E359-4C1C-A563-BC8BAB231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987A3AC-2476-4E4C-9386-5F2FADE015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14C9ECF-E866-488B-B76A-985AD2E21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109E7-F1E7-42A6-BB1E-DCD28CC31C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66E54-047F-4CF7-B1AA-E3D69829A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5CB4463-8B1D-4FF4-8F34-700B6F8FC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0AE08414-30DE-4900-8F32-283DA683BE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24F6CB1-C48D-469D-81FF-E5AE665E81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16572E3-ECB3-41D3-B4D8-E08DEED395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802B3F8-5FCA-4825-AF0F-632CCF9ED0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00CE915-5BA9-48B2-A735-8FCB7B0A1C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EBA3-7AFD-4D01-ADA0-94F0720FDE6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CE4D-6749-4F86-9098-B6A22818ADE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Jorge Marshall y Mario Waissbluth</a:t>
            </a:r>
            <a:endParaRPr b="1" lang="en-US" sz="2800" spc="-1" strike="noStrike">
              <a:solidFill>
                <a:srgbClr val="333399"/>
              </a:solidFill>
              <a:latin typeface="Arial"/>
            </a:endParaRPr>
          </a:p>
        </p:txBody>
      </p:sp>
      <p:sp>
        <p:nvSpPr>
          <p:cNvPr id="48"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de Enero,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D04B-4005-4B5B-8028-F183962AF97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82"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6667-FC10-4E8C-84C9-1CFD996E1D9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85"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fasis en resultados y evaluación de impacto. Todavía no sabemos que impacto (outcome) cuantitativo y cualitativo  ha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C75A-F67E-4B3F-B910-CE7464582A8A}"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8"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terializar el “paquete de 30 medidas” a la brevedad, con visión de Estado, no de lucha político-electora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926B-DEAE-4136-A6C5-D311CEF3B09A}"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91"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F4BC-3ED0-41BE-8733-344055B4282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94"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15A3-630B-4271-B8C3-AC8AA9C85B4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7"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7078-A390-424B-BCFB-F33621B6014A}"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9"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100"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F685-03C0-40EB-A41D-2EF2C5C0865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103"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A4FC-ECB9-4D06-9B7E-0F7DCBC4C29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1"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F803-687E-4BDA-9B56-8A7FDD9DB1A3}"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54"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acter “administrativo”, últimos pero necesarios suspiros de la concepción weberiana. Asimismo, grandes avances de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CED8-2B83-4B0E-A153-24517D5AF03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6"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57" name="Picture 3" descr="La caverna"/>
          <p:cNvPicPr/>
          <p:nvPr/>
        </p:nvPicPr>
        <p:blipFill>
          <a:blip r:embed="rId1"/>
          <a:stretch/>
        </p:blipFill>
        <p:spPr>
          <a:xfrm>
            <a:off x="1619280" y="804960"/>
            <a:ext cx="5616720" cy="5533920"/>
          </a:xfrm>
          <a:prstGeom prst="rect">
            <a:avLst/>
          </a:prstGeom>
          <a:ln w="0">
            <a:noFill/>
          </a:ln>
        </p:spPr>
      </p:pic>
      <p:sp>
        <p:nvSpPr>
          <p:cNvPr id="58"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59"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1"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3EB6-F432-4334-AEB7-90D04F92A88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Oval 6"/>
          <p:cNvSpPr/>
          <p:nvPr/>
        </p:nvSpPr>
        <p:spPr>
          <a:xfrm>
            <a:off x="2195640" y="3716280"/>
            <a:ext cx="64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4" descr=""/>
          <p:cNvPicPr/>
          <p:nvPr/>
        </p:nvPicPr>
        <p:blipFill>
          <a:blip r:embed="rId1"/>
          <a:stretch/>
        </p:blipFill>
        <p:spPr>
          <a:xfrm>
            <a:off x="-324000" y="333360"/>
            <a:ext cx="9864720" cy="5835600"/>
          </a:xfrm>
          <a:prstGeom prst="rect">
            <a:avLst/>
          </a:prstGeom>
          <a:ln w="0">
            <a:noFill/>
          </a:ln>
        </p:spPr>
      </p:pic>
      <p:sp>
        <p:nvSpPr>
          <p:cNvPr id="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del Estado.</a:t>
            </a:r>
            <a:endParaRPr b="1" lang="en-US" sz="3200" spc="-1" strike="noStrike">
              <a:solidFill>
                <a:srgbClr val="333399"/>
              </a:solidFill>
              <a:latin typeface="Arial"/>
            </a:endParaRPr>
          </a:p>
        </p:txBody>
      </p:sp>
      <p:sp>
        <p:nvSpPr>
          <p:cNvPr id="67" name="Oval 7"/>
          <p:cNvSpPr/>
          <p:nvPr/>
        </p:nvSpPr>
        <p:spPr>
          <a:xfrm>
            <a:off x="2124000" y="3716280"/>
            <a:ext cx="79236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Cifras recientes)</a:t>
            </a:r>
            <a:endParaRPr b="1" lang="en-US" sz="3200" spc="-1" strike="noStrike">
              <a:solidFill>
                <a:srgbClr val="333399"/>
              </a:solidFill>
              <a:latin typeface="Arial"/>
            </a:endParaRPr>
          </a:p>
        </p:txBody>
      </p:sp>
      <p:sp>
        <p:nvSpPr>
          <p:cNvPr id="69" name=""/>
          <p:cNvSpPr txBox="1"/>
          <p:nvPr/>
        </p:nvSpPr>
        <p:spPr>
          <a:xfrm>
            <a:off x="0" y="980640"/>
            <a:ext cx="8964720" cy="4969080"/>
          </a:xfrm>
          <a:prstGeom prst="rect">
            <a:avLst/>
          </a:prstGeom>
          <a:noFill/>
          <a:ln w="0">
            <a:noFill/>
          </a:ln>
        </p:spPr>
        <p:txBody>
          <a:bodyPr anchor="t">
            <a:normAutofit fontScale="92000"/>
          </a:bodyPr>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de Chile (2009): US$ 242,4 </a:t>
            </a:r>
            <a:r>
              <a:rPr b="1" lang="es-ES" sz="1900" spc="-1" strike="noStrike">
                <a:solidFill>
                  <a:srgbClr val="000000"/>
                </a:solidFill>
                <a:latin typeface="Arial"/>
              </a:rPr>
              <a:t>B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per cápita: US$ 14.465.- a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público: 18,6% del PIB, US$ 45,1 Billones  en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Salud, presupuesto 2012: $4.290.000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Defensa, presupuesto 2012: $1.197.014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Ingresos por Impuestos al Tesoro  Público, presupuesto 2012: $21.841.843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l presupuesto 2012 destina a educación un total de $5.499.272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mpleados públicos al año 2007: 178.274. Proyectado a 2011, sobre los 190.000.</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Monto transado por Chilecompra el 2008: US$5.045.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13 millones de beneficiarios en el sistema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2284 establecimientos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Durante el tercer trimestre del año 2011,  el número promedio estimado de empleos creados a través de programas sectoriales de inversión pública se estima que beneficiaron a 255.458 personas.</a:t>
            </a:r>
            <a:endParaRPr b="0" lang="en-US" sz="1900" spc="-1" strike="noStrike">
              <a:solidFill>
                <a:srgbClr val="000000"/>
              </a:solidFill>
              <a:latin typeface="Arial"/>
            </a:endParaRPr>
          </a:p>
        </p:txBody>
      </p:sp>
      <p:sp>
        <p:nvSpPr>
          <p:cNvPr id="7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9735-4D6D-48F0-87A3-6CDC8EE6B9E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A47A-47E9-44C4-874A-DD8251CDEBF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Calidad 2000</a:t>
            </a:r>
            <a:endParaRPr b="1" lang="en-US" sz="3200" spc="-1" strike="noStrike">
              <a:solidFill>
                <a:srgbClr val="333399"/>
              </a:solidFill>
              <a:latin typeface="Arial"/>
            </a:endParaRPr>
          </a:p>
        </p:txBody>
      </p:sp>
      <p:pic>
        <p:nvPicPr>
          <p:cNvPr id="73" name="Picture 3" descr=""/>
          <p:cNvPicPr/>
          <p:nvPr/>
        </p:nvPicPr>
        <p:blipFill>
          <a:blip r:embed="rId1"/>
          <a:stretch/>
        </p:blipFill>
        <p:spPr>
          <a:xfrm>
            <a:off x="-324000" y="0"/>
            <a:ext cx="9971280" cy="128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3551-2EB1-4FCF-A8F9-E60E1E9AFC5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Eficiencia 2000</a:t>
            </a:r>
            <a:endParaRPr b="1" lang="en-US" sz="3200" spc="-1" strike="noStrike">
              <a:solidFill>
                <a:srgbClr val="333399"/>
              </a:solidFill>
              <a:latin typeface="Arial"/>
            </a:endParaRPr>
          </a:p>
        </p:txBody>
      </p:sp>
      <p:pic>
        <p:nvPicPr>
          <p:cNvPr id="76" name="Picture 3" descr=""/>
          <p:cNvPicPr/>
          <p:nvPr/>
        </p:nvPicPr>
        <p:blipFill>
          <a:blip r:embed="rId1"/>
          <a:stretch/>
        </p:blipFill>
        <p:spPr>
          <a:xfrm>
            <a:off x="-189000" y="-316080"/>
            <a:ext cx="9655200" cy="1247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3BB1-2438-41B6-AB4B-565FDB47710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9"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Carlos</cp:lastModifiedBy>
  <dcterms:modified xsi:type="dcterms:W3CDTF">2011-11-14T23:53:42Z</dcterms:modified>
  <cp:revision>21</cp:revision>
  <dc:subject/>
  <dc:title>Reforma del Estado en Chile Balance y Perspectivas Jorge Marshall y Mario Waissbluth</dc:title>
</cp:coreProperties>
</file>