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2FDA-A5AF-4B14-A258-C3501D90C58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7E73-7178-4B3E-9E0F-A9DB04DDF5E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FBCE-D8A5-4211-8673-CEE44EEE81B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A8E5-ED8E-45BF-A9C1-209C312C1F1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597F-0A98-4AC7-9BDA-3C4D2CEDF9D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0EC7-2B96-428A-B5F4-534B34B37EE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7267-40E1-4F13-A6A1-D88CD29BC67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D58D-4CF4-4AEC-B8D3-79894E53E43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1338-0223-4171-AA1F-2CAACAFB639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CF3E-A9F0-4F92-9B75-F8133BE0AD8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CD91-B112-49C2-A26C-618EF450159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10A3-E553-4A1D-8018-B0DEFBD9E7B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CCAA-73D2-4296-A397-BB25D1019F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272B-1AA3-40F8-9A88-441527FF27D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AFD8-787C-4D15-BFB8-5E2B53570AE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1E48-31E8-4D33-B6B2-6A31C2B5148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34FA-618B-48D0-858C-6635BEE89B1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88B0-ED11-4B9B-A28F-E08D03A8176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7FEE-4738-458A-8282-9928A3908FE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FDB6-E5DA-45FB-9256-FF5AEE56CAC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956D-FBCE-47D2-89BD-ECC6872A380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0569-A96B-4D4F-84C1-D12EE2A3BF0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3F5D-43A7-4661-9885-4C55F48D3B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EAFA-4D87-463F-8370-ADC12EDBC17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362B-78FD-44E3-87D8-F86341DEB99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5178-1B0A-4AAF-AB00-8EE97DBBD36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698C-6028-4028-AD44-FA94C61EAAE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C56B2-9798-44E6-BEC4-D27889775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985B8-59C5-459D-B131-09203FB33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F8E26-69AD-4A12-837E-B79E87BCB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E41BB-0ABE-4BC6-A822-C2381DEEC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BA660-CBF3-4B90-B87C-3537B840D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32E27-02A2-44DE-8707-AF55C5347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84E31-BCEA-4F77-A461-7A67EAD92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36BE9-1A60-4AB7-A764-54EAF128D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329DD-0735-426A-9609-4F63A0B9C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38002-4E40-4B69-A599-B4D7800DB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99691-1143-439B-9AC0-A1D856D84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A6FAB-5583-4FF1-9C3A-2FA19C5E1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96573-2115-4FB6-9D61-212119536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3F5A5-1B5C-4992-9EDD-5B95A63EF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E845B-6E08-4894-90CE-DD4175410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4C619-F82D-4C08-AE38-378F1DE7B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7BD23-47C0-4536-9A9C-2858FC6BA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EDABB0-B99A-4448-BBDD-6F8B4DFC16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1F715-0AA6-40A1-9482-A7851D801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47F0E-B9B6-40DD-9B71-9E9CDAA04C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ABD955-33C1-4676-A7D4-66C035685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3F829C-4943-4E46-B1C1-4ACA9C516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848B5-0CF0-4CE8-8F22-E0F231E7B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E6C38-FF9E-4D83-8968-76BADA665C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AAEA8-737C-4259-B60A-14B2D92BA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01E58-249E-483C-9D51-8DA8B3DE4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4B1B0-99D4-4499-891D-EEABD5EBE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F42D5-8CBE-4F28-B894-94FB45F75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0D10C2-8B58-4DB4-842E-E57FBE4C66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BF1B1A-403E-43DA-936E-48A67F0B1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FEE6BA-AAE6-4450-A551-0E565D6CE3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3CED5-EF89-4272-83D7-147B90DD5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2098E-14EB-494F-944D-C22FF06CF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7EDBD-1B52-4EC0-A757-50E044D17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5708D9-B283-4F5B-9A7F-0A53F5ECB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D876B-DE57-45F8-9681-7D002D52C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474B6E-0E36-4122-BD3F-24B88DD4A7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842CA-AFC9-4C4D-BAEB-DE4A43FED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EC111-25D7-4F4E-BB21-8BB17FE69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4DB54-E5B9-40E7-B710-A60474870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75424-ED3E-4034-87F9-D0C91FB16A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0EAC8E-3D2E-49F4-A379-A38371B268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747B4A-DA10-4117-A623-2AFA8B374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6DD6B9-1342-4A70-BB29-3F1DF4FEAB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03FC2-ACCA-4CCE-9C40-0171F32E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D512BC-0E10-4B98-95FF-80B447BBA2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DD12D0-B329-4246-8CCB-62F52FA754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FBB7D-62B6-4EE9-A70E-D0C08F4D76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444A86-2BB2-453D-A105-739BA88E7D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46338-BFE3-4B5B-A007-1F67AA0217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0628A-1BB8-453F-A6E9-180189A00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29553-BA72-4CC9-9F63-2BDC9884E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820BB3-0C0A-4CBE-A862-C157F365B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DF5ED-DEB8-4E9B-9BDC-CB5BF806C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EE596C-F09F-45E9-9260-6FAA1BEC51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E2C69-A085-4ECD-8A4C-A29D0ED2A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3CF62B-81D3-4D8E-8758-0F1F6F4F71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475F-412B-4025-932F-E99A41BCB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BC242-CB41-4D96-887A-5B4444D6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6A5C6-367E-4B66-8242-77F6BE5DC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4686-C07B-4C9D-B4DA-D0C6FAA1754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42"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43"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6" name="PlaceHolder 3"/>
          <p:cNvSpPr>
            <a:spLocks noGrp="1"/>
          </p:cNvSpPr>
          <p:nvPr>
            <p:ph type="dt" idx="4"/>
          </p:nvPr>
        </p:nvSpPr>
        <p:spPr>
          <a:xfrm>
            <a:off x="2771280" y="6381360"/>
            <a:ext cx="107964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04CA-1F55-4C00-8161-E8B52FC73CE2}"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86"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87"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pic>
        <p:nvPicPr>
          <p:cNvPr id="88" name="Picture 2" descr="C:\Documents and Settings\Carlos Urriola\Escritorio\My Dropbox\A.3.2 CSP\E. Documentos\Imagenes\Logos\CSP-color+bajada.bmp"/>
          <p:cNvPicPr/>
          <p:nvPr/>
        </p:nvPicPr>
        <p:blipFill>
          <a:blip r:embed="rId5"/>
          <a:stretch/>
        </p:blipFill>
        <p:spPr>
          <a:xfrm>
            <a:off x="1892160" y="5300640"/>
            <a:ext cx="5359680" cy="865080"/>
          </a:xfrm>
          <a:prstGeom prst="rect">
            <a:avLst/>
          </a:prstGeom>
          <a:ln w="0">
            <a:noFill/>
          </a:ln>
        </p:spPr>
      </p:pic>
      <p:pic>
        <p:nvPicPr>
          <p:cNvPr id="89" name="Picture 3" descr="C:\Documents and Settings\Carlos Urriola\Escritorio\My Dropbox\A.3.2 CSP\E. Documentos\Imagenes\Logos\CSP3.bmp"/>
          <p:cNvPicPr/>
          <p:nvPr/>
        </p:nvPicPr>
        <p:blipFill>
          <a:blip r:embed="rId6"/>
          <a:srcRect l="6653" t="0" r="0" b="0"/>
          <a:stretch/>
        </p:blipFill>
        <p:spPr>
          <a:xfrm>
            <a:off x="0" y="0"/>
            <a:ext cx="3529080" cy="907920"/>
          </a:xfrm>
          <a:prstGeom prst="rect">
            <a:avLst/>
          </a:prstGeom>
          <a:ln w="0">
            <a:noFill/>
          </a:ln>
        </p:spPr>
      </p:pic>
      <p:pic>
        <p:nvPicPr>
          <p:cNvPr id="90" name="Picture 3" descr="C:\Documents and Settings\Carlos Urriola\Escritorio\My Dropbox\A.3.2 CSP\E. Documentos\Imagenes\Logos\CSP3.bmp"/>
          <p:cNvPicPr/>
          <p:nvPr/>
        </p:nvPicPr>
        <p:blipFill>
          <a:blip r:embed="rId7"/>
          <a:srcRect l="0" t="0" r="6653" b="0"/>
          <a:stretch/>
        </p:blipFill>
        <p:spPr>
          <a:xfrm>
            <a:off x="5516640" y="0"/>
            <a:ext cx="3627360" cy="907920"/>
          </a:xfrm>
          <a:prstGeom prst="rect">
            <a:avLst/>
          </a:prstGeom>
          <a:ln w="0">
            <a:noFill/>
          </a:ln>
        </p:spPr>
      </p:pic>
      <p:sp>
        <p:nvSpPr>
          <p:cNvPr id="91" name="9 CuadroTexto"/>
          <p:cNvSpPr/>
          <p:nvPr/>
        </p:nvSpPr>
        <p:spPr>
          <a:xfrm>
            <a:off x="0" y="5934240"/>
            <a:ext cx="199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94" name="PlaceHolder 3"/>
          <p:cNvSpPr>
            <a:spLocks noGrp="1"/>
          </p:cNvSpPr>
          <p:nvPr>
            <p:ph type="dt" idx="7"/>
          </p:nvPr>
        </p:nvSpPr>
        <p:spPr>
          <a:xfrm>
            <a:off x="0" y="6237360"/>
            <a:ext cx="1936800" cy="6206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343320" y="6381720"/>
            <a:ext cx="245736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740360" y="6308640"/>
            <a:ext cx="1042920" cy="433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6781-384B-42B4-A927-9344FFC26D41}"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34"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35"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38" name="PlaceHolder 3"/>
          <p:cNvSpPr>
            <a:spLocks noGrp="1"/>
          </p:cNvSpPr>
          <p:nvPr>
            <p:ph type="dt" idx="10"/>
          </p:nvPr>
        </p:nvSpPr>
        <p:spPr>
          <a:xfrm>
            <a:off x="2771280" y="6381360"/>
            <a:ext cx="1008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2896-56DA-4C8C-9406-7A9D841462A6}"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78"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79"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8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entury Gothic"/>
              </a:rPr>
              <a:t>23/06/2010                    www.sistemaspublicos.cl</a:t>
            </a:r>
            <a:endParaRPr b="0" lang="en-US" sz="1200" spc="-1" strike="noStrike">
              <a:solidFill>
                <a:srgbClr val="000000"/>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D89B-52A5-43CE-853B-2F526281BA8E}"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Padr&#243;n%20electoral%20Chile%20por%20grupos%20et&#225;reos.xls" TargetMode="External"/><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cvPA4wc5Fm0" TargetMode="External"/><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C:\Documents and Settings\Carlos Urriola\Escritorio\My Dropbox\A.3.2 CSP\E. Documentos\Imagenes\Logos\CSP3.bmp"/>
          <p:cNvPicPr/>
          <p:nvPr/>
        </p:nvPicPr>
        <p:blipFill>
          <a:blip r:embed="rId1"/>
          <a:srcRect l="6653" t="0" r="0" b="0"/>
          <a:stretch/>
        </p:blipFill>
        <p:spPr>
          <a:xfrm>
            <a:off x="0" y="0"/>
            <a:ext cx="3529080" cy="907920"/>
          </a:xfrm>
          <a:prstGeom prst="rect">
            <a:avLst/>
          </a:prstGeom>
          <a:ln w="0">
            <a:noFill/>
          </a:ln>
        </p:spPr>
      </p:pic>
      <p:pic>
        <p:nvPicPr>
          <p:cNvPr id="229" name="Picture 4" descr="C:\Documents and Settings\Carlos Urriola\Escritorio\My Dropbox\A.3.2 CSP\E. Documentos\Imagenes\Logos\CSP3.bmp"/>
          <p:cNvPicPr/>
          <p:nvPr/>
        </p:nvPicPr>
        <p:blipFill>
          <a:blip r:embed="rId2"/>
          <a:stretch/>
        </p:blipFill>
        <p:spPr>
          <a:xfrm>
            <a:off x="7650000" y="5973840"/>
            <a:ext cx="1494000" cy="884160"/>
          </a:xfrm>
          <a:prstGeom prst="rect">
            <a:avLst/>
          </a:prstGeom>
          <a:ln w="0">
            <a:noFill/>
          </a:ln>
        </p:spPr>
      </p:pic>
      <p:pic>
        <p:nvPicPr>
          <p:cNvPr id="230" name="Picture 3" descr="C:\Documents and Settings\Carlos Urriola\Escritorio\My Dropbox\A.3.2 CSP\E. Documentos\Imagenes\Logos\CSP3.bmp"/>
          <p:cNvPicPr/>
          <p:nvPr/>
        </p:nvPicPr>
        <p:blipFill>
          <a:blip r:embed="rId3"/>
          <a:srcRect l="0" t="0" r="6653" b="0"/>
          <a:stretch/>
        </p:blipFill>
        <p:spPr>
          <a:xfrm>
            <a:off x="5516640" y="0"/>
            <a:ext cx="3627360" cy="907920"/>
          </a:xfrm>
          <a:prstGeom prst="rect">
            <a:avLst/>
          </a:prstGeom>
          <a:ln w="0">
            <a:noFill/>
          </a:ln>
        </p:spPr>
      </p:pic>
      <p:pic>
        <p:nvPicPr>
          <p:cNvPr id="231" name="Picture 4" descr="C:\Documents and Settings\Carlos Urriola\Escritorio\My Dropbox\A.3.2 CSP\E. Documentos\Imagenes\Logos\CSP3.bmp"/>
          <p:cNvPicPr/>
          <p:nvPr/>
        </p:nvPicPr>
        <p:blipFill>
          <a:blip r:embed="rId4"/>
          <a:stretch/>
        </p:blipFill>
        <p:spPr>
          <a:xfrm>
            <a:off x="0" y="5973840"/>
            <a:ext cx="1465200" cy="884160"/>
          </a:xfrm>
          <a:prstGeom prst="rect">
            <a:avLst/>
          </a:prstGeom>
          <a:ln w="0">
            <a:noFill/>
          </a:ln>
        </p:spPr>
      </p:pic>
      <p:sp>
        <p:nvSpPr>
          <p:cNvPr id="232" name="PlaceHolder 1"/>
          <p:cNvSpPr>
            <a:spLocks noGrp="1"/>
          </p:cNvSpPr>
          <p:nvPr>
            <p:ph type="subTitle"/>
          </p:nvPr>
        </p:nvSpPr>
        <p:spPr>
          <a:xfrm>
            <a:off x="1371600" y="4214880"/>
            <a:ext cx="6400800" cy="12571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vier Eduardo Fuenzalida Aguirr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Centro de Sistemas Público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fuenza@dii.uchile.cl</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Noviembre 2011</a:t>
            </a:r>
            <a:endParaRPr b="0" lang="en-US" sz="2400" spc="-1" strike="noStrike">
              <a:solidFill>
                <a:srgbClr val="000000"/>
              </a:solidFill>
              <a:latin typeface="Calibri"/>
            </a:endParaRPr>
          </a:p>
        </p:txBody>
      </p:sp>
      <p:sp>
        <p:nvSpPr>
          <p:cNvPr id="233" name="1 Título"/>
          <p:cNvSpPr/>
          <p:nvPr/>
        </p:nvSpPr>
        <p:spPr>
          <a:xfrm>
            <a:off x="0" y="1357200"/>
            <a:ext cx="9144000" cy="2500560"/>
          </a:xfrm>
          <a:prstGeom prst="rect">
            <a:avLst/>
          </a:prstGeom>
          <a:solidFill>
            <a:srgbClr val="be1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Century Gothic"/>
              </a:rPr>
              <a:t>ACTORES CLAVE EN LA ELABORACIÓN DE POLÍTICAS PÚBLICAS</a:t>
            </a:r>
            <a:endParaRPr b="0" lang="en-US" sz="50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tonces?</a:t>
            </a:r>
            <a:endParaRPr b="0" lang="en-US" sz="4400" spc="-1" strike="noStrike">
              <a:solidFill>
                <a:srgbClr val="000000"/>
              </a:solidFill>
              <a:latin typeface="Century Gothic"/>
            </a:endParaRPr>
          </a:p>
        </p:txBody>
      </p:sp>
      <p:sp>
        <p:nvSpPr>
          <p:cNvPr id="252" name=""/>
          <p:cNvSpPr txBox="1"/>
          <p:nvPr/>
        </p:nvSpPr>
        <p:spPr>
          <a:xfrm>
            <a:off x="44604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entury Gothic"/>
              </a:rPr>
              <a:t>El fortalecimiento de los instrumentos democráticos, operando como una potencial amenaza (no votar por ellos en la próxima elección).</a:t>
            </a:r>
            <a:endParaRPr b="0" lang="en-US" sz="2600" spc="-1" strike="noStrike">
              <a:solidFill>
                <a:srgbClr val="000000"/>
              </a:solidFill>
              <a:latin typeface="Century Gothic"/>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entury Gothic"/>
              </a:rPr>
              <a:t>En esta línea, las encuestas de popularidad pueden ser un bien mecanismo de presión. Pues es el partido de la coalición gobernante quien ante la posibilidad de perder elecciones, va en contra del gobierno.</a:t>
            </a:r>
            <a:endParaRPr b="0" lang="en-US" sz="2600" spc="-1" strike="noStrike">
              <a:solidFill>
                <a:srgbClr val="000000"/>
              </a:solidFill>
              <a:latin typeface="Century Gothic"/>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6040" y="70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Encuesta CEP de Octubre</a:t>
            </a:r>
            <a:endParaRPr b="0" lang="en-US" sz="4000" spc="-1" strike="noStrike">
              <a:solidFill>
                <a:srgbClr val="000000"/>
              </a:solidFill>
              <a:latin typeface="Century Gothic"/>
            </a:endParaRPr>
          </a:p>
        </p:txBody>
      </p:sp>
      <p:pic>
        <p:nvPicPr>
          <p:cNvPr id="254" name="Picture 2" descr=""/>
          <p:cNvPicPr/>
          <p:nvPr/>
        </p:nvPicPr>
        <p:blipFill>
          <a:blip r:embed="rId1"/>
          <a:stretch/>
        </p:blipFill>
        <p:spPr>
          <a:xfrm>
            <a:off x="642960" y="928800"/>
            <a:ext cx="7858080" cy="5283000"/>
          </a:xfrm>
          <a:prstGeom prst="rect">
            <a:avLst/>
          </a:prstGeom>
          <a:ln w="9360">
            <a:solidFill>
              <a:srgbClr val="7f7f7f"/>
            </a:solidFill>
            <a:miter/>
          </a:ln>
          <a:effectLst>
            <a:outerShdw dist="17819" dir="2700000" blurRad="0" rotWithShape="0">
              <a:srgbClr val="7d3b2c"/>
            </a:outerShdw>
          </a:effectLst>
        </p:spPr>
      </p:pic>
      <p:sp>
        <p:nvSpPr>
          <p:cNvPr id="255" name="4 CuadroTexto"/>
          <p:cNvSpPr/>
          <p:nvPr/>
        </p:nvSpPr>
        <p:spPr>
          <a:xfrm>
            <a:off x="2500200" y="628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Adimark Octubr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786040" y="5000400"/>
            <a:ext cx="614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a3d6"/>
                </a:solidFill>
                <a:uFillTx/>
                <a:latin typeface="Century Gothic"/>
                <a:hlinkClick r:id="rId1"/>
              </a:rPr>
              <a:t>Ver padrón electoral en Chile 1988 - 2010</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Sobre el rol del administrador público</a:t>
            </a:r>
            <a:endParaRPr b="0" lang="en-US" sz="4400" spc="-1" strike="noStrike">
              <a:solidFill>
                <a:srgbClr val="000000"/>
              </a:solidFill>
              <a:latin typeface="Century Gothic"/>
            </a:endParaRPr>
          </a:p>
        </p:txBody>
      </p:sp>
      <p:sp>
        <p:nvSpPr>
          <p:cNvPr id="258"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n este escenario el administrador público no es un mero implementador de PP.</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Se ubican en el espacio intermedio entre políticos y ciudadanos (Olavarría, 2007)</a:t>
            </a:r>
            <a:endParaRPr b="0" lang="en-US" sz="3200" spc="-1" strike="noStrike">
              <a:solidFill>
                <a:srgbClr val="000000"/>
              </a:solidFill>
              <a:latin typeface="Century Gothic"/>
            </a:endParaRPr>
          </a:p>
        </p:txBody>
      </p:sp>
      <p:pic>
        <p:nvPicPr>
          <p:cNvPr id="259" name="3 Diagrama" descr=""/>
          <p:cNvPicPr/>
          <p:nvPr/>
        </p:nvPicPr>
        <p:blipFill>
          <a:blip r:embed="rId1"/>
          <a:stretch/>
        </p:blipFill>
        <p:spPr>
          <a:xfrm>
            <a:off x="1627200" y="4425840"/>
            <a:ext cx="6126120" cy="172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Actores en la construcción de PP</a:t>
            </a:r>
            <a:endParaRPr b="0" lang="en-US" sz="4400" spc="-1" strike="noStrike">
              <a:solidFill>
                <a:srgbClr val="000000"/>
              </a:solidFill>
              <a:latin typeface="Century Gothic"/>
            </a:endParaRPr>
          </a:p>
        </p:txBody>
      </p:sp>
      <p:sp>
        <p:nvSpPr>
          <p:cNvPr id="261"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xiste una diferenciación entre los </a:t>
            </a:r>
            <a:r>
              <a:rPr b="0" i="1" lang="es-CL" sz="3200" spc="-1" strike="noStrike">
                <a:solidFill>
                  <a:srgbClr val="000000"/>
                </a:solidFill>
                <a:latin typeface="Century Gothic"/>
              </a:rPr>
              <a:t>actores formales</a:t>
            </a:r>
            <a:r>
              <a:rPr b="0" lang="es-CL" sz="3200" spc="-1" strike="noStrike">
                <a:solidFill>
                  <a:srgbClr val="000000"/>
                </a:solidFill>
                <a:latin typeface="Century Gothic"/>
              </a:rPr>
              <a:t>, es decir, quienes desempeñan cargos de poder dentro del Estado; de los </a:t>
            </a:r>
            <a:r>
              <a:rPr b="0" i="1" lang="es-CL" sz="3200" spc="-1" strike="noStrike">
                <a:solidFill>
                  <a:srgbClr val="000000"/>
                </a:solidFill>
                <a:latin typeface="Century Gothic"/>
              </a:rPr>
              <a:t>informales</a:t>
            </a:r>
            <a:r>
              <a:rPr b="0" lang="es-CL" sz="3200" spc="-1" strike="noStrike">
                <a:solidFill>
                  <a:srgbClr val="000000"/>
                </a:solidFill>
                <a:latin typeface="Century Gothic"/>
              </a:rPr>
              <a:t> no tienen poder oficial, pero se involucran en función de sus intereses, si se ven afecto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Actores en la construcción de PP</a:t>
            </a:r>
            <a:endParaRPr b="0" lang="en-US" sz="4400" spc="-1" strike="noStrike">
              <a:solidFill>
                <a:srgbClr val="000000"/>
              </a:solidFill>
              <a:latin typeface="Century Gothic"/>
            </a:endParaRPr>
          </a:p>
        </p:txBody>
      </p:sp>
      <p:pic>
        <p:nvPicPr>
          <p:cNvPr id="263" name="Picture 4" descr=""/>
          <p:cNvPicPr/>
          <p:nvPr/>
        </p:nvPicPr>
        <p:blipFill>
          <a:blip r:embed="rId1"/>
          <a:stretch/>
        </p:blipFill>
        <p:spPr>
          <a:xfrm>
            <a:off x="142920" y="1571760"/>
            <a:ext cx="8805960" cy="43844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 Formales</a:t>
            </a:r>
            <a:endParaRPr b="0" lang="en-US" sz="4400" spc="-1" strike="noStrike">
              <a:solidFill>
                <a:srgbClr val="000000"/>
              </a:solidFill>
              <a:latin typeface="Century Gothic"/>
            </a:endParaRPr>
          </a:p>
        </p:txBody>
      </p:sp>
      <p:sp>
        <p:nvSpPr>
          <p:cNvPr id="265" name=""/>
          <p:cNvSpPr txBox="1"/>
          <p:nvPr/>
        </p:nvSpPr>
        <p:spPr>
          <a:xfrm>
            <a:off x="44604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residente de la República: EN general las constituciones de LA otorgan importantes atribuciones y un rol protagónico en la definición de PP. </a:t>
            </a:r>
            <a:r>
              <a:rPr b="0" lang="es-ES" sz="2000" spc="-1" strike="noStrike">
                <a:solidFill>
                  <a:srgbClr val="000000"/>
                </a:solidFill>
                <a:latin typeface="Century Gothic"/>
              </a:rPr>
              <a:t>Tiene iniciativa de ley, capacidad de veto y una gran influencia en el establecimiento de la agenda legislativa.</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Cargos de confianza: Miembros del Gabinete, como Ministros o secretarios de Estado). </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arlamentarios: </a:t>
            </a:r>
            <a:r>
              <a:rPr b="0" lang="es-ES" sz="2000" spc="-1" strike="noStrike">
                <a:solidFill>
                  <a:srgbClr val="000000"/>
                </a:solidFill>
                <a:latin typeface="Century Gothic"/>
              </a:rPr>
              <a:t>Son un actor importante en el proceso de definición política. En aquellas políticas públicas que requieren de la aprobación de un proyecto ley, ellos, con sus votos, son los que deciden. De este modo, se abre un proceso de negociación con el poder ejecutivo para incorporar los intereses, aspiraciones y expectativas que ellos representa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1 Cargos Políticos</a:t>
            </a:r>
            <a:endParaRPr b="0" lang="en-US" sz="4400" spc="-1" strike="noStrike">
              <a:solidFill>
                <a:srgbClr val="000000"/>
              </a:solidFill>
              <a:latin typeface="Century Gothic"/>
            </a:endParaRPr>
          </a:p>
        </p:txBody>
      </p:sp>
      <p:sp>
        <p:nvSpPr>
          <p:cNvPr id="267" name=""/>
          <p:cNvSpPr txBox="1"/>
          <p:nvPr/>
        </p:nvSpPr>
        <p:spPr>
          <a:xfrm>
            <a:off x="44604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residente de la República: EN general las constituciones de LA otorgan importantes atribuciones y un rol protagónico en la definición de PP. </a:t>
            </a:r>
            <a:r>
              <a:rPr b="0" lang="es-ES" sz="2000" spc="-1" strike="noStrike">
                <a:solidFill>
                  <a:srgbClr val="000000"/>
                </a:solidFill>
                <a:latin typeface="Century Gothic"/>
              </a:rPr>
              <a:t>Tiene iniciativa de ley, capacidad de veto y una gran influencia en el establecimiento de la agenda legislativa.</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Cargos de confianza: Miembros del Gabinete, como Ministros o secretarios de Estado). Traducen los enuncios del Presidente.</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arlamentarios: </a:t>
            </a:r>
            <a:r>
              <a:rPr b="0" lang="es-ES" sz="2000" spc="-1" strike="noStrike">
                <a:solidFill>
                  <a:srgbClr val="000000"/>
                </a:solidFill>
                <a:latin typeface="Century Gothic"/>
              </a:rPr>
              <a:t>Son un actor importante en el proceso de definición política. En aquellas políticas públicas que requieren de la aprobación de un proyecto ley, ellos, con sus votos, son los que deciden. De este modo, se abre u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proceso de negociación con el poder ejecutivo para incorporar los intereses, aspiraciones y expectativas que ellos representa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2 Asesores presidenciales</a:t>
            </a:r>
            <a:endParaRPr b="0" lang="en-US" sz="4400" spc="-1" strike="noStrike">
              <a:solidFill>
                <a:srgbClr val="000000"/>
              </a:solidFill>
              <a:latin typeface="Century Gothic"/>
            </a:endParaRPr>
          </a:p>
        </p:txBody>
      </p:sp>
      <p:sp>
        <p:nvSpPr>
          <p:cNvPr id="269" name=""/>
          <p:cNvSpPr txBox="1"/>
          <p:nvPr/>
        </p:nvSpPr>
        <p:spPr>
          <a:xfrm>
            <a:off x="44604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Nominalmente no SON parte del Gabinete, pero tienen mucha influencia en la determinación de la agenda.</a:t>
            </a:r>
            <a:r>
              <a:rPr b="0" lang="es-ES" sz="2400" spc="-1" strike="noStrike">
                <a:solidFill>
                  <a:srgbClr val="000000"/>
                </a:solidFill>
                <a:latin typeface="Century Gothic"/>
              </a:rPr>
              <a:t> En el sistema político de Estados Unidos el Presidente tiene una serie de asesores sobre temas específicos, los que son determinantes en todo el proceso de políticas públicas (Seguridad Nacional, Seguridad Social y otros). </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En Chile, el rol se ha hecho más visible desde la administración del Presidente Lagos. </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t>
            </a:r>
            <a:r>
              <a:rPr b="0" lang="es-ES" sz="2400" spc="-1" strike="noStrike">
                <a:solidFill>
                  <a:srgbClr val="000000"/>
                </a:solidFill>
                <a:latin typeface="Century Gothic"/>
              </a:rPr>
              <a:t>2° piso de la Moned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1.3 Profesionales de la Administración Pública (AP)</a:t>
            </a:r>
            <a:endParaRPr b="0" lang="en-US" sz="4000" spc="-1" strike="noStrike">
              <a:solidFill>
                <a:srgbClr val="000000"/>
              </a:solidFill>
              <a:latin typeface="Century Gothic"/>
            </a:endParaRPr>
          </a:p>
        </p:txBody>
      </p:sp>
      <p:sp>
        <p:nvSpPr>
          <p:cNvPr id="271" name=""/>
          <p:cNvSpPr txBox="1"/>
          <p:nvPr/>
        </p:nvSpPr>
        <p:spPr>
          <a:xfrm>
            <a:off x="44604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u participación e intervención se da mayoritariamente (no exclusivamente) en la implementación de PP.</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egún Lindblom (1991) su importancia radica en que el diseño de PP no es completo, por ende los estudios, cifras, prácticas y ejecuciones de PP son procesos que terminan por definirla.</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Pero ojo que los profesionales de la AP tienen influencia para poder incidir en las PP. ¿Cuáles?</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ongevidad, conocimiento y experiencia, redes de relaciones, es el implementador final de PP, hay veces en que las directrices de PP pueden ser contradictorias entre sí.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Se vio anteriormente</a:t>
            </a:r>
            <a:endParaRPr b="0" lang="en-US" sz="4400" spc="-1" strike="noStrike">
              <a:solidFill>
                <a:srgbClr val="000000"/>
              </a:solidFill>
              <a:latin typeface="Century Gothic"/>
            </a:endParaRPr>
          </a:p>
        </p:txBody>
      </p:sp>
      <p:sp>
        <p:nvSpPr>
          <p:cNvPr id="235"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Que una política pública es una acción del Estado (o autoridad con legitimidad pública) que pretende solucionar un problema público o al menos aminorarlo.</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Además esta política tiene un ciclo de vida general, con 4 etapas </a:t>
            </a:r>
            <a:r>
              <a:rPr b="0" i="1" lang="es-CL" sz="2400" spc="-1" strike="noStrike">
                <a:solidFill>
                  <a:srgbClr val="000000"/>
                </a:solidFill>
                <a:latin typeface="Century Gothic"/>
              </a:rPr>
              <a:t>origen, diseño, gestión, y evaluación </a:t>
            </a:r>
            <a:r>
              <a:rPr b="0" lang="es-CL" sz="2400" spc="-1" strike="noStrike">
                <a:solidFill>
                  <a:srgbClr val="000000"/>
                </a:solidFill>
                <a:latin typeface="Century Gothic"/>
              </a:rPr>
              <a:t>de las políticas públicas.</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Y no confundir. Waissbluth (2010), nos dice que en la elaboración de PP (programas, leyes) NO es un proceso lineal. </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46040" y="42840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Características del personal de carrera que lo hacen influyente</a:t>
            </a:r>
            <a:endParaRPr b="0" lang="en-US" sz="4000" spc="-1" strike="noStrike">
              <a:solidFill>
                <a:srgbClr val="000000"/>
              </a:solidFill>
              <a:latin typeface="Century Gothic"/>
            </a:endParaRPr>
          </a:p>
        </p:txBody>
      </p:sp>
      <p:sp>
        <p:nvSpPr>
          <p:cNvPr id="273" name=""/>
          <p:cNvSpPr txBox="1"/>
          <p:nvPr/>
        </p:nvSpPr>
        <p:spPr>
          <a:xfrm>
            <a:off x="446040" y="20462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Longevidad</a:t>
            </a:r>
            <a:r>
              <a:rPr b="0" lang="es-CL" sz="2400" spc="-1" strike="noStrike">
                <a:solidFill>
                  <a:srgbClr val="000000"/>
                </a:solidFill>
                <a:latin typeface="Century Gothic"/>
              </a:rPr>
              <a:t>, “sobreviven” a varios gobierno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Conocimiento y experiencia, saben cómo funciona la burocracia estatal.</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Redes de relaciones</a:t>
            </a:r>
            <a:r>
              <a:rPr b="0" lang="es-CL" sz="2400" spc="-1" strike="noStrike">
                <a:solidFill>
                  <a:srgbClr val="000000"/>
                </a:solidFill>
                <a:latin typeface="Century Gothic"/>
              </a:rPr>
              <a:t>. Por su longevidad, desarrollan una red de relaciones con personas de otros organismos estatale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Es el implementador final de PP</a:t>
            </a:r>
            <a:r>
              <a:rPr b="0" lang="es-CL" sz="2400" spc="-1" strike="noStrike">
                <a:solidFill>
                  <a:srgbClr val="000000"/>
                </a:solidFill>
                <a:latin typeface="Century Gothic"/>
              </a:rPr>
              <a:t>, quien concreta.</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Hay veces en que las directrices de PP pueden ser contradictorias entre sí</a:t>
            </a:r>
            <a:r>
              <a:rPr b="0" lang="es-CL" sz="2400" spc="-1" strike="noStrike">
                <a:solidFill>
                  <a:srgbClr val="000000"/>
                </a:solidFill>
                <a:latin typeface="Century Gothic"/>
              </a:rPr>
              <a:t>. Por ende la PP puede determinarse en función de la experiencia del personal de carrer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1 Grupos de interés (1)</a:t>
            </a:r>
            <a:endParaRPr b="0" lang="en-US" sz="4400" spc="-1" strike="noStrike">
              <a:solidFill>
                <a:srgbClr val="000000"/>
              </a:solidFill>
              <a:latin typeface="Century Gothic"/>
            </a:endParaRPr>
          </a:p>
        </p:txBody>
      </p:sp>
      <p:sp>
        <p:nvSpPr>
          <p:cNvPr id="275" name=""/>
          <p:cNvSpPr txBox="1"/>
          <p:nvPr/>
        </p:nvSpPr>
        <p:spPr>
          <a:xfrm>
            <a:off x="428760" y="15001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on grupos organizados consientes que los resultados de una determinada PP pudiese afectarlos positiva o negativamente.</a:t>
            </a:r>
            <a:endParaRPr b="0" lang="en-US" sz="2400" spc="-1" strike="noStrike">
              <a:solidFill>
                <a:srgbClr val="000000"/>
              </a:solidFill>
              <a:latin typeface="Century Gothic"/>
            </a:endParaRPr>
          </a:p>
        </p:txBody>
      </p:sp>
      <p:pic>
        <p:nvPicPr>
          <p:cNvPr id="276" name="3 Imagen" descr="0_patagonia-sin-represas-2008-11-05.jpg"/>
          <p:cNvPicPr/>
          <p:nvPr/>
        </p:nvPicPr>
        <p:blipFill>
          <a:blip r:embed="rId1"/>
          <a:stretch/>
        </p:blipFill>
        <p:spPr>
          <a:xfrm>
            <a:off x="2000160" y="2714760"/>
            <a:ext cx="4857840" cy="36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1 Grupos de interés (2)</a:t>
            </a:r>
            <a:endParaRPr b="0" lang="en-US" sz="4400" spc="-1" strike="noStrike">
              <a:solidFill>
                <a:srgbClr val="000000"/>
              </a:solidFill>
              <a:latin typeface="Century Gothic"/>
            </a:endParaRPr>
          </a:p>
        </p:txBody>
      </p:sp>
      <p:sp>
        <p:nvSpPr>
          <p:cNvPr id="278"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os típicos grupos de interés son las asociaciones empresariales o patronales, de trabajadores, de profesionales (como las Asociaciones de Médicos, Sindicatos de Profesores o Maestros, por ejemplo), asociaciones gremiales, agrupaciones que surgen en torno a una causa.</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2 Partidos políticos</a:t>
            </a:r>
            <a:endParaRPr b="0" lang="en-US" sz="4400" spc="-1" strike="noStrike">
              <a:solidFill>
                <a:srgbClr val="000000"/>
              </a:solidFill>
              <a:latin typeface="Century Gothic"/>
            </a:endParaRPr>
          </a:p>
        </p:txBody>
      </p:sp>
      <p:sp>
        <p:nvSpPr>
          <p:cNvPr id="280"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actores protagónicos en el proceso político de toda PP.</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máquinas de poder, representan intereses afines con sus intereses doctrinarios e ideológico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o siguen siendo hoy?</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conglomerados que apoyan y propulsan a quienes quieren llegar al pode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46040" y="14256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Century Gothic"/>
              </a:rPr>
              <a:t>Ahora, de las siguientes tendencias políticas, ¿con cuál Ud. se identifica o simpatiza más? ¿Con la Coalición por el Cambio**, con la Concertación o con el Pacto Juntos Podemos?</a:t>
            </a:r>
            <a:endParaRPr b="0" lang="en-US" sz="2400" spc="-1" strike="noStrike">
              <a:solidFill>
                <a:srgbClr val="000000"/>
              </a:solidFill>
              <a:latin typeface="Century Gothic"/>
            </a:endParaRPr>
          </a:p>
        </p:txBody>
      </p:sp>
      <p:pic>
        <p:nvPicPr>
          <p:cNvPr id="282" name="Picture 2" descr=""/>
          <p:cNvPicPr/>
          <p:nvPr/>
        </p:nvPicPr>
        <p:blipFill>
          <a:blip r:embed="rId1"/>
          <a:stretch/>
        </p:blipFill>
        <p:spPr>
          <a:xfrm>
            <a:off x="714240" y="1843200"/>
            <a:ext cx="7715520" cy="4228920"/>
          </a:xfrm>
          <a:prstGeom prst="rect">
            <a:avLst/>
          </a:prstGeom>
          <a:ln w="0">
            <a:noFill/>
          </a:ln>
          <a:effectLst>
            <a:outerShdw dist="17819" dir="2700000" blurRad="0" rotWithShape="0">
              <a:srgbClr val="7d3b2c"/>
            </a:outerShdw>
          </a:effectLst>
        </p:spPr>
      </p:pic>
      <p:sp>
        <p:nvSpPr>
          <p:cNvPr id="283"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3 Académicos, investigadores y expertos</a:t>
            </a:r>
            <a:endParaRPr b="0" lang="en-US" sz="4400" spc="-1" strike="noStrike">
              <a:solidFill>
                <a:srgbClr val="000000"/>
              </a:solidFill>
              <a:latin typeface="Century Gothic"/>
            </a:endParaRPr>
          </a:p>
        </p:txBody>
      </p:sp>
      <p:sp>
        <p:nvSpPr>
          <p:cNvPr id="285"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u influencia se canaliza a través de conocimiento generado en temas sustantivos para la ciudadanía.</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Normalmente es común que citados académicos sean invitados para opinar en el Congreso.</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Además prestan asesoría en la elaboración de PP y a veces, inclusive ocupan cargos de poder DENTRO del Gobierno.</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4 Los medios de comunicación</a:t>
            </a:r>
            <a:endParaRPr b="0" lang="en-US" sz="4400" spc="-1" strike="noStrike">
              <a:solidFill>
                <a:srgbClr val="000000"/>
              </a:solidFill>
              <a:latin typeface="Century Gothic"/>
            </a:endParaRPr>
          </a:p>
        </p:txBody>
      </p:sp>
      <p:sp>
        <p:nvSpPr>
          <p:cNvPr id="287" name=""/>
          <p:cNvSpPr txBox="1"/>
          <p:nvPr/>
        </p:nvSpPr>
        <p:spPr>
          <a:xfrm>
            <a:off x="428760" y="15001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os medios tienen mucha influencia en la confección de la agenda pública. Según Kingdon (1995) tienen menos influencia que los grupos de interé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a agenda la afectan comunicando temas a la comunidad interesada en PP, magnifican movimientos de temas que aborda la PP (no crean temas, pero regulan intensidad), pueden tener efectos sobre la PP.</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Ver video </a:t>
            </a:r>
            <a:r>
              <a:rPr b="0" lang="es-ES" sz="2400" spc="-1" strike="noStrike" u="sng">
                <a:solidFill>
                  <a:srgbClr val="00a3d6"/>
                </a:solidFill>
                <a:uFillTx/>
                <a:latin typeface="Century Gothic"/>
                <a:hlinkClick r:id="rId1"/>
              </a:rPr>
              <a:t>http://www.youtube.com/watch?v=cvPA4wc5Fm0</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pic>
        <p:nvPicPr>
          <p:cNvPr id="237" name="Picture 4" descr=""/>
          <p:cNvPicPr/>
          <p:nvPr/>
        </p:nvPicPr>
        <p:blipFill>
          <a:blip r:embed="rId1"/>
          <a:stretch/>
        </p:blipFill>
        <p:spPr>
          <a:xfrm>
            <a:off x="1643040" y="1519200"/>
            <a:ext cx="5929200" cy="4746600"/>
          </a:xfrm>
          <a:prstGeom prst="rect">
            <a:avLst/>
          </a:prstGeom>
          <a:ln w="9360">
            <a:solidFill>
              <a:srgbClr val="002060"/>
            </a:solidFill>
            <a:miter/>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a:t>
            </a:r>
            <a:endParaRPr b="0" lang="en-US" sz="4400" spc="-1" strike="noStrike">
              <a:solidFill>
                <a:srgbClr val="000000"/>
              </a:solidFill>
              <a:latin typeface="Century Gothic"/>
            </a:endParaRPr>
          </a:p>
        </p:txBody>
      </p:sp>
      <p:sp>
        <p:nvSpPr>
          <p:cNvPr id="239" name=""/>
          <p:cNvSpPr txBox="1"/>
          <p:nvPr/>
        </p:nvSpPr>
        <p:spPr>
          <a:xfrm>
            <a:off x="446040" y="2571840"/>
            <a:ext cx="8229600" cy="376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Todos tenemos ideas, las refinamos, definimos, etc. Algún grupo puede ingresarlas a la agenda social.</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identemente, algunas personas tienen mayor capacidad para poder incluir, excluir y priorizar temas en la agenda social. Esto podría sobre-representar una demanda social.</a:t>
            </a:r>
            <a:endParaRPr b="0" lang="en-US" sz="2800" spc="-1" strike="noStrike">
              <a:solidFill>
                <a:srgbClr val="000000"/>
              </a:solidFill>
              <a:latin typeface="Century Gothic"/>
            </a:endParaRPr>
          </a:p>
        </p:txBody>
      </p:sp>
      <p:pic>
        <p:nvPicPr>
          <p:cNvPr id="240" name="Picture 2" descr=""/>
          <p:cNvPicPr/>
          <p:nvPr/>
        </p:nvPicPr>
        <p:blipFill>
          <a:blip r:embed="rId1"/>
          <a:stretch/>
        </p:blipFill>
        <p:spPr>
          <a:xfrm>
            <a:off x="214200" y="1643040"/>
            <a:ext cx="8786880" cy="7412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ién se preocupa de las PP?</a:t>
            </a:r>
            <a:endParaRPr b="0" lang="en-US" sz="4400" spc="-1" strike="noStrike">
              <a:solidFill>
                <a:srgbClr val="000000"/>
              </a:solidFill>
              <a:latin typeface="Century Gothic"/>
            </a:endParaRPr>
          </a:p>
        </p:txBody>
      </p:sp>
      <p:sp>
        <p:nvSpPr>
          <p:cNvPr id="242"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Ya se estableció el rol de legitimidad pública que debe tener quien pretende solucionar un problema público (para que sea política pública). Hay organismos públicos preocupados de los temas de agenda pública.</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Las instituciones son trascendentales en el resultado que logra la ejecución y gestión de políticas  públicas, pues ellas generan el contexto en el cual los organismos públicos desarrollan los procesos de decisión política y de implementación de las políticas pública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son las instituciones?</a:t>
            </a:r>
            <a:endParaRPr b="0" lang="en-US" sz="4400" spc="-1" strike="noStrike">
              <a:solidFill>
                <a:srgbClr val="000000"/>
              </a:solidFill>
              <a:latin typeface="Century Gothic"/>
            </a:endParaRPr>
          </a:p>
        </p:txBody>
      </p:sp>
      <p:sp>
        <p:nvSpPr>
          <p:cNvPr id="244" name=""/>
          <p:cNvSpPr txBox="1"/>
          <p:nvPr/>
        </p:nvSpPr>
        <p:spPr>
          <a:xfrm>
            <a:off x="446040" y="1642680"/>
            <a:ext cx="8229600" cy="4786200"/>
          </a:xfrm>
          <a:prstGeom prst="rect">
            <a:avLst/>
          </a:prstGeom>
          <a:noFill/>
          <a:ln w="0">
            <a:noFill/>
          </a:ln>
        </p:spPr>
        <p:txBody>
          <a:bodyPr anchor="t">
            <a:normAutofit fontScale="99000"/>
          </a:bodyPr>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Gothic"/>
              </a:rPr>
              <a:t>1° no confundir con organismos públicos.</a:t>
            </a:r>
            <a:endParaRPr b="0" lang="en-US" sz="2200" spc="-1" strike="noStrike">
              <a:solidFill>
                <a:srgbClr val="000000"/>
              </a:solidFill>
              <a:latin typeface="Century Gothic"/>
            </a:endParaRPr>
          </a:p>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Según Douglas North (1998), las instituciones “son un compuesto de reglas, restricciones informales (normas de comportamiento y convenciones) y sus</a:t>
            </a:r>
            <a:endParaRPr b="0" lang="en-US" sz="2200" spc="-1" strike="noStrike">
              <a:solidFill>
                <a:srgbClr val="000000"/>
              </a:solidFill>
              <a:latin typeface="Century Gothic"/>
            </a:endParaRPr>
          </a:p>
          <a:p>
            <a:pPr lvl="1"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 </a:t>
            </a:r>
            <a:r>
              <a:rPr b="0" lang="es-ES" sz="2200" spc="-1" strike="noStrike">
                <a:solidFill>
                  <a:srgbClr val="000000"/>
                </a:solidFill>
                <a:latin typeface="Century Gothic"/>
              </a:rPr>
              <a:t>	</a:t>
            </a:r>
            <a:r>
              <a:rPr b="0" lang="es-ES" sz="2200" spc="-1" strike="noStrike">
                <a:solidFill>
                  <a:srgbClr val="000000"/>
                </a:solidFill>
                <a:latin typeface="Century Gothic"/>
              </a:rPr>
              <a:t>características, como también la capacidad de hacer cumplir las normas y las pautas de conducta que estructuran, organizan y formalizan las interacciones humanas repetidas”. </a:t>
            </a:r>
            <a:endParaRPr b="0" lang="en-US" sz="2200" spc="-1" strike="noStrike">
              <a:solidFill>
                <a:srgbClr val="000000"/>
              </a:solidFill>
              <a:latin typeface="Century Gothic"/>
            </a:endParaRPr>
          </a:p>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Las instituciones se expresan en Constituciones, Estatutos, leyes, contratos y pautas de conductas. Ellos especifican las reglas del juego que existen en toda sociedad. Las organizaciones que surgirán consecuentemente, reflejarán las oportunidades disponibles para los ciudadanos.</a:t>
            </a:r>
            <a:endParaRPr b="0" lang="en-US" sz="2200" spc="-1" strike="noStrike">
              <a:solidFill>
                <a:srgbClr val="000000"/>
              </a:solidFill>
              <a:latin typeface="Century Gothic"/>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Por qué son importantes las instituciones?</a:t>
            </a:r>
            <a:endParaRPr b="0" lang="en-US" sz="4400" spc="-1" strike="noStrike">
              <a:solidFill>
                <a:srgbClr val="000000"/>
              </a:solidFill>
              <a:latin typeface="Century Gothic"/>
            </a:endParaRPr>
          </a:p>
        </p:txBody>
      </p:sp>
      <p:sp>
        <p:nvSpPr>
          <p:cNvPr id="246" name=""/>
          <p:cNvSpPr txBox="1"/>
          <p:nvPr/>
        </p:nvSpPr>
        <p:spPr>
          <a:xfrm>
            <a:off x="446040" y="1642680"/>
            <a:ext cx="8229600" cy="4786200"/>
          </a:xfrm>
          <a:prstGeom prst="rect">
            <a:avLst/>
          </a:prstGeom>
          <a:noFill/>
          <a:ln w="0">
            <a:noFill/>
          </a:ln>
        </p:spPr>
        <p:txBody>
          <a:bodyPr anchor="t">
            <a:normAutofit/>
          </a:bodyPr>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económico</a:t>
            </a:r>
            <a:r>
              <a:rPr b="0" lang="es-CL" sz="2000" spc="-1" strike="noStrike">
                <a:solidFill>
                  <a:srgbClr val="000000"/>
                </a:solidFill>
                <a:latin typeface="Century Gothic"/>
              </a:rPr>
              <a:t>: Reducen los costos de transacción.</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político</a:t>
            </a:r>
            <a:r>
              <a:rPr b="0" lang="es-CL" sz="2000" spc="-1" strike="noStrike">
                <a:solidFill>
                  <a:srgbClr val="000000"/>
                </a:solidFill>
                <a:latin typeface="Century Gothic"/>
              </a:rPr>
              <a:t>: Desde 1980 en adelante, la gobernabilidad cobró fuerza en las naciones (sobretodo en LA). La gobernabilidad, como su nombre lo indica, corresponde a la capacidad de autogobierno de las sociedades.</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desde la gestión pública</a:t>
            </a:r>
            <a:r>
              <a:rPr b="0" lang="es-CL" sz="2000" spc="-1" strike="noStrike">
                <a:solidFill>
                  <a:srgbClr val="000000"/>
                </a:solidFill>
                <a:latin typeface="Century Gothic"/>
              </a:rPr>
              <a:t>: Se requiere de un Estado efectivo, con normas, con competencias y responsabilidades claras para el cumplimiento de los mandatos políticos que reciben.</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desde las PP</a:t>
            </a:r>
            <a:r>
              <a:rPr b="0" lang="es-CL" sz="2000" spc="-1" strike="noStrike">
                <a:solidFill>
                  <a:srgbClr val="000000"/>
                </a:solidFill>
                <a:latin typeface="Century Gothic"/>
              </a:rPr>
              <a:t>: Su calidad, las PP pueden verse como el resultado de intercambios complejos en un entorno institucional a través del tiempo.</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6040" y="42840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Cómo se relacionan política, políticas públicas y administración pública?</a:t>
            </a:r>
            <a:endParaRPr b="0" lang="en-US" sz="4000" spc="-1" strike="noStrike">
              <a:solidFill>
                <a:srgbClr val="000000"/>
              </a:solidFill>
              <a:latin typeface="Century Gothic"/>
            </a:endParaRPr>
          </a:p>
        </p:txBody>
      </p:sp>
      <p:sp>
        <p:nvSpPr>
          <p:cNvPr id="248" name=""/>
          <p:cNvSpPr txBox="1"/>
          <p:nvPr/>
        </p:nvSpPr>
        <p:spPr>
          <a:xfrm>
            <a:off x="446040" y="190332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Recordemos: política es relativo al poder de la sociedad en general y las PP, en tanto corresponden a cómo manejar específicamente asuntos públicos.</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rzeworski (2004) sostiene un razonamiento CRUCIAL: ¿cómo pueden gobernar en función del bien de todos si las elecciones posicionan a un grupo (político- partidista) a la cabeza del Estado?</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 </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Respuesta desde el paradigma burocrático</a:t>
            </a:r>
            <a:endParaRPr b="0" lang="en-US" sz="4000" spc="-1" strike="noStrike">
              <a:solidFill>
                <a:srgbClr val="000000"/>
              </a:solidFill>
              <a:latin typeface="Century Gothic"/>
            </a:endParaRPr>
          </a:p>
        </p:txBody>
      </p:sp>
      <p:sp>
        <p:nvSpPr>
          <p:cNvPr id="250"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e propone una administración racional al servicio del interés público. Como consecuencia se separa la política de la administración. </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ero la evidencia da cuenta de la ficción potencialmente atribuible a este supuesto pues política y administración pública son espacios cuasi inherent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7:09:52Z</dcterms:created>
  <dc:creator>Javier</dc:creator>
  <dc:description/>
  <dc:language>en-US</dc:language>
  <cp:lastModifiedBy>Javier</cp:lastModifiedBy>
  <dcterms:modified xsi:type="dcterms:W3CDTF">2011-11-07T21:52:24Z</dcterms:modified>
  <cp:revision>71</cp:revision>
  <dc:subject/>
  <dc:title>Diapositiva 1</dc:title>
</cp:coreProperties>
</file>