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35CA-85A0-4152-B319-28E719A75A6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6A4D-8013-430B-9C6E-ACD2342F2FC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1CFB-3204-408B-B27D-93F21A2457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9092-3333-4958-BB40-D883390E3D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D40-E9A1-43BE-8BD1-5E36EE63C6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BEF1B-DF61-467E-91A0-A9C1DDD9E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1BB2-8532-425C-ACCA-113FDEEA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EC4E0-2E60-4EF6-84A1-2CA07D21D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38884-9C80-413E-A6EC-DDB95E481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7501C-0F3E-4FC1-84D1-06404B7B7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99E10-2E48-45BB-B26E-40162A6D2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6C96D-37D7-4187-93E8-58FEA6D50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28362-6BF0-4998-93B4-B7AD5AE47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DCCE0-228F-4FF2-9046-BAF70ED23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662F1-37C3-41A6-A8BA-E3540C40B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2E43-8277-4963-A2A4-38112446D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2BB80-2A78-45AC-BA7A-55BAFD3E7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084B9-62E4-4E32-A137-5FC15EE7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6B510-CA19-4A24-99D2-5DDB30D45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78562-ADF2-4A04-9AF7-CAFB064A0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0D38D-A6D7-498E-B7E2-1744D7F79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E3295-F4EE-4C2D-888F-EF04895A8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041A4-B7B2-48CD-8DBA-854D71C43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02802-A625-4447-A08A-29B457CC1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23E94-A817-48E3-AC22-8A19EA2C6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A4D6E-3824-4338-B543-4EAD62480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D64BA-32D1-439C-929B-ECE5648A8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E5E48-F0E7-434C-8768-5FFBEBA3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D37DE-1782-49A7-831C-347751CFE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6AABE-F02A-4342-8C32-DF573296A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E1A18-025E-44F6-9ED9-DF8FF1535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D6CF2-331A-43C4-937D-660186A52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D373F-A2A6-4F98-80D6-CBE58F0E1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C1312C-D405-42EC-BCC4-F6DC331F7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C272E-9706-4D64-BB37-6575A96CF5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52B2A6-F1FF-48A0-97FD-5A98BE70F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EE420-B637-4956-9EC3-03D7793F5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74987-3800-40AF-85AF-F459AB269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DEE33-5656-4154-A719-05081B12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C093D-3365-42EA-B357-1D88BEE78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B9285-4042-4FCB-9D03-9F045444D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221C29-CDE0-4206-95FE-9BF6C29D48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EFFEB-18B6-49C3-A934-F1ACC3537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728BF-4629-46F6-A05D-0D58B7A38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6AAB5-A392-4DD6-86CD-4159AD43C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547E0-C54B-4224-97E4-4E7A8F4C2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93B13F-B982-43BA-ADD3-9E707EBE2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CD4EC-4743-41EC-8DC7-405B62DED2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AEDD73-9AF6-4BB7-BAC4-2237133B9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3A55-33CA-4108-8A3E-75D4358D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23B63-5CE3-4C7C-A49F-F9E45EBE5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B7DCB-C697-41A9-A0FC-6B2D2470E6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24DBB-8BB4-4037-B368-2A43E4F25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36425-B12A-44EA-B210-FCE80AF78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CB2BA-C3E7-4E3A-BB46-557EAFAA8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8CB91-4962-4F68-B90D-301AEFAAC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34D4B-D9BA-4831-B859-B4788D9DE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135AF-33A0-4C67-BCFD-AEE08F34C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A2A36D-2F3B-4714-A534-0290F21F8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B13D72-DCB0-4865-A780-040A962F5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F6C35-7D46-4236-9D36-5D480A76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A6C82C-E786-4DA8-A6B9-74D1BC063D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EE25-7982-4D64-AFA6-165BD24AC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8680-AAF1-45F1-AFDC-263DBB70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7F40-00DB-491A-ADFB-6E355C8C1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109F-E44B-476C-AED4-9ED693FF919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88ED-4719-4BBD-BB47-B180C9255DE6}"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E722-1BFF-4395-96B4-EC7C3E80624E}"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915F-602C-4DDB-8093-A786AE91901C}"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D437-336D-4E3B-A554-0C8A765FDDDC}"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Octu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POLÍTICAS PÚBLICAS Y SU CICLO</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a:t>
            </a:r>
            <a:endParaRPr b="0" lang="en-US" sz="4000" spc="-1" strike="noStrike">
              <a:solidFill>
                <a:srgbClr val="000000"/>
              </a:solidFill>
              <a:latin typeface="Century Gothic"/>
            </a:endParaRPr>
          </a:p>
        </p:txBody>
      </p:sp>
      <p:pic>
        <p:nvPicPr>
          <p:cNvPr id="253" name="Picture 2" descr=""/>
          <p:cNvPicPr/>
          <p:nvPr/>
        </p:nvPicPr>
        <p:blipFill>
          <a:blip r:embed="rId1"/>
          <a:stretch/>
        </p:blipFill>
        <p:spPr>
          <a:xfrm>
            <a:off x="1093680" y="1681200"/>
            <a:ext cx="6934320" cy="4362480"/>
          </a:xfrm>
          <a:prstGeom prst="rect">
            <a:avLst/>
          </a:prstGeom>
          <a:ln w="0">
            <a:noFill/>
          </a:ln>
          <a:effectLst>
            <a:outerShdw dist="17819" dir="2700000" blurRad="0" rotWithShape="0">
              <a:srgbClr val="7d3b2c"/>
            </a:outerShdw>
          </a:effectLst>
        </p:spPr>
      </p:pic>
      <p:sp>
        <p:nvSpPr>
          <p:cNvPr id="254"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 la Ley?</a:t>
            </a:r>
            <a:endParaRPr b="0" lang="en-US" sz="4000" spc="-1" strike="noStrike">
              <a:solidFill>
                <a:srgbClr val="000000"/>
              </a:solidFill>
              <a:latin typeface="Century Gothic"/>
            </a:endParaRPr>
          </a:p>
        </p:txBody>
      </p:sp>
      <p:sp>
        <p:nvSpPr>
          <p:cNvPr id="256"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1000080" y="1785960"/>
            <a:ext cx="6915240" cy="413388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formalización de la agenda implica una jerarquización temática, la inclusión de materias públicas y la definición de su abordaje.</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Importante: </a:t>
            </a:r>
            <a:r>
              <a:rPr b="1" lang="es-CL" sz="2800" spc="-1" strike="noStrike">
                <a:solidFill>
                  <a:srgbClr val="000000"/>
                </a:solidFill>
                <a:latin typeface="Century Gothic"/>
              </a:rPr>
              <a:t>la agenda pública cambia</a:t>
            </a:r>
            <a:r>
              <a:rPr b="0" lang="es-CL" sz="2800" spc="-1" strike="noStrike">
                <a:solidFill>
                  <a:srgbClr val="000000"/>
                </a:solidFill>
                <a:latin typeface="Century Gothic"/>
              </a:rPr>
              <a:t>. En el mediano plazo, la agenda tiene diversos grados de concreción. Algunos se realizan, otros se hacen de forma parcial y otros no llegan a concretarse.</a:t>
            </a:r>
            <a:endParaRPr b="0" lang="en-US" sz="2800" spc="-1" strike="noStrike">
              <a:solidFill>
                <a:srgbClr val="000000"/>
              </a:solidFill>
              <a:latin typeface="Century Gothic"/>
            </a:endParaRPr>
          </a:p>
        </p:txBody>
      </p:sp>
      <p:sp>
        <p:nvSpPr>
          <p:cNvPr id="25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785880"/>
            <a:ext cx="9144000" cy="50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cuesta CEP:</a:t>
            </a:r>
            <a:br>
              <a:rPr sz="4400"/>
            </a:br>
            <a:r>
              <a:rPr b="0" lang="es-CL" sz="4400" spc="-1" strike="noStrike">
                <a:solidFill>
                  <a:srgbClr val="000000"/>
                </a:solidFill>
                <a:latin typeface="Century Gothic"/>
              </a:rPr>
              <a:t>¿Cuáles son los tres problemas a los que debería dedicar el mayor esfuerzo en solucionar el Gobierno?</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93760" y="857160"/>
            <a:ext cx="8493120" cy="4929120"/>
          </a:xfrm>
          <a:prstGeom prst="rect">
            <a:avLst/>
          </a:prstGeom>
          <a:ln w="0">
            <a:noFill/>
          </a:ln>
          <a:effectLst>
            <a:outerShdw dist="17819" dir="2700000" blurRad="0" rotWithShape="0">
              <a:srgbClr val="7d3b2c"/>
            </a:outerShdw>
          </a:effectLst>
        </p:spPr>
      </p:pic>
      <p:sp>
        <p:nvSpPr>
          <p:cNvPr id="262"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214200" y="1000080"/>
            <a:ext cx="8618760" cy="5173560"/>
          </a:xfrm>
          <a:prstGeom prst="rect">
            <a:avLst/>
          </a:prstGeom>
          <a:ln w="0">
            <a:noFill/>
          </a:ln>
          <a:effectLst>
            <a:outerShdw dist="17819" dir="2700000" blurRad="0" rotWithShape="0">
              <a:srgbClr val="7d3b2c"/>
            </a:outerShdw>
          </a:effectLst>
        </p:spPr>
      </p:pic>
      <p:sp>
        <p:nvSpPr>
          <p:cNvPr id="264" name="4 CuadroTexto"/>
          <p:cNvSpPr/>
          <p:nvPr/>
        </p:nvSpPr>
        <p:spPr>
          <a:xfrm>
            <a:off x="264312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
        <p:nvSpPr>
          <p:cNvPr id="265" name="PlaceHolder 1"/>
          <p:cNvSpPr>
            <a:spLocks noGrp="1"/>
          </p:cNvSpPr>
          <p:nvPr>
            <p:ph type="title"/>
          </p:nvPr>
        </p:nvSpPr>
        <p:spPr>
          <a:xfrm>
            <a:off x="-360" y="-36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olución histórica 1990-2011</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onviene hablar de diseño y no de creación pues la PP rara vez surgen en el vacío. Las políticas se alimentan de sí mismas, de antecedentes, y orientaciones anterior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tiende a pensar que el diseño responde a un análisis meramente técnico. Es más bien un carácter técnico-político.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capacidades argumentativas son las que predomina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iseño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de PP en esta caso es transversal, pues considera la transparencia, flexibilidad, descentralización, especialización, separación entre instancias ejecutoras y evaluador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pública difiere del a privada, por atributos como la responsabilidad política, transparencia, ecuanimidad, disciplina fiscal.</a:t>
            </a:r>
            <a:endParaRPr b="0" lang="en-US" sz="2800" spc="-1" strike="noStrike">
              <a:solidFill>
                <a:srgbClr val="000000"/>
              </a:solidFill>
              <a:latin typeface="Century Gothic"/>
            </a:endParaRPr>
          </a:p>
        </p:txBody>
      </p:sp>
      <p:sp>
        <p:nvSpPr>
          <p:cNvPr id="26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4604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de las principales diferencias entre sector público y privado y que dificulta la medición de la gestión del primero radica en la ausencia </a:t>
            </a:r>
            <a:r>
              <a:rPr b="0" i="1" lang="es-CL" sz="2800" spc="-1" strike="noStrike">
                <a:solidFill>
                  <a:srgbClr val="000000"/>
                </a:solidFill>
                <a:latin typeface="Century Gothic"/>
              </a:rPr>
              <a:t>de una expresión simple y directa que refleje los resultados de gestión de organismos públicos</a:t>
            </a:r>
            <a:r>
              <a:rPr b="0" lang="es-CL" sz="2800" spc="-1" strike="noStrike">
                <a:solidFill>
                  <a:srgbClr val="000000"/>
                </a:solidFill>
                <a:latin typeface="Century Gothic"/>
              </a:rPr>
              <a:t>.</a:t>
            </a:r>
            <a:endParaRPr b="0" lang="en-US" sz="2800" spc="-1" strike="noStrike">
              <a:solidFill>
                <a:srgbClr val="000000"/>
              </a:solidFill>
              <a:latin typeface="Century Gothic"/>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anterior, tiene como consecuencia la introducción de mecanismos explícitos y estructurados de evaluación de desempeño y que liguen el desempeño a la entrega de recursos.</a:t>
            </a:r>
            <a:endParaRPr b="0" lang="en-US" sz="2800" spc="-1" strike="noStrike">
              <a:solidFill>
                <a:srgbClr val="000000"/>
              </a:solidFill>
              <a:latin typeface="Century Gothic"/>
            </a:endParaRPr>
          </a:p>
        </p:txBody>
      </p:sp>
      <p:sp>
        <p:nvSpPr>
          <p:cNvPr id="27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 un ejercicio de estimación que puede hacerse en forma previa, coetánea o posterior a la realización de la inversión o la implementación de una polític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tablece una base analítica común, a partir de la cual pueden mantenerse o terminarse políticas públicas en aplicación.</a:t>
            </a:r>
            <a:endParaRPr b="0" lang="en-US" sz="2800" spc="-1" strike="noStrike">
              <a:solidFill>
                <a:srgbClr val="000000"/>
              </a:solidFill>
              <a:latin typeface="Century Gothic"/>
            </a:endParaRPr>
          </a:p>
        </p:txBody>
      </p:sp>
      <p:sp>
        <p:nvSpPr>
          <p:cNvPr id="273"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aluación de las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1)</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Tradicionalmente corresponden al programa de acción de una autoridad pública o al resultado de la actividad de una autoridad investida de poder público y de legitimidad gubernamental (Ives &amp; Thoening, 1992)</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ólo pueden ser provistas por el Estado? No necesariamente, los problemas públicos pueden ser solucionados exclisivamante por el Estado. Hay concepciones erróneas en donde se percibe de forma excluyente al Estado como el único ente capaz de tratar los problemas públicos.</a:t>
            </a: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alúan lo usuarios, los diseñadores de política, la Dirección de Presupuesto, los auditores, los gerentes de políticas o programas, el personal, etc.</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antes de evaluar… es importante saber sobre los objetivos de las PP, con precisión.</a:t>
            </a:r>
            <a:endParaRPr b="0" lang="en-US" sz="2800" spc="-1" strike="noStrike">
              <a:solidFill>
                <a:srgbClr val="000000"/>
              </a:solidFill>
              <a:latin typeface="Century Gothic"/>
            </a:endParaRPr>
          </a:p>
        </p:txBody>
      </p:sp>
      <p:sp>
        <p:nvSpPr>
          <p:cNvPr id="275"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es evalú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políticas públicas en general tienen un componente de evaluación expost realizada por la Dirección de Presupuestos (DIPRES). En cuanto a evaluaciones exante, no existe un sistema generalizado para estas práct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excepción es el Sistema Nacional de Inversiones (SNI) con exhaustivos mecanismos de evaluación exante de las inversiones públicas. Pero una inversión pública ¿es una política propiamente tal?</a:t>
            </a:r>
            <a:endParaRPr b="0" lang="en-US" sz="2800" spc="-1" strike="noStrike">
              <a:solidFill>
                <a:srgbClr val="000000"/>
              </a:solidFill>
              <a:latin typeface="Century Gothic"/>
            </a:endParaRPr>
          </a:p>
        </p:txBody>
      </p:sp>
      <p:sp>
        <p:nvSpPr>
          <p:cNvPr id="27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tre los mecanismos más importantes de evaluación expost </a:t>
            </a:r>
            <a:r>
              <a:rPr b="1" lang="es-CL" sz="2800" spc="-1" strike="noStrike">
                <a:solidFill>
                  <a:srgbClr val="000000"/>
                </a:solidFill>
                <a:latin typeface="Century Gothic"/>
              </a:rPr>
              <a:t>de programas gubernamentales</a:t>
            </a:r>
            <a:r>
              <a:rPr b="0" lang="es-CL" sz="2800" spc="-1" strike="noStrike">
                <a:solidFill>
                  <a:srgbClr val="000000"/>
                </a:solidFill>
                <a:latin typeface="Century Gothic"/>
              </a:rPr>
              <a:t>, se encuentran: i) la evaluación de programas gubernamentales; ii) la evaluación comprehensiva del gasto y iii) la evaluación de impact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 confundir. Además hay otros instrumentos de evaluación de la </a:t>
            </a:r>
            <a:r>
              <a:rPr b="1" lang="es-CL" sz="2800" spc="-1" strike="noStrike">
                <a:solidFill>
                  <a:srgbClr val="000000"/>
                </a:solidFill>
                <a:latin typeface="Century Gothic"/>
              </a:rPr>
              <a:t>gestión institucional </a:t>
            </a:r>
            <a:r>
              <a:rPr b="0" lang="es-CL" sz="2800" spc="-1" strike="noStrike">
                <a:solidFill>
                  <a:srgbClr val="000000"/>
                </a:solidFill>
                <a:latin typeface="Century Gothic"/>
              </a:rPr>
              <a:t>(de organismos públicos) como los BGI, los PMG, las MEI, etc.</a:t>
            </a:r>
            <a:endParaRPr b="0" lang="en-US" sz="2800" spc="-1" strike="noStrike">
              <a:solidFill>
                <a:srgbClr val="000000"/>
              </a:solidFill>
              <a:latin typeface="Century Gothic"/>
            </a:endParaRPr>
          </a:p>
        </p:txBody>
      </p:sp>
      <p:sp>
        <p:nvSpPr>
          <p:cNvPr id="27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46040" y="12139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Desde 1997 a 2009 ha evaluado 237 programas gubernamental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s evaluaciones desde el año 2001al 2009 han arrojado los siguientes resultad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La DIPRES…</a:t>
            </a:r>
            <a:endParaRPr b="0" lang="en-US" sz="4400" spc="-1" strike="noStrike">
              <a:solidFill>
                <a:srgbClr val="000000"/>
              </a:solidFill>
              <a:latin typeface="Arial"/>
            </a:endParaRPr>
          </a:p>
        </p:txBody>
      </p:sp>
      <p:pic>
        <p:nvPicPr>
          <p:cNvPr id="282" name="Picture 2" descr=""/>
          <p:cNvPicPr/>
          <p:nvPr/>
        </p:nvPicPr>
        <p:blipFill>
          <a:blip r:embed="rId1"/>
          <a:stretch/>
        </p:blipFill>
        <p:spPr>
          <a:xfrm>
            <a:off x="2000160" y="3071880"/>
            <a:ext cx="5500800" cy="3583080"/>
          </a:xfrm>
          <a:prstGeom prst="rect">
            <a:avLst/>
          </a:prstGeom>
          <a:ln w="0">
            <a:noFill/>
          </a:ln>
          <a:effectLst>
            <a:outerShdw dist="17819" dir="2700000" blurRad="0" rotWithShape="0">
              <a:srgbClr val="7d3b2c"/>
            </a:outerShdw>
          </a:effectLst>
        </p:spPr>
      </p:pic>
      <p:sp>
        <p:nvSpPr>
          <p:cNvPr id="283" name="8 CuadroTexto"/>
          <p:cNvSpPr/>
          <p:nvPr/>
        </p:nvSpPr>
        <p:spPr>
          <a:xfrm>
            <a:off x="142920" y="3929040"/>
            <a:ext cx="1785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Fuente: Instituto Libertad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2)</a:t>
            </a:r>
            <a:endParaRPr b="0" lang="en-US" sz="4400" spc="-1" strike="noStrike">
              <a:solidFill>
                <a:srgbClr val="000000"/>
              </a:solidFill>
              <a:latin typeface="Century Gothic"/>
            </a:endParaRPr>
          </a:p>
        </p:txBody>
      </p:sp>
      <p:sp>
        <p:nvSpPr>
          <p:cNvPr id="237"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Un razonamiento central que explica el rol excluyente del Estado es el siguiente: cuando en una sociedad hay ganadores y perdedores y en el caso de estos últimos su poder de negociación es menor por los costos de transacción derivados de su organización. El Estado es un ente capaz de reducir estos costos. ¿Lo hace?</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En la línea de reducir los costos de transacción de la ciudadanía (quienes pierden) las redes sociales y la tecnología de información ha sido clave.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aso “reguleque”</a:t>
            </a:r>
            <a:endParaRPr b="0" lang="en-US" sz="4400" spc="-1" strike="noStrike">
              <a:solidFill>
                <a:srgbClr val="000000"/>
              </a:solidFill>
              <a:latin typeface="Century Gothic"/>
            </a:endParaRPr>
          </a:p>
        </p:txBody>
      </p:sp>
      <p:sp>
        <p:nvSpPr>
          <p:cNvPr id="239" name=""/>
          <p:cNvSpPr txBox="1"/>
          <p:nvPr/>
        </p:nvSpPr>
        <p:spPr>
          <a:xfrm>
            <a:off x="446040" y="1356840"/>
            <a:ext cx="8229600" cy="4768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l 29 de Diciembre del 2010, la Vicepresidenta de la Junta Nacional de Jardines Infantiles (JUNJI) se refirió a su sueldo como una paga “bastante reguleque”. Dicha cifra asciende a $3.729.733.</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stas declaraciones fueron polémicas en twitter. Como resultado, Ossandón presentó su renuncia con un comunicado de prensa al día posterior a su posteo en twitter.</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0" name="3 Imagen" descr="FOTO_0120101229121404.jpg"/>
          <p:cNvPicPr/>
          <p:nvPr/>
        </p:nvPicPr>
        <p:blipFill>
          <a:blip r:embed="rId1"/>
          <a:stretch/>
        </p:blipFill>
        <p:spPr>
          <a:xfrm>
            <a:off x="2048040" y="2286000"/>
            <a:ext cx="466704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No confundir “política” con “políticas públicas”</a:t>
            </a:r>
            <a:endParaRPr b="0" lang="en-US" sz="4400" spc="-1" strike="noStrike">
              <a:solidFill>
                <a:srgbClr val="000000"/>
              </a:solidFill>
              <a:latin typeface="Century Gothic"/>
            </a:endParaRPr>
          </a:p>
        </p:txBody>
      </p:sp>
      <p:sp>
        <p:nvSpPr>
          <p:cNvPr id="242"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Política es relativo al poder de la sociedad en general. </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Las PP, en tanto corresponden a cómo manejar específicamente estos asuntos público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países angloparlantes, se diferencian entre </a:t>
            </a:r>
            <a:r>
              <a:rPr b="0" i="1" lang="es-CL" sz="3200" spc="-1" strike="noStrike">
                <a:solidFill>
                  <a:srgbClr val="000000"/>
                </a:solidFill>
                <a:latin typeface="Century Gothic"/>
              </a:rPr>
              <a:t>policy</a:t>
            </a:r>
            <a:r>
              <a:rPr b="0" lang="es-CL" sz="3200" spc="-1" strike="noStrike">
                <a:solidFill>
                  <a:srgbClr val="000000"/>
                </a:solidFill>
                <a:latin typeface="Century Gothic"/>
              </a:rPr>
              <a:t> y </a:t>
            </a:r>
            <a:r>
              <a:rPr b="0" i="1" lang="es-CL" sz="3200" spc="-1" strike="noStrike">
                <a:solidFill>
                  <a:srgbClr val="000000"/>
                </a:solidFill>
                <a:latin typeface="Century Gothic"/>
              </a:rPr>
              <a:t>politics</a:t>
            </a:r>
            <a:r>
              <a:rPr b="0" lang="es-CL" sz="3200" spc="-1" strike="noStrike">
                <a:solidFill>
                  <a:srgbClr val="000000"/>
                </a:solidFill>
                <a:latin typeface="Century Gothic"/>
              </a:rPr>
              <a:t>.</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sp>
        <p:nvSpPr>
          <p:cNvPr id="24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las PP se pueden distinguir 4 momentos analíticos, no necesariamente consecutivos: </a:t>
            </a:r>
            <a:r>
              <a:rPr b="0" i="1" lang="es-CL" sz="2800" spc="-1" strike="noStrike">
                <a:solidFill>
                  <a:srgbClr val="000000"/>
                </a:solidFill>
                <a:latin typeface="Century Gothic"/>
              </a:rPr>
              <a:t>origen, diseño, gestión, y evaluación </a:t>
            </a:r>
            <a:r>
              <a:rPr b="0" lang="es-CL" sz="2800" spc="-1" strike="noStrike">
                <a:solidFill>
                  <a:srgbClr val="000000"/>
                </a:solidFill>
                <a:latin typeface="Century Gothic"/>
              </a:rPr>
              <a:t>de las políticas públ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Nueva Zelanda y otros países se ha intercalado otro momento, en donde los contratos convierten el presupuesto derivado de un acuerdo entre gobierno y parlamento, en una declaración explícita de lo que se hará con los recurso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46"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foques del modelo</a:t>
            </a:r>
            <a:endParaRPr b="0" lang="en-US" sz="4400" spc="-1" strike="noStrike">
              <a:solidFill>
                <a:srgbClr val="000000"/>
              </a:solidFill>
              <a:latin typeface="Century Gothic"/>
            </a:endParaRPr>
          </a:p>
        </p:txBody>
      </p:sp>
      <p:sp>
        <p:nvSpPr>
          <p:cNvPr id="24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foque abierto</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 refleja un aprendizaje continuo. Las PP reflejan imperfecciones las cuales permiten retroalimentar el sistema. No es un ciclo cerrado, hay estímulos externos.</a:t>
            </a:r>
            <a:endParaRPr b="0" lang="en-US" sz="2400" spc="-1" strike="noStrike">
              <a:solidFill>
                <a:srgbClr val="000000"/>
              </a:solidFill>
              <a:latin typeface="Century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arácter realista</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 toda idea entra en la agenda y no todos los temas de la agenda se convierten en programas. En la transición de </a:t>
            </a:r>
            <a:r>
              <a:rPr b="0" i="1" lang="es-CL" sz="2400" spc="-1" strike="noStrike">
                <a:solidFill>
                  <a:srgbClr val="000000"/>
                </a:solidFill>
                <a:latin typeface="Century Gothic"/>
              </a:rPr>
              <a:t>agenda pública </a:t>
            </a:r>
            <a:r>
              <a:rPr b="0" lang="es-CL" sz="2400" spc="-1" strike="noStrike">
                <a:solidFill>
                  <a:srgbClr val="000000"/>
                </a:solidFill>
                <a:latin typeface="Century Gothic"/>
              </a:rPr>
              <a:t>a </a:t>
            </a:r>
            <a:r>
              <a:rPr b="0" i="1" lang="es-CL" sz="2400" spc="-1" strike="noStrike">
                <a:solidFill>
                  <a:srgbClr val="000000"/>
                </a:solidFill>
                <a:latin typeface="Century Gothic"/>
              </a:rPr>
              <a:t>programas</a:t>
            </a:r>
            <a:r>
              <a:rPr b="0" lang="es-CL" sz="2400" spc="-1" strike="noStrike">
                <a:solidFill>
                  <a:srgbClr val="000000"/>
                </a:solidFill>
                <a:latin typeface="Century Gothic"/>
              </a:rPr>
              <a:t> siempre hay fugas. En cierto sentido el programa es una selección del sistema polític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1)</a:t>
            </a:r>
            <a:endParaRPr b="0" lang="en-US" sz="4400" spc="-1" strike="noStrike">
              <a:solidFill>
                <a:srgbClr val="000000"/>
              </a:solidFill>
              <a:latin typeface="Century Gothic"/>
            </a:endParaRPr>
          </a:p>
        </p:txBody>
      </p:sp>
      <p:sp>
        <p:nvSpPr>
          <p:cNvPr id="250"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51"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0-24T18:56:36Z</dcterms:modified>
  <cp:revision>50</cp:revision>
  <dc:subject/>
  <dc:title>Diapositiva 1</dc:title>
</cp:coreProperties>
</file>