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DE41D6-F6F1-45D3-9BCD-AB5164EAE05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323A9D-4BF4-45D0-B12B-79C86B03662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Ya viero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 que hace un directivo público, sus motivaciones, desafíos y restri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ieron la importancia del Estado, datos, signific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queremos que ustedes en el futuro asesoren o dirijan instituciones públicas es conveniente que tengan una noción general sobre la institucionalidad del Estado del mismo modo como se estudia derecho de la empresas y aspectos comerciales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rataré de pasar ráp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E4CA07-E20A-44ED-B48B-EF0FF441266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30D8BC-B8D6-4CB9-9779-72E3DCB7BA5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3A642A-9B69-4889-ABC1-1778AEC55A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bas chahu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3A79AC-3ED5-445B-992D-AC325ACBB78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ttp://www.tribunalconstitucional.cl/wp/tribunal/integracion-actual/raul-bertel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9A5327-952E-43FC-9AEA-CED7AC5450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B48F84-5838-4B4C-8E6E-1C6D2FEC43E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F088A5-4475-4D5F-976D-88581CA0EA9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8443D1-A7D2-4124-9FB3-43C331C7ACD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5EB9E9-D1EF-43A3-8CC4-D2455D45964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CA699A-4FD2-467E-AEF6-30039427922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D665CA-1B52-44D3-BB34-A5C7922E9D3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49DBC7-8920-4CA4-AE39-5804EF792C3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F1D4F0-0DFE-41C8-8456-6DD58661F21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A22E17-E4A2-48C6-9300-3E81A9D2A5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B96723-BD94-447E-9443-D5BFABD4B36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BCEF72-EB4A-4E48-9CA6-3942C1D21B3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C6962A-AD5D-4685-B463-2168FD9CF39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239D19-5A5B-4B28-A7E2-B0015442A98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15341A-B792-4CAD-AAAB-27F37C79494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402C4A-E9FB-4C26-B191-7B7ABCCDF9F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A0148B-5BDC-4F62-B234-086F4AFF987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ttp://en.wikipedia.org/wiki/Montesqu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8A7C2C-3BAB-48BC-9765-9BCE785CAFD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9DF-46D7-4844-90F4-C1438BD8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E19-6CCA-44C6-97EC-C410DFE9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564-A33A-4425-A229-D8770F65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0DD-124F-4D5E-BCCF-8EA08454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F24-857F-4EE2-81D8-47E52CB6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4A86-C759-41BD-A94F-C51AC9EB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B592-E89A-47F1-B9EA-235E1A9C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67FF-3FEC-4C85-8812-8AC57054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4610-950D-4E71-A5C6-62C1D6B5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235C-C1C2-4B1A-ACE9-E1E89C4A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A8BD-1912-4599-B9D1-3237F460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DF2-A7F9-4DC1-926F-A57DC776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8EF5-BBF0-4BDA-B581-6A7AEAA6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AAD1-FAF1-4F91-B3D7-76FD3AB1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A88B-08EA-49AB-94ED-82EE8757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B88E-32CC-44ED-A600-036C86C3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B6E0-EB72-4254-975C-84809413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846-95EE-49F5-AA0F-484676CD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A1A-2671-4673-BB6F-9E250612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417-CEB2-410E-B283-7D8E533D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478-A711-4B95-AE7D-53616E76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595-0717-4F62-81FB-412708F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681-0B9D-4243-9937-8F0DFD6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22D-D40D-4FC9-A3B3-4B6EF642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7193-41F1-4281-9A7F-40F443BD7D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6A8D-B574-4570-9612-DFB2301C9C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9840" y="2491920"/>
            <a:ext cx="763416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Introducción a los Sistemas Públicos. </a:t>
            </a:r>
            <a:br>
              <a:rPr sz="2800"/>
            </a:b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 “Macrosistemas, Estructuras y Funciones del Estado”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inostro@dii.uchile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Centro de Sistemas Públic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6227640" y="177336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concurren” 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Fiscalizan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c00000"/>
                </a:solidFill>
                <a:latin typeface="Verdana"/>
              </a:rPr>
              <a:t>Conocer y resolver asuntos civiles y criminales 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(5)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Dirige la investigación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(10)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preventiva y posteriormente de la normativ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0" y="51516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Raúl Bertelsen Repetto"/>
          <p:cNvPicPr/>
          <p:nvPr/>
        </p:nvPicPr>
        <p:blipFill>
          <a:blip r:embed="rId4"/>
          <a:stretch/>
        </p:blipFill>
        <p:spPr>
          <a:xfrm>
            <a:off x="7164360" y="1268280"/>
            <a:ext cx="142884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60096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s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 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ar referencias suficientes para entrar en la conversación 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,  deber ser), pero se harán observaciones crítica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9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9" name="Group 50"/>
          <p:cNvGrpSpPr/>
          <p:nvPr/>
        </p:nvGrpSpPr>
        <p:grpSpPr>
          <a:xfrm>
            <a:off x="468360" y="409680"/>
            <a:ext cx="8490960" cy="6066360"/>
            <a:chOff x="468360" y="409680"/>
            <a:chExt cx="8490960" cy="6066360"/>
          </a:xfrm>
        </p:grpSpPr>
        <p:grpSp>
          <p:nvGrpSpPr>
            <p:cNvPr id="180" name="Group 51"/>
            <p:cNvGrpSpPr/>
            <p:nvPr/>
          </p:nvGrpSpPr>
          <p:grpSpPr>
            <a:xfrm>
              <a:off x="468360" y="409680"/>
              <a:ext cx="8490960" cy="4879800"/>
              <a:chOff x="468360" y="409680"/>
              <a:chExt cx="8490960" cy="4879800"/>
            </a:xfrm>
          </p:grpSpPr>
          <p:sp>
            <p:nvSpPr>
              <p:cNvPr id="181" name="AutoShape 52"/>
              <p:cNvSpPr/>
              <p:nvPr/>
            </p:nvSpPr>
            <p:spPr>
              <a:xfrm>
                <a:off x="468360" y="409680"/>
                <a:ext cx="8490960" cy="4879800"/>
              </a:xfrm>
              <a:prstGeom prst="rect">
                <a:avLst/>
              </a:prstGeom>
              <a:noFill/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53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Oval 54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Oval 55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Oval 56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AutoShape 61"/>
              <p:cNvSpPr/>
              <p:nvPr/>
            </p:nvSpPr>
            <p:spPr>
              <a:xfrm rot="18061800">
                <a:off x="5399280" y="2616480"/>
                <a:ext cx="456840" cy="384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AutoShape 62"/>
              <p:cNvSpPr/>
              <p:nvPr/>
            </p:nvSpPr>
            <p:spPr>
              <a:xfrm rot="10800000">
                <a:off x="3958560" y="2237400"/>
                <a:ext cx="402840" cy="45684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AutoShape 63"/>
              <p:cNvSpPr/>
              <p:nvPr/>
            </p:nvSpPr>
            <p:spPr>
              <a:xfrm rot="3861600">
                <a:off x="4550400" y="3184200"/>
                <a:ext cx="281880" cy="4024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Oval 64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Oval 65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66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AutoShape 67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AutoShape 68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AutoShape 69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AutoShape 70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AutoShape 71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AutoShape 72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Text Box 73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AutoShape 74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AutoShape 75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AutoShape 76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AutoShape 77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AutoShape 78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AutoShape 79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AutoShape 80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AutoShape 81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AutoShape 82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AutoShape 83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Oval 84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Oval 85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AutoShape 86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" name="Group 87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217" name="Text Box 88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Text Box 89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AutoShape 90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AutoShape 91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Line 92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Line 93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94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flexiones Fina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77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weberiana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Nueva gerencia pública, participación ciudadana!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capturas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 (políticas, gremiales, empresariales…);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promueven el interés general y permanente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…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pero puede generar costos de transacción, administrativos importantes, e incentivos perversos en algunos cas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presidencialismo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organismos autónom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c00000"/>
                </a:solidFill>
                <a:latin typeface="Verdana"/>
              </a:rPr>
              <a:t>Las políticas públicas y la modernización del Estado para ser efecticas y sustentables deben considerar los fines y alcances constitucionales del Est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dipres.cl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bcn.cl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Fines, Restricciones, Princip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21333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</a:t>
            </a:r>
            <a:r>
              <a:rPr b="1" i="1" lang="es-CL" sz="2800" spc="-1" strike="noStrike">
                <a:solidFill>
                  <a:srgbClr val="006666"/>
                </a:solidFill>
                <a:latin typeface="Arial"/>
              </a:rPr>
              <a:t>…(o las lógicas que operan, para bien y para mal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827360"/>
            <a:ext cx="7812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promover el bien común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para lo cual debe contribuir a crear las condiciones sociales”… que permitan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(art. 1 Constitució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</a:t>
            </a: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integración armónica de todos los sector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;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 asegurar derecho de las personas a participar con igualdad de oportunidades en la vida nacional </a:t>
            </a: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(art.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4292640"/>
            <a:ext cx="1258920" cy="165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0" y="-100080"/>
            <a:ext cx="2556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descentralizada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actuar válida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Responder civil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12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ante la ley </a:t>
            </a:r>
            <a:r>
              <a:rPr b="1" lang="es-CL" sz="1000" spc="-1" strike="noStrike">
                <a:solidFill>
                  <a:srgbClr val="c00000"/>
                </a:solidFill>
                <a:latin typeface="Verdana"/>
              </a:rPr>
              <a:t>(no hay grupos privilegiados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protección ante la ley en el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ejercicio de los derechos”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 </a:t>
            </a:r>
            <a:r>
              <a:rPr b="1" lang="es-CL" sz="1200" spc="-1" strike="noStrike">
                <a:solidFill>
                  <a:srgbClr val="3333cc"/>
                </a:solidFill>
                <a:latin typeface="Verdana"/>
              </a:rPr>
              <a:t>(libertad de culto)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DERECHO DE PROPIEDAD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(expropiación=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400" spc="-1" strike="noStrike">
                <a:solidFill>
                  <a:srgbClr val="c00000"/>
                </a:solidFill>
                <a:latin typeface="Verdana"/>
              </a:rPr>
              <a:t>RECURSO DE PROTECCIÓN (Cortes de Apelaciones)</a:t>
            </a:r>
            <a:r>
              <a:rPr b="1" lang="es-CL" sz="1400" spc="-1" strike="noStrike">
                <a:solidFill>
                  <a:srgbClr val="ff99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-87480"/>
            <a:ext cx="26272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227664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: Los “Poderes del Estado”…o la teoría de los “pesos y contrapesos”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381400" cy="3143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0" y="4932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gobierno y la administración del Estad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organización básica del Estado”, y “la carrera funcionaria”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0" y="3357720"/>
            <a:ext cx="1476360" cy="183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avier</cp:lastModifiedBy>
  <dcterms:modified xsi:type="dcterms:W3CDTF">2011-10-17T19:40:45Z</dcterms:modified>
  <cp:revision>47</cp:revision>
  <dc:subject/>
  <dc:title>Macrosistemas, Estructuras del y Funciones del Estado.</dc:title>
</cp:coreProperties>
</file>