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7BBF33-A733-43F9-B953-6A8B8E1858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CDA747-68C0-4D11-BF09-9BB322B8C0A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Ya viero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 que hace un directivo público, sus motivaciones, desafíos y 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eron la importancia del Estado, datos, signific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queremos que ustedes en el futuro asesoren o dirijan instituciones públicas es conveniente que tengan una noción general sobre la institucionalidad del Estado del mismo modo como se estudia derecho de la empresas y aspectos comerciales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rataré de pasar ráp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FC9289-6F89-4D07-89DC-81561EBBD4D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C65363-D4DB-4056-8C26-C83AD46A1D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81AECF-2268-4D05-9C47-AA826A4B491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7CE48-4238-419D-AB16-64E4B68FFD1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www.tribunalconstitucional.cl/wp/tribunal/integracion-actual/raul-bertel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2E07FE-F022-4679-B7AC-EFB5DBF89D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02E77F-992F-4647-9D80-D7C80B26BA0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618386-5706-4D4B-82DF-08020C4C37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13187A-DB5B-4186-A368-E448C382060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DD334E-2B8E-4FCE-AE94-C55689DC85E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294D0E-CDF0-4AA7-AC80-3203AD772E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544A46-3508-441F-ACCB-76AC77FB62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782C10-3D8A-47DC-8B87-BD36B1A8E5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D7DD7C-C7EA-4CC7-B117-AE008DD672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747DF6-BCCB-450A-B557-8005C9A9320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5AA32F-EED3-420E-95E5-933642217D5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A86123-E828-46A4-8AFF-AF019976B7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536537-9C0B-43F9-9CD9-39450EC908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34743C-2128-4E91-9AAD-D42DD2F75B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76B7E5-DAD1-4755-A6E2-B3BAB772F4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7830BC-3AAC-4857-A637-2FA214CCF5A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804DAB-B272-44F7-B836-67D6B7B337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en.wikipedia.org/wiki/Montesqu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44D577-707C-4C2E-9461-4A0601BB281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A29-8040-45F4-BEB0-D70DF950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C60-AE82-4C42-BBBB-D120D2B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713-E59B-4727-874D-31E4552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D67-BEE1-4D75-B588-944A156E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9A5-4E27-4BA3-B446-EE31D3D9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55A5-EDEB-45DA-8FCA-4DC4B09D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236-C417-4F4E-931E-2A5EF993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22E-9BE3-4C7D-804C-A686067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8AA3-7FFB-452F-A6C2-703B2B27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FF31-1CAE-4E95-A760-3943A314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6861-3F1E-4865-809C-54CFE50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55E-03A8-45A5-B42F-870B5B9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823D-448E-4321-9FD1-EBAE1BFA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FE9-4889-4383-B5C5-B5A5D9A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232D-1F84-4DFF-9332-0054199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9ED-1C0E-486D-9D80-162EC99F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91B5-55BA-4B50-84DA-7FBF70A6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727-ECDF-47AB-BB26-1D8B69B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43A-1996-4742-BFA3-287D4DBB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380-9304-4AC8-893E-2C7CF6F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7CA-8A4F-4B98-87DE-D374E400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A1F-F1FD-4E44-9342-5D650A6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171-43A8-443E-B367-845068D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AE5-F1CE-4753-8E90-238FD85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2B36-15BF-40C0-AD41-E9C6B48191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0BB0-8E7E-4BB0-A9EE-793DE9CD42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6227640" y="177336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Raúl Bertelsen Repetto"/>
          <p:cNvPicPr/>
          <p:nvPr/>
        </p:nvPicPr>
        <p:blipFill>
          <a:blip r:embed="rId4"/>
          <a:stretch/>
        </p:blipFill>
        <p:spPr>
          <a:xfrm>
            <a:off x="7164360" y="1268280"/>
            <a:ext cx="1428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60096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 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ar referencias suficientes para entrar en la conversación 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, 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8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8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21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flexiones Fina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77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weberiana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Nueva gerencia pública, participación ciudadana!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capturas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(políticas, gremiales, empresariales…);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omueven el interés general y permanente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pero puede generar costos de transacción, administrativos importantes, e incentivos perversos en algunos cas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esidencialismo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organismos autónom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Las políticas públicas y la modernización del Estado para ser efecticas y sustentables deben considerar los fines y alcances constitucionales del Est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Fines, Restricciones, Princip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1333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</a:t>
            </a:r>
            <a:r>
              <a:rPr b="1" i="1" lang="es-CL" sz="2800" spc="-1" strike="noStrike">
                <a:solidFill>
                  <a:srgbClr val="006666"/>
                </a:solidFill>
                <a:latin typeface="Arial"/>
              </a:rPr>
              <a:t>…(o las lógicas que operan, para bien y para mal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7812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las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 Constitu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</a:t>
            </a: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integración armónica de todos los sector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4292640"/>
            <a:ext cx="1258920" cy="16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0" y="-100080"/>
            <a:ext cx="2556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 </a:t>
            </a:r>
            <a:r>
              <a:rPr b="1" lang="es-CL" sz="1000" spc="-1" strike="noStrike">
                <a:solidFill>
                  <a:srgbClr val="c00000"/>
                </a:solidFill>
                <a:latin typeface="Verdana"/>
              </a:rPr>
              <a:t>(no hay grupos privilegiados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protección ante la ley en e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ejercicio de los derechos”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 </a:t>
            </a:r>
            <a:r>
              <a:rPr b="1" lang="es-CL" sz="1200" spc="-1" strike="noStrike">
                <a:solidFill>
                  <a:srgbClr val="3333cc"/>
                </a:solidFill>
                <a:latin typeface="Verdana"/>
              </a:rPr>
              <a:t>(libertad de culto)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=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400" spc="-1" strike="noStrike">
                <a:solidFill>
                  <a:srgbClr val="c00000"/>
                </a:solidFill>
                <a:latin typeface="Verdana"/>
              </a:rPr>
              <a:t>RECURSO DE PROTECCIÓN (Cortes de Apelaciones)</a:t>
            </a:r>
            <a:r>
              <a:rPr b="1" lang="es-CL" sz="14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-87480"/>
            <a:ext cx="26272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4932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3357720"/>
            <a:ext cx="1476360" cy="183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avier</cp:lastModifiedBy>
  <dcterms:modified xsi:type="dcterms:W3CDTF">2011-10-17T19:40:45Z</dcterms:modified>
  <cp:revision>47</cp:revision>
  <dc:subject/>
  <dc:title>Macrosistemas, Estructuras del y Funciones del Estado.</dc:title>
</cp:coreProperties>
</file>