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C3186E-80C0-4360-9EF8-3608AAB6F85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F4BD80-5322-4F1F-9729-BD387D90B83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Ya vieron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 que hace un directivo público, sus motivaciones, desafíos y restri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ieron la importancia del Estado, datos, signific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o queremos que ustedes en el futuro asesoren o dirijan instituciones públicas es conveniente que tengan una noción general sobre la institucionalidad del Estado del mismo modo como se estudia derecho de la empresas y aspectos comerciales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rataré de pasar ráp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4D2B0D-48C9-4F1E-8915-97185FA16CE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C637BD-DF0D-4775-B7C5-E979EED24BE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835B0F-D3CF-4E53-B0C8-5D022E3CE06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abas chahuá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920920-3C9E-4233-89F4-788BECF0E06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ttp://www.tribunalconstitucional.cl/wp/tribunal/integracion-actual/raul-bertel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F58045-F719-4AF9-8523-D7DA6D284BD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2AB51C-E28D-4BA6-9C38-30EE593FB93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981CFC8-2668-4426-8948-0863E3DF0E6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74279A-486B-4FEE-B799-9247E785EFA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0F3943-906B-42D1-B82E-1F23954535E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6A3AFC-1531-477E-9347-91F87839C64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496F2B-5153-41AD-9B5A-A636DF4899F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72CF72-EA28-40AA-ACD8-CB9EC7E13CD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35D5D0-336F-44FB-97B7-3824DC49264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E3BE237-4DC1-4B48-AD56-03ABF8CA323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BB9E35-EF52-4F8F-A7A8-5933526BB86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BBB1C3-1195-4D18-BE16-7D91C9A9223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AE4D8C-B268-40A1-BA45-EBF0619785E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732576-B9FC-415A-A79E-CF8E8FD233B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31DFD7-9F8F-4A93-A2E1-A531CAE0A9B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B298B2-C926-4045-862D-BAA13954631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ECE3D2-50FB-4AA6-8D9C-2E4F56C6043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ttp://en.wikipedia.org/wiki/Montesqui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DB31CD-585F-487E-8C7D-1EB11947CED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3E4-BEB7-430F-A115-A1D4A708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A158-9B89-4C65-B01D-C0CAA3D9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33C-77B6-40C4-879E-38956F59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2CA-8467-485F-BF90-231B197E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2A18-8ECE-4701-85FF-118E2267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20CA-346D-4FC0-9CC5-73A2920C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55A8-643F-4D54-B4E4-A7DB5810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A91C-411D-4BE9-B978-D3BB8DA2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CD44-C83F-43E3-B55E-C2AAD753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9705-5E55-4893-AA3A-7D7F904D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ED60-B6B3-4053-A42A-533CE27F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BDB-28D4-4ED7-8650-56158439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EF2B-8D7C-4042-B163-47C0E1F2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273D-F6C0-4507-99F8-E68EF97C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D0F3-99E3-47C3-AE41-0E16DCF7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57EA-648C-4D6C-8CC1-4FD42ECC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761B-352F-4DE7-85D3-B57753E0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C8EC-90A8-42A9-8FCE-60DCFE81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4FA-03DB-4AF3-B6E0-46657C69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9BA-AFBD-4658-A10D-AB96C2DC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5DB-6E68-42AD-A561-FF106E8F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47E-BF4A-4A12-BD2B-4E7251DA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E11-7E79-41C4-8739-424206E1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B67-9D20-4F2A-9DC3-1D850742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ECC6-1418-4120-B22C-77CB5097BE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6450-5B5B-4185-A180-C64B5609C38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09840" y="2491920"/>
            <a:ext cx="7634160" cy="262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Introducción a los Sistemas Públicos. </a:t>
            </a:r>
            <a:br>
              <a:rPr sz="2800"/>
            </a:b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 “Macrosistemas, Estructuras y Funciones del Estado”.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jinostro@dii.uchile.c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Centro de Sistemas Públic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www.sistemaspublicos.c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6227640" y="177336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“concurren” 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Fiscalizan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c00000"/>
                </a:solidFill>
                <a:latin typeface="Verdana"/>
              </a:rPr>
              <a:t>Conocer y resolver asuntos civiles y criminales 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(5)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Dirige la investigación 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(10)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preventiva y posteriormente de la normativ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1727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0" y="5151600"/>
            <a:ext cx="2124000" cy="1706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Raúl Bertelsen Repetto"/>
          <p:cNvPicPr/>
          <p:nvPr/>
        </p:nvPicPr>
        <p:blipFill>
          <a:blip r:embed="rId4"/>
          <a:stretch/>
        </p:blipFill>
        <p:spPr>
          <a:xfrm>
            <a:off x="7164360" y="1268280"/>
            <a:ext cx="142884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60096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ersonas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 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ar referencias suficientes para entrar en la conversación 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,  deber ser), pero se harán observaciones crítica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9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9" name="Group 50"/>
          <p:cNvGrpSpPr/>
          <p:nvPr/>
        </p:nvGrpSpPr>
        <p:grpSpPr>
          <a:xfrm>
            <a:off x="468360" y="409680"/>
            <a:ext cx="8490960" cy="6066360"/>
            <a:chOff x="468360" y="409680"/>
            <a:chExt cx="8490960" cy="6066360"/>
          </a:xfrm>
        </p:grpSpPr>
        <p:grpSp>
          <p:nvGrpSpPr>
            <p:cNvPr id="180" name="Group 51"/>
            <p:cNvGrpSpPr/>
            <p:nvPr/>
          </p:nvGrpSpPr>
          <p:grpSpPr>
            <a:xfrm>
              <a:off x="468360" y="409680"/>
              <a:ext cx="8490960" cy="4879800"/>
              <a:chOff x="468360" y="409680"/>
              <a:chExt cx="8490960" cy="4879800"/>
            </a:xfrm>
          </p:grpSpPr>
          <p:sp>
            <p:nvSpPr>
              <p:cNvPr id="181" name="AutoShape 52"/>
              <p:cNvSpPr/>
              <p:nvPr/>
            </p:nvSpPr>
            <p:spPr>
              <a:xfrm>
                <a:off x="468360" y="409680"/>
                <a:ext cx="8490960" cy="4879800"/>
              </a:xfrm>
              <a:prstGeom prst="rect">
                <a:avLst/>
              </a:prstGeom>
              <a:noFill/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Oval 53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Oval 54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Oval 55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" name="Oval 56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AutoShape 61"/>
              <p:cNvSpPr/>
              <p:nvPr/>
            </p:nvSpPr>
            <p:spPr>
              <a:xfrm rot="18061800">
                <a:off x="5399280" y="2616480"/>
                <a:ext cx="456840" cy="3841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AutoShape 62"/>
              <p:cNvSpPr/>
              <p:nvPr/>
            </p:nvSpPr>
            <p:spPr>
              <a:xfrm rot="10800000">
                <a:off x="3958560" y="2237400"/>
                <a:ext cx="402840" cy="45684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AutoShape 63"/>
              <p:cNvSpPr/>
              <p:nvPr/>
            </p:nvSpPr>
            <p:spPr>
              <a:xfrm rot="3861600">
                <a:off x="4550400" y="3184200"/>
                <a:ext cx="281880" cy="4024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Oval 64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Oval 65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Oval 66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" name="AutoShape 67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" name="AutoShape 68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AutoShape 69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" name="AutoShape 70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" name="AutoShape 71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AutoShape 72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2" name="Text Box 73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AutoShape 74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" name="AutoShape 75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" name="AutoShape 76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" name="AutoShape 77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7" name="AutoShape 78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AutoShape 79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" name="AutoShape 80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" name="AutoShape 81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" name="AutoShape 82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" name="AutoShape 83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Oval 84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s-E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Oval 85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AutoShape 86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6" name="Group 87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217" name="Text Box 88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Text Box 89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AutoShape 90"/>
              <p:cNvSpPr/>
              <p:nvPr/>
            </p:nvSpPr>
            <p:spPr>
              <a:xfrm rot="10800000">
                <a:off x="3890520" y="5373720"/>
                <a:ext cx="1284480" cy="109368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AutoShape 91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Line 92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2" name="Line 93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94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flexiones Fina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277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weberiana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Nueva gerencia pública, participación ciudadana!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capturas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 (políticas, gremiales, empresariales…); </a:t>
            </a: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promueven el interés general y permanente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…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pero puede generar costos de transacción, administrativos importantes, e incentivos perversos en algunos cas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presidencialismo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organismos autónom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Las políticas públicas y la modernización del Estado para ser efecticas y sustentables deben considerar los fines y alcances constitucionales del Estad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dipres.cl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bcn.cl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152280" y="44280"/>
            <a:ext cx="254340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Fines, Restricciones, Princip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213336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</a:t>
            </a:r>
            <a:r>
              <a:rPr b="1" i="1" lang="es-CL" sz="2800" spc="-1" strike="noStrike">
                <a:solidFill>
                  <a:srgbClr val="006666"/>
                </a:solidFill>
                <a:latin typeface="Arial"/>
              </a:rPr>
              <a:t>…(o las lógicas que operan, para bien y para mal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6156360" y="5493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827360"/>
            <a:ext cx="78120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“promover el bien común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para lo cual debe contribuir a crear las condiciones sociales”… que permitan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“la mayor realización espiritual y material posible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(art. 1 Constitució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</a:t>
            </a: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integración armónica de todos los sector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;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 asegurar derecho de las personas a participar con igualdad de oportunidades en la vida nacional 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(art. 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4292640"/>
            <a:ext cx="1258920" cy="1657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7415280" y="0"/>
            <a:ext cx="1728720" cy="141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3"/>
          <a:stretch/>
        </p:blipFill>
        <p:spPr>
          <a:xfrm>
            <a:off x="0" y="-100080"/>
            <a:ext cx="25560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descentralizada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actuar válidamente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Responder civilmente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430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7712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Igualdad ante la ley </a:t>
            </a:r>
            <a:r>
              <a:rPr b="1" lang="es-CL" sz="1000" spc="-1" strike="noStrike">
                <a:solidFill>
                  <a:srgbClr val="c00000"/>
                </a:solidFill>
                <a:latin typeface="Verdana"/>
              </a:rPr>
              <a:t>(no hay grupos privilegiados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Igualdad protección ante la ley en el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“</a:t>
            </a: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ejercicio de los derechos”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 </a:t>
            </a:r>
            <a:r>
              <a:rPr b="1" lang="es-CL" sz="1200" spc="-1" strike="noStrike">
                <a:solidFill>
                  <a:srgbClr val="3333cc"/>
                </a:solidFill>
                <a:latin typeface="Verdana"/>
              </a:rPr>
              <a:t>(libertad de culto)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DERECHO DE PROPIEDAD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(expropiación=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400" spc="-1" strike="noStrike">
                <a:solidFill>
                  <a:srgbClr val="c00000"/>
                </a:solidFill>
                <a:latin typeface="Verdana"/>
              </a:rPr>
              <a:t>RECURSO DE PROTECCIÓN (Cortes de Apelaciones)</a:t>
            </a:r>
            <a:r>
              <a:rPr b="1" lang="es-CL" sz="1400" spc="-1" strike="noStrike">
                <a:solidFill>
                  <a:srgbClr val="ff99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0" y="-87480"/>
            <a:ext cx="262728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2276640"/>
            <a:ext cx="7238880" cy="144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: Los “Poderes del Estado”…o la teoría de los “pesos y contrapesos”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6300720" y="4149720"/>
            <a:ext cx="2381400" cy="3143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0" y="4932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“gobierno y la administración del Estad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“organización básica del Estado”, y “la carrera funcionaria” 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0" y="3357720"/>
            <a:ext cx="1476360" cy="1839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avier</cp:lastModifiedBy>
  <dcterms:modified xsi:type="dcterms:W3CDTF">2011-10-17T19:40:45Z</dcterms:modified>
  <cp:revision>47</cp:revision>
  <dc:subject/>
  <dc:title>Macrosistemas, Estructuras del y Funciones del Estado.</dc:title>
</cp:coreProperties>
</file>