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179F5-A454-4278-9808-A625D0713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60CCF-87CF-4B63-9818-0393E06A1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B6B2C-CD54-43EA-A32C-645B83C96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47F22-E1D0-4895-BF02-E03556231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A242F-9B1A-4545-9599-AA4A9F999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A3022-226E-4576-BD78-BEDD7984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0FE90-729D-4478-B902-69CC3155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A632E-F214-4F53-B3DB-70398F19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3C232-46FA-4AF3-A0BF-FA125B42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3382B-B99B-49EE-A7EF-9394F74F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2B989-5969-4282-AA56-1FF00F09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846F9-B703-449A-8F3E-EC28B8F78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B801B5-E100-4A9C-ADBD-97EDF538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962BB-BCC6-43EC-95C9-CA5B62AE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EE1EE-B165-42FF-A96E-D6F4DFB7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25255-314A-479C-B78E-A1E4F615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76A9F-4572-4A88-9F8C-BB6CCD35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1D89-BEA1-4795-9500-78C259039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8B093-3448-453A-A1D4-C98734A9E1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C94D-6D27-4C4A-8B93-51AE6F07E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F15A3-B1B9-4BF6-B6FE-7493CF568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1CD6-9368-4739-94BC-4962BDF61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6795-32D6-40A1-89FD-F291918DF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E896D-D89E-4C34-BC01-916D03025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63832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CA9C-E993-49CF-BBCF-A782DBCBFEA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6767-9E98-4BBE-B463-9D6AF8CE2776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3505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0: Inven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155400" y="544356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Niveles de Inventario E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087640" y="2554200"/>
            <a:ext cx="5898960" cy="2705400"/>
            <a:chOff x="2087640" y="2554200"/>
            <a:chExt cx="5898960" cy="27054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158920" y="2554200"/>
              <a:ext cx="5827680" cy="26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590920" y="4114800"/>
              <a:ext cx="49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59640" y="49831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1669680" y="3657600"/>
              <a:ext cx="1112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n exis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12680" y="2819520"/>
              <a:ext cx="829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terva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 o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0960" y="3606840"/>
              <a:ext cx="1503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= Q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27560" y="3632040"/>
              <a:ext cx="1026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ote =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C13F-D3F1-4E96-A353-F3A558BF4A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óptimo (Q*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387520" y="2217600"/>
                <a:ext cx="2133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387520" y="3662280"/>
                <a:ext cx="4356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286000" y="5067360"/>
                <a:ext cx="5410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DF43-2422-48A2-8DF1-D07CF77A1D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374920" y="1998720"/>
                <a:ext cx="6172200" cy="19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∗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Q</m:t>
                            </m:r>
                            <m:r>
                              <m:t xml:space="preserve">∗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IC</m:t>
                            </m:r>
                          </m:e>
                        </m:rad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 es muy robus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3A1E-22F4-4871-BAD6-0BC9375BDB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9588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86240" y="5748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osto Total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857600" y="2501640"/>
            <a:ext cx="6313320" cy="3184920"/>
            <a:chOff x="1857600" y="2501640"/>
            <a:chExt cx="6313320" cy="3184920"/>
          </a:xfrm>
        </p:grpSpPr>
        <p:sp>
          <p:nvSpPr>
            <p:cNvPr id="147" name=""/>
            <p:cNvSpPr/>
            <p:nvPr/>
          </p:nvSpPr>
          <p:spPr>
            <a:xfrm flipV="1">
              <a:off x="449568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971440" y="35812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04760" y="5410080"/>
              <a:ext cx="1589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 lote (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58440" y="5207040"/>
              <a:ext cx="50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O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4920" y="2908440"/>
              <a:ext cx="12063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 + 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4120" y="3327480"/>
              <a:ext cx="1576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56360" y="4406760"/>
              <a:ext cx="192096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orden de ped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838760"/>
              <a:ext cx="533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5400">
              <a:off x="1072440" y="3288240"/>
              <a:ext cx="1849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anual ($/año)(T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12840" y="3276720"/>
              <a:ext cx="7340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íni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94174-98A4-406C-B410-138B084640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ventas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: ventas pendi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 por tiempo en satisfacer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327400" y="4013280"/>
            <a:ext cx="5504040" cy="1981080"/>
            <a:chOff x="2327400" y="4013280"/>
            <a:chExt cx="5504040" cy="1981080"/>
          </a:xfrm>
        </p:grpSpPr>
        <p:sp>
          <p:nvSpPr>
            <p:cNvPr id="160" name=""/>
            <p:cNvSpPr/>
            <p:nvPr/>
          </p:nvSpPr>
          <p:spPr>
            <a:xfrm flipH="1">
              <a:off x="3569760" y="4013280"/>
              <a:ext cx="82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70120" y="5473800"/>
              <a:ext cx="336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78400" y="4672080"/>
              <a:ext cx="1352520" cy="12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10040" y="45752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10040" y="4584600"/>
              <a:ext cx="1771920" cy="11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0800" y="4782960"/>
              <a:ext cx="2001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3960" y="5540400"/>
              <a:ext cx="3254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8840" y="5486400"/>
              <a:ext cx="2206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83120" y="5703840"/>
              <a:ext cx="1684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54240" y="4476600"/>
              <a:ext cx="473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Q-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27400" y="409572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Ne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9400" y="532440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806560" y="3060720"/>
                <a:ext cx="309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C4CD2-DAFD-42B9-AC6B-47EFBBA702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204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rivar costo anual con respecto a Q y P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909800" y="2316240"/>
                <a:ext cx="53578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C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730C-30FB-4033-9A06-8236CBEE74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ventas perdid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33560" y="2362320"/>
            <a:ext cx="5853600" cy="2480760"/>
            <a:chOff x="1933560" y="2362320"/>
            <a:chExt cx="5853600" cy="2480760"/>
          </a:xfrm>
        </p:grpSpPr>
        <p:sp>
          <p:nvSpPr>
            <p:cNvPr id="179" name=""/>
            <p:cNvSpPr/>
            <p:nvPr/>
          </p:nvSpPr>
          <p:spPr>
            <a:xfrm>
              <a:off x="2988720" y="442224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988720" y="2362320"/>
              <a:ext cx="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88720" y="3024360"/>
              <a:ext cx="1270080" cy="13975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52360" y="3024360"/>
              <a:ext cx="1270080" cy="13975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85160" y="4506840"/>
              <a:ext cx="437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97320" y="4496040"/>
              <a:ext cx="437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5120" y="420336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33560" y="236232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7E89-4EB6-40FE-9484-B5874F10E6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Demanda Aleato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Continua (Q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n cada momento el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decidir en que momento orde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 (se usa Q* por ser robus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: punto de re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: tiempo de entreg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: demanda med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inventario de segur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: probabilidad de servir todas las deman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8025-AA0C-48C6-92DE-8DB8637FC4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6208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2664000" y="525780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Continua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18840" y="2400480"/>
            <a:ext cx="6725160" cy="2791080"/>
            <a:chOff x="1518840" y="2400480"/>
            <a:chExt cx="6725160" cy="27910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600200" y="2400480"/>
              <a:ext cx="664380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133720" y="403848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29600" y="491508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19800">
              <a:off x="821520" y="3391560"/>
              <a:ext cx="1680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xistencia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54640" y="3886200"/>
              <a:ext cx="275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63560" y="361152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48040" y="34592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0720" y="36878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5456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3904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FCB00-CE44-4A8A-A9A8-1B04B2424D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873440" y="556272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istribución de Probabilidad de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011320" y="1676520"/>
            <a:ext cx="5763600" cy="3736800"/>
            <a:chOff x="2011320" y="1676520"/>
            <a:chExt cx="5763600" cy="37368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2016000" y="1676520"/>
              <a:ext cx="575640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262320" y="5105520"/>
              <a:ext cx="3027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urante el tiempo de entre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9440" y="2239920"/>
              <a:ext cx="253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l nivel de servi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23960" y="3352680"/>
              <a:ext cx="13161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existenc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1672920" y="3058200"/>
              <a:ext cx="953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recu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E3AD-AF2C-4277-A919-F0B74F6AF2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considera como Inventario a las cantidades almacenadas 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teria pr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n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ue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ene un fuerte impacto en relación al uso de cap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5E812-FEFA-4507-8BEE-40F4B733DC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nto de reord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 relación entre z y el nivel de servicio deseado, asumiendo un distribución de demanda norm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1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84.1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2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7.7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3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9.9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374920" y="2293920"/>
                <a:ext cx="4419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tiempo de ord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96344-CBE6-4105-BA9B-AAE099CEB3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promedio: 200 cajas al d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 de entrega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 dí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viación standard de la demanda diaria: 15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seado: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 = $20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 = 20%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 = $10 por un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macén funciona 5 días a la semana, 50 semanas al año (250 días al año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47698-67B2-4C44-88A7-7D487CBDC6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colocar una orden de 1.000 cajas cada vez que el inventario alcance 1.295 unidades (en promedio se pide cada 5 dí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362320" y="1676520"/>
                <a:ext cx="640080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manda promedio anua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 al añ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*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·20·250·2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·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el tiempo de orde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el tiempo de orden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300 unidade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300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5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176200" y="5867280"/>
            <a:ext cx="67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La varianza de una suma es la suma de las varianzas cuando las variables 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depe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D5520-F7A1-45B9-AD0F-EE60A35102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Q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554280" y="2359080"/>
            <a:ext cx="73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isponi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2720" y="2359080"/>
            <a:ext cx="64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dido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23520" y="2359080"/>
            <a:ext cx="73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78880" y="2359080"/>
            <a:ext cx="63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ant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7520" y="2359080"/>
            <a:ext cx="63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ant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1840" y="2541600"/>
            <a:ext cx="54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l inic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99560" y="2541600"/>
            <a:ext cx="628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inicio 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98320" y="2541600"/>
            <a:ext cx="79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l inicio 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56560" y="2541600"/>
            <a:ext cx="67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ordena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39920" y="2541600"/>
            <a:ext cx="56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recibi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28360" y="2722680"/>
            <a:ext cx="79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l 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42400" y="2722680"/>
            <a:ext cx="54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21800" y="2722680"/>
            <a:ext cx="54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30880" y="29052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21640" y="29052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1004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38480" y="29052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6920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628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43560" y="29052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30880" y="30877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21640" y="30877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88520" y="30877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640" y="30877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9200" y="30877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9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40480" y="30877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43560" y="30877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30880" y="32688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21640" y="3268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88520" y="3268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7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640" y="3268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9200" y="3268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7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40480" y="3268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43560" y="3268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30880" y="34513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21640" y="34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88520" y="34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4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4640" y="3451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9200" y="3451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40480" y="34513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43560" y="34513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30880" y="3633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75720" y="3633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1004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8480" y="36338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6920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36338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2972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0880" y="38149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21640" y="38149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7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10040" y="3814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9200" y="3814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4048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4356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30880" y="39974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2164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8852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38480" y="39974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4588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6280" y="39974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3560" y="39974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30880" y="41799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21640" y="41799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88520" y="41799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8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640" y="41799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69200" y="41799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8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40480" y="417996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30880" y="4361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21640" y="4361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8520" y="4361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24640" y="43610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9200" y="43610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40480" y="43610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43560" y="43610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45920" y="454356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75720" y="45435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88520" y="45435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2464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6920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2628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43560" y="454356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45920" y="47242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21640" y="47242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4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1004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464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920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40480" y="47242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5920" y="49068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21640" y="4906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88520" y="4906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8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640" y="4906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9200" y="4906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8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40480" y="4906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43560" y="4906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45920" y="50896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21640" y="50896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88520" y="50896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7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4640" y="5089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9200" y="5089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7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40480" y="50896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43560" y="50896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45920" y="52704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21640" y="52704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1004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8480" y="52704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6920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40480" y="52704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2972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45920" y="545292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21640" y="54529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1004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38480" y="5452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920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628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43560" y="5452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45920" y="56358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21640" y="5635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1004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64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6920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0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40480" y="5635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43560" y="5635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92280" y="5999040"/>
            <a:ext cx="253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* Se han utilizado Q = 1000 y R = 1295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00920" y="2546280"/>
            <a:ext cx="23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85680" y="2546280"/>
            <a:ext cx="67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65280" y="2357280"/>
            <a:ext cx="1800" cy="34722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5280" y="2357280"/>
            <a:ext cx="12960" cy="3472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3996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3996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7328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73280" y="2370240"/>
            <a:ext cx="144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0160" y="2370240"/>
            <a:ext cx="144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5476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5476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9932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9932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5640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5640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5948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59480" y="2370240"/>
            <a:ext cx="1296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78240" y="235728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78240" y="235728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8240" y="29034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78240" y="290340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78240" y="30862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78240" y="30862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78240" y="32670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78240" y="326700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78240" y="344952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78240" y="344952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78240" y="36320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78240" y="363204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78240" y="381312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78240" y="381312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78240" y="39956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78240" y="399564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78240" y="417672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4191120"/>
            <a:ext cx="4894200" cy="14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78240" y="43592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78240" y="435924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78240" y="454176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78240" y="454176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78240" y="472284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78240" y="472284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78240" y="490536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78240" y="490536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478240" y="508788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78240" y="50878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78240" y="526896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78240" y="526896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78240" y="54514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78240" y="54514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78240" y="56340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78240" y="563400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78240" y="58150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78240" y="581508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360" y="4724280"/>
            <a:ext cx="5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67CD-2B07-4F88-8B55-43324BB5B8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Periódica (P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l inventario periódicamente al revis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jemplo: se hace un pedido sema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ubrir demanda cuando se hace la revisión y se hace pedido para llegar a un nivel objetivo (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: tiempo entre pedi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inventario meta u objetivo, debe cubrir hasta que llegue el siguiente pedi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’: demanda promedio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’: inventario de seguridad en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BC8EE-4B96-436F-91E9-AA09848959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071800" y="2154240"/>
            <a:ext cx="5675040" cy="3691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767680" y="579132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007720" y="2362320"/>
            <a:ext cx="5536080" cy="3502080"/>
            <a:chOff x="2007720" y="2362320"/>
            <a:chExt cx="5536080" cy="3502080"/>
          </a:xfrm>
        </p:grpSpPr>
        <p:sp>
          <p:nvSpPr>
            <p:cNvPr id="409" name=""/>
            <p:cNvSpPr/>
            <p:nvPr/>
          </p:nvSpPr>
          <p:spPr>
            <a:xfrm>
              <a:off x="2514600" y="25146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81880" y="55879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214400">
              <a:off x="1295280" y="3711960"/>
              <a:ext cx="1707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68640" y="2362320"/>
              <a:ext cx="266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86760" y="516096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393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05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7556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964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966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23000" y="29462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84920" y="33526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94800" y="342900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21680" y="279396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50360" y="36068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8640" y="38098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470480" y="3657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5880" y="3505320"/>
              <a:ext cx="7632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69195-D0F2-438C-A3E8-48F1DC6C315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P usando Q* (Q óptimo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2400480" y="2286000"/>
                <a:ext cx="37335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∗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2175480" y="3336840"/>
            <a:ext cx="56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lo que se obtiene un intervalo de r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amente ópt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413080" y="4876920"/>
                <a:ext cx="33368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'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138DA-2EDE-47DC-AC90-7458745CB1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 óptimo (Q*) = 1.0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diaria = 2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l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2819520" y="3200400"/>
                <a:ext cx="5410080" cy="24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dí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50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450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2</m:t>
                        </m:r>
                        <m:r>
                          <m:rPr>
                            <m:lit/>
                            <m:nor/>
                          </m:rPr>
                          <m:t xml:space="preserve">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22F27-8FE7-4F31-BC33-6FE09762EE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revisar cada 5 días y llevar el nivel de inventario a 2.542 caj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939680" y="2970360"/>
            <a:ext cx="652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ta: El sistema P considera 742 unidades de inventari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guridad, en cambio el sistema Q sólo 495. Esto se deb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el sistema P debe cubrir la demanda por más dí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6116A-F84B-4C84-A7DE-2C96D0E392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303640" y="2367000"/>
            <a:ext cx="485928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E44D-3345-440D-8225-122B556D4B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tivos para llevar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tección contra la incertidumb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fabr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or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Economías de esc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ción por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ambios en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estac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tocks estraté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D796-AC3A-47F0-88DE-538174604A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P para demanda crecien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6172200" cy="32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572EB-F58C-4F73-BAB6-439AB82AFA9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ivel Promedio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1735200" y="2714760"/>
                <a:ext cx="597672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vel promedio de inventari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nventario promedio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inventario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CE628-9DAF-4B61-BABF-CD44D7D2641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833840" y="5411880"/>
            <a:ext cx="65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Nivel de Servicio versus Nivel de Inventario (Q=100, </a:t>
            </a:r>
            <a:r>
              <a:rPr b="0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 =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81080" y="1981080"/>
            <a:ext cx="5714280" cy="3352320"/>
            <a:chOff x="1981080" y="1981080"/>
            <a:chExt cx="5714280" cy="3352320"/>
          </a:xfrm>
        </p:grpSpPr>
        <p:grpSp>
          <p:nvGrpSpPr>
            <p:cNvPr id="450" name=""/>
            <p:cNvGrpSpPr/>
            <p:nvPr/>
          </p:nvGrpSpPr>
          <p:grpSpPr>
            <a:xfrm>
              <a:off x="1981080" y="1981080"/>
              <a:ext cx="5714280" cy="3352320"/>
              <a:chOff x="1981080" y="1981080"/>
              <a:chExt cx="5714280" cy="335232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1981080" y="1981080"/>
                <a:ext cx="5714280" cy="3352320"/>
                <a:chOff x="1981080" y="1981080"/>
                <a:chExt cx="5714280" cy="3352320"/>
              </a:xfrm>
            </p:grpSpPr>
            <p:pic>
              <p:nvPicPr>
                <p:cNvPr id="45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981080" y="1981080"/>
                  <a:ext cx="5670720" cy="3352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3" name=""/>
                <p:cNvSpPr/>
                <p:nvPr/>
              </p:nvSpPr>
              <p:spPr>
                <a:xfrm>
                  <a:off x="2693160" y="4610160"/>
                  <a:ext cx="500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 flipV="1">
                <a:off x="2707200" y="2151360"/>
                <a:ext cx="0" cy="247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735360" y="4952880"/>
              <a:ext cx="2270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1017720" y="3167640"/>
              <a:ext cx="2203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servicio (por cient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37880" y="41911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09040" y="379728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52120" y="35053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33160" y="32004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04480" y="29592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15680" y="277344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08760" y="2666880"/>
              <a:ext cx="59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01760" y="256536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AE15-59F2-435F-9043-A4F67E80B6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rtículos Múlti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Existen restricciones de capacidad y de capital de oper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Se puede penalizar (artificialmente) Q para reducir inventarios. Una penalización adecuada lleva a ocupar bien la capacida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1873080" y="4327560"/>
                <a:ext cx="433260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AB11-F8CD-4EBB-A837-B0D054E0DCF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stemas d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ministración ABC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: 20% de los artículos, 80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cuidad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o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: 50% de los artículos, 5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menos rigur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102F9-FA2B-40CE-99BD-5DB5AF6EC8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Permite flexibilidad al momento de programa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ermite mantener el tránsito (inventarios en proces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.- Espec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694B-0038-48F7-B6B0-8848AF0A8B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principales decisiones relacionadas a la administración de inventarios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¿Qué artículos mantener en inventari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¿Cuánt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¿Cuánd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¿Qué tipo de sistema de administración de inventarios utiliz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379F-6A0E-4CBB-8BF7-641A5C9332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Cos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estructuras del costo de inventario incorporan los siguientes tipos de co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Costo del artícu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Costo de poner ordenes de compra o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osto de inventar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macen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uros, pérdidas y obsolesc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 de inexist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rd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A85D2-1752-4A44-9E5C-6C7E72D675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tener en cuenta los siguientes concep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pend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ciclo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terminíst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alea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E9BDE-A5C7-47AD-A4DD-157B31DCA7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88800" y="533412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atrones de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11360" y="2286000"/>
            <a:ext cx="8051760" cy="2664000"/>
            <a:chOff x="711360" y="2286000"/>
            <a:chExt cx="8051760" cy="26640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820800" y="2286000"/>
              <a:ext cx="79423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68700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64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78200" y="2362320"/>
              <a:ext cx="182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aterias pri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51640" y="2362320"/>
              <a:ext cx="1962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in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s termin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artes de repue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72716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0932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8A57-425D-43A2-BF55-1DE93A797E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Demanda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n ventas perdidas o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: demanda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largo del cicl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costo fijo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: costo del produc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: tasa anual de costo de inventario (interés + almacenamien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344E1-841C-4BD4-896F-4C7AABF488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Maritza</cp:lastModifiedBy>
  <cp:lastPrinted>2002-05-03T22:32:05Z</cp:lastPrinted>
  <dcterms:modified xsi:type="dcterms:W3CDTF">2002-05-03T22:36:34Z</dcterms:modified>
  <cp:revision>117</cp:revision>
  <dc:subject/>
  <dc:title>Modelamiento Físico de Interfaces</dc:title>
</cp:coreProperties>
</file>