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1082-30D9-4450-B715-C8D12E527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BDC7-72D2-427A-AE54-7F7E2039F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C0C6-2E02-462E-AB34-34E16B014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997E-BE48-4996-B0EC-BF542DDA3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B41E0-DB7A-4990-A159-EB46D404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F015B-646A-4C0D-B127-820C134A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3456-859E-4C35-9D35-FA01B400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7B7FE-12E8-4B0B-87FE-D1428D44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32B2D-9919-4E59-9F68-733EAE95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2A23C-A2D6-4F38-828C-12FAF3AD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FE8A2-51F2-45BE-A39F-D31DB43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ACF7-F297-4135-AF68-F9E9695C1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D478-379F-4F24-AE8C-05B9CCB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EF579-1F92-4C28-8C9F-C8CA1FB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669A6-2453-4C02-A2A6-FA98735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A295-15E4-4721-B49D-6DC846F7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26341-3C64-4DBD-99FE-746DF3A9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C52C-A358-44FD-8BB5-439958F67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3971-7D93-46E7-A5AC-DDFECF537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3535-E309-4491-B203-A47357D18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674A-AFFB-4CC3-A4D8-6A3C615F1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7B23-3F3E-4385-9B28-656246F94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C7D0-4210-481C-A463-43947A176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98F0-327C-46AA-9BA5-9AD96A507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911-8EAC-4251-B692-36C96AD355F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281F-20DF-462A-95BD-30F72D2AF73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6983-EC74-4714-8D9C-BBB8C004B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B41A-E106-40F5-849C-F5B8959450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5780-B239-450B-B321-0DC7F74EF1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B1D4-D6A1-4E22-8E3D-288FD0592D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0C9F-6139-4E3E-A3EE-D7E7AFB58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60BE-E248-46A0-BEFE-290B1CDA1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DCA0-3E9C-4B8D-85EB-F1E8B726E5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A4D1-442F-42DB-A7DB-ED8B1A31B7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B860-0546-40C1-85DD-470A610B9D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848F-6701-4228-B0D6-8F6D683ED5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E679-443B-40BA-9B84-2B9034CD85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1820-89D5-4044-936C-278E4ADA58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BF33-AD6D-46FF-882F-55BEC342E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E71F-39D8-4BBD-817B-24C1B7555E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DD93-D795-4F7E-AFF1-5A2F822D3A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2478-EC60-4B87-A88B-0363023D34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26EA-18C8-4FB9-B225-02536249F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F4D3-EC37-4858-AA35-99C75059B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7E90-003B-479B-9EB4-7BDC7C6B0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C43D-E706-48A7-BFD6-5FCE8BDBC9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1FB0-9943-4283-8E97-B5D1A0135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2T22:42:24Z</dcterms:modified>
  <cp:revision>89</cp:revision>
  <dc:subject/>
  <dc:title>Modelamiento Físico de Interfaces</dc:title>
</cp:coreProperties>
</file>