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3B76B-91B4-4C77-8372-39DD70ED7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CADAF-4D91-44EE-818E-1047D53B2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DDE55-3BEE-4AB1-B256-CDFE64C40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44DE6-AB94-4587-B84B-73AED4590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46DCA-7685-4088-B197-A97F4F6A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E1A83-BD6E-4400-A67E-1F6D42BD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A8D22-9AA5-457F-A403-759ACC3A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71C39-CCE3-413E-B290-2EF92DB7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992BC-7F9E-4E54-A5D2-A3221D71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EA5C9-50DD-4566-8699-967E330E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443F8-59AE-4F9E-9535-D493479C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2C295-55F5-4CCF-91B5-DDAF20001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F5B21-AC2D-4FBD-9922-8D7C64E3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ED81C-F9B1-4A83-BFA1-D23B4444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1C60B-0ECE-4995-9810-F108A1B6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CCDC6-A4E3-4676-8518-1ECE12D3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20EA5-59D1-42A8-BF30-06A1CADD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697CF-209D-4D68-A947-BD5F90A9F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9148C-9333-4AC2-8296-728CCE848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E2A64-C860-42AE-A13A-D3EF0C89F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0B8BC-AE03-46C2-995D-13F0033EC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FC132-56C3-4C89-9E92-FDBA2341E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13F46-D5FC-453F-869E-20B0CD6A1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E74BC-C2CA-4B91-BC71-72F079EA0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62222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2B70-F8C5-44A3-AC69-270AF125B2E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DFAD-F877-44EA-921A-EB6674EE5D22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5053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: Planeación de Requerimiento de Mate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4114800" cy="177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61800" y="1981080"/>
            <a:ext cx="45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Tiempos Planeados de Esp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15160" y="5457960"/>
            <a:ext cx="718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*   Se asume que están disponibles la cubierta de la mesa y el ensamble compl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de la pa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** Se asume que están disponibles las patas, travesaños cortos y travesaños lar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BF251-FF30-44AE-827F-0D25EB1055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4647960" cy="3627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152440" y="167652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lan de Materiales – Detalle de Par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CF805-D9EB-4D62-8B0C-269346DD4F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84440" y="2006640"/>
            <a:ext cx="4654440" cy="363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3BF93-A19E-48AF-A373-9753245015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inventario en cada etapa es la diferencia neta entre la producción y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considerar colchones de segur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3609C-3B49-483B-826D-1A5254C053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rograma Maestr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duce al proceso completo de planeación de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hasta de un añ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Lista de Materiales (BOM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stado detallado de todos los materiales y partes necesarias para la confección de los producto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D6B64-ECFC-4E6E-8C85-17A614E407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Registro de Inv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dentifica, para cada parte, datos bás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estánd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ánto hay de cada p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ué órdenes están pend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histór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Planeación de Capacid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termina la validez del programa maes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FC005-BFC1-45DC-A7BE-690AE443BE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foq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eación de la capacidad directa (planeación de recurso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lcular horas aproximadas de mano de obra y de máquinas a usar en el programa maest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la capacidad no alcanza se cambia el plan maestro o se cambia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 tener un programa factible se corre el detalle de par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ga de tall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hace detalle completo de partes antes de ver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no es factible se cambia el plan maestro a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EA15B-61B1-45AB-951B-F280B7FDB5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Compr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función de compras es fuertemente reforzada por el uso de un sistema MR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ere de confianza con los proveedores al generar fechas más exac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mecanizar las comp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Control de Piso de Tall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 que las órdenes de producción se cump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4D4DE-243B-4A37-8EFD-67DCDA8881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eja las prior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aliza ajuste ante cambios en las condiciones de ope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389AC-ED98-4BFE-B49E-E7CD77DBFB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Operación del Sist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mejor llevar bien el sistema que tener mucho stock de seguridad para cada par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se necesitan 10 partes para un producto, cada una de las cuales tiene un nivel de servicio del 90%. La probabilidad de tener todas las partes a mano cuando se necesitan es de únicamente 35% (0.9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lo tanto es mucho mejor planear y controlar el tiempo de las 10 partes que cubrir todas las contingencias con stock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ecesidad de respetar MR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274BA-FC30-4708-87AA-299AF99DF2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utiliza para productos de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onentes intermed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 Sistema Pull en que la demanda final gatilla la demanda por partes y componentes intermed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un programa maestro que guía las órdenes de compra de materia prima y la producción de compon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76DB6-60FE-4A2D-8531-632D4AE779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ementos de Éxi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lanear la Puesta en March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vital la prepa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ducación sobre 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establecer objetivos, costos y benef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 detallado de 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Soporte Computaci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atos Exac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sta de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FA6E8-719F-4E34-8C90-1938D0C044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ementos de Éxi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poyo Geren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Conocimiento del Usuario en Todos los Nive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8F007-F6C7-481C-8026-2964B4BF73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Benef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yor rotación de invent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rdenamiento del tiempo de entreg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de capac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ducción de 20-30% en los inven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sto de instalación: 200 mil a 1 millón de dólar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: difícil éxi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E73CC-00C2-4D74-94FA-4256899862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Para contar con 100 refrigeradores en la semana 8, necesito de 100 motores en la semana 6 y 100 componentes en la semana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eneralmente las entregas y compras se hacen por lo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Se requieren 40 unidades en la semana 3, 30 en la semana 4 y 35 en la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ver como ir produciendo, y consider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producción, incluyendo costo fi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: considerar producción de otros produ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s compras ver la relación con el vendedor y el transpo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40341-630D-458D-A0A3-592261F994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1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Control d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 las compras y la producción en el tiempo, pero no considera capac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2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Control de la producción 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considera la capacidad y se utilizan reglas heurísticas para mover la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975F4-E517-43E9-A587-066BCB6707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Planeación de Recursos de Manufact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ea y controla todos los recursos de manufactu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ursos mone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qui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33DF4-76BE-4634-B226-60EC6466B7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406520" y="1371600"/>
            <a:ext cx="4537080" cy="5257800"/>
            <a:chOff x="1406520" y="1371600"/>
            <a:chExt cx="4537080" cy="52578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406520" y="1447920"/>
              <a:ext cx="453708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276720" y="1371600"/>
              <a:ext cx="7617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agreg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55800" y="22096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Pedidos en fir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 clientes o 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ventari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terminad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0640" y="22096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nóst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81480" y="369576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Transaccion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l inventar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6080" y="3708360"/>
              <a:ext cx="5331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Cambios 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el diseñ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79840" y="3586320"/>
              <a:ext cx="184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56000" y="3746520"/>
              <a:ext cx="4572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Registr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25680" y="3759120"/>
              <a:ext cx="4572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Lis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materia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1080" y="3124080"/>
              <a:ext cx="8384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eac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apacidad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orte ru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38560" y="3124080"/>
              <a:ext cx="876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gram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maes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51160" y="3809880"/>
              <a:ext cx="83808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tal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par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79840" y="4508640"/>
              <a:ext cx="83808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Órde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6200" y="450864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Órde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t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5079960"/>
              <a:ext cx="76212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eac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la capacida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86200" y="565164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ontrol de pi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l t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86200" y="626112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Opera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48520"/>
              <a:ext cx="45720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6261120"/>
              <a:ext cx="45720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6032520"/>
              <a:ext cx="3808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Mater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im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81360" y="6248520"/>
              <a:ext cx="64764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veedo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354280" y="1757520"/>
            <a:ext cx="209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Sistema MRP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circuito cer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(Tipo 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20EC6-0137-4453-BD34-66622FDB85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RP vs Punto de Reor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277640" y="226044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uadro Compara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47920" y="2825640"/>
            <a:ext cx="7162560" cy="18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EF936-1C69-4FE0-ACBA-815157A4B7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222360" y="518148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de la 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4224600" cy="30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8275C-F2DA-437F-870E-7D6E4D4AED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394800" y="51814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ista de 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0360" y="5797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Nota: La cantidad de cada componente se indica entre paré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4038480" cy="30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54552-D44F-49E1-B9CD-CB8AA602C4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.................</cp:lastModifiedBy>
  <cp:lastPrinted>2001-08-09T21:48:07Z</cp:lastPrinted>
  <dcterms:modified xsi:type="dcterms:W3CDTF">2008-09-22T22:42:24Z</dcterms:modified>
  <cp:revision>89</cp:revision>
  <dc:subject/>
  <dc:title>Modelamiento Físico de Interfaces</dc:title>
</cp:coreProperties>
</file>