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05B21-6B1F-4D48-B141-8D243887B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8E11C-18D9-4C00-9262-806E932BC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3538-B1C5-4A3E-9A04-6C343C95F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D904-98BA-435E-9A4E-CF1E08598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236E3-8FE5-4154-AB33-5DC06D0A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3FA64-04B5-4BB9-92D0-9E113DA5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47EF8-3B81-4E7B-A48D-556D7A90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07071-9322-4D79-A610-65BC1E7F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64B5A-D510-4724-8FE9-D88DB5A4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87302-1F91-456F-BB35-2F184C9A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B487A-8176-443B-803F-2F76FCE4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97B6-C508-42A9-A458-E785D7B91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12414-A38C-413D-A8F4-5CFF5851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780EC-382E-458A-AADC-E279CD5E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B24CC-4FF9-4AA1-ADEC-78D82EE7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3ED3E-9FA3-4A61-843A-489F0862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9B704-5FE7-492E-8B8E-CEB86705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A1388-08EF-427E-A2EA-40595D68C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6C3AF-2448-45BE-9E23-29DD61CFA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96E39-35D4-4B6A-952C-E4AB205D6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D470-47A9-492E-9FD0-2AEA12DBC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7EF8-FE7E-4465-96E4-F7F669615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C255A-2583-4BB6-B1DA-078F348F5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AC1B9-6D1F-4462-91A7-E46E7CE7A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62222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A64B-9B41-414D-9F71-42B68500FFF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401E-068A-4D5E-856A-A348C0EED943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Planeación de Requerimiento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14800" cy="177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61800" y="198108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Tiempos Planeados de Esp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15160" y="5457960"/>
            <a:ext cx="718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   Se asume que están disponibles la cubierta de la mesa y el ensamble compl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de la pa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* Se asume que están disponibles las patas, travesaños cortos y travesaños lar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B874-C3A7-4E57-AA93-4BFDEBA67F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4647960" cy="3627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52440" y="167652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lan de Materiales – Detalle de Par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90C1B-7885-4E7E-911C-89857F6BB2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84440" y="2006640"/>
            <a:ext cx="4654440" cy="363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D058-08A3-4E14-A30D-A2046B6242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en cada etapa es la diferencia neta entre la producción y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onsiderar colchones de segu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192DA-EA47-4BC8-AAF9-ED37B0F9F2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grama Maestr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duce al proceso completo de planeación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hasta de un a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Lista de Materiales (BOM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do detallado de todos los materiales y partes necesarias para la confección de los producto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458B-6671-4F99-AE29-DE81B87E91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Registro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dentifica, para cada parte, datos bás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estánd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ánto hay de cada p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ué órdenes están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histór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Planeación de Capac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termina la validez del programa maes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618B-6DC3-4B11-98AD-102AEE99C0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eación de la capacidad directa (planeación de recurso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lcular horas aproximadas de mano de obra y de máquinas a usar en el programa maest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la capacidad no alcanza se cambia el plan maestro o se cambi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 tener un programa factible se corre el detalle de pa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ga de tall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hace detalle completo de partes antes de ver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no es factible se cambia el plan maestro 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A8C73-2B8F-4060-BD94-7CA32DCD05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mp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función de compras es fuertemente reforzada por el uso de un sistema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ere de confianza con los proveedores al generar fechas más exac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mecanizar las comp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Control de Piso de Tall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 que las órdenes de producción se cum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98F77-30D4-4F86-9D40-B8949A5C4B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eja las prior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aliza ajuste ante cambios en las condiciones de ope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8245-D0CD-4734-ADCC-475C078472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Operación del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mejor llevar bien el sistema que tener mucho stock de seguridad para cada par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se necesitan 10 partes para un producto, cada una de las cuales tiene un nivel de servicio del 90%. La probabilidad de tener todas las partes a mano cuando se necesitan es de únicamente 35% (0.9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lo tanto es mucho mejor planear y controlar el tiempo de las 10 partes que cubrir todas las contingencias con stock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dad de respetar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D00E5-10D4-4590-A394-173675350A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utiliza para productos de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onentes intermed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 Sistema Pull en que la demanda final gatilla la demanda por partes y componentes intermed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un programa maestro que guía las órdenes de compra de materia prima y la producción de compon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7C334-5FA2-477A-AE7E-4EFA7554E8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lanear la Puesta en March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vital la pr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ducación sobre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establecer objetivos, costos y b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 detallado de 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oporte Computac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atos Exac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9C849-1744-4D0E-9324-E891FDFCF0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poyo Ger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nocimiento del Usuario en Todos los Nive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0141-696F-4836-9DFF-7D72FAAECC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Benef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yor rotación de invent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rdenamiento del tiempo de entre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de capac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ducción de 20-30% en los inven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sto de instalación: 200 mil a 1 millón de dóla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 difícil éx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365FB-590D-47D1-AC7F-417EFAF5EA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Para contar con 100 refrigeradores en la semana 8, necesito de 100 motores en la semana 6 y 100 componentes en la seman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eneralmente las entregas y compras se hacen por lo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Se requieren 40 unidades en la semana 3, 30 en la semana 4 y 35 en l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ver como ir produciendo, y consider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producción, incluyendo costo fi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: considerar producción de otros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s compras ver la relación con el vendedor y el 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888E-674F-4724-BECA-EA17FA79DF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 las compras y la producción en el tiempo, pero no considera capac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la producción 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considera la capacidad y se utilizan reglas heurísticas para move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3373C-514E-4139-B0BC-18E1A448C4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laneación de Recur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ea y controla todos los recursos de manufact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ursos mone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73D2-487E-4C25-96E7-52A2FAC5B0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06520" y="1371600"/>
            <a:ext cx="4537080" cy="5257800"/>
            <a:chOff x="1406520" y="1371600"/>
            <a:chExt cx="4537080" cy="52578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406520" y="1447920"/>
              <a:ext cx="45370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1371600"/>
              <a:ext cx="7617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agreg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55800" y="22096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edidos en fir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 clientes o 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erminad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0640" y="22096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nó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81480" y="369576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ransaccio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 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6080" y="370836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Cambios 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el diseñ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79840" y="358632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56000" y="37465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Registr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25680" y="37591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Lis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materi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1080" y="3124080"/>
              <a:ext cx="8384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apacidad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rte ru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38560" y="3124080"/>
              <a:ext cx="876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gra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es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51160" y="3809880"/>
              <a:ext cx="83808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ta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par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79840" y="4508640"/>
              <a:ext cx="83808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508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5079960"/>
              <a:ext cx="76212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la capaci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5651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ntrol de pi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l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626112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pera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485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62611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6032520"/>
              <a:ext cx="3808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ter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im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81360" y="6248520"/>
              <a:ext cx="64764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veed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54280" y="1757520"/>
            <a:ext cx="209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Sistema MRP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circuito cer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(Tipo 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C424-6402-4E9C-9529-65BB35C037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RP vs Punto de Reor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277640" y="22604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uadro Compar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2825640"/>
            <a:ext cx="716256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7A9F-31F6-477B-A4E1-3189D959EE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222360" y="518148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la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22460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D0C22-8EEF-48DC-B6C0-30B2CB925A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394800" y="51814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ista de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0360" y="5797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Nota: La cantidad de cada componente se indica entre paré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4038480" cy="30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5307-B40C-4077-81E2-4A92A3C21D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.................</cp:lastModifiedBy>
  <cp:lastPrinted>2001-08-09T21:48:07Z</cp:lastPrinted>
  <dcterms:modified xsi:type="dcterms:W3CDTF">2008-09-22T22:42:24Z</dcterms:modified>
  <cp:revision>89</cp:revision>
  <dc:subject/>
  <dc:title>Modelamiento Físico de Interfaces</dc:title>
</cp:coreProperties>
</file>