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AF6E-3000-458D-BFA1-4387EC359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4271-3D62-4E38-AFEC-509B65A0C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E9ED-3241-4C07-AA07-DCF31838D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0DC5-8A3E-4249-BF4A-E6A7B53F0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3744F-EF65-4C67-8548-040D2823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4031F-3D2D-42D0-96DD-4B9932F1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AC31B-F1C5-4F21-A378-22C94002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186B3-434E-4164-A82D-5E0BCC4B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DAED8-92AB-419B-94EF-6EC59F11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23008-FC37-40B0-AA9B-09309F7B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C49A0-10BA-42C3-BE52-B588433B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482D-372B-49CA-9476-DA67C14E5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05737-DC6A-4E77-A6E5-42218A49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C1865-EA1D-42FA-8699-1BBD46E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9424F-7A46-4C35-A6C6-07E2D76C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C7365-FBFD-4477-830B-1A7D08B4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5C5F5-62F2-48A6-9DCD-C9C1F211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F4E8-62CD-444E-A034-5CCDC2E4B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7809-92B3-4865-8B68-7D217ACEE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8375-D5A6-469A-B583-39C5CFCF8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F21C-692D-4EE4-BBE7-BCB9DF55F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9DFE-94BA-405A-88E5-470497ABA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883C-CE29-45D6-8098-9867408F6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5F34-596C-4D39-9705-80FD2A287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6383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A2BE-73F3-4681-8BB8-F4C7ECC90DD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7D5B-3DE8-4B17-9B93-A27C1F8F478F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505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0: Inven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55400" y="54435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Niveles de Inventario E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87640" y="2554200"/>
            <a:ext cx="5898960" cy="2705400"/>
            <a:chOff x="2087640" y="2554200"/>
            <a:chExt cx="5898960" cy="27054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158920" y="2554200"/>
              <a:ext cx="582768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90920" y="41148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59640" y="49831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1669680" y="3657600"/>
              <a:ext cx="1112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n exis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2680" y="2819520"/>
              <a:ext cx="829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terva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 o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0960" y="3606840"/>
              <a:ext cx="1503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= Q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7560" y="3632040"/>
              <a:ext cx="1026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ote =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D7AC-C8C2-40E7-B01C-54DCA8211A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óptimo (Q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87520" y="2217600"/>
                <a:ext cx="2133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87520" y="3662280"/>
                <a:ext cx="4356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86000" y="5067360"/>
                <a:ext cx="5410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DF87-97A2-4866-B8B4-25EC5315F0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74920" y="1998720"/>
                <a:ext cx="617220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Q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IC</m:t>
                            </m:r>
                          </m:e>
                        </m:rad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es muy robus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9F4D-DAC4-46B8-835E-EF926BDE96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9588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86240" y="5748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osto Total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57600" y="2501640"/>
            <a:ext cx="6313320" cy="3184920"/>
            <a:chOff x="1857600" y="2501640"/>
            <a:chExt cx="6313320" cy="3184920"/>
          </a:xfrm>
        </p:grpSpPr>
        <p:sp>
          <p:nvSpPr>
            <p:cNvPr id="147" name=""/>
            <p:cNvSpPr/>
            <p:nvPr/>
          </p:nvSpPr>
          <p:spPr>
            <a:xfrm flipV="1">
              <a:off x="449568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971440" y="3581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04760" y="5410080"/>
              <a:ext cx="1589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 lote (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8440" y="5207040"/>
              <a:ext cx="50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O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4920" y="2908440"/>
              <a:ext cx="12063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 + 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4120" y="3327480"/>
              <a:ext cx="1576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4406760"/>
              <a:ext cx="192096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orden de ped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83876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5400">
              <a:off x="1072440" y="3288240"/>
              <a:ext cx="1849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anual ($/año)(T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2840" y="3276720"/>
              <a:ext cx="7340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E27D-4116-45E1-95D7-43990412CC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ventas pendi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 por tiempo en satisfacer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27400" y="4013280"/>
            <a:ext cx="5504040" cy="1981080"/>
            <a:chOff x="2327400" y="4013280"/>
            <a:chExt cx="5504040" cy="1981080"/>
          </a:xfrm>
        </p:grpSpPr>
        <p:sp>
          <p:nvSpPr>
            <p:cNvPr id="160" name=""/>
            <p:cNvSpPr/>
            <p:nvPr/>
          </p:nvSpPr>
          <p:spPr>
            <a:xfrm flipH="1">
              <a:off x="3569760" y="4013280"/>
              <a:ext cx="82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0120" y="5473800"/>
              <a:ext cx="336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8400" y="4672080"/>
              <a:ext cx="1352520" cy="12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0040" y="45752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0040" y="4584600"/>
              <a:ext cx="177192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0800" y="4782960"/>
              <a:ext cx="200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3960" y="5540400"/>
              <a:ext cx="325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8840" y="5486400"/>
              <a:ext cx="220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3120" y="5703840"/>
              <a:ext cx="16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4240" y="4476600"/>
              <a:ext cx="473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Q-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7400" y="40957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Ne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9400" y="532440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806560" y="3060720"/>
                <a:ext cx="30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5820-D22C-4757-A245-B2459E83D3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204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rivar costo anual con respecto a Q y 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09800" y="2316240"/>
                <a:ext cx="5357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C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2F21-B5DC-41E3-9505-25CF8A4E95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rdid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33560" y="2362320"/>
            <a:ext cx="5853600" cy="2480760"/>
            <a:chOff x="1933560" y="2362320"/>
            <a:chExt cx="5853600" cy="2480760"/>
          </a:xfrm>
        </p:grpSpPr>
        <p:sp>
          <p:nvSpPr>
            <p:cNvPr id="179" name=""/>
            <p:cNvSpPr/>
            <p:nvPr/>
          </p:nvSpPr>
          <p:spPr>
            <a:xfrm>
              <a:off x="2988720" y="442224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988720" y="2362320"/>
              <a:ext cx="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872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236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85160" y="45068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97320" y="44960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5120" y="420336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33560" y="23623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E943-DEFE-4826-9F6A-FEDC5FC7D6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Demanda Alea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Continua (Q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n cada momento el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decidir en que momento orde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 (se usa Q* por ser robus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: punto de re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: tiempo de entr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: demanda med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inventario de segur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: probabilidad de servir todas las deman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2C3C-FB82-4761-8B89-AD413E82F7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6208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664000" y="52578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Continua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18840" y="2400480"/>
            <a:ext cx="6725160" cy="2791080"/>
            <a:chOff x="1518840" y="2400480"/>
            <a:chExt cx="6725160" cy="27910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600200" y="2400480"/>
              <a:ext cx="664380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133720" y="40384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29600" y="491508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19800">
              <a:off x="821520" y="3391560"/>
              <a:ext cx="1680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xistenci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4640" y="3886200"/>
              <a:ext cx="275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63560" y="361152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48040" y="34592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0720" y="36878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456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3904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4500-2793-40B5-9993-0B55CA938A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873440" y="5562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istribución de Probabilidad de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011320" y="1676520"/>
            <a:ext cx="5763600" cy="3736800"/>
            <a:chOff x="2011320" y="1676520"/>
            <a:chExt cx="5763600" cy="37368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016000" y="1676520"/>
              <a:ext cx="575640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262320" y="5105520"/>
              <a:ext cx="3027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urante el tiempo de entre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9440" y="2239920"/>
              <a:ext cx="253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l nivel de serv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3960" y="3352680"/>
              <a:ext cx="1316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existenc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1672920" y="3058200"/>
              <a:ext cx="953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recu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185F-0438-4377-BB65-AE34784E3E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considera como Inventario a las cantidades almacenadas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teria pr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ue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ene un fuerte impacto en relación al uso de ca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06C8-91B2-4CB9-AD6D-9AD076362B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nto de reord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relación entre z y el nivel de servicio deseado, asumiendo un distribución de demanda norm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1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84.1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2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7.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3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9.9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374920" y="2293920"/>
                <a:ext cx="4419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tiempo de ord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5DF2-544C-4FF9-8D14-7D38E32533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promedio: 200 cajas al 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 de entrega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 dí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viación standard de la demanda diaria: 15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seado: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 = $20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 = 20%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 = $10 por un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macén funciona 5 días a la semana, 50 semanas al año (250 días al año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2FEE-79B3-4229-8EB0-0F145A7317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colocar una orden de 1.000 cajas cada vez que el inventario alcance 1.295 unidades (en promedio se pide cada 5 dí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62320" y="1676520"/>
                <a:ext cx="640080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manda promedio an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 al añ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*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·20·250·2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·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el tiempo de orde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el tiempo de orden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300 unidade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30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5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176200" y="5867280"/>
            <a:ext cx="67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a varianza de una suma es la suma de las varianzas cuando las variables 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depe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C580-83FF-4440-BA03-7423530F57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Q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55428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2720" y="2359080"/>
            <a:ext cx="64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dido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2352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7888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752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1840" y="254160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99560" y="2541600"/>
            <a:ext cx="62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98320" y="254160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56560" y="2541600"/>
            <a:ext cx="67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ordena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39920" y="2541600"/>
            <a:ext cx="56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recibi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8360" y="2722680"/>
            <a:ext cx="79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l 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424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218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30880" y="2905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21640" y="29052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1004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848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920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628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4356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30880" y="3087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2164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8852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64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920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4048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4356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0880" y="32688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2164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8852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64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920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4048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356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0880" y="3451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2164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8852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64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920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4048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4356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3088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572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1004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8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920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2972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0880" y="38149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21640" y="3814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7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1004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920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40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4356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30880" y="39974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2164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8852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3848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4588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6280" y="39974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356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30880" y="41799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2164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8852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64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920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40480" y="41799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30880" y="4361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2164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852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464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920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4048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356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45920" y="45435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75720" y="4543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88520" y="45435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64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920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628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43560" y="45435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45920" y="47242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21640" y="47242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00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6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920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40480" y="47242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5920" y="4906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2164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8852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64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920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048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4356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45920" y="50896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2164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8852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64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920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4048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4356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45920" y="52704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21640" y="5270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004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8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920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40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2972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5920" y="545292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21640" y="5452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1004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3848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920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628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4356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45920" y="5635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21640" y="5635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100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6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920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4048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4356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92280" y="5999040"/>
            <a:ext cx="253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* Se han utilizado Q = 1000 y R = 129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00920" y="254628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85680" y="2546280"/>
            <a:ext cx="67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5280" y="2357280"/>
            <a:ext cx="1800" cy="34722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5280" y="2357280"/>
            <a:ext cx="12960" cy="3472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399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399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32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7328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016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5476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547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9932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9932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5640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5640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594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59480" y="2370240"/>
            <a:ext cx="1296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78240" y="23572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78240" y="235728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8240" y="29034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78240" y="290340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78240" y="30862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78240" y="30862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78240" y="3267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78240" y="326700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78240" y="34495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78240" y="344952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78240" y="36320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78240" y="36320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78240" y="38131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8240" y="381312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78240" y="39956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78240" y="39956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78240" y="417672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191120"/>
            <a:ext cx="4894200" cy="1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78240" y="43592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78240" y="43592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78240" y="454176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78240" y="45417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78240" y="472284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78240" y="47228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78240" y="49053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78240" y="49053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78240" y="50878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78240" y="50878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78240" y="52689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78240" y="526896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78240" y="54514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8240" y="54514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78240" y="5634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8240" y="563400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78240" y="58150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78240" y="581508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360" y="4724280"/>
            <a:ext cx="5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4B1D-51D3-4C6D-9E54-CA463AA141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Periódica (P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l inventario periódicamente al revi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se hace un pedido sema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ubrir demanda cuando se hace la revisión y se hace pedido para llegar a un nivel objetivo (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tiempo entre pedi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inventario meta u objetivo, debe cubrir hasta que llegue el siguiente pedi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’: demanda promedio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’: inventario de seguridad en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5F05F-F649-48DD-9E31-73881F15B2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071800" y="2154240"/>
            <a:ext cx="5675040" cy="3691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767680" y="57913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007720" y="2362320"/>
            <a:ext cx="5536080" cy="3502080"/>
            <a:chOff x="2007720" y="2362320"/>
            <a:chExt cx="5536080" cy="3502080"/>
          </a:xfrm>
        </p:grpSpPr>
        <p:sp>
          <p:nvSpPr>
            <p:cNvPr id="409" name=""/>
            <p:cNvSpPr/>
            <p:nvPr/>
          </p:nvSpPr>
          <p:spPr>
            <a:xfrm>
              <a:off x="2514600" y="25146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81880" y="55879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14400">
              <a:off x="1295280" y="3711960"/>
              <a:ext cx="1707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68640" y="236232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86760" y="516096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93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05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7556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964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966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23000" y="29462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84920" y="33526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4800" y="342900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21680" y="279396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50360" y="36068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8640" y="38098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470480" y="3657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3505320"/>
              <a:ext cx="763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B7FF-E381-4C01-9CC5-15DEE2C23A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P usando Q* (Q óptimo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00480" y="2286000"/>
                <a:ext cx="37335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∗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2175480" y="3336840"/>
            <a:ext cx="56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lo que se obtiene un intervalo de r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amente ópt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413080" y="4876920"/>
                <a:ext cx="3336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'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223C-8127-4C80-9355-9A2B322873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 óptimo (Q*) = 1.0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diaria = 2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l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819520" y="3200400"/>
                <a:ext cx="541008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dí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50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45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2</m:t>
                        </m:r>
                        <m:r>
                          <m:rPr>
                            <m:lit/>
                            <m:nor/>
                          </m:rPr>
                          <m:t xml:space="preserve">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06ED-03DC-4ADF-B106-991B1C4644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revisar cada 5 días y llevar el nivel de inventario a 2.542 ca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939680" y="2970360"/>
            <a:ext cx="65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ta: El sistema P considera 742 unidades de inventari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guridad, en cambio el sistema Q sólo 495. Esto se deb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el sistema P debe cubrir la demanda por más d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65B46-921D-4D42-BCC9-0D7DEC715D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303640" y="2367000"/>
            <a:ext cx="485928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4EF0-F166-4BB3-A08A-9EEEEDF21B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tivos para llevar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tección contra la incertidumb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fabr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or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Economías de esc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por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ambios en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estac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tocks estraté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D13F-C589-45C8-9C6E-9B9F1057D7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P para demanda creci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61722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49FB-45E8-46C1-9A02-301AA64D60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vel Promedi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735200" y="2714760"/>
                <a:ext cx="59767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vel promedio de inventar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nventario promedi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inventario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FB02-8FFA-4B39-BB5B-2963EB50DC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833840" y="5411880"/>
            <a:ext cx="65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Nivel de Servicio versus Nivel de Inventario (Q=100, </a:t>
            </a: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 =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714280" cy="3352320"/>
            <a:chOff x="1981080" y="1981080"/>
            <a:chExt cx="5714280" cy="3352320"/>
          </a:xfrm>
        </p:grpSpPr>
        <p:grpSp>
          <p:nvGrpSpPr>
            <p:cNvPr id="450" name=""/>
            <p:cNvGrpSpPr/>
            <p:nvPr/>
          </p:nvGrpSpPr>
          <p:grpSpPr>
            <a:xfrm>
              <a:off x="1981080" y="1981080"/>
              <a:ext cx="5714280" cy="3352320"/>
              <a:chOff x="1981080" y="1981080"/>
              <a:chExt cx="5714280" cy="33523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981080" y="1981080"/>
                <a:ext cx="5714280" cy="3352320"/>
                <a:chOff x="1981080" y="1981080"/>
                <a:chExt cx="5714280" cy="3352320"/>
              </a:xfrm>
            </p:grpSpPr>
            <p:pic>
              <p:nvPicPr>
                <p:cNvPr id="45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81080" y="1981080"/>
                  <a:ext cx="5670720" cy="335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3" name=""/>
                <p:cNvSpPr/>
                <p:nvPr/>
              </p:nvSpPr>
              <p:spPr>
                <a:xfrm>
                  <a:off x="2693160" y="4610160"/>
                  <a:ext cx="500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 flipV="1">
                <a:off x="2707200" y="2151360"/>
                <a:ext cx="0" cy="24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35360" y="4952880"/>
              <a:ext cx="2270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1017720" y="3167640"/>
              <a:ext cx="2203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servicio (por cient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37880" y="41911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9040" y="379728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52120" y="35053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33160" y="32004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04480" y="29592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15680" y="277344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08760" y="2666880"/>
              <a:ext cx="59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01760" y="256536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2BCE-380D-4E6D-AB68-EDE55CA807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rtículos Múlt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xisten restricciones de capacidad y de capital de oper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e puede penalizar (artificialmente) Q para reducir inventarios. Una penalización adecuada lleva a ocupar bien la capacida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873080" y="4327560"/>
                <a:ext cx="43326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8070-C23F-4945-821C-1A3274BEEF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stemas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ABC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: 20% de los artículos, 80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cuidad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: 50% de los artículos, 5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menos rigur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F53F-6248-4E1E-AA68-EADFEAAF5C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Permite flexibilidad al momento de programa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ermite mantener el tránsito (inventarios en proces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.- Espec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394B-26BD-4DDF-AEBA-FDBA4158AD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principales decisiones relacionadas a la administración de inventario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¿Qué artículos mantener en inventari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¿Cuánt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¿Cuánd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¿Qué tipo de sistema de administración de inventarios utiliz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36BB-293C-4508-9EFD-EB549CDAE6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Co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estructuras del costo de inventario incorporan los siguientes tipos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Costo del artícu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Costo de poner ordenes de compra o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osto de inventar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uros, pérdidas y obsolesc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inexis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CADB-1020-475E-B24E-D758578705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tener en cuenta los siguientes concep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pend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ciclo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terminís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alea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6B2D-93D8-4741-AC27-1E877D4323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88800" y="53341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atrone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11360" y="2286000"/>
            <a:ext cx="8051760" cy="2664000"/>
            <a:chOff x="711360" y="2286000"/>
            <a:chExt cx="8051760" cy="2664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20800" y="2286000"/>
              <a:ext cx="79423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8700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64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200" y="2362320"/>
              <a:ext cx="182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aterias pri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51640" y="2362320"/>
              <a:ext cx="196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s termin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artes de re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72716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0932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BC12-4897-4BAB-8686-940E6585C5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manda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ventas perdidas o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: demanda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largo del cicl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costo fijo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: costo del produc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: tasa anual de costo de inventario (interés + almacenamien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347D-738B-4A09-9BCC-F6B26DB777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Maritza</cp:lastModifiedBy>
  <cp:lastPrinted>2002-05-03T22:32:05Z</cp:lastPrinted>
  <dcterms:modified xsi:type="dcterms:W3CDTF">2002-05-03T22:36:34Z</dcterms:modified>
  <cp:revision>117</cp:revision>
  <dc:subject/>
  <dc:title>Modelamiento Físico de Interfaces</dc:title>
</cp:coreProperties>
</file>