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F39A-038D-45B0-9D08-CD5B827CD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08D7-470F-4577-A634-ABE2596CC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2427-F9DA-431B-8F64-7F20933F2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EB11-EB51-47B0-8A17-FCFB781BC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2148C-A393-40BA-BEED-4AB32802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EBB09-0D68-4434-8BDA-638B6017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392D4-0057-467C-BB20-3594EA66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5A9F2-75D2-4B4B-9A1D-BD26C6B0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DCB5D-F3E5-4F83-9072-890BEDEE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AAC93-400A-489A-8AB7-7785E33C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D3EF6-4D07-4E7C-94A1-BE6B053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6742-4476-4ECB-93DA-21AA2324F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228A9-A217-4DFB-969D-B3B7503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03D79-9C36-4F2C-B9DC-EC552BC4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91187-4942-4FD5-AF26-9B35D0E5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94985-C4E4-497B-BD24-A5F2D8C2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36CDA-2E4A-4D2F-A69C-CD19E97F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1C6E-533E-4B95-BEAE-E64438B38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E6B39-C252-4D71-85E2-8CDC2EDA5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37660-42FD-4C99-9C9A-AD4BA8B50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0F6C-33F6-4E51-A2F0-01770A079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4A58-0D22-4760-B7BB-DC32CDF2F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88A5A-6A47-4C47-B67E-A90CEF648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38A3-AD3C-4602-A1FB-25BBB32C2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6383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6E1F-A9C8-4CD2-85F6-6DBC4BCBAB4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F4B6-0975-442D-9978-AB19D26B5B3E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505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0: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55400" y="54435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iveles de Inventario E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7640" y="2554200"/>
            <a:ext cx="5898960" cy="2705400"/>
            <a:chOff x="2087640" y="2554200"/>
            <a:chExt cx="5898960" cy="270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158920" y="2554200"/>
              <a:ext cx="582768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90920" y="41148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9640" y="49831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669680" y="3657600"/>
              <a:ext cx="1112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n exis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2680" y="2819520"/>
              <a:ext cx="829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terva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 o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0960" y="3606840"/>
              <a:ext cx="1503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= Q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7560" y="3632040"/>
              <a:ext cx="102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ote =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3417-4B2A-4EC0-8B2E-FF3B77567F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óptimo (Q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87520" y="2217600"/>
                <a:ext cx="2133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87520" y="3662280"/>
                <a:ext cx="4356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5067360"/>
                <a:ext cx="541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1B532-FE41-4552-A7A8-1F9502633B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74920" y="1998720"/>
                <a:ext cx="617220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Q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IC</m:t>
                            </m:r>
                          </m:e>
                        </m:rad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es muy robus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3C28-1B86-4B32-A222-DE8E9D51C1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86240" y="5748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osto Total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57600" y="2501640"/>
            <a:ext cx="6313320" cy="3184920"/>
            <a:chOff x="1857600" y="2501640"/>
            <a:chExt cx="6313320" cy="3184920"/>
          </a:xfrm>
        </p:grpSpPr>
        <p:sp>
          <p:nvSpPr>
            <p:cNvPr id="147" name=""/>
            <p:cNvSpPr/>
            <p:nvPr/>
          </p:nvSpPr>
          <p:spPr>
            <a:xfrm flipV="1">
              <a:off x="449568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97144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4760" y="5410080"/>
              <a:ext cx="1589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 lote 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8440" y="5207040"/>
              <a:ext cx="50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O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4920" y="2908440"/>
              <a:ext cx="1206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 + 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4120" y="3327480"/>
              <a:ext cx="1576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4406760"/>
              <a:ext cx="19209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orden de 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83876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5400">
              <a:off x="1072440" y="3288240"/>
              <a:ext cx="1849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anual ($/año)(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2840" y="3276720"/>
              <a:ext cx="734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9EA8-8D03-4FEC-85D8-374DFE7817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ventas pendi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 por tiempo en satisfacer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27400" y="4013280"/>
            <a:ext cx="5504040" cy="1981080"/>
            <a:chOff x="2327400" y="4013280"/>
            <a:chExt cx="5504040" cy="1981080"/>
          </a:xfrm>
        </p:grpSpPr>
        <p:sp>
          <p:nvSpPr>
            <p:cNvPr id="160" name=""/>
            <p:cNvSpPr/>
            <p:nvPr/>
          </p:nvSpPr>
          <p:spPr>
            <a:xfrm flipH="1">
              <a:off x="3569760" y="4013280"/>
              <a:ext cx="8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473800"/>
              <a:ext cx="33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400" y="4672080"/>
              <a:ext cx="135252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0040" y="45752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0040" y="4584600"/>
              <a:ext cx="177192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0800" y="4782960"/>
              <a:ext cx="200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3960" y="5540400"/>
              <a:ext cx="325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5486400"/>
              <a:ext cx="220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5703840"/>
              <a:ext cx="16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4476600"/>
              <a:ext cx="473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Q-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40957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Ne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32440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06560" y="306072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5DBAE-3744-48CD-9B92-6DBAFA3F79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rivar costo anual con respecto a Q y 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9800" y="2316240"/>
                <a:ext cx="5357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C19B-CD24-4E34-BD85-3AEAF1D899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rdid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33560" y="2362320"/>
            <a:ext cx="5853600" cy="2480760"/>
            <a:chOff x="1933560" y="2362320"/>
            <a:chExt cx="5853600" cy="2480760"/>
          </a:xfrm>
        </p:grpSpPr>
        <p:sp>
          <p:nvSpPr>
            <p:cNvPr id="179" name=""/>
            <p:cNvSpPr/>
            <p:nvPr/>
          </p:nvSpPr>
          <p:spPr>
            <a:xfrm>
              <a:off x="2988720" y="442224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88720" y="2362320"/>
              <a:ext cx="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872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236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85160" y="45068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97320" y="44960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5120" y="42033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3560" y="23623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F8F3-D872-4EB2-8F96-2B75A0B7B3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Demanda Alea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Continua (Q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n cada momento el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decidir en que momento orde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 (se usa Q* por ser robus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: punto de re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: tiempo de entr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: demanda med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inventario de segur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: probabilidad de servir todas las deman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FB97-35FE-42C3-9136-142AAB8B4C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620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664000" y="5257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Continua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18840" y="2400480"/>
            <a:ext cx="6725160" cy="2791080"/>
            <a:chOff x="1518840" y="2400480"/>
            <a:chExt cx="6725160" cy="27910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600200" y="2400480"/>
              <a:ext cx="66438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133720" y="40384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29600" y="491508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19800">
              <a:off x="821520" y="3391560"/>
              <a:ext cx="1680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xistenci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4640" y="3886200"/>
              <a:ext cx="275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63560" y="361152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8040" y="34592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0720" y="36878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456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3904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3655-978B-440F-9CAA-3C84722F9D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873440" y="5562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istribución de Probabilidad de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011320" y="1676520"/>
            <a:ext cx="5763600" cy="3736800"/>
            <a:chOff x="2011320" y="1676520"/>
            <a:chExt cx="5763600" cy="37368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016000" y="1676520"/>
              <a:ext cx="57564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62320" y="5105520"/>
              <a:ext cx="3027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urante el tiempo de entre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9440" y="2239920"/>
              <a:ext cx="25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l nivel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3960" y="3352680"/>
              <a:ext cx="1316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existenc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1672920" y="3058200"/>
              <a:ext cx="953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recu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48A5-6982-4A9A-9B55-5D5628E5C8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considera como Inventario a las cantidades almacenada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 p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ue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ene un fuerte impacto en relación al uso de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B0E98-CE6E-477A-8494-DBC91FCCD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nto de reord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relación entre z y el nivel de servicio deseado, asumiendo un distribución de demanda norm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1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84.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2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7.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3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9.9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374920" y="2293920"/>
                <a:ext cx="4419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tiempo de ord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9AFA-0C23-467E-99BD-8CC6BF4229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promedio: 200 cajas al 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 de entrega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 dí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standard de la demanda diaria: 15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seado: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 = $20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 = 20%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 = $10 por un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macén funciona 5 días a la semana, 50 semanas al año (250 días al año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E9E6A-FECE-4221-AED7-3158580ABA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colocar una orden de 1.000 cajas cada vez que el inventario alcance 1.295 unidades (en promedio se pide cada 5 dí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62320" y="1676520"/>
                <a:ext cx="640080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manda promedio an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 al añ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*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·20·250·2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·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el tiempo de orde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el tiempo de orde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0 unidade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3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5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76200" y="5867280"/>
            <a:ext cx="67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a varianza de una suma es la suma de las varianzas cuando las variables 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de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989F-1CE0-4E90-9F09-B22E5CC690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Q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55428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2720" y="2359080"/>
            <a:ext cx="64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dido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2352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7888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752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1840" y="254160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99560" y="254160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98320" y="254160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6560" y="2541600"/>
            <a:ext cx="67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orde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39920" y="2541600"/>
            <a:ext cx="56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recibi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8360" y="2722680"/>
            <a:ext cx="79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l 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424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218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0880" y="2905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1640" y="2905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1004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848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920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628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4356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30880" y="3087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2164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8852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64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920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4048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4356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0880" y="32688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2164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8852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64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920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4048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356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0880" y="3451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164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8852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64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920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4048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4356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088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572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1004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8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920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972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0880" y="38149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21640" y="3814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7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1004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920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40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4356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0880" y="39974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2164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8852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3848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4588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6280" y="39974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356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30880" y="41799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2164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8852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64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920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40480" y="41799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0880" y="436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2164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464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920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048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356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5920" y="45435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5720" y="4543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88520" y="4543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64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920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628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43560" y="45435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45920" y="47242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21640" y="4724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00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6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920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40480" y="47242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5920" y="4906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2164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8852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64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920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048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4356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45920" y="50896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164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8852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64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920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4048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4356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45920" y="52704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1640" y="5270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004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8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920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40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2972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5920" y="545292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21640" y="5452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848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920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628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356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45920" y="5635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21640" y="5635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100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6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920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4048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4356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2280" y="5999040"/>
            <a:ext cx="253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* Se han utilizado Q = 1000 y R = 129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0920" y="254628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5680" y="254628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5280" y="2357280"/>
            <a:ext cx="1800" cy="34722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5280" y="2357280"/>
            <a:ext cx="12960" cy="3472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399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399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32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7328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016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5476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47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9932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9932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5640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640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594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59480" y="2370240"/>
            <a:ext cx="1296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78240" y="23572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78240" y="235728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8240" y="29034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78240" y="290340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78240" y="30862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78240" y="30862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78240" y="3267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8240" y="326700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78240" y="34495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78240" y="344952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78240" y="36320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78240" y="36320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78240" y="38131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8240" y="381312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78240" y="39956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78240" y="39956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78240" y="417672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191120"/>
            <a:ext cx="4894200" cy="1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78240" y="43592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8240" y="43592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78240" y="454176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78240" y="45417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78240" y="472284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8240" y="47228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78240" y="49053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78240" y="49053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78240" y="50878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78240" y="50878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78240" y="52689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78240" y="526896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8240" y="54514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8240" y="54514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78240" y="5634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8240" y="563400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78240" y="58150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78240" y="581508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360" y="4724280"/>
            <a:ext cx="5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EA84-BC14-4110-B570-5B61D1395E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Periódica (P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l inventario periódicamente al revi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se hace un pedido sema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ubrir demanda cuando se hace la revisión y se hace pedido para llegar a un nivel objetivo (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tiempo entre pedi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inventario meta u objetivo, debe cubrir hasta que llegue el siguiente ped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’: demanda promedio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’: inventario de seguridad en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A53F-CC15-44B7-BDA4-6F114541E1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71800" y="2154240"/>
            <a:ext cx="5675040" cy="3691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67680" y="57913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007720" y="2362320"/>
            <a:ext cx="5536080" cy="3502080"/>
            <a:chOff x="2007720" y="2362320"/>
            <a:chExt cx="5536080" cy="3502080"/>
          </a:xfrm>
        </p:grpSpPr>
        <p:sp>
          <p:nvSpPr>
            <p:cNvPr id="409" name=""/>
            <p:cNvSpPr/>
            <p:nvPr/>
          </p:nvSpPr>
          <p:spPr>
            <a:xfrm>
              <a:off x="2514600" y="25146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1880" y="55879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14400">
              <a:off x="1295280" y="3711960"/>
              <a:ext cx="1707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8640" y="23623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86760" y="516096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93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05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7556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64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66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23000" y="29462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4920" y="33526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4800" y="342900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1680" y="279396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50360" y="36068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8640" y="38098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470480" y="365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505320"/>
              <a:ext cx="763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A436-E99B-49E0-ACA9-9AC668F3C6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P usando Q* (Q óptim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00480" y="2286000"/>
                <a:ext cx="3733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175480" y="3336840"/>
            <a:ext cx="56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lo que se obtiene un intervalo de r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amente ópt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413080" y="4876920"/>
                <a:ext cx="3336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'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B07D-4977-41FA-BAF9-B114A9D1375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 óptimo (Q*) = 1.0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diaria = 2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l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819520" y="3200400"/>
                <a:ext cx="54100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dí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50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45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2</m:t>
                        </m:r>
                        <m:r>
                          <m:rPr>
                            <m:lit/>
                            <m:nor/>
                          </m:rPr>
                          <m:t xml:space="preserve">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FDDA6-CCC6-4251-A290-B5A4159F3E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revisar cada 5 días y llevar el nivel de inventario a 2.542 ca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39680" y="2970360"/>
            <a:ext cx="65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ta: El sistema P considera 742 unidades de inventa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guridad, en cambio el sistema Q sólo 495. Esto se deb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l sistema P debe cubrir la demanda por más d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D508-C12C-4E1A-A0BD-8EB343FA7E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303640" y="2367000"/>
            <a:ext cx="485928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2CF5-5C45-450D-AE7D-86E327C5F6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tivos para llevar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tección contra la incertidumb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fabr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or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Economías de esc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por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ambios en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est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tocks estraté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E637-CFE6-4ABC-B930-1BED04D107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P para demanda crec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859C-7DB2-4FEB-A3DC-777B261B8F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 Promedi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735200" y="2714760"/>
                <a:ext cx="59767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vel promedio de inventar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nventario promedi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nventario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C396-72CD-4972-B736-812894D04B6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833840" y="541188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Nivel de Servicio versus Nivel de Inventario (Q=100, 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 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714280" cy="3352320"/>
            <a:chOff x="1981080" y="1981080"/>
            <a:chExt cx="5714280" cy="3352320"/>
          </a:xfrm>
        </p:grpSpPr>
        <p:grpSp>
          <p:nvGrpSpPr>
            <p:cNvPr id="450" name=""/>
            <p:cNvGrpSpPr/>
            <p:nvPr/>
          </p:nvGrpSpPr>
          <p:grpSpPr>
            <a:xfrm>
              <a:off x="1981080" y="1981080"/>
              <a:ext cx="5714280" cy="3352320"/>
              <a:chOff x="1981080" y="1981080"/>
              <a:chExt cx="5714280" cy="33523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981080" y="1981080"/>
                <a:ext cx="5714280" cy="3352320"/>
                <a:chOff x="1981080" y="1981080"/>
                <a:chExt cx="5714280" cy="3352320"/>
              </a:xfrm>
            </p:grpSpPr>
            <p:pic>
              <p:nvPicPr>
                <p:cNvPr id="4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81080" y="1981080"/>
                  <a:ext cx="5670720" cy="335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"/>
                <p:cNvSpPr/>
                <p:nvPr/>
              </p:nvSpPr>
              <p:spPr>
                <a:xfrm>
                  <a:off x="2693160" y="4610160"/>
                  <a:ext cx="500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flipV="1">
                <a:off x="2707200" y="2151360"/>
                <a:ext cx="0" cy="24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35360" y="4952880"/>
              <a:ext cx="2270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1017720" y="3167640"/>
              <a:ext cx="2203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servicio (por cient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37880" y="41911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9040" y="379728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52120" y="35053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3160" y="32004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04480" y="29592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15680" y="277344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8760" y="2666880"/>
              <a:ext cx="59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01760" y="256536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8C72-9257-480F-AC1C-BEC56A49B6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tículos Múlt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xisten restricciones de capacidad y de capital de oper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e puede penalizar (artificialmente) Q para reducir inventarios. Una penalización adecuada lleva a ocupar bien la capacida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873080" y="4327560"/>
                <a:ext cx="43326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1271-74E6-4482-B0FE-40877FA089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stemas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ABC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: 20% de los artículos, 80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cuidad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: 50% de los artículos, 5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menos rigur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8B4F-3BCE-4F99-A21A-1E34CC1AFE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Permite flexibilidad al momento de programa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ermite mantener el tránsito (inventarios en proces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.- Espec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4560-2C2F-43C1-8A85-67BB233421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rincipales decisiones relacionadas a la administración de inventario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¿Qué artículos mantener en inventar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¿Cuánt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¿Cuánd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¿Qué tipo de sistema de administración de inventarios utiliz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2415-28FA-4B49-9D24-162FE7419E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estructuras del costo de inventario incorporan los siguientes tipos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Costo del artíc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Costo de poner ordenes de compra o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osto de invent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ros, pérdidas y obsolesc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inexis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6ECC-981B-4E1E-AA9F-AD1D35EB13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tener en cuenta los siguientes concep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pend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ciclo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terminí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ea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6353-0F9A-4AB6-823D-31CF4E3482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0" y="53341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atrone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2286000"/>
            <a:ext cx="8051760" cy="2664000"/>
            <a:chOff x="711360" y="2286000"/>
            <a:chExt cx="8051760" cy="2664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0800" y="2286000"/>
              <a:ext cx="79423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8700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64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200" y="2362320"/>
              <a:ext cx="18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aterias pri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51640" y="2362320"/>
              <a:ext cx="196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s termin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artes de re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2716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0932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491C9-D257-4C09-B80E-F72DF35D9E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manda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entas perdidas o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: demanda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largo del cicl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costo fijo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: costo del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: tasa anual de costo de inventario (interés + almacena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64D6D-C953-4FEE-81F4-69D4631794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Maritza</cp:lastModifiedBy>
  <cp:lastPrinted>2002-05-03T22:32:05Z</cp:lastPrinted>
  <dcterms:modified xsi:type="dcterms:W3CDTF">2002-05-03T22:36:34Z</dcterms:modified>
  <cp:revision>117</cp:revision>
  <dc:subject/>
  <dc:title>Modelamiento Físico de Interfaces</dc:title>
</cp:coreProperties>
</file>