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24684-1A9B-477C-BA76-0CEC150935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E29E7-ACEC-4008-AA07-56CD29FB3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8FEEF-08DA-4A7D-964B-8F26489400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78D66-F219-4C39-B80E-D09D94E763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064C32-A72D-471A-BBEB-A74852AEE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BBF9B-4FDC-4250-89FB-7B853E7FE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4F0EE5-E4EC-498E-A243-B451F7B8B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A3F38C-2B66-4D74-A5FA-15D3FD503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F7A00-24EB-484B-B1B6-38E55C578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5C769-A3A4-4731-AC89-6EC0FAAA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9B6572-155E-4DC6-9D15-677B5F8E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ED531-6C41-4B0E-8805-E977A18BA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1D97F2-D6EF-4899-A794-4FCB4A37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1CA2E7-7FDB-4D32-83D8-C163BDAB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2309A-B8FD-41A6-84FD-05F6B5B7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CE3C0-A5C3-4862-BDC2-C811A0BFA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167652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004280"/>
            <a:ext cx="250236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7FC714-4ED8-4287-9C5F-A103A7FC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9893B-FD40-40E5-B4D8-F65B3BE42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D0E57-0EE8-4D04-BC0C-E5695AFD8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AD1E5-4E97-499A-BB51-C445FAE45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17100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2595A-DF88-47A6-A891-9EE33FF446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5E91E-15AA-418C-A525-6D4A60A2B6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00428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33F94-F199-4912-8F24-E112F5D25E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1676520"/>
            <a:ext cx="3792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004280"/>
            <a:ext cx="77724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CB81E-9121-4025-8B80-8DABED0978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52320"/>
            <a:ext cx="438120" cy="474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52320"/>
            <a:ext cx="32832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07460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07460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00188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54468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33524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 rot="21562800">
            <a:off x="5638320" y="6273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DBED-0B5D-4212-8896-9E8BED8BF2A8}" type="slidenum">
              <a:rPr b="0" lang="es-ES_tradnl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3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8BF60-9595-4600-BED1-2FEDC2129239}" type="slidenum">
              <a:rPr b="0" lang="es-ES_tradnl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20570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Gestión de Opera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35053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apítulo 10: Inven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3155400" y="5443560"/>
            <a:ext cx="393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Niveles de Inventario EO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087640" y="2554200"/>
            <a:ext cx="5898960" cy="2705400"/>
            <a:chOff x="2087640" y="2554200"/>
            <a:chExt cx="5898960" cy="2705400"/>
          </a:xfrm>
        </p:grpSpPr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2158920" y="2554200"/>
              <a:ext cx="5827680" cy="263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2590920" y="4114800"/>
              <a:ext cx="495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59640" y="49831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1669680" y="3657600"/>
              <a:ext cx="1112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n exist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12680" y="2819520"/>
              <a:ext cx="829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terval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 ord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240960" y="3606840"/>
              <a:ext cx="1503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= Q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27560" y="3632040"/>
              <a:ext cx="102672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ote = 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E59F1-434D-41D7-9145-7C7F17C949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Q óptimo (Q*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387520" y="2217600"/>
                <a:ext cx="213372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387520" y="3662280"/>
                <a:ext cx="43563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C</m:t>
                    </m:r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C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286000" y="5067360"/>
                <a:ext cx="54100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C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Q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IC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∗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2986F-3849-4704-B062-AF6AE1CDEB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anual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374920" y="1998720"/>
                <a:ext cx="6172200" cy="196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>
                              <m:t xml:space="preserve">Q</m:t>
                            </m:r>
                            <m:r>
                              <m:t xml:space="preserve">∗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Q</m:t>
                            </m:r>
                            <m:r>
                              <m:t xml:space="preserve">∗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D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D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</m:t>
                                    </m:r>
                                  </m:den>
                                </m:f>
                              </m:e>
                            </m:rad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DIC</m:t>
                            </m:r>
                          </m:e>
                        </m:rad>
                        <m:r>
                          <m:t xml:space="preserve">Q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 es muy robust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06B56-AB6F-4F3C-82FE-1A689EA147D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6095880" cy="4267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486240" y="574848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Costo Total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857600" y="2501640"/>
            <a:ext cx="6313320" cy="3184920"/>
            <a:chOff x="1857600" y="2501640"/>
            <a:chExt cx="6313320" cy="3184920"/>
          </a:xfrm>
        </p:grpSpPr>
        <p:sp>
          <p:nvSpPr>
            <p:cNvPr id="147" name=""/>
            <p:cNvSpPr/>
            <p:nvPr/>
          </p:nvSpPr>
          <p:spPr>
            <a:xfrm flipV="1">
              <a:off x="449568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2971440" y="358128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604760" y="5410080"/>
              <a:ext cx="1589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amaño del lote (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58440" y="5207040"/>
              <a:ext cx="50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O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174920" y="2908440"/>
              <a:ext cx="12063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tot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 + 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4120" y="3327480"/>
              <a:ext cx="157680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iCQ/2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56360" y="4406760"/>
              <a:ext cx="1920960" cy="641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de orden de ped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(SD/Q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05720" y="4838760"/>
              <a:ext cx="53316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rot="16205400">
              <a:off x="1072440" y="3288240"/>
              <a:ext cx="18496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 anual ($/año)(TC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12840" y="3276720"/>
              <a:ext cx="73404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Co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ínim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2222A-C959-4693-8FCA-EE5D2C221E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ventas pendien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: costo por venta pendiente por tiempo en satisfacerl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327400" y="4013280"/>
            <a:ext cx="5504040" cy="1981080"/>
            <a:chOff x="2327400" y="4013280"/>
            <a:chExt cx="5504040" cy="1981080"/>
          </a:xfrm>
        </p:grpSpPr>
        <p:sp>
          <p:nvSpPr>
            <p:cNvPr id="160" name=""/>
            <p:cNvSpPr/>
            <p:nvPr/>
          </p:nvSpPr>
          <p:spPr>
            <a:xfrm flipH="1">
              <a:off x="3569760" y="4013280"/>
              <a:ext cx="8280" cy="19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70120" y="5473800"/>
              <a:ext cx="336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78400" y="4672080"/>
              <a:ext cx="1352520" cy="12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0040" y="4575240"/>
              <a:ext cx="0" cy="136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910040" y="4584600"/>
              <a:ext cx="1771920" cy="113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60800" y="4782960"/>
              <a:ext cx="2001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93960" y="5540400"/>
              <a:ext cx="32544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668840" y="5486400"/>
              <a:ext cx="220680" cy="19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" sz="15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3120" y="5703840"/>
              <a:ext cx="1684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54240" y="4476600"/>
              <a:ext cx="47304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(Q-P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27400" y="40957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Ne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989400" y="532440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806560" y="3060720"/>
                <a:ext cx="30960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03B64-CD56-4DE9-8CB1-58E3A680C72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por perí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óptim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6204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rivar costo anual con respecto a Q y 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909800" y="2316240"/>
                <a:ext cx="535788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C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Π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acc>
                      <m:accPr>
                        <m:chr m:val="^"/>
                      </m:accPr>
                      <m:e>
                        <m:r>
                          <m:t xml:space="preserve">Π</m:t>
                        </m:r>
                      </m:e>
                    </m:acc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20E13-8A38-469D-94D6-8C7A218A21A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n ventas perdida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933560" y="2362320"/>
            <a:ext cx="5853600" cy="2480760"/>
            <a:chOff x="1933560" y="2362320"/>
            <a:chExt cx="5853600" cy="2480760"/>
          </a:xfrm>
        </p:grpSpPr>
        <p:sp>
          <p:nvSpPr>
            <p:cNvPr id="179" name=""/>
            <p:cNvSpPr/>
            <p:nvPr/>
          </p:nvSpPr>
          <p:spPr>
            <a:xfrm>
              <a:off x="2988720" y="4422240"/>
              <a:ext cx="381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988720" y="2362320"/>
              <a:ext cx="0" cy="205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8872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52360" y="3024360"/>
              <a:ext cx="1270080" cy="1397520"/>
            </a:xfrm>
            <a:prstGeom prst="rtTriangl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85160" y="45068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97320" y="4496040"/>
              <a:ext cx="4377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45120" y="4203360"/>
              <a:ext cx="842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933560" y="2362320"/>
              <a:ext cx="11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Tahoma"/>
                </a:rPr>
                <a:t>Inventar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89308-5B18-41FE-B54C-02095279D1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.- Demanda Aleatori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Continua (Q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n cada momento el inventari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decidir en que momento orden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 (se usa Q* por ser robus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: punto de re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: tiempo de entreg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: demanda medi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inventario de segur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: probabilidad de servir todas las deman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CF7E8-35B5-4D5B-ABBF-6FFA02B762C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6208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20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2664000" y="5257800"/>
            <a:ext cx="49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Continua 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1518840" y="2400480"/>
            <a:ext cx="6725160" cy="2791080"/>
            <a:chOff x="1518840" y="2400480"/>
            <a:chExt cx="6725160" cy="2791080"/>
          </a:xfrm>
        </p:grpSpPr>
        <p:pic>
          <p:nvPicPr>
            <p:cNvPr id="193" name="" descr=""/>
            <p:cNvPicPr/>
            <p:nvPr/>
          </p:nvPicPr>
          <p:blipFill>
            <a:blip r:embed="rId1"/>
            <a:stretch/>
          </p:blipFill>
          <p:spPr>
            <a:xfrm>
              <a:off x="1600200" y="2400480"/>
              <a:ext cx="6643800" cy="27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2133720" y="4038480"/>
              <a:ext cx="5715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629600" y="491508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6219800">
              <a:off x="821520" y="3391560"/>
              <a:ext cx="1680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Existencia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54640" y="3886200"/>
              <a:ext cx="275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63560" y="361152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48040" y="34592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30720" y="3687840"/>
              <a:ext cx="2995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45456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63904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8000" y="4495680"/>
              <a:ext cx="25992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0A7AC-DB8A-4EF5-A457-2C96F8C85D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1873440" y="5562720"/>
            <a:ext cx="65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Distribución de Probabilidad de la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2011320" y="1676520"/>
            <a:ext cx="5763600" cy="3736800"/>
            <a:chOff x="2011320" y="1676520"/>
            <a:chExt cx="5763600" cy="3736800"/>
          </a:xfrm>
        </p:grpSpPr>
        <p:pic>
          <p:nvPicPr>
            <p:cNvPr id="207" name="" descr=""/>
            <p:cNvPicPr/>
            <p:nvPr/>
          </p:nvPicPr>
          <p:blipFill>
            <a:blip r:embed="rId1"/>
            <a:stretch/>
          </p:blipFill>
          <p:spPr>
            <a:xfrm>
              <a:off x="2016000" y="1676520"/>
              <a:ext cx="5756400" cy="37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262320" y="5105520"/>
              <a:ext cx="3027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urante el tiempo de entre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9440" y="2239920"/>
              <a:ext cx="2535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l nivel de servi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123960" y="3352680"/>
              <a:ext cx="131616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babilidad 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existenci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1672920" y="3058200"/>
              <a:ext cx="9532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Frecuenci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AB65-1324-4AFA-A21B-AB740477446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Se considera como Inventario a las cantidades almacenadas d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ateria pri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s en proces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ducto fin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pues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iene un fuerte impacto en relación al uso de capi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2EB64-28D1-4C40-A4B3-D2C3740FD6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unto de reorde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relación entre z y el nivel de servicio deseado, asumiendo un distribución de demanda norma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1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84.1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2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7.7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z=3.0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99.9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2374920" y="2293920"/>
                <a:ext cx="441972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tiempo de orde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D5604A-A77B-4E93-AE28-34478F56F4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promedio: 200 cajas al d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iempo de entrega: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4 dí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viación standard de la demanda diaria: 15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seado: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 = $20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 = 20%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 = $10 por un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macén funciona 5 días a la semana, 50 semanas al año (250 días al año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68FEC-19AA-4E84-B7B1-C71546ABCB6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colocar una orden de 1.000 cajas cada vez que el inventario alcance 1.295 unidades (en promedio se pide cada 5 día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62320" y="1676520"/>
                <a:ext cx="6400800" cy="27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emanda promedio anua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0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 al añ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Q*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2·20·250·200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0·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</m:t>
                        </m:r>
                        <m:r>
                          <m:rPr>
                            <m:lit/>
                            <m:nor/>
                          </m:rPr>
                          <m:t xml:space="preserve">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el tiempo de orden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4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el tiempo de orden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300 unidades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300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95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176200" y="5867280"/>
            <a:ext cx="675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La varianza de una suma es la suma de las varianzas cuando las variables 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independien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6A040-746A-4495-8BF9-3C13ED04DD6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Q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355428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ispon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92720" y="2359080"/>
            <a:ext cx="64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dido 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23520" y="2359080"/>
            <a:ext cx="739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7888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07520" y="2359080"/>
            <a:ext cx="63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Cant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1840" y="2541600"/>
            <a:ext cx="543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399560" y="2541600"/>
            <a:ext cx="62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098320" y="2541600"/>
            <a:ext cx="79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al inicio de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956560" y="2541600"/>
            <a:ext cx="672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ordena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39920" y="2541600"/>
            <a:ext cx="566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recibi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28360" y="2722680"/>
            <a:ext cx="79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l 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424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21800" y="2722680"/>
            <a:ext cx="540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perío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630880" y="29052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221640" y="29052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01004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3848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56920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6280" y="29052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243560" y="29052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630880" y="30877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2164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1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088520" y="30877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2464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9200" y="30877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9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4048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243560" y="30877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630880" y="326880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22164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3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088520" y="3268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72464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569200" y="3268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7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54048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243560" y="3268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30880" y="34513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22164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088520" y="34513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64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9200" y="34513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3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4048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243560" y="34513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3088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75720" y="36338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1004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938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56920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540480" y="36338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029720" y="36338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630880" y="381492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21640" y="3814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7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01004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38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69200" y="3814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54048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43560" y="3814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30880" y="39974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2164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3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08852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3848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645880" y="39974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94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326280" y="39974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243560" y="39974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630880" y="41799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2164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88520" y="4179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72464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69200" y="41799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0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540480" y="41799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630880" y="436104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2164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088520" y="4361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72464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569200" y="436104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6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54048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243560" y="436104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45920" y="454356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75720" y="4543560"/>
            <a:ext cx="8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088520" y="45435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72464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6920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26280" y="454356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243560" y="454356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45920" y="47242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221640" y="47242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4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100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72464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69200" y="47242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28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40480" y="47242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5920" y="4906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2164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7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88520" y="4906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72464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569200" y="4906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84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54048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43560" y="4906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545920" y="508968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2164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3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88520" y="50896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2464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569200" y="508968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71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4048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243560" y="508968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545920" y="52704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21640" y="5270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1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1004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38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6920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40480" y="52704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029720" y="52704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45920" y="545292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21640" y="54529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4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1004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3848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920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289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6280" y="545292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243560" y="545292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545920" y="5635800"/>
            <a:ext cx="162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16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221640" y="56358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4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0100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64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569200" y="5635800"/>
            <a:ext cx="323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2048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54048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243560" y="5635800"/>
            <a:ext cx="92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--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92280" y="5999040"/>
            <a:ext cx="2532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* Se han utilizado Q = 1000 y R = 1295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00920" y="2546280"/>
            <a:ext cx="23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í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85680" y="2546280"/>
            <a:ext cx="674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Tahoma"/>
              </a:rPr>
              <a:t>Demand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65280" y="2357280"/>
            <a:ext cx="1800" cy="34722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465280" y="2357280"/>
            <a:ext cx="12960" cy="34722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399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7399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4732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7328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40160" y="2370240"/>
            <a:ext cx="144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5476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05476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89932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89932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656400" y="2370240"/>
            <a:ext cx="144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656400" y="2370240"/>
            <a:ext cx="1260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59480" y="2370240"/>
            <a:ext cx="1800" cy="34592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359480" y="2370240"/>
            <a:ext cx="12960" cy="34592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78240" y="23572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78240" y="235728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478240" y="29034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78240" y="290340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78240" y="30862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78240" y="30862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478240" y="3267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478240" y="326700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478240" y="34495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78240" y="344952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78240" y="36320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478240" y="36320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78240" y="381312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78240" y="381312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478240" y="39956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478240" y="3995640"/>
            <a:ext cx="4894200" cy="129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478240" y="417672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514600" y="4191120"/>
            <a:ext cx="4894200" cy="1404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478240" y="435924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478240" y="43592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478240" y="454176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78240" y="45417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478240" y="472284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478240" y="472284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478240" y="49053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478240" y="490536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478240" y="508788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478240" y="50878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78240" y="526896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478240" y="526896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478240" y="54514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78240" y="545148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478240" y="5634000"/>
            <a:ext cx="489420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478240" y="5634000"/>
            <a:ext cx="4894200" cy="126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78240" y="5815080"/>
            <a:ext cx="489420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78240" y="5815080"/>
            <a:ext cx="4894200" cy="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858360" y="4724280"/>
            <a:ext cx="57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ES_tradnl" sz="1100" spc="-1" strike="noStrike">
                <a:solidFill>
                  <a:srgbClr val="000000"/>
                </a:solidFill>
                <a:latin typeface="Tahoma"/>
              </a:rPr>
              <a:t>100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F7E8C-9775-4477-B4D5-D7660D961E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stema de Revisión Periódica (P)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conoce el inventario periódicamente al revis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jemplo: se hace un pedido seman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 debe cubrir demanda cuando se hace la revisión y se hace pedido para llegar a un nivel objetivo (T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: tiempo entre pedid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inventario meta u objetivo, debe cubrir hasta que llegue el siguiente pedid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’: demanda promedio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’: inventario de seguridad en P + 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AA9AF-68AC-48B2-9ADA-DBDA4100EB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presentación gráfic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2071800" y="2154240"/>
            <a:ext cx="5675040" cy="36910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2767680" y="57913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Sistema de Revisión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007720" y="2362320"/>
            <a:ext cx="5536080" cy="3502080"/>
            <a:chOff x="2007720" y="2362320"/>
            <a:chExt cx="5536080" cy="3502080"/>
          </a:xfrm>
        </p:grpSpPr>
        <p:sp>
          <p:nvSpPr>
            <p:cNvPr id="409" name=""/>
            <p:cNvSpPr/>
            <p:nvPr/>
          </p:nvSpPr>
          <p:spPr>
            <a:xfrm>
              <a:off x="2514600" y="2514600"/>
              <a:ext cx="5029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81880" y="5587920"/>
              <a:ext cx="7218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16214400">
              <a:off x="1295280" y="3711960"/>
              <a:ext cx="17078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Inventario disponi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68640" y="2362320"/>
              <a:ext cx="2660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86760" y="516096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393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550560" y="5181480"/>
              <a:ext cx="2736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7556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4964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96600" y="5029200"/>
              <a:ext cx="240120" cy="23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23000" y="29462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184920" y="33526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94800" y="342900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521680" y="279396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050360" y="360684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418640" y="3809880"/>
              <a:ext cx="308880" cy="24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Tahoma"/>
                </a:rPr>
                <a:t>Q</a:t>
              </a:r>
              <a:r>
                <a:rPr b="0" lang="es-ES_tradnl" sz="9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470480" y="365724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95880" y="3505320"/>
              <a:ext cx="76320" cy="2286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4564A-5155-4110-84C2-365CCB2896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P usando Q* (Q óptimo)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álculo de T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2400480" y="2286000"/>
                <a:ext cx="373356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t xml:space="preserve">∗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S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ICD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2175480" y="3336840"/>
            <a:ext cx="564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 lo que se obtiene un intervalo de re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proximadamente ópti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2413080" y="4876920"/>
                <a:ext cx="333684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factor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σ</m:t>
                        </m:r>
                        <m:r>
                          <m:rPr>
                            <m:lit/>
                            <m:nor/>
                          </m:rPr>
                          <m:t xml:space="preserve">':</m:t>
                        </m:r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s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71BB4-6E88-423A-A1E5-F5B88BF791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 óptimo (Q*) = 1.0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manda diaria = 200 caj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vel de servicio del 95%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2819520" y="3200400"/>
                <a:ext cx="5410080" cy="24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D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 dí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manda promedio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  <m:r>
                          <m:t xml:space="preserve">·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rPr>
                            <m:lit/>
                            <m:nor/>
                          </m:rPr>
                          <m:t xml:space="preserve">0 caja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sviación standard en P </m:t>
                        </m:r>
                        <m:r>
                          <m:t xml:space="preserve">+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·</m:t>
                        </m:r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450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ivel de Servicio de 95%</m:t>
                        </m:r>
                        <m:r>
                          <m:t xml:space="preserve">⇒</m:t>
                        </m:r>
                        <m:r>
                          <m:t xml:space="preserve">z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/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'</m:t>
                        </m:r>
                        <m:r>
                          <m:t xml:space="preserve">+</m:t>
                        </m:r>
                        <m:r>
                          <m:t xml:space="preserve">zσ</m:t>
                        </m:r>
                        <m:r>
                          <m:t xml:space="preserve">'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00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·450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2</m:t>
                        </m:r>
                        <m:r>
                          <m:rPr>
                            <m:lit/>
                            <m:nor/>
                          </m:rPr>
                          <m:t xml:space="preserve"> unidade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D83A-A834-4E3A-B4A5-41961F4F78A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regla sería revisar cada 5 días y llevar el nivel de inventario a 2.542 caj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7" name=""/>
          <p:cNvSpPr/>
          <p:nvPr/>
        </p:nvSpPr>
        <p:spPr>
          <a:xfrm>
            <a:off x="1939680" y="2970360"/>
            <a:ext cx="652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ta: El sistema P considera 742 unidades de inventario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guridad, en cambio el sistema Q sólo 495. Esto se debe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el sistema P debe cubrir la demanda por más dí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70261-D2C5-4238-BD9C-07A5DA151C6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mulación de la operación del sistema P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303640" y="2367000"/>
            <a:ext cx="4859280" cy="380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A2878-4DF1-416F-8C21-B345417B69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otivos para llevar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Protección contra la incertidumb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mand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fabric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Tiempo de ord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Economías de esc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ción por lo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ambios en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ferta estacion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tocks estratégic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06079-37D5-4368-B329-29293683B3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stema P para demanda crecient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43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617220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8F257-1BA1-498E-BCF4-81109CA2A95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vel Promedio de Inventari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735200" y="2714760"/>
                <a:ext cx="5976720" cy="16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nivel promedio de inventario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inventario promedio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 inventario de segurida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zσ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D446E-7F40-49EB-8C94-BE06E6668E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99"/>
                </a:solidFill>
                <a:latin typeface="Tahoma"/>
              </a:rPr>
              <a:t>Nivel de Servicio versus Inventari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1833840" y="5411880"/>
            <a:ext cx="653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Nivel de Servicio versus Nivel de Inventario (Q=100, </a:t>
            </a:r>
            <a:r>
              <a:rPr b="0" lang="es-ES_tradnl" sz="1800" spc="-1" strike="noStrike">
                <a:solidFill>
                  <a:srgbClr val="333399"/>
                </a:solidFill>
                <a:latin typeface="Symbol"/>
                <a:ea typeface="Symbol"/>
              </a:rPr>
              <a:t></a:t>
            </a:r>
            <a:r>
              <a:rPr b="0" lang="es-ES_tradnl" sz="1800" spc="-1" strike="noStrike">
                <a:solidFill>
                  <a:srgbClr val="333399"/>
                </a:solidFill>
                <a:latin typeface="Tahoma"/>
              </a:rPr>
              <a:t> =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1981080" y="1981080"/>
            <a:ext cx="5714280" cy="3352320"/>
            <a:chOff x="1981080" y="1981080"/>
            <a:chExt cx="5714280" cy="3352320"/>
          </a:xfrm>
        </p:grpSpPr>
        <p:grpSp>
          <p:nvGrpSpPr>
            <p:cNvPr id="450" name=""/>
            <p:cNvGrpSpPr/>
            <p:nvPr/>
          </p:nvGrpSpPr>
          <p:grpSpPr>
            <a:xfrm>
              <a:off x="1981080" y="1981080"/>
              <a:ext cx="5714280" cy="3352320"/>
              <a:chOff x="1981080" y="1981080"/>
              <a:chExt cx="5714280" cy="3352320"/>
            </a:xfrm>
          </p:grpSpPr>
          <p:grpSp>
            <p:nvGrpSpPr>
              <p:cNvPr id="451" name=""/>
              <p:cNvGrpSpPr/>
              <p:nvPr/>
            </p:nvGrpSpPr>
            <p:grpSpPr>
              <a:xfrm>
                <a:off x="1981080" y="1981080"/>
                <a:ext cx="5714280" cy="3352320"/>
                <a:chOff x="1981080" y="1981080"/>
                <a:chExt cx="5714280" cy="3352320"/>
              </a:xfrm>
            </p:grpSpPr>
            <p:pic>
              <p:nvPicPr>
                <p:cNvPr id="452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981080" y="1981080"/>
                  <a:ext cx="5670720" cy="3352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53" name=""/>
                <p:cNvSpPr/>
                <p:nvPr/>
              </p:nvSpPr>
              <p:spPr>
                <a:xfrm>
                  <a:off x="2693160" y="4610160"/>
                  <a:ext cx="5002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4" name=""/>
              <p:cNvSpPr/>
              <p:nvPr/>
            </p:nvSpPr>
            <p:spPr>
              <a:xfrm flipV="1">
                <a:off x="2707200" y="2151360"/>
                <a:ext cx="0" cy="247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" name=""/>
            <p:cNvSpPr/>
            <p:nvPr/>
          </p:nvSpPr>
          <p:spPr>
            <a:xfrm>
              <a:off x="3735360" y="4952880"/>
              <a:ext cx="22701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promedio de inventar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16200000">
              <a:off x="1017720" y="3167640"/>
              <a:ext cx="2203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Nivel de servicio (por cient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837880" y="41911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09040" y="379728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552120" y="350532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133160" y="32004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704480" y="295920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215680" y="277344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1.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008760" y="2666880"/>
              <a:ext cx="5936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2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701760" y="2565360"/>
              <a:ext cx="63324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z = 2.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2631E-96D8-4438-9DFD-5ECB7D0AA94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rtículos Múltip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nsideracion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xisten restricciones de capacidad y de capital de oper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Se puede penalizar (artificialmente) Q para reducir inventarios. Una penalización adecuada lleva a ocupar bien la capacidad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873080" y="4327560"/>
                <a:ext cx="4332600" cy="15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SD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CQ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Cap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D6D58-1C26-4BD9-BCCF-370D0BAA2C7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Sistemas de Contr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dministración ABC de Inventari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: 20% de los artículos, 80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cuidad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oco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: 50% de los artículos, 5% del val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nejo menos riguro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yor inventario de segurida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582A77-0913-48C8-A8F3-416C8C131AB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Permite flexibilidad al momento de programar la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5.- Permite mantener el tránsito (inventarios en proceso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6.- Especul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97434-F691-4A51-9F69-80B203ABBD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Deci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principales decisiones relacionadas a la administración de inventarios s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¿Qué artículos mantener en inventario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¿Cuánt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¿Cuándo orden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4.- ¿Qué tipo de sistema de administración de inventarios utilizar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4DC8F-1F71-486E-8321-9CB1EF74FB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Estructura de Cos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estructuras del costo de inventario incorporan los siguientes tipos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1.- Costo del artícul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2.- Costo de poner ordenes de compra o produc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3.- Costo de inventari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pi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macenamient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eguros, pérdidas y obsolescenci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inexistenci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rdida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Ventas pendient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518DB-4928-4655-9C26-03094C118F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importante tener en cuenta los siguientes concep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independien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pendient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pende del ciclo de produc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determinístic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manda aleator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D4B9-6A0A-4220-A2F2-9EB5149888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88800" y="5334120"/>
            <a:ext cx="337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Tahoma"/>
              </a:rPr>
              <a:t>Patrones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711360" y="2286000"/>
            <a:ext cx="8051760" cy="2664000"/>
            <a:chOff x="711360" y="2286000"/>
            <a:chExt cx="8051760" cy="266400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820800" y="2286000"/>
              <a:ext cx="79423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668700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73640" y="4648320"/>
              <a:ext cx="721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578200" y="2362320"/>
              <a:ext cx="1828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 en proce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Materias prim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51640" y="2362320"/>
              <a:ext cx="1962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 independi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roductos terminad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Partes de repues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16200000">
              <a:off x="472716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6200000">
              <a:off x="409320" y="339804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ahoma"/>
                </a:rPr>
                <a:t>Deman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9EB2-0D04-4626-AE06-E9BCE13B40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17100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Model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1.- Demanda Determinístic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n ventas perdidas o pendien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otación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: tamaño de la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: demanda anu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T: largo del cicl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: costo fijo por orde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: costo del produc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: tasa anual de costo de inventario (interés + almacenamiento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apítulo 10: Inventarios            #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686A8-4A9D-4FAE-B3D3-3F17D28B42B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9T04:31:29Z</dcterms:created>
  <dc:creator>Paula Varas</dc:creator>
  <dc:description/>
  <dc:language>en-US</dc:language>
  <cp:lastModifiedBy>Maritza</cp:lastModifiedBy>
  <cp:lastPrinted>2002-05-03T22:32:05Z</cp:lastPrinted>
  <dcterms:modified xsi:type="dcterms:W3CDTF">2002-05-03T22:36:34Z</dcterms:modified>
  <cp:revision>117</cp:revision>
  <dc:subject/>
  <dc:title>Modelamiento Físico de Interfaces</dc:title>
</cp:coreProperties>
</file>