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5C89E-8C7C-48E1-81A8-AC6E053A2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5711-ED90-47C3-AD82-F0B9F21AE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9BAA-59BE-433B-A0BE-C5B726846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862E-1AEF-4DFE-B442-9518C1851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B4734-123F-40D3-BC91-0AAF11B0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00B77-BCA3-42B8-82AE-15E8D9FE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D64D0-28D6-4B3A-A1DB-CACD3637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B07AD-6701-42BF-B6C6-B41C9C39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36D2D-751B-4AB7-AF6B-C97C7F26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5AB27-7CF4-4184-9FD7-27F9D01F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2309D-0E29-450E-BFAD-F49DF8F4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1690-A17F-40CA-9BDA-D50BB4CDF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8FF85-DE92-47E7-9A04-930740A2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8CEB1-5253-4943-B6E2-05E4FF81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A57B7-5994-4D2E-8FE8-D53C6BFE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A999F-F652-440F-913B-30A31322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DC1EB-0BC3-4AAB-BA90-A342BB8E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2D63-9FE3-442E-907B-9D0D4C875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47D7A-CB79-4889-9935-D61F216B2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4E98-06DF-4FB4-B0A9-FA4DF88C8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CC37-BFD8-400D-A73D-FAAEAF151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6236-22EC-4608-804C-C1F487F16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3098-0C29-4214-BDE3-3F29D5132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C4E8-14EA-4194-8324-1F6A6CAFA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2356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4308-CA4A-4D8E-86F8-B63E532BFE2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EEA0-3BB2-440F-A5C7-CEB82F083158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35053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Decisiones sobre Insta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AF7A-2E4B-45E6-9441-193A1ECB157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eterminación de las Necesidades d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en los pronósticos y en el grado de riesgo que se toma para cumplir con la esti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se acepta una probabilidad de fallar de 0.3, entonces definir una capacidad de 16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Object 5"/>
          <p:cNvGraphicFramePr/>
          <p:nvPr/>
        </p:nvGraphicFramePr>
        <p:xfrm>
          <a:off x="2819520" y="3886200"/>
          <a:ext cx="2057400" cy="155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86200"/>
                    <a:ext cx="205740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262B-DE1C-4F29-B477-622C79F33BA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hacer un análisis dinámico que considere el crecimiento futuro de la demanda y las posibilidades de expansión de las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requerir del uso de modelos matemá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siones de caminos (MOP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ectricidad. (Energia Nuclear?, Energía Verd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eropuerto. (Pudahue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orestales (bosques, plantas y aserrader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E01F-8A09-4167-ABAA-29161A1110F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Gener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la elaboración de distintas posibilidades de cuánto, cuándo y dónde construir o colo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modelos matemáticos, herramientas computacionales y sistemas de información geográficos dan un importante apoyo a la generación de buen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5752-4FFA-4B80-B484-C28E6C213E5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Evalu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-bene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nuevo aeropuerto (México y Pudahuel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atisfacer necesidades de vuel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iesgo de accid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ag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aje aeropuerto-ciudad (hotel en Pudahue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li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06A1-B2E7-4B96-A9BF-A54465C1F7E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La Decisión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ni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fecta a toda la empr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parte de la estrategia corporat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uso de 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FE34-AF2A-46E1-99FD-3239494A639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ípicamente los aumentos de capacidad se definen p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mento de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mejoramiento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conomías de esca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las plantas más grandes son más eficientes y aprovechan mejor la curva de experi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sar a mejor 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presa forestal (aserrader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s de restaurantes (Mc Donal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40D2-9B2E-4426-8075-31B0E7D7EDF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de emergencia (de salu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mantener un equilibrio al momento de expandir en distintas etap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eropuerto: ampliar terminal aéreo, pistas, estacionamientos, accesos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evaluar bien la dimensión de los incremento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Varios chicos o uno grand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152C-CA56-4612-A99C-E886AEF5F5C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onsiderar fuentes externa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bcontra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s externas: electr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ianzas: líneas aé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caso de Incertidumb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sar árboles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es una variable aleatoria que crece fuertemente con probabilidad 0.55 y débilmente con probabilidad 0.4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A569-0562-4959-8581-7CC395EDDCD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negocio maneja tres altern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andir la capacidad a un costo de $87.000 el primer o segundo 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el primer año a un nuevo local más grande a un costo de $21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a costo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valúa a cinco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netas (costos operacionales iguales en cada alternativa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altas: $19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bajas: $10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altas: 19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bajas: 11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altas: 17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bajas: 10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16BC-C357-4464-A05B-E96E714E7C9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567960" y="594360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Árbol de Dec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1287360" y="1584360"/>
            <a:ext cx="678996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420A-3AD1-49E4-A5B5-2C846E41CCD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de las decisiones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1 a 30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ser de nivel táctico, pero generalmente son de nivel estratég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s importantes (generalmente entrelazada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 capacidad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do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Dónde localizarl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C6B7-22A4-4CDC-9FD4-051FABE200E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DA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71168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5ED3-BE63-435E-8BB4-FF9E3481EFE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86868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1"/>
          <a:stretch/>
        </p:blipFill>
        <p:spPr>
          <a:xfrm>
            <a:off x="596880" y="1585800"/>
            <a:ext cx="80884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A621-B5B7-4FDA-B6BE-9A26E313180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VAN (tasa 16%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64008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4AE2-6CDD-4095-B084-5165FD98A49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706320" y="1531800"/>
            <a:ext cx="8132760" cy="4716720"/>
          </a:xfrm>
          <a:prstGeom prst="rect">
            <a:avLst/>
          </a:prstGeom>
          <a:ln w="0">
            <a:noFill/>
          </a:ln>
        </p:spPr>
      </p:pic>
      <p:sp>
        <p:nvSpPr>
          <p:cNvPr id="194" name="Line 9"/>
          <p:cNvSpPr/>
          <p:nvPr/>
        </p:nvSpPr>
        <p:spPr>
          <a:xfrm flipV="1">
            <a:off x="8813880" y="444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D8B0-B19D-461A-8172-2A08E2B6DF3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crecer en capac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Añadir locales o añadir servici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4864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AA02-5B24-4A81-9F7D-B31A51E4E79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en que casos hay economías de escala, complicaciones administrativas (deseconomías de escal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producir un problema de salto de complejidad operacional al crecer una empre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uando se pasa de una empresa familiar a profes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E506-6D11-4F72-B41E-A94666382E7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problemas de localiz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instalación que no interactúa con ot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des de Gobie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fábricas y almacenes múltiples que comparten costos y manejos de producción y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adenas de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comercios competi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Tiendas, restaurant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servici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Hos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7FBF-03A2-48C3-A211-4E1DD2A2B0B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Localización de una instalación que no interactúa con ot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ngi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l terreno, edificio y equip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transpor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uestos y segur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fácilmente cuantifica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ferta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laciones laborales sindic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05EE-1FEA-407F-82F7-05D09753A22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ctitudes de la comunidad (ejemplo: estadio UC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mentos (ejemplo: San Francis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idad de vida (ejemplo: Pesquera Quellón, Colegio Arauco.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actos y normas ambient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acción de la competenc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metodología rudimentaria en estos casos es la asignación de notas a los factores no tangibles, los cuales se ponder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ás sofisticados son interac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E71A-3DFF-4289-87D8-89F8FCBB615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últiples instalaciones (plantas, bodegas o centros de distribució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íp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localizar una planta o bodega adicion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e qué capacidad debe ser la nueva instalac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instalación y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 de servicio a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ones poten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: output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 se definió en el tiempo, es dinámica (horizonte corto a largo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 es distinta según el nivel jerárqu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erente General: Producción agreg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erente finanzas : Capacidad financi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erente de Planta : Capacidad de su pla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ilización de capacidad: Capacidad us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acidad en uso ópti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09EB-67D1-4451-B1FA-904D3784AAF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2BB4-F0B5-4D72-8922-9ED4EECB7A6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onocen las localizaciones el problema corresponde a uno de producción y transporte a costo míni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s ubicaciones no se conoc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considerar como alternativas: arrendar, construir o comparar loc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bitualmente se hace necesaria la utilización de modelos matemáticos, simulación o métodos heurí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E548-4D11-45E8-99AB-11312002C30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s de decis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057400" y="2438280"/>
                <a:ext cx="4114800" cy="23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 en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jo entre planta i y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enta a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si se construye planta 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2485-20E1-4922-8926-89574335077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ámetr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1609560" y="2481120"/>
                <a:ext cx="7067880" cy="26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to de constr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manda mínima d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prod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ecio de venta a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transporte entre la planta i y 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apacidad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53E9-BFE8-4527-8340-5A36D5562BF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609560" y="2819520"/>
                <a:ext cx="5999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8686-70F2-49A4-BADE-C0817ABB5D7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685800" y="2286000"/>
                <a:ext cx="8255160" cy="29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puede producir  hasta capacidad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si se construy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 que se produce se despach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j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vende lo que lleg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j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tisfacción de la demanda míni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7D91-C44E-4881-8CCF-6340DE2492B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s de solu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r paquetes de programación lineal con variables binarias (ejemplo: CPLE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 demorar mucho para problemas complej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u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dondeos intelig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úsqueda loc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bajar con escen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ijar algunas variables y correr el problema que queda haciendo varias iteraciones (el caso extremo es fijar todas las ubicaciones quedando un problema line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bar con distintas configur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0843-191A-4073-BFB3-DE98BA885DD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erío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construyen en un período para la producción fut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2376360" y="2617920"/>
                <a:ext cx="55738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del producto  k en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2400480" y="4495680"/>
                <a:ext cx="35305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θ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θ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A370-E149-4255-8A8A-F1A6C910FFC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á permitido guardar productos en bodega para venderlos o distribuirlos en otro perío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s CCU (bodega de Los Angeles, Temuc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bodegas para cadena de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2819520" y="2801880"/>
                <a:ext cx="40384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ventario en i de t a 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F75F-B34A-414C-B366-658349D2591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Localización de Comercios Competi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s Gravit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onan los deseos de ir a un lugar (atracción) versus la dificultad para llegar a éste (impeda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rable a la fórmula de Newt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ivide la ciudad en I sect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7"/>
              <p:cNvSpPr txBox="1"/>
              <p:nvPr/>
            </p:nvSpPr>
            <p:spPr>
              <a:xfrm>
                <a:off x="1674720" y="4386240"/>
                <a:ext cx="663408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de clientes en sector i que viajarán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probabilidad que cliente en sector i vaya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total de clientes en sector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4035-F3F8-4F74-AF89-1087E9AB57A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6"/>
              <p:cNvSpPr txBox="1"/>
              <p:nvPr/>
            </p:nvSpPr>
            <p:spPr>
              <a:xfrm>
                <a:off x="1981080" y="1752480"/>
                <a:ext cx="58802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tractivo del local j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del local, índice, et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l sector i al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arámetro para calibrar efecto tiemp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7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8"/>
              <p:cNvSpPr txBox="1"/>
              <p:nvPr/>
            </p:nvSpPr>
            <p:spPr>
              <a:xfrm>
                <a:off x="2932200" y="3505320"/>
                <a:ext cx="327024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m>
                      <m:mr>
                        <m:e>
                          <m:m>
                            <m:mr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Sup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r</m:t>
                                          </m:r>
                                        </m:sub>
                                        <m:sup>
                                          <m:r>
                                            <m:t xml:space="preserve">A</m:t>
                                          </m:r>
                                        </m:sup>
                                      </m:sSubSup>
                                    </m:den>
                                  </m:f>
                                </m:num>
                                <m:den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/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Sup>
                                            <m:e>
                                              <m:r>
                                                <m:t xml:space="preserve">T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j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A</m:t>
                                              </m:r>
                                            </m:sup>
                                          </m:sSubSup>
                                        </m:den>
                                      </m:f>
                                    </m:e>
                                  </m:nary>
                                </m:den>
                              </m:f>
                            </m:e>
                          </m:d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6D2F-A5A8-40AC-AEAA-3385C0D6B1C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es a consider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ategia de la empr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orno del paí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yes So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3E5D-CB4B-4C44-AB7E-AB119D66AA7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atracción-compe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ndas en Parque Arauco - Alto Las Cond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es calle El Bosq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eblerías calle Arturo Prat, Los Le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competencia casi p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clientes pasan por mi puerta y que porcentaje puedo atra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nte de Soda en la Alame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BF9A-3CCB-4058-8D9F-20F9CE5F981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Localización de Servicios de Emerg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objetivo primordial es minimizar el tiempo de respue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s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ple: no llegar a paciente en más de 5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icado: llamados múltiples con flota limit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ñías de Bomb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bulancias, Hel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bin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7A0B-7AD5-477B-B4E8-C5A2E59FD9B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plea modelos matemáticos, simulación y heu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: Central que desea minimizar la distancia (tiempo) máxima de llegada a los clientes (Modelo MinMa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523880" y="3570120"/>
                <a:ext cx="7274160" cy="23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 central en k a cliente en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final en llegar a cliente j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cida la solució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si se ubica la central en 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A235-9185-4A5F-B3C7-BF992679AFF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2209680" y="1752480"/>
                <a:ext cx="3436920" cy="412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  <m:r>
                              <m:t xml:space="preserve">∀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454B-A0FF-4503-86A8-C5DE584E5F9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mpliar fábrica text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telefón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8CC5-E5B0-4A9A-B5F4-72B913C9372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finir una Unidad de Med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se va a definir la capacida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lmente corresponde a una tasa de producción máxima por unidad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lanta de acer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toneladas acero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clientes atendidos, platos servidos.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úmero de mesas N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ínea aére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km-pasajero/año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úmero de aviones N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serrader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c Donald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hamburguesas/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0D2E-E339-45B5-8457-7D2291B58E2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n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vehículos equivalentes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iversidad priva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flujo de alumn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Real versus Capacidad Teór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Agregad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apatos en fábr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Km-pasajero en línea aér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n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unta versus Capacidad Sosten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End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negocio antes de Nav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CA11-65FA-4CD8-9B2C-1F1B2819A18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acto de gest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tur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as extraord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joras administr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pie de página"/>
          <p:cNvSpPr/>
          <p:nvPr/>
        </p:nvSpPr>
        <p:spPr>
          <a:xfrm rot="21562800">
            <a:off x="472392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: Decisiones sobre Instalaciones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065B-F7EE-4242-95CB-150594BECF1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nósticos de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definida la unidad de medida se debe predecir la demanda en el horizonte de interé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tilizar escenarios o prob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erimientos de energía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textiles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ponibilidad de madera para los aserrad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reg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Maritza</cp:lastModifiedBy>
  <cp:lastPrinted>2001-08-09T02:32:34Z</cp:lastPrinted>
  <dcterms:modified xsi:type="dcterms:W3CDTF">2010-08-30T20:36:30Z</dcterms:modified>
  <cp:revision>164</cp:revision>
  <dc:subject/>
  <dc:title>Comercio Electrónico</dc:title>
</cp:coreProperties>
</file>