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wmf" ContentType="image/x-wmf"/>
  <Override PartName="/ppt/media/image6.png" ContentType="image/png"/>
  <Override PartName="/ppt/media/image7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</p:sldIdLst>
  <p:sldSz cx="9144000" cy="6858000"/>
  <p:notesSz cx="7304088" cy="9590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EE0C88-7BED-4C7E-AD7E-5C775BB8CB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B3DACF-2328-4DE9-829A-E4D01FDB30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B64855-932C-4B4E-8326-001A94C0B3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10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43824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182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10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43824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D3D773-A60E-442E-A1C3-F88E25C532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D9A697-A466-41D8-BC4F-DBD801B2B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165618-1271-40A1-9DDF-AD5525CE2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BFF530-ADAD-4746-BDB6-9FF595B26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AFBD74-E754-4420-8A60-838C69FA1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D1AFCE-1B45-4A4D-AA40-0D4000928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17100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B8C167-82EF-439A-9A19-35826834F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751502-F8D0-47CD-8BE8-E926FA176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5DE14F-B915-42F4-BAE8-7777AE19AE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647557-8E38-442A-AE7C-59CB1C8C5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FDF3A1-36A0-4313-A1EC-7F4A05AB6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92FED4-3CD1-4EA6-8188-7540EC18B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9CEDC8-7D78-4A1D-A979-F6E54EDA7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7D4245-EC13-468A-AF4C-508D461C4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8C3C63-8889-4B98-8B2F-E66275D1DE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F57459-95C5-4467-85D6-743C824FE5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CD02F4-923E-4B61-9A76-F75371DBEB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150560" y="17100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DB91CC-DAFA-41F6-A44E-5E46DF5D53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F00475-2261-423F-BD20-29E936B5DC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6BDAE5-35B3-490A-9D70-3753F3B352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949778-C766-4513-A36D-89629CB660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652320"/>
            <a:ext cx="438120" cy="474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652320"/>
            <a:ext cx="328320" cy="47484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07460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074600"/>
            <a:ext cx="368280" cy="47484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00188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54468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33524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1"/>
          </p:nvPr>
        </p:nvSpPr>
        <p:spPr>
          <a:xfrm rot="21562800">
            <a:off x="4723560" y="627804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Capítulo : Decisiones sobre Instalaciones  #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2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754C0-B419-416F-A64F-FDA9ED20182D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1026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8" name="Group 1027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49" name="Rectangle 1028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0" name="Rectangle 1029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1" name="Group 1030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2" name="Rectangle 1031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" name="Rectangle 1032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4" name="Rectangle 1033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" name="Rectangle 1034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35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3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4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1c1c1c"/>
                </a:solidFill>
                <a:latin typeface="Times New Roman"/>
              </a:rPr>
              <a:t>Capítulo : Decisiones sobre Instalaciones  #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5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9A4FC-8185-4F53-9213-E7511CF56E6F}" type="slidenum">
              <a:rPr b="0" lang="es-ES_tradnl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320" y="205704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Gestión de Operacion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1066680" y="3505320"/>
            <a:ext cx="762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Decisiones sobre Instalacion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3 Marcador de pie de página"/>
          <p:cNvSpPr/>
          <p:nvPr/>
        </p:nvSpPr>
        <p:spPr>
          <a:xfrm rot="21562800">
            <a:off x="4723920" y="627804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: Decisiones sobre Instalaciones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81B77-342F-464F-A1D7-CD9B56DAD6F5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Marco Conceptual para la Planeación de Instalacion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3.- Determinación de las Necesidades de Instalacion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 basa en los pronósticos y en el grado de riesgo que se toma para cumplir con la estimació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jemplo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3612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536120" indent="-21924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Si se acepta una probabilidad de fallar de 0.3, entonces definir una capacidad de 16.000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36" name="Object 5"/>
          <p:cNvGraphicFramePr/>
          <p:nvPr/>
        </p:nvGraphicFramePr>
        <p:xfrm>
          <a:off x="2819520" y="3886200"/>
          <a:ext cx="2057400" cy="1558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19520" y="3886200"/>
                    <a:ext cx="2057400" cy="155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3 Marcador de pie de página"/>
          <p:cNvSpPr/>
          <p:nvPr/>
        </p:nvSpPr>
        <p:spPr>
          <a:xfrm rot="21562800">
            <a:off x="4723920" y="627804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: Decisiones sobre Instalaciones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2D1C7-386B-471D-9756-1B84866046EA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Marco Conceptual para la Planeación de Instalacion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 debe hacer un análisis dinámico que considere el crecimiento futuro de la demanda y las posibilidades de expansión de las capacidad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uede requerir del uso de modelos matemátic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jemplo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ncesiones de caminos (MOP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lectricidad. (Energia Nuclear?, Energía Verde?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Teléfon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Aeropuerto. (Pudahuel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Forestales (bosques, plantas y aserraderos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3 Marcador de pie de página"/>
          <p:cNvSpPr/>
          <p:nvPr/>
        </p:nvSpPr>
        <p:spPr>
          <a:xfrm rot="21562800">
            <a:off x="4723920" y="627804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: Decisiones sobre Instalaciones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368E0-8D3E-4FBA-893F-CF24035666EC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Marco Conceptual para la Planeación de Instalacion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4.- Generación de Alternativ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onsiste en la elaboración de distintas posibilidades de cuánto, cuándo y dónde construir o coloca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Los modelos matemáticos, herramientas computacionales y sistemas de información geográficos dan un importante apoyo a la generación de buenas alternativa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3 Marcador de pie de página"/>
          <p:cNvSpPr/>
          <p:nvPr/>
        </p:nvSpPr>
        <p:spPr>
          <a:xfrm rot="21562800">
            <a:off x="4723920" y="627804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: Decisiones sobre Instalaciones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963D3-5237-4152-92D8-3619BDBFED6F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Marco Conceptual para la Planeación de Instalacion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5.- Evaluación de Alternativ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riterio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sto-benefici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BN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últiples objetiv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aso nuevo aeropuerto (México y Pudahuel)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últiples objetivo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55840" indent="-20772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Satisfacer necesidades de vuelo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455840" indent="-20772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osto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455840" indent="-20772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Riesgo de accidente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455840" indent="-20772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Imagen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455840" indent="-20772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Viaje aeropuerto-ciudad (hotel en Pudahuel)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455840" indent="-20772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lima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3 Marcador de pie de página"/>
          <p:cNvSpPr/>
          <p:nvPr/>
        </p:nvSpPr>
        <p:spPr>
          <a:xfrm rot="21562800">
            <a:off x="4723920" y="627804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: Decisiones sobre Instalaciones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3A188-1E71-4975-B09B-26EE92A97CAE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Marco Conceptual para la Planeación de Instalacion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6.- La Decisión sobre Instalacion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aracterística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Alto nive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Afecta a toda la empres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s parte de la estrategia corporativ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Alto uso de capit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3 Marcador de pie de página"/>
          <p:cNvSpPr/>
          <p:nvPr/>
        </p:nvSpPr>
        <p:spPr>
          <a:xfrm rot="21562800">
            <a:off x="4723920" y="627804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: Decisiones sobre Instalaciones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98E6A-C556-4DCC-8290-901F6B25DC0B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Marco Conceptual para la Planeación de Instalacion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Típicamente los aumentos de capacidad se definen po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Aumento de la demand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Necesidad de mejoramiento del servici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conomías de escal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Típicamente las plantas más grandes son más eficientes y aprovechan mejor la curva de experienci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asar a mejor tecnologí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jemplo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mpresa forestal (aserraderos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adenas de restaurantes (Mc Donald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3 Marcador de pie de página"/>
          <p:cNvSpPr/>
          <p:nvPr/>
        </p:nvSpPr>
        <p:spPr>
          <a:xfrm rot="21562800">
            <a:off x="4723920" y="627804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: Decisiones sobre Instalaciones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2E86F-16D6-49F5-9293-FA7DF497B8E7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Marco Conceptual para la Planeación de Instalacion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ervicio de emergencia (de salud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Teléfon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Para tener en cuent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 debe mantener un equilibrio al momento de expandir en distintas etapa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jemplo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Aeropuerto: ampliar terminal aéreo, pistas, estacionamientos, accesos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 debe evaluar bien la dimensión de los incrementos de capacid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¿Varios chicos o uno grande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3 Marcador de pie de página"/>
          <p:cNvSpPr/>
          <p:nvPr/>
        </p:nvSpPr>
        <p:spPr>
          <a:xfrm rot="21562800">
            <a:off x="4723920" y="627804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: Decisiones sobre Instalaciones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6F83D-DF6A-4366-B238-F9E66BFCEBA6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Marco Conceptual para la Planeación de Instalacion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 deben considerar fuentes externas de capacid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ubcontrata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mpras externas: electricida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Alianzas: líneas aérea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n caso de Incertidumbr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 pueden usar árboles de decisió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jempl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emanda es una variable aleatoria que crece fuertemente con probabilidad 0.55 y débilmente con probabilidad 0.45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3 Marcador de pie de página"/>
          <p:cNvSpPr/>
          <p:nvPr/>
        </p:nvSpPr>
        <p:spPr>
          <a:xfrm rot="21562800">
            <a:off x="4723920" y="627804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: Decisiones sobre Instalaciones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C67D8-DC1B-4966-8935-929C9F867CEF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Marco Conceptual para la Planeación de Instalacion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lvl="2" marL="1017000" indent="-203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l negocio maneja tres alternativa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24160" indent="-2034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xpandir la capacidad a un costo de $87.000 el primer o segundo año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424160" indent="-2034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Traslado el primer año a un nuevo local más grande a un costo de $210.000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424160" indent="-2034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No hacer nada a costo 0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e evalúa a cinco añ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Ventas netas (costos operacionales iguales en cada alternativa)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24160" indent="-2034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Si aumento la capacidad y las ventas son altas: $190.000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424160" indent="-2034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Si aumento la capacidad y las ventas son bajas: $100.000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424160" indent="-2034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Traslado con ventas altas: 195.000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424160" indent="-2034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Traslado con ventas bajas: 115.000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424160" indent="-2034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No hacer nada con ventas altas: 170.000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424160" indent="-2034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No hacer nada con ventas bajas: 105.000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4241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4241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241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3 Marcador de pie de página"/>
          <p:cNvSpPr/>
          <p:nvPr/>
        </p:nvSpPr>
        <p:spPr>
          <a:xfrm rot="21562800">
            <a:off x="4723920" y="627804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: Decisiones sobre Instalaciones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FEF39-64B2-41D9-ACEA-5409A9400E60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Marco Conceptual para la Planeación de Instalacion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3" name="Text Box 5"/>
          <p:cNvSpPr/>
          <p:nvPr/>
        </p:nvSpPr>
        <p:spPr>
          <a:xfrm>
            <a:off x="3567960" y="5943600"/>
            <a:ext cx="269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Tahoma"/>
              </a:rPr>
              <a:t>Árbol de Decisió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4" name="Picture 8" descr=""/>
          <p:cNvPicPr/>
          <p:nvPr/>
        </p:nvPicPr>
        <p:blipFill>
          <a:blip r:embed="rId1"/>
          <a:stretch/>
        </p:blipFill>
        <p:spPr>
          <a:xfrm>
            <a:off x="1287360" y="1584360"/>
            <a:ext cx="6789960" cy="42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3 Marcador de pie de página"/>
          <p:cNvSpPr/>
          <p:nvPr/>
        </p:nvSpPr>
        <p:spPr>
          <a:xfrm rot="21562800">
            <a:off x="4723920" y="627804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: Decisiones sobre Instalaciones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3DB12-6C81-4556-87EC-09E8FE58C654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Introduc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aracterísticas de las decisiones sobre instalacion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Horizonte de 1 a 30 añ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ueden ser de nivel táctico, pero generalmente son de nivel estratégic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Preguntas importantes (generalmente entrelazadas)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¿Cuánta capacidad se necesita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¿Cuándo se necesita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¿Dónde localizarla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3 Marcador de pie de página"/>
          <p:cNvSpPr/>
          <p:nvPr/>
        </p:nvSpPr>
        <p:spPr>
          <a:xfrm rot="21562800">
            <a:off x="4723920" y="627804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: Decisiones sobre Instalaciones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A5142-584E-4677-8ACD-9A2C88B71536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Marco Conceptual para la Planeación de Instalacion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Análisis utilizando DAT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Picture 5" descr=""/>
          <p:cNvPicPr/>
          <p:nvPr/>
        </p:nvPicPr>
        <p:blipFill>
          <a:blip r:embed="rId1"/>
          <a:stretch/>
        </p:blipFill>
        <p:spPr>
          <a:xfrm>
            <a:off x="1600200" y="2590920"/>
            <a:ext cx="7116840" cy="23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3 Marcador de pie de página"/>
          <p:cNvSpPr/>
          <p:nvPr/>
        </p:nvSpPr>
        <p:spPr>
          <a:xfrm rot="21562800">
            <a:off x="4723920" y="627804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: Decisiones sobre Instalaciones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3BD1E-1EEC-4EFD-9907-438C66D768E0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Marco Conceptual para la Planeación de Instalacion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Line 7"/>
          <p:cNvSpPr/>
          <p:nvPr/>
        </p:nvSpPr>
        <p:spPr>
          <a:xfrm flipV="1">
            <a:off x="8686800" y="44193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4" name="Picture 8" descr=""/>
          <p:cNvPicPr/>
          <p:nvPr/>
        </p:nvPicPr>
        <p:blipFill>
          <a:blip r:embed="rId1"/>
          <a:stretch/>
        </p:blipFill>
        <p:spPr>
          <a:xfrm>
            <a:off x="596880" y="1585800"/>
            <a:ext cx="8088480" cy="445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3 Marcador de pie de página"/>
          <p:cNvSpPr/>
          <p:nvPr/>
        </p:nvSpPr>
        <p:spPr>
          <a:xfrm rot="21562800">
            <a:off x="4723920" y="627804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: Decisiones sobre Instalaciones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62847-8B77-4AE9-A912-A28D69CABCF5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Marco Conceptual para la Planeación de Instalacion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Análisis utilizando VAN (tasa 16%)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9" name="Picture 4" descr=""/>
          <p:cNvPicPr/>
          <p:nvPr/>
        </p:nvPicPr>
        <p:blipFill>
          <a:blip r:embed="rId1"/>
          <a:stretch/>
        </p:blipFill>
        <p:spPr>
          <a:xfrm>
            <a:off x="2057400" y="2286000"/>
            <a:ext cx="6400800" cy="377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3 Marcador de pie de página"/>
          <p:cNvSpPr/>
          <p:nvPr/>
        </p:nvSpPr>
        <p:spPr>
          <a:xfrm rot="21562800">
            <a:off x="4723920" y="627804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: Decisiones sobre Instalaciones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4AB10-D4EB-4C6C-A822-042CA2434AC1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Marco Conceptual para la Planeación de Instalacion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93" name="Picture 8" descr=""/>
          <p:cNvPicPr/>
          <p:nvPr/>
        </p:nvPicPr>
        <p:blipFill>
          <a:blip r:embed="rId1"/>
          <a:stretch/>
        </p:blipFill>
        <p:spPr>
          <a:xfrm>
            <a:off x="706320" y="1531800"/>
            <a:ext cx="8132760" cy="4716720"/>
          </a:xfrm>
          <a:prstGeom prst="rect">
            <a:avLst/>
          </a:prstGeom>
          <a:ln w="0">
            <a:noFill/>
          </a:ln>
        </p:spPr>
      </p:pic>
      <p:sp>
        <p:nvSpPr>
          <p:cNvPr id="194" name="Line 9"/>
          <p:cNvSpPr/>
          <p:nvPr/>
        </p:nvSpPr>
        <p:spPr>
          <a:xfrm flipV="1">
            <a:off x="8813880" y="444456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3 Marcador de pie de página"/>
          <p:cNvSpPr/>
          <p:nvPr/>
        </p:nvSpPr>
        <p:spPr>
          <a:xfrm rot="21562800">
            <a:off x="4723920" y="627804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: Decisiones sobre Instalaciones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3F875-2D81-456E-89D2-5C5208F28A78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Marco Conceptual para la Planeación de Instalacion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¿Cómo crecer en capacidad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¿Añadir locales o añadir servicio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1828800" y="3048120"/>
            <a:ext cx="5486400" cy="230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3 Marcador de pie de página"/>
          <p:cNvSpPr/>
          <p:nvPr/>
        </p:nvSpPr>
        <p:spPr>
          <a:xfrm rot="21562800">
            <a:off x="4723920" y="627804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: Decisiones sobre Instalaciones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63AAA-6783-4C31-829D-AF948B4D5D9A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Marco Conceptual para la Planeación de Instalacion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Ver en que casos hay economías de escala, complicaciones administrativas (deseconomías de escala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 puede producir un problema de salto de complejidad operacional al crecer una empres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jemplo: cuando se pasa de una empresa familiar a profesion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3 Marcador de pie de página"/>
          <p:cNvSpPr/>
          <p:nvPr/>
        </p:nvSpPr>
        <p:spPr>
          <a:xfrm rot="21562800">
            <a:off x="4723920" y="627804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: Decisiones sobre Instalaciones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A9ED1-D7F1-4D47-98F6-EF18B4484226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Problemas de Localiza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Tipos de problemas de localizació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Una instalación que no interactúa con otra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jemplo: Sedes de Gobiern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Localización de fábricas y almacenes múltiples que comparten costos y manejos de producción y distribució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jemplo: Cadenas de Supermercad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Localización de comercios competitiv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jemplo: Tiendas, restaurantes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Localización de servicios de emergenci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jemplo: Hospit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3 Marcador de pie de página"/>
          <p:cNvSpPr/>
          <p:nvPr/>
        </p:nvSpPr>
        <p:spPr>
          <a:xfrm rot="21562800">
            <a:off x="4723920" y="627804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: Decisiones sobre Instalaciones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284BE-A9BF-44B0-A8E9-8C1F71B99E9E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Problemas de Localiza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1.- Localización de una instalación que no interactúa con otr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Factor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Tangible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osto del terreno, edificio y equipo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osto de transport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osto de producción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osto de mano de obra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Impuestos y seguro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No fácilmente cuantificable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Oferta de mano de obra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Relaciones laborales sindicale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3 Marcador de pie de página"/>
          <p:cNvSpPr/>
          <p:nvPr/>
        </p:nvSpPr>
        <p:spPr>
          <a:xfrm rot="21562800">
            <a:off x="4723920" y="627804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: Decisiones sobre Instalaciones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C7098-11AD-4B8B-9737-07B7AC9F2664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Problemas de Localiza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Actitudes de la comunidad (ejemplo: estadio UC)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Reglamentos (ejemplo: San Francisco)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alidad de vida (ejemplo: Pesquera Quellón, Colegio Arauco...)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Impactos y normas ambientale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Reacción de la competencia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Una metodología rudimentaria en estos casos es la asignación de notas a los factores no tangibles, los cuales se pondera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Métodos más sofisticados son interactiv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3 Marcador de pie de página"/>
          <p:cNvSpPr/>
          <p:nvPr/>
        </p:nvSpPr>
        <p:spPr>
          <a:xfrm rot="21562800">
            <a:off x="4723920" y="627804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: Decisiones sobre Instalaciones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4AC80-8A8D-4CF0-A471-6474EAC2926B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Problemas de Localiza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2.- Múltiples instalaciones (plantas, bodegas o centros de distribución)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ecisiones típica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¿Dónde localizar una planta o bodega adicional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¿De qué capacidad debe ser la nueva instalación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ato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stos de instalación y operació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stos de transpor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Localización de la demand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olítica de servicio a los client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Ubicaciones potencial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Capacidad: output por unidad de tiemp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Capacidad se definió en el tiempo, es dinámica (horizonte corto a largo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Capacidad es distinta según el nivel jerárquic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Gerente General: Producción agregad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Gerente finanzas : Capacidad financier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Gerente de Planta : Capacidad de su plant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Utilización de capacidad: Capacidad usad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Capacidad en uso óptim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560CF-F52A-4C97-A501-F9EC117C82B5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4 Marcador de pie de página"/>
          <p:cNvSpPr/>
          <p:nvPr/>
        </p:nvSpPr>
        <p:spPr>
          <a:xfrm rot="21562800">
            <a:off x="4723920" y="627804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: Decisiones sobre Instalaciones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3 Marcador de pie de página"/>
          <p:cNvSpPr/>
          <p:nvPr/>
        </p:nvSpPr>
        <p:spPr>
          <a:xfrm rot="21562800">
            <a:off x="4723920" y="627804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: Decisiones sobre Instalaciones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33F41-2CC0-4C2F-9520-46F2AB950CFE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Problemas de Localiza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i se conocen las localizaciones el problema corresponde a uno de producción y transporte a costo mínim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i las ubicaciones no se conoce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e deben considerar como alternativas: arrendar, construir o comparar local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Habitualmente se hace necesaria la utilización de modelos matemáticos, simulación o métodos heurístic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3 Marcador de pie de página"/>
          <p:cNvSpPr/>
          <p:nvPr/>
        </p:nvSpPr>
        <p:spPr>
          <a:xfrm rot="21562800">
            <a:off x="4723920" y="627804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: Decisiones sobre Instalaciones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E3CE2-F039-45A9-A5BA-3969CA4BDBAE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Problemas de Localiza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Variables de decisió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8" name="Object 4"/>
              <p:cNvSpPr txBox="1"/>
              <p:nvPr/>
            </p:nvSpPr>
            <p:spPr>
              <a:xfrm>
                <a:off x="2057400" y="2438280"/>
                <a:ext cx="4114800" cy="232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producción  en planta i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flujo entre planta i y cliente j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venta a cliente j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=</m:t>
                        </m:r>
                        <m:eqArr>
                          <m:e>
                            <m:d>
                              <m:dPr>
                                <m:begChr m:val="{"/>
                                <m:endChr m:val="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   si se construye planta i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</m:e>
                              <m:e/>
                            </m:d>
                          </m:e>
                        </m:eqAr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3 Marcador de pie de página"/>
          <p:cNvSpPr/>
          <p:nvPr/>
        </p:nvSpPr>
        <p:spPr>
          <a:xfrm rot="21562800">
            <a:off x="4723920" y="627804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: Decisiones sobre Instalaciones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4C5D0-765F-4A2A-9D9D-141454DB028E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Problemas de Localiza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arámetro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3" name="Object 4"/>
              <p:cNvSpPr txBox="1"/>
              <p:nvPr/>
            </p:nvSpPr>
            <p:spPr>
              <a:xfrm>
                <a:off x="1609560" y="2481120"/>
                <a:ext cx="7067880" cy="264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to de construcción de la planta i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demanda mínima del cliente j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costo unitario de producción de la planta i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precio de venta al cliente j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t xml:space="preserve">f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costo unitario de transporte entre la planta i y el cliente j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capacidad de la planta i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3 Marcador de pie de página"/>
          <p:cNvSpPr/>
          <p:nvPr/>
        </p:nvSpPr>
        <p:spPr>
          <a:xfrm rot="21562800">
            <a:off x="4723920" y="627804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: Decisiones sobre Instalaciones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B32FE-EE13-4221-9652-B3DB2AE5F0A1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Problemas de Localiza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Función objetiv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8" name="Object 4"/>
              <p:cNvSpPr txBox="1"/>
              <p:nvPr/>
            </p:nvSpPr>
            <p:spPr>
              <a:xfrm>
                <a:off x="1609560" y="2819520"/>
                <a:ext cx="5999400" cy="80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in</m:t>
                    </m:r>
                    <m:r>
                      <m:t xml:space="preserve">z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+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+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</m:e>
                        </m:nary>
                        <m:r>
                          <m:t xml:space="preserve">−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3 Marcador de pie de página"/>
          <p:cNvSpPr/>
          <p:nvPr/>
        </p:nvSpPr>
        <p:spPr>
          <a:xfrm rot="21562800">
            <a:off x="4723920" y="627804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: Decisiones sobre Instalaciones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00835-6534-4A5C-BBA1-464284760651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Problemas de Localiza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Restriccion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3" name="Object 4"/>
              <p:cNvSpPr txBox="1"/>
              <p:nvPr/>
            </p:nvSpPr>
            <p:spPr>
              <a:xfrm>
                <a:off x="685800" y="2286000"/>
                <a:ext cx="8255160" cy="297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≤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             </m:t>
                        </m:r>
                        <m:r>
                          <m:t xml:space="preserve">∀</m:t>
                        </m:r>
                        <m:r>
                          <m:rPr>
                            <m:lit/>
                            <m:nor/>
                          </m:rPr>
                          <m:t xml:space="preserve">i  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se puede producir  hasta capacidad  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si se construye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            </m:t>
                            </m:r>
                            <m:r>
                              <m:t xml:space="preserve">∀</m:t>
                            </m:r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i  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lo que se produce se despach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            </m:t>
                            </m:r>
                            <m:r>
                              <m:t xml:space="preserve">∀</m:t>
                            </m:r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j 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se vende lo que lleg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≥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               </m:t>
                        </m:r>
                        <m:r>
                          <m:t xml:space="preserve">∀</m:t>
                        </m:r>
                        <m:r>
                          <m:rPr>
                            <m:lit/>
                            <m:nor/>
                          </m:rPr>
                          <m:t xml:space="preserve">j  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satisfacción de la demanda mínim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≥</m:t>
                        </m:r>
                        <m:r>
                          <m:t xml:space="preserve">0</m:t>
                        </m:r>
                      </m:e>
                      <m:e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∈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0,1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3 Marcador de pie de página"/>
          <p:cNvSpPr/>
          <p:nvPr/>
        </p:nvSpPr>
        <p:spPr>
          <a:xfrm rot="21562800">
            <a:off x="4723920" y="627804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: Decisiones sobre Instalaciones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0E4B0-B66F-4D46-9B2A-F062BCD9F17E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Problemas de Localiza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Formas de solució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Usar paquetes de programación lineal con variables binarias (ejemplo: CPLEX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uede demorar mucho para problemas complejo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Heurística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Redondeos inteligente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Búsqueda local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Trabajar con escenario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ijar algunas variables y correr el problema que queda haciendo varias iteraciones (el caso extremo es fijar todas las ubicaciones quedando un problema lineal)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robar con distintas configuracione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3 Marcador de pie de página"/>
          <p:cNvSpPr/>
          <p:nvPr/>
        </p:nvSpPr>
        <p:spPr>
          <a:xfrm rot="21562800">
            <a:off x="4723920" y="627804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: Decisiones sobre Instalaciones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DCBC4-720D-4C5C-9214-6A2AC444707A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Problemas de Localiza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Varian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últiples producto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últiples período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Se construyen en un período para la producción futura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2" name="Object 4"/>
              <p:cNvSpPr txBox="1"/>
              <p:nvPr/>
            </p:nvSpPr>
            <p:spPr>
              <a:xfrm>
                <a:off x="2376360" y="2617920"/>
                <a:ext cx="5573880" cy="115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k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producción del producto  k en la planta i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k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k</m:t>
                                </m:r>
                              </m:sub>
                            </m:sSub>
                          </m:e>
                        </m:nary>
                        <m:r>
                          <m:t xml:space="preserve">≤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" name="Object 5"/>
              <p:cNvSpPr txBox="1"/>
              <p:nvPr/>
            </p:nvSpPr>
            <p:spPr>
              <a:xfrm>
                <a:off x="2400480" y="4495680"/>
                <a:ext cx="3530520" cy="71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t</m:t>
                        </m:r>
                      </m:sup>
                    </m:sSubSup>
                    <m:r>
                      <m:t xml:space="preserve">≤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θ</m:t>
                        </m:r>
                        <m:r>
                          <m:t xml:space="preserve">≤</m:t>
                        </m:r>
                        <m:r>
                          <m:t xml:space="preserve">t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θ</m:t>
                            </m:r>
                          </m:sup>
                        </m:sSubSup>
                      </m:e>
                    </m:nary>
                    <m:r>
                      <m:rPr>
                        <m:lit/>
                        <m:nor/>
                      </m:rPr>
                      <m:t xml:space="preserve">                   </m:t>
                    </m:r>
                    <m:r>
                      <m:t xml:space="preserve">∀</m:t>
                    </m:r>
                    <m:r>
                      <m:t xml:space="preserve">i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3 Marcador de pie de página"/>
          <p:cNvSpPr/>
          <p:nvPr/>
        </p:nvSpPr>
        <p:spPr>
          <a:xfrm rot="21562800">
            <a:off x="4723920" y="627804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: Decisiones sobre Instalaciones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E418E-4173-4BEE-BFE9-B4EBB079758D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Problemas de Localiza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Inventario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stá permitido guardar productos en bodega para venderlos o distribuirlos en otro período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jemplo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lantas CCU (bodega de Los Angeles, Temuco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Localización de bodegas para cadena de supermercad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Object 4"/>
              <p:cNvSpPr txBox="1"/>
              <p:nvPr/>
            </p:nvSpPr>
            <p:spPr>
              <a:xfrm>
                <a:off x="2819520" y="2801880"/>
                <a:ext cx="4038480" cy="118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inventario en i de t a 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sSubSup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t xml:space="preserve">t</m:t>
                                </m:r>
                              </m:sup>
                            </m:sSubSup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t</m:t>
                                </m:r>
                              </m:sup>
                            </m:sSubSup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               </m:t>
                        </m:r>
                        <m:r>
                          <m:t xml:space="preserve">∀</m:t>
                        </m:r>
                        <m:r>
                          <m:rPr>
                            <m:lit/>
                            <m:nor/>
                          </m:rPr>
                          <m:t xml:space="preserve">i,t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3 Marcador de pie de página"/>
          <p:cNvSpPr/>
          <p:nvPr/>
        </p:nvSpPr>
        <p:spPr>
          <a:xfrm rot="21562800">
            <a:off x="4723920" y="627804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: Decisiones sobre Instalaciones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FB9F2-501F-4543-B192-C99508673B46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Problemas de Localiza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3.- Localización de Comercios Competitivo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Modelos Gravitaciona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Relacionan los deseos de ir a un lugar (atracción) versus la dificultad para llegar a éste (impedancia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mparable a la fórmula de Newt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e divide la ciudad en I sector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3" name="Object 7"/>
              <p:cNvSpPr txBox="1"/>
              <p:nvPr/>
            </p:nvSpPr>
            <p:spPr>
              <a:xfrm>
                <a:off x="1674720" y="4386240"/>
                <a:ext cx="6634080" cy="13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número de clientes en sector i que viajarán a local j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 probabilidad que cliente en sector i vaya a local j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número total de clientes en sector i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3 Marcador de pie de página"/>
          <p:cNvSpPr/>
          <p:nvPr/>
        </p:nvSpPr>
        <p:spPr>
          <a:xfrm rot="21562800">
            <a:off x="4723920" y="627804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: Decisiones sobre Instalaciones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DB70D-1C2A-478B-B151-98E8AF0F3ADB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Problemas de Localiza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8" name="Object 6"/>
              <p:cNvSpPr txBox="1"/>
              <p:nvPr/>
            </p:nvSpPr>
            <p:spPr>
              <a:xfrm>
                <a:off x="1981080" y="1752480"/>
                <a:ext cx="588024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atractivo del local j 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m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del local, índice, etc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tiempo de viaje del sector i al local j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parámetro para calibrar efecto tiempo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9" name="Object 7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0" name="Object 8"/>
              <p:cNvSpPr txBox="1"/>
              <p:nvPr/>
            </p:nvSpPr>
            <p:spPr>
              <a:xfrm>
                <a:off x="2932200" y="3505320"/>
                <a:ext cx="3270240" cy="210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    </m:t>
                    </m:r>
                    <m:m>
                      <m:mr>
                        <m:e>
                          <m:m>
                            <m:mr>
                              <m:e/>
                            </m:mr>
                            <m:mr>
                              <m:e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r</m:t>
                                    </m:r>
                                  </m:sub>
                                </m:sSub>
                                <m:r>
                                  <m:t xml:space="preserve">=</m:t>
                                </m:r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r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=</m:t>
                                </m:r>
                              </m:e>
                            </m:mr>
                          </m:m>
                        </m:e>
                      </m:mr>
                      <m:mr>
                        <m:e>
                          <m:d>
                            <m:dPr>
                              <m:begChr m:val="["/>
                              <m:endChr m:val="]"/>
                            </m:dPr>
                            <m:e>
                              <m:f>
                                <m:num>
                                  <m:f>
                                    <m:num>
                                      <m:sSub>
                                        <m:e>
                                          <m:r>
                                            <m:t xml:space="preserve">S</m:t>
                                          </m:r>
                                        </m:e>
                                        <m:sub>
                                          <m:r>
                                            <m:t xml:space="preserve">r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sSubSup>
                                        <m:e>
                                          <m:r>
                                            <m:t xml:space="preserve">T</m:t>
                                          </m:r>
                                        </m:e>
                                        <m:sub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ir</m:t>
                                          </m:r>
                                        </m:sub>
                                        <m:sup>
                                          <m:r>
                                            <m:t xml:space="preserve">A</m:t>
                                          </m:r>
                                        </m:sup>
                                      </m:sSubSup>
                                    </m:den>
                                  </m:f>
                                </m:num>
                                <m:den>
                                  <m:nary>
                                    <m:naryPr>
                                      <m:chr m:val="∑"/>
                                      <m:supHide m:val="1"/>
                                    </m:naryPr>
                                    <m:sub>
                                      <m:r>
                                        <m:t xml:space="preserve">j</m:t>
                                      </m:r>
                                    </m:sub>
                                    <m:sup/>
                                    <m:e>
                                      <m:f>
                                        <m:num>
                                          <m:sSub>
                                            <m:e>
                                              <m:r>
                                                <m:t xml:space="preserve">S</m:t>
                                              </m:r>
                                            </m:e>
                                            <m:sub>
                                              <m:r>
                                                <m:t xml:space="preserve">j</m:t>
                                              </m:r>
                                            </m:sub>
                                          </m:sSub>
                                        </m:num>
                                        <m:den>
                                          <m:sSubSup>
                                            <m:e>
                                              <m:r>
                                                <m:t xml:space="preserve">T</m:t>
                                              </m:r>
                                            </m:e>
                                            <m:sub>
                                              <m:r>
                                                <m:rPr>
                                                  <m:lit/>
                                                  <m:nor/>
                                                </m:rPr>
                                                <m:t xml:space="preserve">ij</m:t>
                                              </m:r>
                                            </m:sub>
                                            <m:sup>
                                              <m:r>
                                                <m:t xml:space="preserve">A</m:t>
                                              </m:r>
                                            </m:sup>
                                          </m:sSubSup>
                                        </m:den>
                                      </m:f>
                                    </m:e>
                                  </m:nary>
                                </m:den>
                              </m:f>
                            </m:e>
                          </m:d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3 Marcador de pie de página"/>
          <p:cNvSpPr/>
          <p:nvPr/>
        </p:nvSpPr>
        <p:spPr>
          <a:xfrm rot="21562800">
            <a:off x="4723920" y="627804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: Decisiones sobre Instalaciones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8A022-3343-40DB-9F32-F5B451643E7E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Introduc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Factores a considera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emand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ost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ompetenci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strategia de la empres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alidad de servici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Flexibilida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ntorno del paí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sto de mano de obr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Leyes Social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3 Marcador de pie de página"/>
          <p:cNvSpPr/>
          <p:nvPr/>
        </p:nvSpPr>
        <p:spPr>
          <a:xfrm rot="21562800">
            <a:off x="4723920" y="627804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: Decisiones sobre Instalaciones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A2D78-5C10-4299-981D-A721C2E6CD71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Problemas de Localiza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aso atracción-competenci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jemplo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Tiendas en Parque Arauco - Alto Las Conde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Restaurantes calle El Bosqu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ueblerías calle Arturo Prat, Los Leone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aso competencia casi pur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¿Cuántos clientes pasan por mi puerta y que porcentaje puedo atraer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uente de Soda en la Alameda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3 Marcador de pie de página"/>
          <p:cNvSpPr/>
          <p:nvPr/>
        </p:nvSpPr>
        <p:spPr>
          <a:xfrm rot="21562800">
            <a:off x="4723920" y="627804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: Decisiones sobre Instalaciones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6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04604-64B2-410A-90D4-BE2068B99AC7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Problemas de Localiza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4.- Localización de Servicios de Emergenci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l objetivo primordial es minimizar el tiempo de respuest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asos: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imple: no llegar a paciente en más de 5 minut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mplicado: llamados múltiples con flota limitad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jemplo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mpañías de Bomber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Ambulancias, Hel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hilectr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arabiner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3 Marcador de pie de página"/>
          <p:cNvSpPr/>
          <p:nvPr/>
        </p:nvSpPr>
        <p:spPr>
          <a:xfrm rot="21562800">
            <a:off x="4723920" y="627804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: Decisiones sobre Instalaciones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7FDEB-E6E4-43D2-A0D6-988E4C923907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Problemas de Localiza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mplea modelos matemáticos, simulación y heurística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aso: Central que desea minimizar la distancia (tiempo) máxima de llegada a los clientes (Modelo MinMax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3" name="Object 4"/>
              <p:cNvSpPr txBox="1"/>
              <p:nvPr/>
            </p:nvSpPr>
            <p:spPr>
              <a:xfrm>
                <a:off x="1523880" y="3570120"/>
                <a:ext cx="7274160" cy="237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j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tiempo de viaje de central en k a cliente en j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tiempo final en llegar a cliente j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conocida la solución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</m:e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eqArr>
                          <m:e>
                            <m:d>
                              <m:dPr>
                                <m:begChr m:val="{"/>
                                <m:endChr m:val="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  si se ubica la central en k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</m:e>
                              <m:e/>
                            </m:d>
                          </m:e>
                        </m:eqAr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3 Marcador de pie de página"/>
          <p:cNvSpPr/>
          <p:nvPr/>
        </p:nvSpPr>
        <p:spPr>
          <a:xfrm rot="21562800">
            <a:off x="4723920" y="627804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: Decisiones sobre Instalaciones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898CB-0E6D-40B0-B347-C0012729DDC7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Problemas de Localiza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7" name="Object 4"/>
              <p:cNvSpPr txBox="1"/>
              <p:nvPr/>
            </p:nvSpPr>
            <p:spPr>
              <a:xfrm>
                <a:off x="2209680" y="1752480"/>
                <a:ext cx="3436920" cy="412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  <m:r>
                          <m:t xml:space="preserve">S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a</m:t>
                        </m:r>
                      </m:e>
                      <m:e>
                        <m:r>
                          <m:t xml:space="preserve">S</m:t>
                        </m:r>
                        <m:r>
                          <m:t xml:space="preserve">≥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                </m:t>
                        </m:r>
                        <m:r>
                          <m:t xml:space="preserve">∀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k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kj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         </m:t>
                            </m:r>
                            <m:r>
                              <m:t xml:space="preserve">∀</m:t>
                            </m:r>
                            <m:r>
                              <m:t xml:space="preserve">j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e>
                        </m:nary>
                      </m:e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k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>
                        <m:r>
                          <m:t xml:space="preserve">S</m:t>
                        </m:r>
                        <m:r>
                          <m:t xml:space="preserve">≥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∈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0,1</m:t>
                            </m:r>
                          </m:e>
                        </m:d>
                        <m:r>
                          <m:t xml:space="preserve">∀</m:t>
                        </m:r>
                        <m:r>
                          <m:t xml:space="preserve">k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3 Marcador de pie de página"/>
          <p:cNvSpPr/>
          <p:nvPr/>
        </p:nvSpPr>
        <p:spPr>
          <a:xfrm rot="21562800">
            <a:off x="4723920" y="627804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: Decisiones sobre Instalaciones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A56E1-1894-4498-B84B-63D81821B7A7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Introduc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jemplo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Ampliar fábrica texti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Aserrader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Restaura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Universidad privad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Hospita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Líneas telefónica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3 Marcador de pie de página"/>
          <p:cNvSpPr/>
          <p:nvPr/>
        </p:nvSpPr>
        <p:spPr>
          <a:xfrm rot="21562800">
            <a:off x="4723920" y="627804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: Decisiones sobre Instalaciones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F0138-EA40-49A0-8BAE-BD31228171F1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Marco Conceptual para la Planeación de Instalacion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1.- Definir una Unidad de Medid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¿Cómo se va a definir la capacidad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Generalmente corresponde a una tasa de producción máxima por unidad de tiemp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jemplo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36120" indent="-21924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lanta de acero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 toneladas acero/año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536120" indent="-21924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Restaurant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 clientes atendidos, platos servidos..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    Número de mesas NO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536120" indent="-21924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Línea aérea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 km-pasajero/año.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    Número de aviones NO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536120" indent="-21924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Aserraderos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 m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Tahoma"/>
              </a:rPr>
              <a:t>3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/año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536120" indent="-21924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c Donald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 hamburguesas/día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53612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3 Marcador de pie de página"/>
          <p:cNvSpPr/>
          <p:nvPr/>
        </p:nvSpPr>
        <p:spPr>
          <a:xfrm rot="21562800">
            <a:off x="4723920" y="627804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: Decisiones sobre Instalaciones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5DAFB-5B6D-4107-A9FF-0039BA03AF28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Marco Conceptual para la Planeación de Instalacion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lvl="3" marL="1536120" indent="-21924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amino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 vehículos equivalentes/año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536120" indent="-21924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Universidad privada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 flujo de alumno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53612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onceptos importan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apacidad Real versus Capacidad Teóric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apacidad Agregada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36120" indent="-21924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Zapatos en fábrica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536120" indent="-21924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Km-pasajero en línea aérea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536120" indent="-21924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Hospit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536120" indent="-21924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Banco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apacidad de Punta versus Capacidad Sostenid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36120" indent="-21924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aso Endesa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536120" indent="-21924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aso negocio antes de Navidad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3 Marcador de pie de página"/>
          <p:cNvSpPr/>
          <p:nvPr/>
        </p:nvSpPr>
        <p:spPr>
          <a:xfrm rot="21562800">
            <a:off x="4723920" y="627804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: Decisiones sobre Instalaciones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2374D-62CD-44AD-B21E-CEF4654AFEA9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Marco Conceptual para la Planeación de Instalacion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Impacto de gestió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Número de turn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Horas extraordinaria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ejoras administrativa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3 Marcador de pie de página"/>
          <p:cNvSpPr/>
          <p:nvPr/>
        </p:nvSpPr>
        <p:spPr>
          <a:xfrm rot="21562800">
            <a:off x="4723920" y="627804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: Decisiones sobre Instalaciones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6866B-0283-4285-A386-9C2938530E39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Marco Conceptual para la Planeación de Instalacion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2.- Pronósticos de la Demand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Una vez definida la unidad de medida se debe predecir la demanda en el horizonte de interé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 pueden utilizar escenarios o probabilidad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jemplo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Requerimientos de energía para los próximos 6 añ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emandas textiles para los próximos 6 añ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isponibilidad de madera para los aserrader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Universidad privad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Hospital region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6T14:21:15Z</dcterms:created>
  <dc:creator>Dpto. Ingeniería Industrial</dc:creator>
  <dc:description/>
  <dc:language>en-US</dc:language>
  <cp:lastModifiedBy>Maritza</cp:lastModifiedBy>
  <cp:lastPrinted>2001-08-09T02:32:34Z</cp:lastPrinted>
  <dcterms:modified xsi:type="dcterms:W3CDTF">2010-08-30T20:36:30Z</dcterms:modified>
  <cp:revision>164</cp:revision>
  <dc:subject/>
  <dc:title>Comercio Electrónico</dc:title>
</cp:coreProperties>
</file>