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2454-FB89-4D57-A16B-D917D96F5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629D-028A-4903-B8FD-A9151DBE6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7897-3574-4305-88FE-DCA65768F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B0C9-1576-4974-AA35-682FF550E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E4DFE-F624-4165-BA6C-BDBA92BE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38CAF-ECE7-4F2E-9808-FF35477B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D0132-E365-4978-AB52-B23BE1CE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46081-65CB-4A76-B601-C6D19B5F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12D0C-20D3-47A0-A271-F085399F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B0104-56A4-482A-8887-5E19FAC5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69D17-5F35-4CEF-A957-5900A10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5B95-A23B-498E-80F0-23C3F0414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AA8A4-7712-4A9D-A8E5-87BC1449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49387-DB96-4353-81B4-A144FFF1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3CF43-A835-4E21-854B-132376A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247B3-1639-41BE-B144-6B7AA866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8A196-F26B-40FE-AEC6-2729F62F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607B-2137-4D6C-86EF-4D26FEC7A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44C9-2DDC-45B0-9726-41CB788A7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9FA8-09D8-4A58-87FC-A6FCBB6C7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5793-7FBE-4F1A-B43B-C45F3CDDB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FF17-781A-4CC2-9B85-E5483EAA8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1CA7-9403-42D9-8745-5FB2A59F9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6B8C-CDCC-4E89-9046-13E35BF20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3606-3176-456C-AE3C-69CD0889755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868C-44D3-4927-B604-C5C7A713C698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35053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Decisiones sobre Insta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4016-4F3F-4091-B1AE-72A65999308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eterminación de las Necesidades d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en los pronósticos y en el grado de riesgo que se toma para cumplir con la esti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acepta una probabilidad de fallar de 0.3, entonces definir una capacidad de 16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2819520" y="3886200"/>
          <a:ext cx="2057400" cy="155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86200"/>
                    <a:ext cx="20574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809-EC44-4C73-BE63-C89BFB2306C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hacer un análisis dinámico que considere el crecimiento futuro de la demanda y las posibilidades de expansión de las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requerir del uso de modelos matemá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siones de caminos (MOP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icidad. (Energia Nuclear?, Energía Verd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eropuerto. (Pudahue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orestales (bosques, plantas y aserrade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93D-0DCE-4BE0-9180-477ECF6E793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Gener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la elaboración de distintas posibilidades de cuánto, cuándo y dónde construir o colo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modelos matemáticos, herramientas computacionales y sistemas de información geográficos dan un importante apoyo a la generación de buen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8B7B-7A93-49B0-AAF9-5D0401F97D7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Evalu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-bene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nuevo aeropuerto (México y Pudahuel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atisfacer necesidades de vue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iesgo de accid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ag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aje aeropuerto-ciudad (hotel en Pudahue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li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61E1-04B7-4444-99F2-7283AC5FBE9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La Decisión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ni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fecta a toda l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parte de la estrategia corpora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uso de 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CBED-4DE2-4091-966A-C3721AC5F2B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ípicamente los aumentos de capacidad se definen p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mejoramiento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conomías de esca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las plantas más grandes son más eficientes y aprovechan mejor la curva de experi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sar a mejor 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presa forestal (aserrade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s de restaurantes (Mc Donal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C9BA-A6FE-4188-B141-16729A126D9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de emergencia (de salu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mantener un equilibrio al momento de expandir en distintas etap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eropuerto: ampliar terminal aéreo, pistas, estacionamientos, accesos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evaluar bien la dimensión de los incremento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Varios chicos o uno grand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B0D3-D419-48B7-B5FC-2033DE9CF2C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onsiderar fuentes externa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bcontra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s externas: electr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ianzas: líneas aé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caso de Incertidumb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sar árboles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es una variable aleatoria que crece fuertemente con probabilidad 0.55 y débilmente con probabilidad 0.4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0373-AFB9-4C0A-BEA4-60F053F5D0A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negocio maneja tres altern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andir la capacidad a un costo de $87.000 el primer o segundo 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el primer año a un nuevo local más grande a un costo de $21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a costo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valúa a cinco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netas (costos operacionales iguales en cada alternativa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altas: $19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bajas: $10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altas: 19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bajas: 11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altas: 17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bajas: 10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876-49A4-4408-BD54-1665E46E40C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567960" y="594360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Árbol de Dec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1287360" y="1584360"/>
            <a:ext cx="678996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EA1B-16D5-40C7-A660-15859B0E8C2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e las decisiones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1 a 30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ser de nivel táctico, pero generalmente son de nivel estraté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s importantes (generalmente entrelazad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 capacidad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do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Dónde localizarl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997B-F72D-4FCA-B154-292C65C1E21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D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71168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7D7-1BFB-47F3-B23C-1B9BDA307FE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86868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tretch/>
        </p:blipFill>
        <p:spPr>
          <a:xfrm>
            <a:off x="596880" y="1585800"/>
            <a:ext cx="80884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48C1-0EAE-4E37-8FB4-B303CF86E61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VAN (tasa 16%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64008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BC89-7C86-4A3D-93E6-40FB1767DA2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706320" y="1531800"/>
            <a:ext cx="8132760" cy="4716720"/>
          </a:xfrm>
          <a:prstGeom prst="rect">
            <a:avLst/>
          </a:prstGeom>
          <a:ln w="0">
            <a:noFill/>
          </a:ln>
        </p:spPr>
      </p:pic>
      <p:sp>
        <p:nvSpPr>
          <p:cNvPr id="194" name="Line 9"/>
          <p:cNvSpPr/>
          <p:nvPr/>
        </p:nvSpPr>
        <p:spPr>
          <a:xfrm flipV="1">
            <a:off x="8813880" y="444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258D-C55D-4A1E-8F69-FB6CD3BD931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crecer en capac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Añadir locales o añadir servici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1162-A5DE-4088-B030-09B0FB25E32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en que casos hay economías de escala, complicaciones administrativas (deseconomías de escal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producir un problema de salto de complejidad operacional al crecer una empre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uando se pasa de una empresa familiar a profes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EF68-7A46-465A-8077-AC401BB3E56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problemas de localiz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instalación que no interactúa con ot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des de Gobie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fábricas y almacenes múltiples que comparten costos y manejos de producción y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adenas de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comercios competi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Tiendas, restaurant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servici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Hos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7F8C-FE9D-4E7E-B926-4EDA5010E7F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ocalización de una instalación que no interactúa con ot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ngi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l terreno, edificio y equip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transpor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uestos y segu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fácilmente cuantifica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ferta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laciones laborales sindic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2B26-D6A7-4A09-9670-ACF86137D95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ctitudes de la comunidad (ejemplo: estadio UC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mentos (ejemplo: San Francis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idad de vida (ejemplo: Pesquera Quellón, Colegio Arauco.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s y normas ambient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acción de la compet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todología rudimentaria en estos casos es la asignación de notas a los factores no tangibles, los cuales se ponder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ás sofisticados son interac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EDF8-23EE-4BF5-9ACF-EE80CC158BB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últiples instalaciones (plantas, bodegas o centros de distribució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íp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localizar una planta o bodega adicion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e qué capacidad debe ser la nueva instal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instalación y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 de servicio a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ones poten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: output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 se definió en el tiempo, es dinámica (horizonte corto a largo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 es distinta según el nivel jerárqu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erente General: Producción agreg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erente finanzas : Capacidad financi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erente de Planta : Capacidad de su pla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zación de capacidad: Capacidad us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 en uso ópti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3CE3-6D18-4FAA-BF60-9C44D6DE026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F92F-EBDE-4A98-878A-8EBA0690241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ocen las localizaciones el problema corresponde a uno de producción y transporte a costo míni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s ubicaciones no se conoc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considerar como alternativas: arrendar, construir o comparar loc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bitualmente se hace necesaria la utilización de modelos matemáticos, simulación o métodos heurí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1FA7-7069-4C8B-A501-C1B545906D8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s de decis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057400" y="2438280"/>
                <a:ext cx="4114800" cy="23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 en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jo entre planta i y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enta a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si se construye planta 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C069-4A8E-4B30-9BFF-75448592E72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1609560" y="2481120"/>
                <a:ext cx="7067880" cy="26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to de constr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manda mínima d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prod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cio de venta a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transporte entre la planta i y 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apacidad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55ED-B7BA-4120-AE66-CB68E7BB5DF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609560" y="2819520"/>
                <a:ext cx="5999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3B38-1457-4951-8112-BEA70E3EAA1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685800" y="2286000"/>
                <a:ext cx="825516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puede producir  hasta capacidad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si se construy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 que se produce se despach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j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vende lo que lleg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j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tisfacción de la demanda míni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681D-A00F-4E7C-99FE-6194B2D8DBE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s de solu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r paquetes de programación lineal con variables binarias (ejemplo: CPLE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 demorar mucho para problemas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u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dondeos intelig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úsqueda loc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con escen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ijar algunas variables y correr el problema que queda haciendo varias iteraciones (el caso extremo es fijar todas las ubicaciones quedando un problema line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bar con distintas configur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2832-D29A-4B40-961B-E17E37D0B70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erío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construyen en un período para la producción fut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2376360" y="2617920"/>
                <a:ext cx="55738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del producto  k en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2400480" y="4495680"/>
                <a:ext cx="35305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θ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θ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65F6-2754-479E-8AF5-919EBDC92BA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á permitido guardar productos en bodega para venderlos o distribuirlos en otro perío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s CCU (bodega de Los Angeles, Temuc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bodegas para cadena de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2819520" y="2801880"/>
                <a:ext cx="40384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entario en i de t a 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7C5D-178D-40AF-8391-9F3A801555D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Localización de Comercios Competi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s Gravit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onan los deseos de ir a un lugar (atracción) versus la dificultad para llegar a éste (impeda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rable a la fórmula de Newt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ivide la ciudad en I sect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674720" y="4386240"/>
                <a:ext cx="66340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de clientes en sector i que viajarán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probabilidad que cliente en sector i vaya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total de clientes en sector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2EFE-35D5-42C1-B47E-7DACF4FFC1E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6"/>
              <p:cNvSpPr txBox="1"/>
              <p:nvPr/>
            </p:nvSpPr>
            <p:spPr>
              <a:xfrm>
                <a:off x="1981080" y="1752480"/>
                <a:ext cx="58802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tractivo del local j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el local, índice, et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l sector i al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arámetro para calibrar efecto tiemp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7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8"/>
              <p:cNvSpPr txBox="1"/>
              <p:nvPr/>
            </p:nvSpPr>
            <p:spPr>
              <a:xfrm>
                <a:off x="2932200" y="3505320"/>
                <a:ext cx="327024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r</m:t>
                                          </m:r>
                                        </m:sub>
                                        <m:sup>
                                          <m:r>
                                            <m:t xml:space="preserve">A</m:t>
                                          </m:r>
                                        </m:sup>
                                      </m:sSubSup>
                                    </m:den>
                                  </m:f>
                                </m:num>
                                <m:den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Sup>
                                            <m:e>
                                              <m:r>
                                                <m:t xml:space="preserve">T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j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A</m:t>
                                              </m:r>
                                            </m:sup>
                                          </m:sSubSup>
                                        </m:den>
                                      </m:f>
                                    </m:e>
                                  </m:nary>
                                </m:den>
                              </m:f>
                            </m:e>
                          </m:d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64AE-BBA6-4F71-A834-D644BBC776F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a consider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ategia de la empr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orno del paí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yes So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816A-23FB-46EF-A092-370BA55F196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atracción-compe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ndas en Parque Arauco - Alto Las Cond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es calle El Bosq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eblerías calle Arturo Prat, Los Le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competencia casi p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clientes pasan por mi puerta y que porcentaje puedo atra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nte de Soda en la Alame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9B4E-0A95-4904-B942-047743FBE6B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Localización de Servicios de Emerg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objetivo primordial es minimizar el tiempo de respue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ple: no llegar a paciente en más de 5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icado: llamados múltiples con flota limit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ñías de Bomb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bulancias,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bin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B20D-8605-4F20-ABED-34FFF92699F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lea modelos matemáticos, simulación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: Central que desea minimizar la distancia (tiempo) máxima de llegada a los clientes (Modelo MinMa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23880" y="3570120"/>
                <a:ext cx="7274160" cy="23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 central en k a cliente en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final en llegar a cliente j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cida la solució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si se ubica la central en 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E4C2-00DB-4943-9146-EB34B6CB094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2209680" y="1752480"/>
                <a:ext cx="3436920" cy="412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  <m:r>
                              <m:t xml:space="preserve">∀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E56F-6976-4963-B2CC-CDD4A2ED5D9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mpliar fábrica text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telefón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2520-8BD6-4AC7-B313-720E444CE59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finir una Unidad de Med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va a definir la capacida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lmente corresponde a una tasa de producción máxima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 acer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oneladas acero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lientes atendidos, platos servidos.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úmero de mesas 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ínea aére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km-pasajero/año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úmero de aviones 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serrader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c Donald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hamburguesas/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0CC3-ADB6-4F06-9A94-C389182459A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n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vehículos equivalentes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iversidad priva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flujo de alumn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Real versus Capacidad Teór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Agrega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apatos en fábr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Km-pasajero en línea aér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n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unta versus Capacidad Sosten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End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negocio antes de Nav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58BB-AE56-44EA-8905-06D6E7F079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acto de gest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tur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as extraord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joras administr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207C-5902-4D83-A6DF-563B5834B7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nósticos de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definida la unidad de medida se debe predecir la demanda en el horizonte de interé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tilizar escenarios o prob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de energía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textiles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ponibilidad de madera para los aserrad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reg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Maritza</cp:lastModifiedBy>
  <cp:lastPrinted>2001-08-09T02:32:34Z</cp:lastPrinted>
  <dcterms:modified xsi:type="dcterms:W3CDTF">2010-08-30T20:36:30Z</dcterms:modified>
  <cp:revision>164</cp:revision>
  <dc:subject/>
  <dc:title>Comercio Electrónico</dc:title>
</cp:coreProperties>
</file>